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313-7CC0-43E1-B714-B70D2FCE7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596-12FB-4E71-8288-5D6120D9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A6A-545B-4B65-8A92-2AA1235C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86E-764D-4F64-AD4B-0395C3CE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918-6C20-4E31-AB3D-9191D19D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879-ACA6-4B38-8871-69DA6765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01F-A32C-4AAC-A863-E1689F0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759-9EFD-4B2E-828D-F9357D7A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354-F9D9-4718-8EB4-75EE75B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8BA-7D1E-4268-8839-B060A73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F99-5815-43A1-82F7-7C03CC88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81D-D2A6-415D-BE55-453CCFD3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8407-8380-4521-8C1A-A9049083F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БОУ СОШ № 60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гского райо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нкт-Петербу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и по телеф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дражание Дж. Рода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ая работа учеников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Максимчук Е.М., учитель русского языка и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редные 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            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Жила - была девочка. Звали её Настя. Она очень любила цветы и уважала их. Однажды родители подарили ей цветок. Он был красивый-прекрасивый!!! Назвала она его Семицветик, потому что у него были разноцветные лепесточки. Семицветик был скромный, послушный. Его любимым блюдом было удобрение с водой. Настя  каждый день поливала и удобряла свой цветок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Девочка поставила его на подоконник. Семицветику было хорошо, светило солнышко. Любимая хозяйка отдавала ему много любви и заботы. Но мама Насти решила поставить на подоконник ещё два своих цветка в одном горшке.  А вскоре она предложила Насте поехать в отпуск. Настя согласилась, и сказала своему цветочку, что уедет ненадолго. Семицветик ответил,что будет скучать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Хозяева  уехали, а два цветка около Семицветика всё ссорились почему-то. Цветок поинтересовался -почему. Оказалось,что они спорят, кто красивее, а кто лучше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Первый цветок сказал: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Я лучше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Второй ответи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А я лучше и красивее!!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Первый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Нет, я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Семицветик выразился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Может, хватит ссориться? Вы оба по -своему красивые. А если не помиритесь, вы совсем завянете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Оба цветка в один  голос ответили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А тебя никто не спрашивал!!! Ты просто нам завидуешь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И цветы продолжали ссориться. Семицветик так сильно расстроился, что не обращал на них внимания. У него болели лепесточки. А  цветы всё вяли и вяли от ссоры, и, когда семьявернулась, они совсем завяли, и  Настя выбросила их в мусор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Семицветик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Спасибо Настя!!! А то у меня от них болели лепесточки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Настя ответила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Пожалуйста! Я по тебе так соскучилась!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Семицветик сказал: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- И я по тебе!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Они обнялись. И девочка больше никогда не позволяла родным ставить к нему плохих цветов. Они жили вместе долго и счастливо.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Медведева Маша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сказка (3)"/>
          <p:cNvPicPr/>
          <p:nvPr/>
        </p:nvPicPr>
        <p:blipFill>
          <a:blip r:embed="rId1"/>
          <a:stretch/>
        </p:blipFill>
        <p:spPr>
          <a:xfrm>
            <a:off x="5022720" y="1600200"/>
            <a:ext cx="328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упый лев и хитрый к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и-были Лев и Кот. Однажды Лев пошел на охоту, а навстречу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уда идёшь? - спрашивает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тебе какая разница? Иди отсюда, пока не загрыз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Кот отве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ы - меня?  С ума сошел? Да я тебя одной лапой завалю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Кот предложил проверить его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дошли они к стаду зебр. Лев взял двумя лапами зебру и поднял её, а Кот смеётся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х, ты не силач, а вот я! Ты отвернись и зажмурь гл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 был немного глуповат( как говорится, детская травма: когда ребёнком был, с дерева упал, ну и остался дурачком) и отвернулся. А Кот договорился с Зеброй уже давно и сделал вид, что поднял её. Лев повернулся, а Зебра говори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ебе кота никогда не одоле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так хитрый кот обманул глупого ль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анова Я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0" descr="лев 001.jpg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лшебная 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жды осенним днём Король и Королева играли в шахматы. Вдруг откуда ни возьмись, появился купец, а на руках у него - собач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Здравствуйте, Ваше величество! У меня к вам предложение. Я хочу порекомендовать вам собаку, но не обычную, а волшебную. Она умеет исполнять жела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т  в комнату к родителям вбежала Принцесса. Ей очень понравилось  пушистое существо, и она уговорила отца купить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есса знала, что собака исполняет желания, и надеялась, что сбудется её мечта научиться летать. Девочка принесла собаку к себе в комнату, положила на мягкую бархатную подушку и приказала  исполнить желание. «Я хочу научиться летать как птица», - сказала девочка. Собака завиляла хвостом, обернулась вокруг себя три раза, и в этот миг принцесса превратилась в прекрасного белого голу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омнате было открыто окно. Сев на подоконник, голубь осмотрел комнату и, взмахнув крыльями, вылетел в окно. С тех пор Принцессу больше никто никогда не ви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конникова Ната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Scan-120323-0002"/>
          <p:cNvPicPr/>
          <p:nvPr/>
        </p:nvPicPr>
        <p:blipFill>
          <a:blip r:embed="rId1"/>
          <a:stretch/>
        </p:blipFill>
        <p:spPr>
          <a:xfrm>
            <a:off x="4648320" y="2438280"/>
            <a:ext cx="40384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ьчик и моро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-был мальчик. Он очень любил мороженое и  ел его каждый день на завтрак, обед и ужин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пошёл мальчишка в магазин за мороже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Дайте мне пломбир, эскимо и фруктовый лёд, - попросил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роженого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Как н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ступило лето, и всё мороженое растая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Что же мне делать? Мне очень нужно морожен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ты попробуй фрукты, они тоже очень вкусные! - посоветовала продав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о я никогда их не ел, – испугался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т  и попробу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ьчик взял апельсин, грушу, яблоко и перс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мм… Как вкусно!- воскликнул он удивлё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от видишь, возьми ещё ов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Хорошо,- согласился маль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тех пор мальчик ест полезные фрукты и овощи, а мороженое -  иногда на десе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банова Ло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C:\Users\Пользователь\Documents\Cочинение.jpg"/>
          <p:cNvPicPr/>
          <p:nvPr/>
        </p:nvPicPr>
        <p:blipFill>
          <a:blip r:embed="rId1"/>
          <a:stretch/>
        </p:blipFill>
        <p:spPr>
          <a:xfrm>
            <a:off x="4643280" y="3022560"/>
            <a:ext cx="38894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 и Я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-был мальчик, его звали Ин. Он шёл по пляжу, увидел камень и решил его взять, так как он был очень красивый. Ин принёс его домой и разглядывал его, но вдруг камень раскололся, из него вылезло странное существо. Это был дракон. Мальчик решил назвать его Я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акон подрастал, от него было много хлопот. Его уже разыскивала полиция, чтобы отправить в зоопарк, но мальчик всё равно любил Яна и решил отправиться с ним на необитаемый остров. Знакомый капитан корабля  отвёз их туда, вместе друзьям было хорошо и весе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тех пор они там поселились и живут дружно и счастливо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удалова Крист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дракон 3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 была девочка Клара. Она была дочкой великого мага. Однажды её похитили пираты и посадили в темную комнату. Они хотели потребовать от отца девочки, чтобы тот изготовил волшебный предмет, который мог бы переносить людей в те места, где они хотят быть. Но пираты и не догадывались, что великий маг уже изобрел его и подарил своей дочер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ра не знала, что подаренный кулон обладает такими свойствами, она думала, что он самый обыкновенный, так как очень не любила маг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очке было страшно сидеть в темной комнате, она сжала кулон в руке и думала об отце, о том, как им было хорошо вместе, как они гуляли по парку около дом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е успела она об этом подумать, как тут же очутилась в парке. Она увидела отца, который гулял с её собакой,  подбежала к нему и обняла,  но ничего не рассказала , чтобы не расстраива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ра знала теперь, что благодаря папе всегда может очутиться в безопасно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бинин Алексан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А"/>
          <p:cNvPicPr/>
          <p:nvPr/>
        </p:nvPicPr>
        <p:blipFill>
          <a:blip r:embed="rId1"/>
          <a:stretch/>
        </p:blipFill>
        <p:spPr>
          <a:xfrm>
            <a:off x="4648320" y="1968480"/>
            <a:ext cx="4038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ея из волшебного ле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дной бедной семье  жил мальчик по имени Вася. Раз мама отправила Васю погулять. Вася вышел из дома и направился по тропинке, смотря по сторонам. Оглянувшись, он увидел, что стоит на опушке леса, в котором никогда не был. Разыскивая дорогу домой, он пошел по единственной тропинке и вдруг услышал шум, оглянулся, но никого не увидел. Посмотрел наверх. На дереве висел большой хрустальный шар. Вася решил узнать, что в этом шаре находится и начал трясти дерево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Хрустальный шар зашатался, и из него вылетела маленькая фея. Она сказала Васе, что он попал в волшебный лес, и попросила помочь найти королеву фей, которую украл злой колдун. Вася согласился помочь фее. Они отправились в путь. Вдруг Вася обо что-то споткнулся. Это была волшебная книга. Она отвечала на все вопросы. Книга была сделана из кожи животного и обвита корн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я рассказала, что эту книгу десять лет назад потерял мудрец из волшебного города, и никто не мог ее найти. Мальчик открыл книгу и на первой странице увидел статью, в которой было сказано, как дойти до замка колдуна. Фея и Вася пошли дальш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ни прошли через «пещеру ужасов» и оказались около замка. Колдуна в замке не было. Фея вместе с Васей заходили во все комнаты. Наконец они нашли королеву фей, и все вместе бросились бежать. Вернувшись в лес, королева фей наградила мальчика волшебными деньгами и показала дорогу домой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ма Вася отдал деньги матери, и они стали жить счастлив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чникова Викт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Scan-120407-0001"/>
          <p:cNvPicPr/>
          <p:nvPr/>
        </p:nvPicPr>
        <p:blipFill>
          <a:blip r:embed="rId1"/>
          <a:stretch/>
        </p:blipFill>
        <p:spPr>
          <a:xfrm>
            <a:off x="4648320" y="2427120"/>
            <a:ext cx="403848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-была собачка. Звали её Ушанка. Назвали её так потому, что у неё были огромные уши. Они были настолько большими, что Ушанка могла слышать мысли людей и животных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а она в большом красивом доме. Хозяйский кот Мурзик всегда обзывал её          “ ушастой  уродиной. Даже мыши, которые обитали в подвале, обижали бедную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Ушанка услышала мысль кота. Мурзик захотел  пойти в подвал, половить мышей. Собачка поспешила сообщить мышам, чтобы они успели спрятаться от когтей охотника. Услышав новость от Ушанки, мыши попрятались в свои норки. Но одна мышка не успела спрятаться  и схоронилась за трубами. Пришёл кот, начал расхаживать везде. Решил он посмотреть за трубами. Ушанка, услышав мысль кота, сказала:”Холодно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ткуда ты знаешь?- спросил к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ши  в том тёмном углу. Я видела, как они туда бежали! –ответилаУша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у, хорошо! – сказал Мурз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т момент, когда кот отвернулся , мышка убежала в нор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х пор  за то, что Ушанка спасла мышку, все стали уважать ушастую собач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буния Л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0 001.jpg"/>
          <p:cNvPicPr/>
          <p:nvPr/>
        </p:nvPicPr>
        <p:blipFill>
          <a:blip r:embed="rId1"/>
          <a:stretch/>
        </p:blipFill>
        <p:spPr>
          <a:xfrm>
            <a:off x="5021280" y="1600200"/>
            <a:ext cx="329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9:11:47Z</dcterms:created>
  <dc:creator>Максимчук</dc:creator>
  <dc:description/>
  <dc:language>en-US</dc:language>
  <cp:lastModifiedBy>Максимчук</cp:lastModifiedBy>
  <dcterms:modified xsi:type="dcterms:W3CDTF">2012-06-16T09:19:44Z</dcterms:modified>
  <cp:revision>2</cp:revision>
  <dc:subject/>
  <dc:title>ГБОУ СОШ № 60 Выборгского района  Санкт-Петербурга</dc:title>
</cp:coreProperties>
</file>