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D3C-2821-4AFB-B30B-73A007BE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881-71D0-488E-BAD4-9F5137F2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F63-284D-474B-83E1-E3BDB665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266-3EF2-4C0F-A1D5-04080B55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6F6-F1A6-47AB-937D-80143D6D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F43-C247-48E4-AC72-059B16F3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03F-3E53-431E-A061-9963D120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7AD-1CC6-4125-BD36-34C43CF2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FCC-1A51-4748-BB5D-C375438C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59A-1C51-4D12-8E8B-67A4D2BB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B57-B1A1-4F56-A9CD-655D9AF2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2A6-7814-4560-A044-0D55FB26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0864-7526-418C-AE94-0E8B2DBDD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БОУ СОШ № 6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гского райо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кт-Петербу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и по телеф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дражание Дж. Родар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работа учеников 5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ь: Максимчук Е.М., учитель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едные 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             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Жила - была девочка. Звали её Настя. Она очень любила цветы и уважала их. Однажды родители подарили ей цветок. Он был красивый-прекрасивый!!! Назвала она его Семицветик, потому что у него были разноцветные лепесточки. Семицветик был скромный, послушный. Его любимым блюдом было удобрение с водой. Настя  каждый день поливала и удобряла свой цветок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Девочка поставила его на подоконник. Семицветику было хорошо, светило солнышко. Любимая хозяйка отдавала ему много любви и заботы. Но мама Насти решила поставить на подоконник ещё два своих цветка в одном горшке.  А вскоре она предложила Насте поехать в отпуск. Настя согласилась, и сказала своему цветочку, что уедет ненадолго. Семицветик ответил,что будет скучать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Хозяева  уехали, а два цветка около Семицветика всё ссорились почему-то. Цветок поинтересовался -почему. Оказалось,что они спорят, кто красивее, а кто лучше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Первый цветок сказал: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Я лучше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Второй ответил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А я лучше и красивее!!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Первый сказал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Нет, я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Семицветик выразился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Может, хватит ссориться? Вы оба по -своему красивые. А если не помиритесь, вы совсем завянете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Оба цветка в один  голос ответили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А тебя никто не спрашивал!!! Ты просто нам завидуешь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И цветы продолжали ссориться. Семицветик так сильно расстроился, что не обращал на них внимания. У него болели лепесточки. А  цветы всё вяли и вяли от ссоры, и, когда семьявернулась, они совсем завяли, и  Настя выбросила их в мусор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Семицветик сказал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Спасибо Настя!!! А то у меня от них болели лепесточки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Настя ответила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Пожалуйста! Я по тебе так соскучилась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Семицветик сказал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И я по тебе!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Они обнялись. И девочка больше никогда не позволяла родным ставить к нему плохих цветов. Они жили вместе долго и счастливо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Медведева Маша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                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сказка (3)"/>
          <p:cNvPicPr/>
          <p:nvPr/>
        </p:nvPicPr>
        <p:blipFill>
          <a:blip r:embed="rId1"/>
          <a:stretch/>
        </p:blipFill>
        <p:spPr>
          <a:xfrm>
            <a:off x="5022720" y="1600200"/>
            <a:ext cx="328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упый лев и хитрый к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и-были Лев и Кот. Однажды Лев пошел на охоту, а навстречу К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уда идёшь? - спрашивает К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 тебе какая разница? Иди отсюда, пока не загрыз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т отве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ы - меня?  С ума сошел? Да я тебя одной лапой завалю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т предложил проверить его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дошли они к стаду зебр. Лев взял двумя лапами зебру и поднял её, а Кот смеётся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Эх, ты не силач, а вот я! Ты отвернись и зажмурь гл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в был немного глуповат( как говорится, детская травма: когда ребёнком был, с дерева упал, ну и остался дурачком) и отвернулся. А Кот договорился с Зеброй уже давно и сделал вид, что поднял её. Лев повернулся, а Зебра говори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ебе кота никогда не одоле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так хитрый кот обманул глупого ль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анова 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0" descr="лев 001.jpg"/>
          <p:cNvPicPr/>
          <p:nvPr/>
        </p:nvPicPr>
        <p:blipFill>
          <a:blip r:embed="rId1"/>
          <a:stretch/>
        </p:blipFill>
        <p:spPr>
          <a:xfrm>
            <a:off x="5021280" y="1600200"/>
            <a:ext cx="329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шебная соб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жды осенним днём Король и Королева играли в шахматы. Вдруг откуда ни возьмись, появился купец, а на руках у него - собач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Здравствуйте, Ваше величество! У меня к вам предложение. Я хочу порекомендовать вам собаку, но не обычную, а волшебную. Она умеет исполнять жела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т  в комнату к родителям вбежала Принцесса. Ей очень понравилось  пушистое существо, и она уговорила отца купить соба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есса знала, что собака исполняет желания, и надеялась, что сбудется её мечта научиться летать. Девочка принесла собаку к себе в комнату, положила на мягкую бархатную подушку и приказала  исполнить желание. «Я хочу научиться летать как птица», - сказала девочка. Собака завиляла хвостом, обернулась вокруг себя три раза, и в этот миг принцесса превратилась в прекрасного белого голу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мнате было открыто окно. Сев на подоконник, голубь осмотрел комнату и, взмахнув крыльями, вылетел в окно. С тех пор Принцессу больше никто никогда не ви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конникова Ната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Scan-120323-0002"/>
          <p:cNvPicPr/>
          <p:nvPr/>
        </p:nvPicPr>
        <p:blipFill>
          <a:blip r:embed="rId1"/>
          <a:stretch/>
        </p:blipFill>
        <p:spPr>
          <a:xfrm>
            <a:off x="4648320" y="2438280"/>
            <a:ext cx="4038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льчик и мороже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-был мальчик. Он очень любил мороженое и  ел его каждый день на завтрак, обед и ужин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жды пошёл мальчишка в магазин за мороже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айте мне пломбир, эскимо и фруктовый лёд, - попросил маль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роженого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ак н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ступило лето, и всё мороженое растая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Что же мне делать? Мне очень нужно морожен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ты попробуй фрукты, они тоже очень вкусные! - посоветовала продаве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о я никогда их не ел, – испугался маль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от  и попробу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ьчик взял апельсин, грушу, яблоко и перс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мм… Как вкусно!- воскликнул он удивлё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от видишь, возьми ещё ов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Хорошо,- согласился маль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 тех пор мальчик ест полезные фрукты и овощи, а мороженое -  иногда на десе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банова Ло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C:\Users\Пользователь\Documents\Cочинение.jpg"/>
          <p:cNvPicPr/>
          <p:nvPr/>
        </p:nvPicPr>
        <p:blipFill>
          <a:blip r:embed="rId1"/>
          <a:stretch/>
        </p:blipFill>
        <p:spPr>
          <a:xfrm>
            <a:off x="4643280" y="3022560"/>
            <a:ext cx="38894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 и Я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л-был мальчик, его звали Ин. Он шёл по пляжу, увидел камень и решил его взять, так как он был очень красивый. Ин принёс его домой и разглядывал его, но вдруг камень раскололся, из него вылезло странное существо. Это был дракон. Мальчик решил назвать его Я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акон подрастал, от него было много хлопот. Его уже разыскивала полиция, чтобы отправить в зоопарк, но мальчик всё равно любил Яна и решил отправиться с ним на необитаемый остров. Знакомый капитан корабля  отвёз их туда, вместе друзьям было хорошо и весел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тех пор они там поселились и живут дружно и счастливо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гудалова Крист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дракон 3"/>
          <p:cNvPicPr/>
          <p:nvPr/>
        </p:nvPicPr>
        <p:blipFill>
          <a:blip r:embed="rId1"/>
          <a:stretch/>
        </p:blipFill>
        <p:spPr>
          <a:xfrm>
            <a:off x="5021280" y="1600200"/>
            <a:ext cx="329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а была девочка Клара. Она была дочкой великого мага. Однажды её похитили пираты и посадили в темную комнату. Они хотели потребовать от отца девочки, чтобы тот изготовил волшебный предмет, который мог бы переносить людей в те места, где они хотят быть. Но пираты и не догадывались, что великий маг уже изобрел его и подарил своей дочер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ра не знала, что подаренный кулон обладает такими свойствами, она думала, что он самый обыкновенный, так как очень не любила маг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очке было страшно сидеть в темной комнате, она сжала кулон в руке и думала об отце, о том, как им было хорошо вместе, как они гуляли по парку около дом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е успела она об этом подумать, как тут же очутилась в парке. Она увидела отца, который гулял с её собакой,  подбежала к нему и обняла,  но ничего не рассказала , чтобы не расстраив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ра знала теперь, что благодаря папе всегда может очутиться в безопас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бинин Алексан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А"/>
          <p:cNvPicPr/>
          <p:nvPr/>
        </p:nvPicPr>
        <p:blipFill>
          <a:blip r:embed="rId1"/>
          <a:stretch/>
        </p:blipFill>
        <p:spPr>
          <a:xfrm>
            <a:off x="4648320" y="1968480"/>
            <a:ext cx="40384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я из волшебного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одной бедной семье  жил мальчик по имени Вася. Раз мама отправила Васю погулять. Вася вышел из дома и направился по тропинке, смотря по сторонам. Оглянувшись, он увидел, что стоит на опушке леса, в котором никогда не был. Разыскивая дорогу домой, он пошел по единственной тропинке и вдруг услышал шум, оглянулся, но никого не увидел. Посмотрел наверх. На дереве висел большой хрустальный шар. Вася решил узнать, что в этом шаре находится и начал трясти дерево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рустальный шар зашатался, и из него вылетела маленькая фея. Она сказала Васе, что он попал в волшебный лес, и попросила помочь найти королеву фей, которую украл злой колдун. Вася согласился помочь фее. Они отправились в путь. Вдруг Вася обо что-то споткнулся. Это была волшебная книга. Она отвечала на все вопросы. Книга была сделана из кожи животного и обвита корн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я рассказала, что эту книгу десять лет назад потерял мудрец из волшебного города, и никто не мог ее найти. Мальчик открыл книгу и на первой странице увидел статью, в которой было сказано, как дойти до замка колдуна. Фея и Вася пошли дальш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ни прошли через «пещеру ужасов» и оказались около замка. Колдуна в замке не было. Фея вместе с Васей заходили во все комнаты. Наконец они нашли королеву фей, и все вместе бросились бежать. Вернувшись в лес, королева фей наградила мальчика волшебными деньгами и показала дорогу домой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ма Вася отдал деньги матери, и они стали жить счастлив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чникова Викто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can-120407-0001"/>
          <p:cNvPicPr/>
          <p:nvPr/>
        </p:nvPicPr>
        <p:blipFill>
          <a:blip r:embed="rId1"/>
          <a:stretch/>
        </p:blipFill>
        <p:spPr>
          <a:xfrm>
            <a:off x="4648320" y="2427120"/>
            <a:ext cx="40384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а-была собачка. Звали её Ушанка. Назвали её так потому, что у неё были огромные уши. Они были настолько большими, что Ушанка могла слышать мысли людей и животных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а она в большом красивом доме. Хозяйский кот Мурзик всегда обзывал её          “ ушастой  уродиной. Даже мыши, которые обитали в подвале, обижали бедную соба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жды Ушанка услышала мысль кота. Мурзик захотел  пойти в подвал, половить мышей. Собачка поспешила сообщить мышам, чтобы они успели спрятаться от когтей охотника. Услышав новость от Ушанки, мыши попрятались в свои норки. Но одна мышка не успела спрятаться  и схоронилась за трубами. Пришёл кот, начал расхаживать везде. Решил он посмотреть за трубами. Ушанка, услышав мысль кота, сказала:”Холодно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ткуда ты знаешь?- спросил к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ши  в том тёмном углу. Я видела, как они туда бежали! –ответилаУша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у, хорошо! – сказал Мурз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т момент, когда кот отвернулся , мышка убежала в нор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ех пор  за то, что Ушанка спасла мышку, все стали уважать ушастую соба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буния Л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0 001.jpg"/>
          <p:cNvPicPr/>
          <p:nvPr/>
        </p:nvPicPr>
        <p:blipFill>
          <a:blip r:embed="rId1"/>
          <a:stretch/>
        </p:blipFill>
        <p:spPr>
          <a:xfrm>
            <a:off x="5021280" y="1600200"/>
            <a:ext cx="329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09:11:47Z</dcterms:created>
  <dc:creator>Максимчук</dc:creator>
  <dc:description/>
  <dc:language>en-US</dc:language>
  <cp:lastModifiedBy>Максимчук</cp:lastModifiedBy>
  <dcterms:modified xsi:type="dcterms:W3CDTF">2012-06-16T09:19:44Z</dcterms:modified>
  <cp:revision>2</cp:revision>
  <dc:subject/>
  <dc:title>ГБОУ СОШ № 60 Выборгского района  Санкт-Петербурга</dc:title>
</cp:coreProperties>
</file>