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3A5-2B23-4B6E-944C-BAF4C7ED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B74-A265-4355-A70F-79E173BF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ACE-14E0-49DD-A6B2-7FDC7833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E0C-4BA8-4E92-9F7D-6ADD4636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31A-F05A-4924-98EB-73A2D157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183-6AD8-4F77-9A93-AFA5775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B2E-AB6F-42BB-8AF5-17D49F0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A17-8871-4386-93F2-62C915D4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C18-F790-4114-8946-5201D6F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1A6-7348-4D0A-8ACE-BA7A106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DE3-38E5-4775-8B91-E84C610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4E0-2061-44B1-A937-BE391B80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33DC-C725-43BC-A01E-E48314859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СОШ № 6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гского райо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и по телеф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дражание Дж. Рода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работа учеников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: Максимчук Е.М., 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Scan-120407-0002"/>
          <p:cNvPicPr/>
          <p:nvPr/>
        </p:nvPicPr>
        <p:blipFill>
          <a:blip r:embed="rId1"/>
          <a:stretch/>
        </p:blipFill>
        <p:spPr>
          <a:xfrm>
            <a:off x="4859280" y="1600200"/>
            <a:ext cx="361656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Scan-120323-0001"/>
          <p:cNvPicPr/>
          <p:nvPr/>
        </p:nvPicPr>
        <p:blipFill>
          <a:blip r:embed="rId2"/>
          <a:stretch/>
        </p:blipFill>
        <p:spPr>
          <a:xfrm>
            <a:off x="457200" y="2438280"/>
            <a:ext cx="4038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шка, которая мечтала научиться ле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can-120322-0004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41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Scan-120322-0003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а про медве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а - была семья медведей, и были у них два медвежонка. Мама разрешила им пойти погулять, но сказала: "Гуляйте только около речки, но не заходите за нее"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Один медвежонок был очень непослушным. Когда он купался, то переплыл реку, оказался на другом берегу и  решил прогуляться вглубь л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 кричал ему: "Стой! Туда не ходи!"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Но было уже поздно, медвежонок провалился в болот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омогите! Спасите!» - кричал 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Пришлось разумному медвежонку бросаться на выручку. Брат наклонил куст и вытащил непослушного медвежонка. Домой они вернулись все мокрые и с тех пор всегда слушались мам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горьев Ол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can-120322-0006"/>
          <p:cNvPicPr/>
          <p:nvPr/>
        </p:nvPicPr>
        <p:blipFill>
          <a:blip r:embed="rId1"/>
          <a:stretch/>
        </p:blipFill>
        <p:spPr>
          <a:xfrm>
            <a:off x="4648320" y="2397240"/>
            <a:ext cx="403848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йчики-попрыгайч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can-120322-0009"/>
          <p:cNvPicPr/>
          <p:nvPr/>
        </p:nvPicPr>
        <p:blipFill>
          <a:blip r:embed="rId1"/>
          <a:stretch/>
        </p:blipFill>
        <p:spPr>
          <a:xfrm>
            <a:off x="900000" y="1773360"/>
            <a:ext cx="339912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Scan-120322-0010"/>
          <p:cNvPicPr/>
          <p:nvPr/>
        </p:nvPicPr>
        <p:blipFill>
          <a:blip r:embed="rId2"/>
          <a:stretch/>
        </p:blipFill>
        <p:spPr>
          <a:xfrm>
            <a:off x="5078520" y="1600200"/>
            <a:ext cx="317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ающий мышо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корней большого дерева в норе жило мышиное семейство. Мышей было много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нем, когда все они бегали по полю в поисках еды, один мышонок забирался на ветку дерева и  оттуда наблюдал, как летают птицы, то кружась у самого солнца, то почти задевая крыльями траву. Ему тоже хотелось летать вместе с ними.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деревом он нашёл несколько перьев, которые потеряли птицы, скрепил перья травой, и получились крыл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ые мыши говорили: « Ничего у тебя не получится ». Мышонок забрался на верхние ветки дерева и спрыгнул вниз. Он понял, что быстро приближается к земле и может разбиться. Тогда мышонок стал махать лапками. И … полете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се мыши внизу смотрели на него и завидов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пов Ники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can-120322-0001"/>
          <p:cNvPicPr/>
          <p:nvPr/>
        </p:nvPicPr>
        <p:blipFill>
          <a:blip r:embed="rId1"/>
          <a:stretch/>
        </p:blipFill>
        <p:spPr>
          <a:xfrm>
            <a:off x="930240" y="1600200"/>
            <a:ext cx="30924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Scan-120322-0002"/>
          <p:cNvPicPr/>
          <p:nvPr/>
        </p:nvPicPr>
        <p:blipFill>
          <a:blip r:embed="rId2"/>
          <a:stretch/>
        </p:blipFill>
        <p:spPr>
          <a:xfrm>
            <a:off x="928800" y="3938760"/>
            <a:ext cx="3093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уктовая ко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илось это ранней весной. На подоконнике стояла ажурная корзина с фруктами. В ней были киви, яблоки, сливы, апельсины, виноград. Фрукты стали спорить, кто из них самый полезн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ы самые полезные! – сказали яблоки и виноград. - В нас содержится витамин «А», он улучшает зрение и укрепляет кости и зу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ет, мы самые полезные!- закричали апельсины и киви. - В нас содержится витамин «С», он защищает от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ет, мы, мы самые полезные!- воскликнули сливы. - В нас содержится витамин «В», он снижает усталость и повышает работоспособ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Что вы спорите! – сказала старая энциклопе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ждый фрукт полезен по-своему. Все витамины важ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 Артё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can-120322-0008"/>
          <p:cNvPicPr/>
          <p:nvPr/>
        </p:nvPicPr>
        <p:blipFill>
          <a:blip r:embed="rId1"/>
          <a:stretch/>
        </p:blipFill>
        <p:spPr>
          <a:xfrm>
            <a:off x="4648320" y="2435400"/>
            <a:ext cx="40384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т, который не любил мы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дин кот не любил мыться. Его звали Кузя. Он был рыжего цвета в белую полосочку. Вот однажды  хозяйка Лола решила его помыть. Он сопротивлялся!  Кот поцарапал Лолу и убежал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На следующий день он очутился в стране чудес, в которой были деревья из мыла, а цветы в виде мочалок и щеток. Появилось его нелюбимое мыло заговорило с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Если ты не помоешься, ты останешься здесь навсегда и не попадешь домой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ло исчезло, а Кузя увидел яркий свет, который приближался и становился всё ярче и ярче. Он зажмурил глаза, но, когда открыл их, увидел белоснежную пушистую кошечку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узя спросил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Кто ты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на говорит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Я Снежана, а т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Я Кузя. Снежана, как ты добилась такой красот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У меня есть один секрет, давай я тебя отведу кое – куда, и ты все поймеш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 они пришли на место, кошечка  показала Кузе прозрачное озер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Я стала такой, потому что искупалась в озере, - сказала Снежан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узя нырнул в воду и  очутился у себя дома, со своей хозяйкой, чистый и довольн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мальцева С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Scan-120322-0005"/>
          <p:cNvPicPr/>
          <p:nvPr/>
        </p:nvPicPr>
        <p:blipFill>
          <a:blip r:embed="rId1"/>
          <a:stretch/>
        </p:blipFill>
        <p:spPr>
          <a:xfrm>
            <a:off x="4648320" y="2444760"/>
            <a:ext cx="4038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9:20:01Z</dcterms:created>
  <dc:creator>Максимчук</dc:creator>
  <dc:description/>
  <dc:language>en-US</dc:language>
  <cp:lastModifiedBy>Максимчук</cp:lastModifiedBy>
  <dcterms:modified xsi:type="dcterms:W3CDTF">2012-06-16T09:20:01Z</dcterms:modified>
  <cp:revision>1</cp:revision>
  <dc:subject/>
  <dc:title>ГБОУ СОШ № 60 Выборгского района  Санкт-Петербурга</dc:title>
</cp:coreProperties>
</file>