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89F-29FB-441D-B9ED-691C80FC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20A-879E-42D2-A3FB-BDB00B57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224-814C-4189-9BDA-EEEFFCCE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0AF-A8E4-44B8-AB07-3486AD68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744-80A9-4517-AA8D-47C685B2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29A-33A8-4C9B-BF0E-3827B8C5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B5B-C074-4F6B-8FB3-828DC4E0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1EF-6E4E-415A-BD0A-61A468C9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37B-60EA-4841-AE32-ECEC50F5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9E2-4699-474D-BB0B-22948C64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351-CA91-48AE-AAA5-926628CC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CC0-474F-4058-B916-69A81C42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E40D-5148-491E-9CAA-2E8DDBBC41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9;&#1087;&#1072;&#1085;&#1089;&#1082;&#1080;&#1081;_&#1103;&#1079;&#1099;&#1082;" TargetMode="External"/><Relationship Id="rId2" Type="http://schemas.openxmlformats.org/officeDocument/2006/relationships/hyperlink" Target="http://ru.wikipedia.org/wiki/&#1040;&#1088;&#1075;&#1077;&#1085;&#1090;&#1080;&#1085;&#1072;" TargetMode="External"/><Relationship Id="rId3" Type="http://schemas.openxmlformats.org/officeDocument/2006/relationships/hyperlink" Target="http://ru.wikipedia.org/wiki/&#1052;&#1077;&#1090;&#1088;" TargetMode="External"/><Relationship Id="rId4" Type="http://schemas.openxmlformats.org/officeDocument/2006/relationships/hyperlink" Target="http://ru.wikipedia.org/wiki/&#1070;&#1078;&#1085;&#1072;&#1103;_&#1040;&#1084;&#1077;&#1088;&#1080;&#1082;&#1072;" TargetMode="External"/><Relationship Id="rId5" Type="http://schemas.openxmlformats.org/officeDocument/2006/relationships/hyperlink" Target="http://ru.wikipedia.org/wiki/&#1047;&#1072;&#1087;&#1072;&#1076;&#1085;&#1086;&#1077;_&#1087;&#1086;&#1083;&#1091;&#1096;&#1072;&#1088;&#1080;&#1077;" TargetMode="External"/><Relationship Id="rId6" Type="http://schemas.openxmlformats.org/officeDocument/2006/relationships/hyperlink" Target="http://ru.wikipedia.org/wiki/&#1070;&#1078;&#1085;&#1086;&#1077;_&#1087;&#1086;&#1083;&#1091;&#1096;&#1072;&#1088;&#1080;&#1077;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0104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ребты и нагорья Анд: от Венесуэлы до Ч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00800" y="6214680"/>
            <a:ext cx="2271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ды 9 тыс. км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123\Desktop\д.jpg"/>
          <p:cNvPicPr/>
          <p:nvPr/>
        </p:nvPicPr>
        <p:blipFill>
          <a:blip r:embed="rId1"/>
          <a:stretch/>
        </p:blipFill>
        <p:spPr>
          <a:xfrm>
            <a:off x="1071720" y="2000160"/>
            <a:ext cx="2643120" cy="3929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123\Desktop\э.jpg"/>
          <p:cNvPicPr/>
          <p:nvPr/>
        </p:nvPicPr>
        <p:blipFill>
          <a:blip r:embed="rId2"/>
          <a:stretch/>
        </p:blipFill>
        <p:spPr>
          <a:xfrm>
            <a:off x="7072200" y="1500120"/>
            <a:ext cx="1876680" cy="243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123\Desktop\untitled.png"/>
          <p:cNvPicPr/>
          <p:nvPr/>
        </p:nvPicPr>
        <p:blipFill>
          <a:blip r:embed="rId3"/>
          <a:stretch/>
        </p:blipFill>
        <p:spPr>
          <a:xfrm>
            <a:off x="5214960" y="4143240"/>
            <a:ext cx="23716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785840"/>
            <a:ext cx="41004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ринокская низмен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2" descr="C:\Users\123\Desktop\imagesCALDHIBL.jpg"/>
          <p:cNvPicPr/>
          <p:nvPr/>
        </p:nvPicPr>
        <p:blipFill>
          <a:blip r:embed="rId1"/>
          <a:stretch/>
        </p:blipFill>
        <p:spPr>
          <a:xfrm>
            <a:off x="285840" y="357120"/>
            <a:ext cx="4214880" cy="3276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123\Desktop\imagesCA7XK09N.jpg"/>
          <p:cNvPicPr/>
          <p:nvPr/>
        </p:nvPicPr>
        <p:blipFill>
          <a:blip r:embed="rId2"/>
          <a:stretch/>
        </p:blipFill>
        <p:spPr>
          <a:xfrm>
            <a:off x="5786280" y="571680"/>
            <a:ext cx="2857680" cy="2428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123\Desktop\ор.jpg"/>
          <p:cNvPicPr/>
          <p:nvPr/>
        </p:nvPicPr>
        <p:blipFill>
          <a:blip r:embed="rId3"/>
          <a:stretch/>
        </p:blipFill>
        <p:spPr>
          <a:xfrm>
            <a:off x="4929120" y="3714840"/>
            <a:ext cx="28576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те себя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д и север страны заняты цепями грандиозной горной системы. Центр занимает низменность, названная по протекающей через неё реке. На юго-востоке расположено плоскогорье, где находится высочайший в мире водопад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1\3 территории страны покрыто саваннами, 2\5 – лесам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ица страны находится на севере, где проживает основная часть насе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4640" y="274320"/>
            <a:ext cx="31431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́нхел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пемонском языке  значит «Водопад глубочайшего места») — самый высокий в мире водопад, общая высота 979 метров, высота непрерывного падения 807 метров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Назван в честь лётчика Джеймса Эйнджела (англ.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Angel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, который перелетел через водопад в 1935 год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допад находится в тропических лесах Венесуэлы, на территории Национального парка Канайма. Вода свергается с вершины Ауянтепуи, крупнейшей из венесуэльских тепуи — его название в переводе на русский означает «гора дьявола». Высота падения настолько велика, что, прежде чем достичь земли, вода распыляется на мельчайшие частички и превращается в туман. Туман может ощущаться за несколько километров. Падающая вода попадает в реку Кереп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123\Desktop\ven_angel_5.jpg"/>
          <p:cNvPicPr/>
          <p:nvPr/>
        </p:nvPicPr>
        <p:blipFill>
          <a:blip r:embed="rId1"/>
          <a:stretch/>
        </p:blipFill>
        <p:spPr>
          <a:xfrm>
            <a:off x="357120" y="35712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ие природные комплексы сформировались в Андских странах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23502_31"/>
          <p:cNvPicPr/>
          <p:nvPr/>
        </p:nvPicPr>
        <p:blipFill>
          <a:blip r:embed="rId1"/>
          <a:stretch/>
        </p:blipFill>
        <p:spPr>
          <a:xfrm>
            <a:off x="357120" y="192888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3"/>
          <p:cNvSpPr/>
          <p:nvPr/>
        </p:nvSpPr>
        <p:spPr>
          <a:xfrm>
            <a:off x="5572080" y="310500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арт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стр. 2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8648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экваториальных до умеренных широт</a:t>
            </a:r>
            <a:br>
              <a:rPr sz="3200"/>
            </a:b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знообразная природа</a:t>
            </a:r>
            <a:br>
              <a:rPr sz="3200"/>
            </a:br>
            <a:r>
              <a:rPr b="0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высотная поясно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тная зональность</a:t>
            </a:r>
            <a:br>
              <a:rPr sz="32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горные степи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мокрый угол» Южной Америки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 rot="10800000">
            <a:off x="1214280" y="556704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D:\картинки\005.jpg"/>
          <p:cNvPicPr/>
          <p:nvPr/>
        </p:nvPicPr>
        <p:blipFill>
          <a:blip r:embed="rId1"/>
          <a:stretch/>
        </p:blipFill>
        <p:spPr>
          <a:xfrm>
            <a:off x="6858000" y="4572000"/>
            <a:ext cx="19288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6868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овы особенности населения и хозяйства Андских стран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23502_31"/>
          <p:cNvPicPr/>
          <p:nvPr/>
        </p:nvPicPr>
        <p:blipFill>
          <a:blip r:embed="rId1"/>
          <a:stretch/>
        </p:blipFill>
        <p:spPr>
          <a:xfrm>
            <a:off x="357120" y="1928880"/>
            <a:ext cx="51436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ейцы кечуа и аймара</a:t>
            </a:r>
            <a:br>
              <a:rPr sz="3600"/>
            </a:br>
            <a:r>
              <a:rPr b="0" lang="ru-RU" sz="36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метисы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нский язык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мперия инков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123\Desktop\220px-Gwalpaca.jpg"/>
          <p:cNvPicPr/>
          <p:nvPr/>
        </p:nvPicPr>
        <p:blipFill>
          <a:blip r:embed="rId1"/>
          <a:stretch/>
        </p:blipFill>
        <p:spPr>
          <a:xfrm>
            <a:off x="285840" y="3143160"/>
            <a:ext cx="2793960" cy="322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123\Desktop\imagesCAZZGI99.jpg"/>
          <p:cNvPicPr/>
          <p:nvPr/>
        </p:nvPicPr>
        <p:blipFill>
          <a:blip r:embed="rId2"/>
          <a:stretch/>
        </p:blipFill>
        <p:spPr>
          <a:xfrm>
            <a:off x="3286080" y="378612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123\Desktop\imagesCAIL87FV.jpg"/>
          <p:cNvPicPr/>
          <p:nvPr/>
        </p:nvPicPr>
        <p:blipFill>
          <a:blip r:embed="rId3"/>
          <a:stretch/>
        </p:blipFill>
        <p:spPr>
          <a:xfrm>
            <a:off x="6215040" y="2571840"/>
            <a:ext cx="25909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123\Desktop\imagesCA18UYHS.jpg"/>
          <p:cNvPicPr/>
          <p:nvPr/>
        </p:nvPicPr>
        <p:blipFill>
          <a:blip r:embed="rId1"/>
          <a:stretch/>
        </p:blipFill>
        <p:spPr>
          <a:xfrm>
            <a:off x="857160" y="857160"/>
            <a:ext cx="2590920" cy="176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123\Desktop\imagesCA706K9D.jpg"/>
          <p:cNvPicPr/>
          <p:nvPr/>
        </p:nvPicPr>
        <p:blipFill>
          <a:blip r:embed="rId2"/>
          <a:stretch/>
        </p:blipFill>
        <p:spPr>
          <a:xfrm>
            <a:off x="5357880" y="85716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123\Desktop\imagesCAPBOZGL.jpg"/>
          <p:cNvPicPr/>
          <p:nvPr/>
        </p:nvPicPr>
        <p:blipFill>
          <a:blip r:embed="rId3"/>
          <a:stretch/>
        </p:blipFill>
        <p:spPr>
          <a:xfrm>
            <a:off x="3429000" y="29289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123\Desktop\imagesCAM368G5.jpg"/>
          <p:cNvPicPr/>
          <p:nvPr/>
        </p:nvPicPr>
        <p:blipFill>
          <a:blip r:embed="rId4"/>
          <a:stretch/>
        </p:blipFill>
        <p:spPr>
          <a:xfrm>
            <a:off x="6500880" y="4429080"/>
            <a:ext cx="2295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ем знамениты Андские стран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57880" y="160020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ф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  «вечной весн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а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ем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ные запа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23502_31"/>
          <p:cNvPicPr/>
          <p:nvPr/>
        </p:nvPicPr>
        <p:blipFill>
          <a:blip r:embed="rId1"/>
          <a:stretch/>
        </p:blipFill>
        <p:spPr>
          <a:xfrm>
            <a:off x="214200" y="200016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ие страны называются Андским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23502_31"/>
          <p:cNvPicPr/>
          <p:nvPr/>
        </p:nvPicPr>
        <p:blipFill>
          <a:blip r:embed="rId1"/>
          <a:stretch/>
        </p:blipFill>
        <p:spPr>
          <a:xfrm>
            <a:off x="357120" y="192888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5572080" y="310500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арт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стр. 2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4640" y="428760"/>
            <a:ext cx="30718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енесуэ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олумб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Эквад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е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Ч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Боли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Арген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123\Desktop\aргентина.jpg"/>
          <p:cNvPicPr/>
          <p:nvPr/>
        </p:nvPicPr>
        <p:blipFill>
          <a:blip r:embed="rId1"/>
          <a:stretch/>
        </p:blipFill>
        <p:spPr>
          <a:xfrm>
            <a:off x="1714680" y="357120"/>
            <a:ext cx="3429000" cy="286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123\Desktop\чили.png"/>
          <p:cNvPicPr/>
          <p:nvPr/>
        </p:nvPicPr>
        <p:blipFill>
          <a:blip r:embed="rId2"/>
          <a:stretch/>
        </p:blipFill>
        <p:spPr>
          <a:xfrm>
            <a:off x="5286240" y="4643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123\Desktop\эквадор.jpg"/>
          <p:cNvPicPr/>
          <p:nvPr/>
        </p:nvPicPr>
        <p:blipFill>
          <a:blip r:embed="rId3"/>
          <a:stretch/>
        </p:blipFill>
        <p:spPr>
          <a:xfrm>
            <a:off x="500040" y="3786120"/>
            <a:ext cx="37148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овы особенности рельефа Андских стран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23502_31"/>
          <p:cNvPicPr/>
          <p:nvPr/>
        </p:nvPicPr>
        <p:blipFill>
          <a:blip r:embed="rId1"/>
          <a:stretch/>
        </p:blipFill>
        <p:spPr>
          <a:xfrm>
            <a:off x="357120" y="192888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5572080" y="310500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арт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стр. 2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авни результат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рши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. Аконкагуа 6960 м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2.65° ю. ш. ; 70° з. 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лк.Руис 5400 м – Колумб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лк. Котопахи 5897 м – Эквад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лк. Сан-Педро 5974 м -Ч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картинки\7Q8BCAJIS672CAYCGPIGCAN4XAR0CA6TRO0ECAYKV4KECAG60KU9CAUP1S8FCA3PKRNJCAA2ICKXCAZIUKIPCAS1BOFECABHX24ECAT1IFH3CAQ2P4FCCAGF3Z0WCAAPG3TYCAD9GNGVCAAZCG5RCAA4YNJL.jpg"/>
          <p:cNvPicPr/>
          <p:nvPr/>
        </p:nvPicPr>
        <p:blipFill>
          <a:blip r:embed="rId1"/>
          <a:stretch/>
        </p:blipFill>
        <p:spPr>
          <a:xfrm>
            <a:off x="500040" y="428760"/>
            <a:ext cx="1666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521496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ык литосферных плит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емлетрясения и действующие вулканы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хоокеанское «огненное кольцо»</a:t>
            </a: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нутренние плоскогорья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нообразные полезные ископаемы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00480" y="4143240"/>
            <a:ext cx="1771560" cy="14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" descr="C:\Users\123\Desktop\перу.jpg"/>
          <p:cNvPicPr/>
          <p:nvPr/>
        </p:nvPicPr>
        <p:blipFill>
          <a:blip r:embed="rId1"/>
          <a:stretch/>
        </p:blipFill>
        <p:spPr>
          <a:xfrm>
            <a:off x="4857840" y="2357280"/>
            <a:ext cx="42861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14560" y="274680"/>
            <a:ext cx="414324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нка́гу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исп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oncagu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— гора в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Аргенти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сота 6962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Является высшей точкой Американского континента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Южной Амер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западн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южн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шари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ждение названия горы точно неизвестно, существующие выводят его из арауканского языка («с другой стороны реки Аконкагуа») или от Ackon Cahuak, что на языке кечуа означает «Каменный страж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а возникла при столкновении тектонических плит Наска и Южно-Американско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123\Desktop\280px-Aconcagua_13.jpg"/>
          <p:cNvPicPr/>
          <p:nvPr/>
        </p:nvPicPr>
        <p:blipFill>
          <a:blip r:embed="rId7"/>
          <a:stretch/>
        </p:blipFill>
        <p:spPr>
          <a:xfrm>
            <a:off x="357120" y="1071720"/>
            <a:ext cx="42148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57800" y="571680"/>
            <a:ext cx="41004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улкан Котопах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 в число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самых активных действующих вулканов плане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Picture 2" descr="C:\Users\123\Desktop\котопахи.jpg"/>
          <p:cNvPicPr/>
          <p:nvPr/>
        </p:nvPicPr>
        <p:blipFill>
          <a:blip r:embed="rId1"/>
          <a:stretch/>
        </p:blipFill>
        <p:spPr>
          <a:xfrm>
            <a:off x="857160" y="2214720"/>
            <a:ext cx="32148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142880" y="285840"/>
            <a:ext cx="45435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ика́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амое большое по запасам пресной воды горное озеро в мире, второе по площади поверхности озеро Южной Америки (после озера Маракайбо), высочайшее в мире судоходное озеро. Находится в Андах. Название состоит из слов языка индейцев кечуа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кала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ума — священного животного племён кечу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:\Users\123\Desktop\титикака.jpg"/>
          <p:cNvPicPr/>
          <p:nvPr/>
        </p:nvPicPr>
        <p:blipFill>
          <a:blip r:embed="rId1"/>
          <a:stretch/>
        </p:blipFill>
        <p:spPr>
          <a:xfrm>
            <a:off x="571680" y="2143080"/>
            <a:ext cx="34290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6:10:29Z</dcterms:created>
  <dc:creator>123</dc:creator>
  <dc:description/>
  <dc:language>en-US</dc:language>
  <cp:lastModifiedBy>123</cp:lastModifiedBy>
  <dcterms:modified xsi:type="dcterms:W3CDTF">2012-04-18T16:49:24Z</dcterms:modified>
  <cp:revision>19</cp:revision>
  <dc:subject/>
  <dc:title>Хребты и нагорья Анд: от Венесуэлы до Чили</dc:title>
</cp:coreProperties>
</file>