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91D-25AF-4435-93F3-AC33C993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638-8D4F-4A4E-9D49-5BD723C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E41-3F35-4EB5-86DE-30C8C137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2CA-EF1C-4052-BD48-72A72C3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E3A-630A-4A7F-ACE0-0BA9C7E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53A-9DEB-4D78-8481-8F46B2B6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027-4232-4438-B380-6DF4692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F93-47D7-48FB-9BA3-EF3DDFAB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025-3969-4828-80E6-D417E95A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E78-219C-472F-BE73-7E79724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1D7-7E26-4FA9-BBDE-4566105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FDB-483C-4A3D-A008-066AF892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3939-ED4A-4A2B-B9DD-E21F6D0BC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9;&#1087;&#1072;&#1085;&#1089;&#1082;&#1080;&#1081;_&#1103;&#1079;&#1099;&#1082;" TargetMode="External"/><Relationship Id="rId2" Type="http://schemas.openxmlformats.org/officeDocument/2006/relationships/hyperlink" Target="http://ru.wikipedia.org/wiki/&#1040;&#1088;&#1075;&#1077;&#1085;&#1090;&#1080;&#1085;&#1072;" TargetMode="External"/><Relationship Id="rId3" Type="http://schemas.openxmlformats.org/officeDocument/2006/relationships/hyperlink" Target="http://ru.wikipedia.org/wiki/&#1052;&#1077;&#1090;&#1088;" TargetMode="External"/><Relationship Id="rId4" Type="http://schemas.openxmlformats.org/officeDocument/2006/relationships/hyperlink" Target="http://ru.wikipedia.org/wiki/&#1070;&#1078;&#1085;&#1072;&#1103;_&#1040;&#1084;&#1077;&#1088;&#1080;&#1082;&#1072;" TargetMode="External"/><Relationship Id="rId5" Type="http://schemas.openxmlformats.org/officeDocument/2006/relationships/hyperlink" Target="http://ru.wikipedia.org/wiki/&#1047;&#1072;&#1087;&#1072;&#1076;&#1085;&#1086;&#1077;_&#1087;&#1086;&#1083;&#1091;&#1096;&#1072;&#1088;&#1080;&#1077;" TargetMode="External"/><Relationship Id="rId6" Type="http://schemas.openxmlformats.org/officeDocument/2006/relationships/hyperlink" Target="http://ru.wikipedia.org/wiki/&#1070;&#1078;&#1085;&#1086;&#1077;_&#1087;&#1086;&#1083;&#1091;&#1096;&#1072;&#1088;&#1080;&#1077;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ребты и нагорья Анд: от Венесуэлы до 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00800" y="6214680"/>
            <a:ext cx="2271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нды 9 тыс. км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123\Desktop\д.jpg"/>
          <p:cNvPicPr/>
          <p:nvPr/>
        </p:nvPicPr>
        <p:blipFill>
          <a:blip r:embed="rId1"/>
          <a:stretch/>
        </p:blipFill>
        <p:spPr>
          <a:xfrm>
            <a:off x="1071720" y="2000160"/>
            <a:ext cx="2643120" cy="3929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123\Desktop\э.jpg"/>
          <p:cNvPicPr/>
          <p:nvPr/>
        </p:nvPicPr>
        <p:blipFill>
          <a:blip r:embed="rId2"/>
          <a:stretch/>
        </p:blipFill>
        <p:spPr>
          <a:xfrm>
            <a:off x="7072200" y="1500120"/>
            <a:ext cx="1876680" cy="243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123\Desktop\untitled.png"/>
          <p:cNvPicPr/>
          <p:nvPr/>
        </p:nvPicPr>
        <p:blipFill>
          <a:blip r:embed="rId3"/>
          <a:stretch/>
        </p:blipFill>
        <p:spPr>
          <a:xfrm>
            <a:off x="5214960" y="4143240"/>
            <a:ext cx="23716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785840"/>
            <a:ext cx="4100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инокская низменн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2" descr="C:\Users\123\Desktop\imagesCALDHIBL.jpg"/>
          <p:cNvPicPr/>
          <p:nvPr/>
        </p:nvPicPr>
        <p:blipFill>
          <a:blip r:embed="rId1"/>
          <a:stretch/>
        </p:blipFill>
        <p:spPr>
          <a:xfrm>
            <a:off x="285840" y="357120"/>
            <a:ext cx="4214880" cy="327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123\Desktop\imagesCA7XK09N.jpg"/>
          <p:cNvPicPr/>
          <p:nvPr/>
        </p:nvPicPr>
        <p:blipFill>
          <a:blip r:embed="rId2"/>
          <a:stretch/>
        </p:blipFill>
        <p:spPr>
          <a:xfrm>
            <a:off x="5786280" y="571680"/>
            <a:ext cx="2857680" cy="2428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123\Desktop\ор.jpg"/>
          <p:cNvPicPr/>
          <p:nvPr/>
        </p:nvPicPr>
        <p:blipFill>
          <a:blip r:embed="rId3"/>
          <a:stretch/>
        </p:blipFill>
        <p:spPr>
          <a:xfrm>
            <a:off x="4929120" y="3714840"/>
            <a:ext cx="28576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те себя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 и север страны заняты цепями грандиозной горной системы. Центр занимает низменность, названная по протекающей через неё реке. На юго-востоке расположено плоскогорье, где находится высочайший в мире водопад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\3 территории страны покрыто саваннами, 2\5 – лес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ица страны находится на севере, где проживает основная часть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314316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́нхель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емонском языке  значит «Водопад глубочайшего места») — самый высокий в мире водопад, общая высота 979 метров, высота непрерывного падения 807 метров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Назван в честь лётчика Джеймса Эйнджела (англ.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Ange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), который перелетел через водопад в 1935 год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допад находится в тропических лесах Венесуэлы, на территории Национального парка Канайма. Вода свергается с вершины Ауянтепуи, крупнейшей из венесуэльских тепуи — его название в переводе на русский означает «гора дьявола». Высота падения настолько велика, что, прежде чем достичь земли, вода распыляется на мельчайшие частички и превращается в туман. Туман может ощущаться за несколько километров. Падающая вода попадает в реку Кереп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123\Desktop\ven_angel_5.jpg"/>
          <p:cNvPicPr/>
          <p:nvPr/>
        </p:nvPicPr>
        <p:blipFill>
          <a:blip r:embed="rId1"/>
          <a:stretch/>
        </p:blipFill>
        <p:spPr>
          <a:xfrm>
            <a:off x="357120" y="35712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природные комплексы сформировались в Андских странах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8648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экваториальных до умеренных широт</a:t>
            </a:r>
            <a:br>
              <a:rPr sz="3200"/>
            </a:b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азнообразная природа</a:t>
            </a:r>
            <a:br>
              <a:rPr sz="3200"/>
            </a:br>
            <a:r>
              <a:rPr b="0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высотная поясн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тная зональность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горные степи</a:t>
            </a:r>
            <a:br>
              <a:rPr sz="3200"/>
            </a:br>
            <a:r>
              <a:rPr b="0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мокрый угол» Южной Америк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 rot="10800000">
            <a:off x="1214280" y="556704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картинки\005.jpg"/>
          <p:cNvPicPr/>
          <p:nvPr/>
        </p:nvPicPr>
        <p:blipFill>
          <a:blip r:embed="rId1"/>
          <a:stretch/>
        </p:blipFill>
        <p:spPr>
          <a:xfrm>
            <a:off x="6858000" y="4572000"/>
            <a:ext cx="19288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6868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ы особенности населения и хозяйства Андских стра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йцы кечуа и аймара</a:t>
            </a:r>
            <a:br>
              <a:rPr sz="3600"/>
            </a:br>
            <a:r>
              <a:rPr b="0" lang="ru-RU" sz="3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метисы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нский язык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мперия инков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23\Desktop\220px-Gwalpaca.jpg"/>
          <p:cNvPicPr/>
          <p:nvPr/>
        </p:nvPicPr>
        <p:blipFill>
          <a:blip r:embed="rId1"/>
          <a:stretch/>
        </p:blipFill>
        <p:spPr>
          <a:xfrm>
            <a:off x="285840" y="3143160"/>
            <a:ext cx="2793960" cy="3225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123\Desktop\imagesCAZZGI99.jpg"/>
          <p:cNvPicPr/>
          <p:nvPr/>
        </p:nvPicPr>
        <p:blipFill>
          <a:blip r:embed="rId2"/>
          <a:stretch/>
        </p:blipFill>
        <p:spPr>
          <a:xfrm>
            <a:off x="3286080" y="37861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123\Desktop\imagesCAIL87FV.jpg"/>
          <p:cNvPicPr/>
          <p:nvPr/>
        </p:nvPicPr>
        <p:blipFill>
          <a:blip r:embed="rId3"/>
          <a:stretch/>
        </p:blipFill>
        <p:spPr>
          <a:xfrm>
            <a:off x="6215040" y="2571840"/>
            <a:ext cx="2590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123\Desktop\imagesCA18UYHS.jpg"/>
          <p:cNvPicPr/>
          <p:nvPr/>
        </p:nvPicPr>
        <p:blipFill>
          <a:blip r:embed="rId1"/>
          <a:stretch/>
        </p:blipFill>
        <p:spPr>
          <a:xfrm>
            <a:off x="857160" y="857160"/>
            <a:ext cx="2590920" cy="176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123\Desktop\imagesCA706K9D.jpg"/>
          <p:cNvPicPr/>
          <p:nvPr/>
        </p:nvPicPr>
        <p:blipFill>
          <a:blip r:embed="rId2"/>
          <a:stretch/>
        </p:blipFill>
        <p:spPr>
          <a:xfrm>
            <a:off x="5357880" y="85716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123\Desktop\imagesCAPBOZGL.jpg"/>
          <p:cNvPicPr/>
          <p:nvPr/>
        </p:nvPicPr>
        <p:blipFill>
          <a:blip r:embed="rId3"/>
          <a:stretch/>
        </p:blipFill>
        <p:spPr>
          <a:xfrm>
            <a:off x="3429000" y="2928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123\Desktop\imagesCAM368G5.jpg"/>
          <p:cNvPicPr/>
          <p:nvPr/>
        </p:nvPicPr>
        <p:blipFill>
          <a:blip r:embed="rId4"/>
          <a:stretch/>
        </p:blipFill>
        <p:spPr>
          <a:xfrm>
            <a:off x="6500880" y="442908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Чем знамениты Андские страны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57880" y="160020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ф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  «вечной весн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а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е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ные запа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23502_31"/>
          <p:cNvPicPr/>
          <p:nvPr/>
        </p:nvPicPr>
        <p:blipFill>
          <a:blip r:embed="rId1"/>
          <a:stretch/>
        </p:blipFill>
        <p:spPr>
          <a:xfrm>
            <a:off x="214200" y="200016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ие страны называются Андским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4640" y="428760"/>
            <a:ext cx="30718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енесуэ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олумб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Эквад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Пе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Боли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Арген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123\Desktop\aргентина.jpg"/>
          <p:cNvPicPr/>
          <p:nvPr/>
        </p:nvPicPr>
        <p:blipFill>
          <a:blip r:embed="rId1"/>
          <a:stretch/>
        </p:blipFill>
        <p:spPr>
          <a:xfrm>
            <a:off x="1714680" y="357120"/>
            <a:ext cx="3429000" cy="286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123\Desktop\чили.png"/>
          <p:cNvPicPr/>
          <p:nvPr/>
        </p:nvPicPr>
        <p:blipFill>
          <a:blip r:embed="rId2"/>
          <a:stretch/>
        </p:blipFill>
        <p:spPr>
          <a:xfrm>
            <a:off x="5286240" y="4643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123\Desktop\эквадор.jpg"/>
          <p:cNvPicPr/>
          <p:nvPr/>
        </p:nvPicPr>
        <p:blipFill>
          <a:blip r:embed="rId3"/>
          <a:stretch/>
        </p:blipFill>
        <p:spPr>
          <a:xfrm>
            <a:off x="500040" y="3786120"/>
            <a:ext cx="37148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овы особенности рельефа Андских стран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23502_31"/>
          <p:cNvPicPr/>
          <p:nvPr/>
        </p:nvPicPr>
        <p:blipFill>
          <a:blip r:embed="rId1"/>
          <a:stretch/>
        </p:blipFill>
        <p:spPr>
          <a:xfrm>
            <a:off x="357120" y="192888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572080" y="3105000"/>
            <a:ext cx="307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рт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стр. 2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результат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ши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. Аконкагуа 6960 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2.65° ю. ш. ; 70° з. 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лк.Руис 5400 м – Колумб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лк. Котопахи 5897 м – Эквад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лк. Сан-Педро 5974 м -Ч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картинки\7Q8BCAJIS672CAYCGPIGCAN4XAR0CA6TRO0ECAYKV4KECAG60KU9CAUP1S8FCA3PKRNJCAA2ICKXCAZIUKIPCAS1BOFECABHX24ECAT1IFH3CAQ2P4FCCAGF3Z0WCAAPG3TYCAD9GNGVCAAZCG5RCAA4YNJL.jpg"/>
          <p:cNvPicPr/>
          <p:nvPr/>
        </p:nvPicPr>
        <p:blipFill>
          <a:blip r:embed="rId1"/>
          <a:stretch/>
        </p:blipFill>
        <p:spPr>
          <a:xfrm>
            <a:off x="500040" y="428760"/>
            <a:ext cx="1666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428760"/>
            <a:ext cx="5214960" cy="40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ык литосферных плит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емлетрясения и действующие вулканы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ихоокеанское «огненное кольцо»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нутренние плоскогорья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нообразные полезные ископаемы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00480" y="4143240"/>
            <a:ext cx="177156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" descr="C:\Users\123\Desktop\перу.jpg"/>
          <p:cNvPicPr/>
          <p:nvPr/>
        </p:nvPicPr>
        <p:blipFill>
          <a:blip r:embed="rId1"/>
          <a:stretch/>
        </p:blipFill>
        <p:spPr>
          <a:xfrm>
            <a:off x="4857840" y="235728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4560" y="274680"/>
            <a:ext cx="414324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нка́гу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исп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ncagu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— гора в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ргенти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6962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вляется высшей точкой Американского континента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Южной Амер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запад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юж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шар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ждение названия горы точно неизвестно, существующие выводят его из арауканского языка («с другой стороны реки Аконкагуа») или от Ackon Cahuak, что на языке кечуа означает «Каменный страж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 возникла при столкновении тектонических плит Наска и Южно-Американско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123\Desktop\280px-Aconcagua_13.jpg"/>
          <p:cNvPicPr/>
          <p:nvPr/>
        </p:nvPicPr>
        <p:blipFill>
          <a:blip r:embed="rId7"/>
          <a:stretch/>
        </p:blipFill>
        <p:spPr>
          <a:xfrm>
            <a:off x="357120" y="1071720"/>
            <a:ext cx="4214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7800" y="571680"/>
            <a:ext cx="4100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улкан Котопах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числ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амых активных действующих вулканов план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7" name="Picture 2" descr="C:\Users\123\Desktop\котопахи.jpg"/>
          <p:cNvPicPr/>
          <p:nvPr/>
        </p:nvPicPr>
        <p:blipFill>
          <a:blip r:embed="rId1"/>
          <a:stretch/>
        </p:blipFill>
        <p:spPr>
          <a:xfrm>
            <a:off x="857160" y="2214720"/>
            <a:ext cx="321480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42880" y="285840"/>
            <a:ext cx="45435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ика́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амое большое по запасам пресной воды горное озеро в мире, второе по площади поверхности озеро Южной Америки (после озера Маракайбо), высочайшее в мире судоходное озеро. Находится в Андах. Название состоит из слов языка индейцев кечуа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кала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ума — священного животного племён кечу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:\Users\123\Desktop\титикака.jpg"/>
          <p:cNvPicPr/>
          <p:nvPr/>
        </p:nvPicPr>
        <p:blipFill>
          <a:blip r:embed="rId1"/>
          <a:stretch/>
        </p:blipFill>
        <p:spPr>
          <a:xfrm>
            <a:off x="571680" y="2143080"/>
            <a:ext cx="34290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6:10:29Z</dcterms:created>
  <dc:creator>123</dc:creator>
  <dc:description/>
  <dc:language>en-US</dc:language>
  <cp:lastModifiedBy>123</cp:lastModifiedBy>
  <dcterms:modified xsi:type="dcterms:W3CDTF">2012-04-18T16:49:24Z</dcterms:modified>
  <cp:revision>19</cp:revision>
  <dc:subject/>
  <dc:title>Хребты и нагорья Анд: от Венесуэлы до Чили</dc:title>
</cp:coreProperties>
</file>