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D11-FDE7-446A-8F5F-22104371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BA1-AEF6-4D5D-A5E0-A5DE22D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7B0-5AE4-487B-845C-34F267E8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260-9144-49BD-BCB5-19FB497C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35C-CC77-4A11-A840-37732BB5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CD66-CCE7-4B6F-BC4E-1B7FC714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63E0-E141-4F31-B0F9-2B3CF882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FE4-67C3-43F5-8C4C-236B4F0C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105-37F0-42B6-871A-37E57B8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72D4-A351-4A51-8FDD-07C45F2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7BB-4B28-4288-98F3-53CEB30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A13-0DD5-429A-8BA5-B3887DB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1830-FE67-47AF-B893-ABA5F9C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D1C-EBE1-42C7-91DC-84DE1CA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1B20-67BE-45B8-80CE-A60819C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50E-AF69-45B7-B5F9-5E3112E0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F80-7208-4335-9326-86B0BF9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538-3241-4FC0-ADB1-D53E5D38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F96-19D7-4DC5-B069-082A926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6C4-4433-4F97-9D1E-50B2B5A5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DBD-4985-4636-A830-F7AC203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EF3-AF85-4E70-980D-D6F20424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A2B-309B-48C8-B928-BC82E6D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BAA-7C0D-4BFE-B092-50660D0A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5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9CC-ADA8-4397-A73F-B4049F1345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5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B503-C76E-4D40-A944-70C3342210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7"/>
          <p:cNvSpPr txBox="1"/>
          <p:nvPr/>
        </p:nvSpPr>
        <p:spPr>
          <a:xfrm>
            <a:off x="3059280" y="4292640"/>
            <a:ext cx="547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c2ca"/>
                    </a:gs>
                    <a:gs pos="50000">
                      <a:srgbClr val="0b595d"/>
                    </a:gs>
                    <a:gs pos="100000">
                      <a:srgbClr val="18c2ca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РАХМ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c2ca"/>
                  </a:gs>
                  <a:gs pos="50000">
                    <a:srgbClr val="0b595d"/>
                  </a:gs>
                  <a:gs pos="100000">
                    <a:srgbClr val="18c2ca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рименение в бумажной промышлен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12" descr="J0309033"/>
          <p:cNvPicPr/>
          <p:nvPr/>
        </p:nvPicPr>
        <p:blipFill>
          <a:blip r:embed="rId2"/>
          <a:stretch/>
        </p:blipFill>
        <p:spPr>
          <a:xfrm>
            <a:off x="4356000" y="3645000"/>
            <a:ext cx="4491000" cy="266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155"/>
          <p:cNvPicPr/>
          <p:nvPr/>
        </p:nvPicPr>
        <p:blipFill>
          <a:blip r:embed="rId3"/>
          <a:stretch/>
        </p:blipFill>
        <p:spPr>
          <a:xfrm>
            <a:off x="250920" y="1413000"/>
            <a:ext cx="5662440" cy="317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Применение в кондитерском и хлебопекарном производств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J0202041"/>
          <p:cNvPicPr/>
          <p:nvPr/>
        </p:nvPicPr>
        <p:blipFill>
          <a:blip r:embed="rId2"/>
          <a:stretch/>
        </p:blipFill>
        <p:spPr>
          <a:xfrm>
            <a:off x="1258920" y="1628640"/>
            <a:ext cx="684216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Применение в текстильной промышлен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J0285112"/>
          <p:cNvPicPr/>
          <p:nvPr/>
        </p:nvPicPr>
        <p:blipFill>
          <a:blip r:embed="rId2"/>
          <a:stretch/>
        </p:blipFill>
        <p:spPr>
          <a:xfrm>
            <a:off x="4284720" y="3429000"/>
            <a:ext cx="4010040" cy="316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006"/>
          <p:cNvPicPr/>
          <p:nvPr/>
        </p:nvPicPr>
        <p:blipFill>
          <a:blip r:embed="rId3"/>
          <a:stretch/>
        </p:blipFill>
        <p:spPr>
          <a:xfrm>
            <a:off x="611280" y="155736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8ae"/>
                </a:solidFill>
                <a:latin typeface="Arial"/>
              </a:rPr>
              <a:t>Применение в строительств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c2ca"/>
                </a:solidFill>
                <a:latin typeface="Times New Roman"/>
              </a:rPr>
              <a:t>Для производства строительных смесей используются загустители и связующие вещества на основе кукурузного крахм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c2ca"/>
                </a:solidFill>
                <a:latin typeface="Times New Roman"/>
              </a:rPr>
              <a:t>Разрабатывают добавки на основе крахмалов для строительной промышленности. Они используются для придания специфических свойств цементным растворам, штукатурным растворам, гипсовой продукции, отделочным смесям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230632"/>
          <p:cNvPicPr/>
          <p:nvPr/>
        </p:nvPicPr>
        <p:blipFill>
          <a:blip r:embed="rId2"/>
          <a:stretch/>
        </p:blipFill>
        <p:spPr>
          <a:xfrm>
            <a:off x="6659640" y="4221000"/>
            <a:ext cx="190476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рименение фармацевтической промышлен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укурузный крахмал больше всего подходит, как транспортное средство для сжатия таблетки в фармацевтической промышл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J0308903"/>
          <p:cNvPicPr/>
          <p:nvPr/>
        </p:nvPicPr>
        <p:blipFill>
          <a:blip r:embed="rId2"/>
          <a:stretch/>
        </p:blipFill>
        <p:spPr>
          <a:xfrm>
            <a:off x="4140360" y="3357720"/>
            <a:ext cx="45208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Крахмал - природный              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       полим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Это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лисахариды амилозы  и амилопектина, мономером которых является альфа - </a:t>
            </a:r>
            <a:r>
              <a:rPr b="0" lang="ru-RU" sz="3200" spc="-1" strike="noStrike" u="sng">
                <a:solidFill>
                  <a:srgbClr val="292929"/>
                </a:solidFill>
                <a:uFillTx/>
                <a:latin typeface="Arial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В картофеле - 20 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4" descr="J0177942"/>
          <p:cNvPicPr/>
          <p:nvPr/>
        </p:nvPicPr>
        <p:blipFill>
          <a:blip r:embed="rId2"/>
          <a:stretch/>
        </p:blipFill>
        <p:spPr>
          <a:xfrm>
            <a:off x="826920" y="1706400"/>
            <a:ext cx="7274160" cy="484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В рисе-80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ris_std"/>
          <p:cNvPicPr/>
          <p:nvPr/>
        </p:nvPicPr>
        <p:blipFill>
          <a:blip r:embed="rId2"/>
          <a:stretch/>
        </p:blipFill>
        <p:spPr>
          <a:xfrm>
            <a:off x="1187280" y="1844640"/>
            <a:ext cx="676944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Пшенице и кукурузе-70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J0182614"/>
          <p:cNvPicPr/>
          <p:nvPr/>
        </p:nvPicPr>
        <p:blipFill>
          <a:blip r:embed="rId2"/>
          <a:stretch/>
        </p:blipFill>
        <p:spPr>
          <a:xfrm>
            <a:off x="250920" y="1700280"/>
            <a:ext cx="4643280" cy="3135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J0185230"/>
          <p:cNvPicPr/>
          <p:nvPr/>
        </p:nvPicPr>
        <p:blipFill>
          <a:blip r:embed="rId3"/>
          <a:stretch/>
        </p:blipFill>
        <p:spPr>
          <a:xfrm>
            <a:off x="3492360" y="321300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Получени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Times New Roman"/>
              </a:rPr>
              <a:t>Крахмал чаще всего получают из картофеля. Для этого картофель измельчают, промывают водой и перекачивают в большие сосуды, где происходит отстаивание. Полученный крахмал еще раз промывают водой, отстаивают и сушат в струе теплого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8e4"/>
                </a:solidFill>
                <a:latin typeface="Arial"/>
              </a:rPr>
              <a:t>Физические  свойств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Встречается в виде зерен белого цве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Зерна крахмала не растворимы в холодной во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В горячей воде мембрана зерен лопается и крахмал  образует коллоидный раствор (гель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Не обладает сладким вкусом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Химические свойств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чественная реакция на крахмал. Йод образует с крахмалом комплексное соединение интенсивно синего цве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Содержимое 6" descr=""/>
          <p:cNvPicPr/>
          <p:nvPr/>
        </p:nvPicPr>
        <p:blipFill>
          <a:blip r:embed="rId2"/>
          <a:stretch/>
        </p:blipFill>
        <p:spPr>
          <a:xfrm>
            <a:off x="595440" y="3944880"/>
            <a:ext cx="795168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Разрушение при нагре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0_5997_81ca9b0e_XL"/>
          <p:cNvPicPr/>
          <p:nvPr/>
        </p:nvPicPr>
        <p:blipFill>
          <a:blip r:embed="rId2"/>
          <a:stretch/>
        </p:blipFill>
        <p:spPr>
          <a:xfrm>
            <a:off x="1258920" y="1379520"/>
            <a:ext cx="6913440" cy="489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38:21Z</dcterms:created>
  <dc:creator>EVGENIY</dc:creator>
  <dc:description/>
  <dc:language>en-US</dc:language>
  <cp:lastModifiedBy>Nastya</cp:lastModifiedBy>
  <dcterms:modified xsi:type="dcterms:W3CDTF">2011-05-20T17:56:42Z</dcterms:modified>
  <cp:revision>16</cp:revision>
  <dc:subject/>
  <dc:title>Слайд 1</dc:title>
</cp:coreProperties>
</file>