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427-7CF0-4644-AE59-7F5E9438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0CC-A052-4B6C-AB6A-C73CFD39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07B-4CE1-4F23-B17B-CE6396CB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29A-5936-4B5A-89A5-DAC790BB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F5FB-99A9-47FD-93C2-4C716C4A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2E27-B064-4E53-955D-BB3B80FE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370A-B154-467A-9271-D682496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68E4-BA0B-439B-8514-35EC424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2C26-88BB-4017-A033-5F6B2CF4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D4A3-31B9-4DA6-8AF2-252798DB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C1E-161F-45F8-8E9F-50EF572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779-D9EB-4663-BA28-A26363C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9AB7-AB69-48C4-9D8B-DC9D02D6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623C-0830-4751-ACCA-5FECFD98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2112-A081-45AD-A43B-BE097E1B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B074-2121-4850-B699-D37CB506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D72D-A8CB-4AD8-A80E-559E99B3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84F-6BC1-405B-9B73-78F404E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7CE-DD32-4DF2-9326-4E1802FE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801-3312-49AE-9B65-E56ED1D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5AA2-2460-4095-A7E2-CF0C2AA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5E2-6FEF-4FD0-BB38-8D5B755B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BF3-97C5-4411-AF7D-AE2D061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8315-E474-43FC-BB12-970D770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5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F624-04BB-41CA-8D87-E2AEA0B0B7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8ae"/>
            </a:gs>
            <a:gs pos="100000">
              <a:srgbClr val="005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1365-6DDB-4849-BAF6-77BA996E8F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7"/>
          <p:cNvSpPr txBox="1"/>
          <p:nvPr/>
        </p:nvSpPr>
        <p:spPr>
          <a:xfrm>
            <a:off x="3059280" y="4292640"/>
            <a:ext cx="5472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c2ca"/>
                    </a:gs>
                    <a:gs pos="50000">
                      <a:srgbClr val="0b595d"/>
                    </a:gs>
                    <a:gs pos="100000">
                      <a:srgbClr val="18c2ca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РАХМ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c2ca"/>
                  </a:gs>
                  <a:gs pos="50000">
                    <a:srgbClr val="0b595d"/>
                  </a:gs>
                  <a:gs pos="100000">
                    <a:srgbClr val="18c2ca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рименение в бумажной промышлен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12" descr="J0309033"/>
          <p:cNvPicPr/>
          <p:nvPr/>
        </p:nvPicPr>
        <p:blipFill>
          <a:blip r:embed="rId2"/>
          <a:stretch/>
        </p:blipFill>
        <p:spPr>
          <a:xfrm>
            <a:off x="4356000" y="3645000"/>
            <a:ext cx="4491000" cy="266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" descr="155"/>
          <p:cNvPicPr/>
          <p:nvPr/>
        </p:nvPicPr>
        <p:blipFill>
          <a:blip r:embed="rId3"/>
          <a:stretch/>
        </p:blipFill>
        <p:spPr>
          <a:xfrm>
            <a:off x="250920" y="1413000"/>
            <a:ext cx="5662440" cy="3171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Применение в кондитерском и хлебопекарном производств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4" descr="J0202041"/>
          <p:cNvPicPr/>
          <p:nvPr/>
        </p:nvPicPr>
        <p:blipFill>
          <a:blip r:embed="rId2"/>
          <a:stretch/>
        </p:blipFill>
        <p:spPr>
          <a:xfrm>
            <a:off x="1258920" y="1628640"/>
            <a:ext cx="6842160" cy="469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Применение в текстильной промышлен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4" descr="J0285112"/>
          <p:cNvPicPr/>
          <p:nvPr/>
        </p:nvPicPr>
        <p:blipFill>
          <a:blip r:embed="rId2"/>
          <a:stretch/>
        </p:blipFill>
        <p:spPr>
          <a:xfrm>
            <a:off x="4284720" y="3429000"/>
            <a:ext cx="4010040" cy="316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006"/>
          <p:cNvPicPr/>
          <p:nvPr/>
        </p:nvPicPr>
        <p:blipFill>
          <a:blip r:embed="rId3"/>
          <a:stretch/>
        </p:blipFill>
        <p:spPr>
          <a:xfrm>
            <a:off x="611280" y="1557360"/>
            <a:ext cx="424800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8ae"/>
                </a:solidFill>
                <a:latin typeface="Arial"/>
              </a:rPr>
              <a:t>Применение в строительств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c2ca"/>
                </a:solidFill>
                <a:latin typeface="Times New Roman"/>
              </a:rPr>
              <a:t>Для производства строительных смесей используются загустители и связующие вещества на основе кукурузного крахм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c2ca"/>
                </a:solidFill>
                <a:latin typeface="Times New Roman"/>
              </a:rPr>
              <a:t>Разрабатывают добавки на основе крахмалов для строительной промышленности. Они используются для придания специфических свойств цементным растворам, штукатурным растворам, гипсовой продукции, отделочным смесям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230632"/>
          <p:cNvPicPr/>
          <p:nvPr/>
        </p:nvPicPr>
        <p:blipFill>
          <a:blip r:embed="rId2"/>
          <a:stretch/>
        </p:blipFill>
        <p:spPr>
          <a:xfrm>
            <a:off x="6659640" y="4221000"/>
            <a:ext cx="190476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Применение фармацевтической промышленност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укурузный крахмал больше всего подходит, как транспортное средство для сжатия таблетки в фармацевтической промышлен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J0308903"/>
          <p:cNvPicPr/>
          <p:nvPr/>
        </p:nvPicPr>
        <p:blipFill>
          <a:blip r:embed="rId2"/>
          <a:stretch/>
        </p:blipFill>
        <p:spPr>
          <a:xfrm>
            <a:off x="4140360" y="3357720"/>
            <a:ext cx="4520880" cy="298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Крахмал - природный              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       полимер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5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Это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лисахариды амилозы  и амилопектина, мономером которых является альфа - </a:t>
            </a:r>
            <a:r>
              <a:rPr b="0" lang="ru-RU" sz="3200" spc="-1" strike="noStrike" u="sng">
                <a:solidFill>
                  <a:srgbClr val="292929"/>
                </a:solidFill>
                <a:uFillTx/>
                <a:latin typeface="Arial"/>
              </a:rPr>
              <a:t>глю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В картофеле - 20 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4" descr="J0177942"/>
          <p:cNvPicPr/>
          <p:nvPr/>
        </p:nvPicPr>
        <p:blipFill>
          <a:blip r:embed="rId2"/>
          <a:stretch/>
        </p:blipFill>
        <p:spPr>
          <a:xfrm>
            <a:off x="826920" y="1706400"/>
            <a:ext cx="7274160" cy="4848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В рисе-80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ris_std"/>
          <p:cNvPicPr/>
          <p:nvPr/>
        </p:nvPicPr>
        <p:blipFill>
          <a:blip r:embed="rId2"/>
          <a:stretch/>
        </p:blipFill>
        <p:spPr>
          <a:xfrm>
            <a:off x="1187280" y="1844640"/>
            <a:ext cx="676944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Пшенице и кукурузе-70%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4" descr="J0182614"/>
          <p:cNvPicPr/>
          <p:nvPr/>
        </p:nvPicPr>
        <p:blipFill>
          <a:blip r:embed="rId2"/>
          <a:stretch/>
        </p:blipFill>
        <p:spPr>
          <a:xfrm>
            <a:off x="250920" y="1700280"/>
            <a:ext cx="4643280" cy="31352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J0185230"/>
          <p:cNvPicPr/>
          <p:nvPr/>
        </p:nvPicPr>
        <p:blipFill>
          <a:blip r:embed="rId3"/>
          <a:stretch/>
        </p:blipFill>
        <p:spPr>
          <a:xfrm>
            <a:off x="3492360" y="321300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68ae"/>
                </a:solidFill>
                <a:latin typeface="Arial"/>
              </a:rPr>
              <a:t>Получение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Times New Roman"/>
              </a:rPr>
              <a:t>Крахмал чаще всего получают из картофеля. Для этого картофель измельчают, промывают водой и перекачивают в большие сосуды, где происходит отстаивание. Полученный крахмал еще раз промывают водой, отстаивают и сушат в струе теплого возду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8e4"/>
                </a:solidFill>
                <a:latin typeface="Arial"/>
              </a:rPr>
              <a:t>Физические  свойств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Встречается в виде зерен белого цве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Зерна крахмала не растворимы в холодной во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В горячей воде мембрана зерен лопается и крахмал  образует коллоидный раствор (гель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9999"/>
                </a:solidFill>
                <a:latin typeface="Times New Roman"/>
              </a:rPr>
              <a:t>Не обладает сладким вкусом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Химические свойств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Качественная реакция на крахмал. Йод образует с крахмалом комплексное соединение интенсивно синего цве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Содержимое 6" descr=""/>
          <p:cNvPicPr/>
          <p:nvPr/>
        </p:nvPicPr>
        <p:blipFill>
          <a:blip r:embed="rId2"/>
          <a:stretch/>
        </p:blipFill>
        <p:spPr>
          <a:xfrm>
            <a:off x="595440" y="3944880"/>
            <a:ext cx="7951680" cy="21812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Разрушение при нагрев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0_5997_81ca9b0e_XL"/>
          <p:cNvPicPr/>
          <p:nvPr/>
        </p:nvPicPr>
        <p:blipFill>
          <a:blip r:embed="rId2"/>
          <a:stretch/>
        </p:blipFill>
        <p:spPr>
          <a:xfrm>
            <a:off x="1258920" y="1379520"/>
            <a:ext cx="6913440" cy="489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5:38:21Z</dcterms:created>
  <dc:creator>EVGENIY</dc:creator>
  <dc:description/>
  <dc:language>en-US</dc:language>
  <cp:lastModifiedBy>Nastya</cp:lastModifiedBy>
  <dcterms:modified xsi:type="dcterms:W3CDTF">2011-05-20T17:56:42Z</dcterms:modified>
  <cp:revision>16</cp:revision>
  <dc:subject/>
  <dc:title>Слайд 1</dc:title>
</cp:coreProperties>
</file>