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995-33AC-4306-ABEF-D1C256A0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68E-862C-466D-9FAD-FB1D80BC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735-C616-4048-8F2A-60601C87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822-66D8-46F8-B699-FC2742E1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13E-2AA0-4CF0-B4BF-93D2B5F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B0F-4411-45BD-98F3-E031B065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BD2-6914-4ACE-83A7-987AB7D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30D-ED5F-4916-9A8B-A6AB6D12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CFA-D6D1-4386-9AE2-7B504CB1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22D-65AF-4D3C-911A-C2D0542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556-50D2-4959-BB37-1641E61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3B0-69BC-438A-B648-881D5DC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27ED-0E9B-4CB6-90EF-16C0A276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i?id=21746371&amp;tov=3"/>
          <p:cNvPicPr/>
          <p:nvPr/>
        </p:nvPicPr>
        <p:blipFill>
          <a:blip r:embed="rId2"/>
          <a:stretch/>
        </p:blipFill>
        <p:spPr>
          <a:xfrm>
            <a:off x="684360" y="620640"/>
            <a:ext cx="4182840" cy="540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43" name="Text Box 10"/>
          <p:cNvSpPr/>
          <p:nvPr/>
        </p:nvSpPr>
        <p:spPr>
          <a:xfrm>
            <a:off x="4716360" y="4857840"/>
            <a:ext cx="442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684360" y="152280"/>
            <a:ext cx="78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2411280" y="6308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050920" y="639144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аланин"/>
          <p:cNvPicPr/>
          <p:nvPr/>
        </p:nvPicPr>
        <p:blipFill>
          <a:blip r:embed="rId3"/>
          <a:stretch/>
        </p:blipFill>
        <p:spPr>
          <a:xfrm>
            <a:off x="395280" y="333360"/>
            <a:ext cx="1295280" cy="13669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16" descr="изолейцин"/>
          <p:cNvPicPr/>
          <p:nvPr/>
        </p:nvPicPr>
        <p:blipFill>
          <a:blip r:embed="rId4"/>
          <a:stretch/>
        </p:blipFill>
        <p:spPr>
          <a:xfrm>
            <a:off x="6012000" y="476280"/>
            <a:ext cx="1280880" cy="13683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5" descr="лейцин"/>
          <p:cNvPicPr/>
          <p:nvPr/>
        </p:nvPicPr>
        <p:blipFill>
          <a:blip r:embed="rId5"/>
          <a:stretch/>
        </p:blipFill>
        <p:spPr>
          <a:xfrm>
            <a:off x="5148360" y="5489640"/>
            <a:ext cx="1295280" cy="13683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39" descr="триптофан"/>
          <p:cNvPicPr/>
          <p:nvPr/>
        </p:nvPicPr>
        <p:blipFill>
          <a:blip r:embed="rId6"/>
          <a:stretch/>
        </p:blipFill>
        <p:spPr>
          <a:xfrm>
            <a:off x="4284720" y="2276640"/>
            <a:ext cx="1289160" cy="14284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5" descr="L23p10p01"/>
          <p:cNvPicPr/>
          <p:nvPr/>
        </p:nvPicPr>
        <p:blipFill>
          <a:blip r:embed="rId7"/>
          <a:stretch/>
        </p:blipFill>
        <p:spPr>
          <a:xfrm>
            <a:off x="5724360" y="2421000"/>
            <a:ext cx="2951280" cy="27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A9E-36CB-4977-8150-10CDB0CE2D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вторение и закрепление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тавьте нужные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РНК есть саха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ДНК есть азотистые основания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 ДНК, и в РНК есть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НК нет азотистого осно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ктура молекулы РНК в вид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К в клетках может находиться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и РНК: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РНК есть азотистые основания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ДНК есть сахар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НК нет азотистого осно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ктура молекулы ДНК в вид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омерами ДНК и РНК являются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НК в клетках может находиться 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и ДНК: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60360" y="6206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риб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981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А,Г,Ц,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280" y="1341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А,Г,Ц,сахар, Ф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2720" y="162864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7240" y="177336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уклеоти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256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В ядре, митохондриях, хлороплас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3440" y="292428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Участие в синтезе бел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0360" y="328464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А,Г,Ц,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1440" y="36450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дезоксириб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4720" y="3933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0600" y="422100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Двойной спира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8880" y="45813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Нуклеоти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640" y="530064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В ядре, цитоплазме, митохондриях, хлороплас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6480" y="566100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Хранение и передача наслед. инфор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07D-E58B-41D6-8F0D-1464316F0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тверждения правильные или неправи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0" y="476280"/>
            <a:ext cx="77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В ДНК всегда против тимина находится гуа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216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440" y="90792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Цепочки ДНК соединены водородными связ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8366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60" y="133992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р-РНК находятся в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440" y="1341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60" y="1771560"/>
            <a:ext cx="67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в ДНК нет азотистого основания урац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177336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" y="2203560"/>
            <a:ext cx="92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в ДНК число гуаниловых оснований равно  аденил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59600" y="198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6769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В РНК всегда против аденина находится ти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3440" y="263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" y="309600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 т-РНК находятся в цитопла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10000" y="3087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080" y="34992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в РНК нет азотистого основания урац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3800" y="35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C86-3BF8-48CC-9448-1C5ED92A8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ние для   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560" y="836640"/>
            <a:ext cx="89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внимательно  текст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и заполните таблиц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484280"/>
          <a:ext cx="9145440" cy="3886200"/>
        </p:xfrm>
        <a:graphic>
          <a:graphicData uri="http://schemas.openxmlformats.org/drawingml/2006/table">
            <a:tbl>
              <a:tblPr/>
              <a:tblGrid>
                <a:gridCol w="3205080"/>
                <a:gridCol w="2662200"/>
                <a:gridCol w="32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троение нуклеот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Структура полинуклеотидной цеп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Местонахо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летк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5BB-D1C1-4AB9-B0BD-468FD47AA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24000" y="260280"/>
          <a:ext cx="8502480" cy="4803840"/>
        </p:xfrm>
        <a:graphic>
          <a:graphicData uri="http://schemas.openxmlformats.org/drawingml/2006/table">
            <a:tbl>
              <a:tblPr/>
              <a:tblGrid>
                <a:gridCol w="3930480"/>
                <a:gridCol w="282600"/>
                <a:gridCol w="42894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следующие элементы: …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 …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… видов  аминокисл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представлена в виде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представлена в виде …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Аминокислоты – это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– это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…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24000" y="5084640"/>
          <a:ext cx="8496000" cy="1512720"/>
        </p:xfrm>
        <a:graphic>
          <a:graphicData uri="http://schemas.openxmlformats.org/drawingml/2006/table">
            <a:tbl>
              <a:tblPr/>
              <a:tblGrid>
                <a:gridCol w="3927240"/>
                <a:gridCol w="4568760"/>
              </a:tblGrid>
              <a:tr h="48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. Дайте ответ на следующий вопро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денатурация? Какие факторы могут её вызв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во биологическое значение белков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B77-9986-434D-AE95-F6AEC53CFB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ВЕРКА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476280"/>
          <a:ext cx="9144000" cy="4290840"/>
        </p:xfrm>
        <a:graphic>
          <a:graphicData uri="http://schemas.openxmlformats.org/drawingml/2006/table">
            <a:tbl>
              <a:tblPr/>
              <a:tblGrid>
                <a:gridCol w="4484160"/>
                <a:gridCol w="216000"/>
                <a:gridCol w="4443840"/>
              </a:tblGrid>
              <a:tr h="32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элементы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С,О,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мино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 аминокисл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епти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в виде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пи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в виде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цепочки аминокисл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Аминокислоты – это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изводные карбоновых кислот, у которых атом водорода в радикале замещен на аминогрупп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–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это высокомолекулярные природные полимеры, молекулы которых состоят из остатков аминокислот, соединенных пептидной связь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енату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ату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0" y="4797360"/>
          <a:ext cx="9144000" cy="1712880"/>
        </p:xfrm>
        <a:graphic>
          <a:graphicData uri="http://schemas.openxmlformats.org/drawingml/2006/table">
            <a:tbl>
              <a:tblPr/>
              <a:tblGrid>
                <a:gridCol w="4506840"/>
                <a:gridCol w="46371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 Дайте ответ на следующий вопрос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природной структуры белка называ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атурацией.  Температура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ханические воздействия, кислоты, соли тяжелых металлов, щелочи, спирт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белк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ранспортная, структурная,защитная, энергетическая,  каталитическая. Двигательная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244-151F-4C5F-BBA7-012D475290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300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Нуклеиновые кисло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2EA-9A04-4950-B13D-7BF6ACE3DF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52280"/>
            <a:ext cx="4114800" cy="381240"/>
          </a:xfrm>
          <a:custGeom>
            <a:avLst/>
            <a:gdLst>
              <a:gd name="textAreaLeft" fmla="*/ 44640 w 4114800"/>
              <a:gd name="textAreaRight" fmla="*/ 4070160 w 4114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329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334" y="21600"/>
                </a:lnTo>
                <a:arcTo wR="3600" hR="3600" stAng="10800000" swAng="5400000"/>
                <a:lnTo>
                  <a:pt x="23293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КЛЕИНОВ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52280"/>
            <a:ext cx="47242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ОМЕРЫ - НУКЛЕО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83808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Н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зоксирибонуклеи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838080"/>
            <a:ext cx="304776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50000">
                <a:srgbClr val="ffff99"/>
              </a:gs>
              <a:gs pos="100000">
                <a:srgbClr val="ff66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ибонуклеи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33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39625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 нуклеотида в Д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419720"/>
            <a:ext cx="3962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 нуклеотида в Р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4869000"/>
            <a:ext cx="1562040" cy="176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Урацил (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181480"/>
            <a:ext cx="119088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5105520"/>
            <a:ext cx="1371600" cy="1218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1523880" cy="1838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имин (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819520"/>
            <a:ext cx="119052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зок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819520"/>
            <a:ext cx="1371600" cy="1218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2514600"/>
            <a:ext cx="1904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матрич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НК (и-Р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2590920"/>
            <a:ext cx="16765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нспор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НК (т-Р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3733920"/>
            <a:ext cx="304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босомная РНК (р-Р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324480" y="198108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2057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2057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335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C52-8A50-4477-9D57-791E1A3FD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68360" y="0"/>
            <a:ext cx="53280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49640" cy="345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9280" y="479736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ж.Уотсо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.К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ли структуру ДНК в 195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36960" y="1268280"/>
            <a:ext cx="1476360" cy="372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529240" y="1197000"/>
            <a:ext cx="1077840" cy="412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1197000"/>
            <a:ext cx="2448000" cy="28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48B-F510-493D-8CBE-B183AFBB6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298764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0"/>
            <a:ext cx="5327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359080" cy="285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8880" y="2602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19640" y="836640"/>
            <a:ext cx="5499000" cy="5450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43640" y="3500280"/>
            <a:ext cx="2448000" cy="198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6084360" y="4365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6BE-8FE3-4EDB-87A3-F1243DA3B7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мплемент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9360"/>
            <a:ext cx="95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плементар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это взаимное дополнение азотис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аний в молекуле Д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2757600" cy="259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27280" y="1341360"/>
            <a:ext cx="63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гмент цепи Д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ет   последовательность нуклеотидов: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 Т Ц Т А Ц Г А 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ойте по принципу комплементарности 2-ю  цепочку Д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я цепь ДНК: Г-Т-Ц-Т-А-Ц-Г-А-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1080" y="39337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-А-Г-А-Т-Г-Ц-Т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8360" y="393372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я цепь ДН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9800" y="530064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начение комплементар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60" y="5734080"/>
            <a:ext cx="865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агодаря ей происходят реакции матричного син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амоудвоение ДНК, который  лежит  в осн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а и  размножения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541980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FF8-80CE-4516-87D9-1C10A8ED0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Репликация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самоудвоения молекулы ДНК на основе принципа комплемента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53272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0" y="56610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начение репликации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лагодаря самоудвоению  ДНК,  происходят процессы деления клеток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EE7-B200-4B48-B158-226A6D0C83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4:51:29Z</dcterms:created>
  <dc:creator>Comp</dc:creator>
  <dc:description/>
  <dc:language>en-US</dc:language>
  <cp:lastModifiedBy>User</cp:lastModifiedBy>
  <dcterms:modified xsi:type="dcterms:W3CDTF">2010-03-10T05:12:04Z</dcterms:modified>
  <cp:revision>15</cp:revision>
  <dc:subject/>
  <dc:title>Слайд 1</dc:title>
</cp:coreProperties>
</file>