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897-6852-424B-8596-1E087B2F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63D-15C3-4F59-954B-0C093567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0E8-65CF-4675-A94A-9ED9E6A3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676-7BE7-43BC-8273-1BCBEE08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BF8-DCAF-475F-8AD4-C028F509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024F-0643-41FA-A40C-49A9D7C2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4ADD-4B03-4949-B21F-C22E2628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D4C-D769-4C67-8EE8-21386B2B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937-F949-4D00-95AE-41BC8CA7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250-0D53-47EC-AC79-85174057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6A3-5EC3-4F9B-8632-5CA9B05A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E01-6264-49B7-970B-1A545916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39D-135F-4106-8682-DD1470E96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kiop'[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i?id=21746371&amp;tov=3"/>
          <p:cNvPicPr/>
          <p:nvPr/>
        </p:nvPicPr>
        <p:blipFill>
          <a:blip r:embed="rId2"/>
          <a:stretch/>
        </p:blipFill>
        <p:spPr>
          <a:xfrm>
            <a:off x="684360" y="620640"/>
            <a:ext cx="4182840" cy="54007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43" name="Text Box 10"/>
          <p:cNvSpPr/>
          <p:nvPr/>
        </p:nvSpPr>
        <p:spPr>
          <a:xfrm>
            <a:off x="4716360" y="4857840"/>
            <a:ext cx="4427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684360" y="152280"/>
            <a:ext cx="7848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2411280" y="630864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2050920" y="6391440"/>
            <a:ext cx="39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аланин"/>
          <p:cNvPicPr/>
          <p:nvPr/>
        </p:nvPicPr>
        <p:blipFill>
          <a:blip r:embed="rId3"/>
          <a:stretch/>
        </p:blipFill>
        <p:spPr>
          <a:xfrm>
            <a:off x="395280" y="333360"/>
            <a:ext cx="1295280" cy="136692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Picture 16" descr="изолейцин"/>
          <p:cNvPicPr/>
          <p:nvPr/>
        </p:nvPicPr>
        <p:blipFill>
          <a:blip r:embed="rId4"/>
          <a:stretch/>
        </p:blipFill>
        <p:spPr>
          <a:xfrm>
            <a:off x="6012000" y="476280"/>
            <a:ext cx="1280880" cy="136836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Picture 15" descr="лейцин"/>
          <p:cNvPicPr/>
          <p:nvPr/>
        </p:nvPicPr>
        <p:blipFill>
          <a:blip r:embed="rId5"/>
          <a:stretch/>
        </p:blipFill>
        <p:spPr>
          <a:xfrm>
            <a:off x="5148360" y="5489640"/>
            <a:ext cx="1295280" cy="136836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0" name="Picture 39" descr="триптофан"/>
          <p:cNvPicPr/>
          <p:nvPr/>
        </p:nvPicPr>
        <p:blipFill>
          <a:blip r:embed="rId6"/>
          <a:stretch/>
        </p:blipFill>
        <p:spPr>
          <a:xfrm>
            <a:off x="4284720" y="2276640"/>
            <a:ext cx="1289160" cy="1428480"/>
          </a:xfrm>
          <a:prstGeom prst="rect">
            <a:avLst/>
          </a:prstGeom>
          <a:ln w="9360">
            <a:solidFill>
              <a:srgbClr val="0000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5" descr="L23p10p01"/>
          <p:cNvPicPr/>
          <p:nvPr/>
        </p:nvPicPr>
        <p:blipFill>
          <a:blip r:embed="rId7"/>
          <a:stretch/>
        </p:blipFill>
        <p:spPr>
          <a:xfrm>
            <a:off x="5724360" y="2421000"/>
            <a:ext cx="2951280" cy="27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ACA-8686-456E-826B-76E943E73D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вторение и закрепление з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ставьте нужные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оставе РНК есть саха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оставе ДНК есть азотистые основания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в ДНК, и в РНК есть…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НК нет азотистого осно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уктура молекулы РНК в вид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НК в клетках может находиться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и РНК: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оставе РНК есть азотистые основания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оставе ДНК есть сахар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НК нет азотистого осно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уктура молекулы ДНК в вид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номерами ДНК и РНК являются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НК в клетках может находиться 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и ДНК: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60360" y="62064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риб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9810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А,Г,Ц,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280" y="134136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А,Г,Ц,сахар, Ф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2720" y="162864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7240" y="1773360"/>
            <a:ext cx="22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Цеп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уклеотид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25653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В ядре, митохондриях, хлороплас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3440" y="2924280"/>
            <a:ext cx="42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Участие в синтезе бел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80360" y="328464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(А,Г,Ц,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21440" y="364500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дезоксириб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4720" y="3933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0600" y="422100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Двойной спира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8880" y="45813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Нуклеотид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3640" y="5300640"/>
            <a:ext cx="80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В ядре, цитоплазме, митохондриях, хлороплас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6480" y="5661000"/>
            <a:ext cx="62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(Хранение и передача наслед. инфор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8B0-958D-4D32-974C-7FE628CDEF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4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тверждения правильные или неправи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0" y="476280"/>
            <a:ext cx="77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В ДНК всегда против тимина находится гуан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42160" y="47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440" y="907920"/>
            <a:ext cx="80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Цепочки ДНК соединены водородными связ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01080" y="8366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360" y="1339920"/>
            <a:ext cx="42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р-РНК находятся в яд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3440" y="1341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60" y="1771560"/>
            <a:ext cx="67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в ДНК нет азотистого основания урац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177336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720" y="2203560"/>
            <a:ext cx="92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в ДНК число гуаниловых оснований равно  аденил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59600" y="198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676960"/>
            <a:ext cx="78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) В РНК всегда против аденина находится тим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13440" y="263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720" y="3096000"/>
            <a:ext cx="53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) т-РНК находятся в цитопла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10000" y="3087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1080" y="3499200"/>
            <a:ext cx="68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) в РНК нет азотистого основания ураци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3800" y="3573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71B-1E49-4757-A00F-4DE3D8567B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358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Задание для    самостоя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560" y="836640"/>
            <a:ext cx="89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тайте внимательно  текст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и заполните таблиц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1484280"/>
          <a:ext cx="9145440" cy="3886200"/>
        </p:xfrm>
        <a:graphic>
          <a:graphicData uri="http://schemas.openxmlformats.org/drawingml/2006/table">
            <a:tbl>
              <a:tblPr/>
              <a:tblGrid>
                <a:gridCol w="3205080"/>
                <a:gridCol w="2662200"/>
                <a:gridCol w="327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Строение нуклеоти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Структура полинуклеотидной цеп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Местонахож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летк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Функ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2D3-883B-41EA-ABEC-575B8740F3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24000" y="260280"/>
          <a:ext cx="8502480" cy="4803840"/>
        </p:xfrm>
        <a:graphic>
          <a:graphicData uri="http://schemas.openxmlformats.org/drawingml/2006/table">
            <a:tbl>
              <a:tblPr/>
              <a:tblGrid>
                <a:gridCol w="3930480"/>
                <a:gridCol w="282600"/>
                <a:gridCol w="42894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1.Вместо точек проставьте нужные слов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В состав белков входят следующие элементы: …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Мономерами белков являются … 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сего в белках  имеется … видов  аминокисл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сновная связь между мономерами белка -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торичная структура белка представлена в виде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ервичная структура белка представлена в виде …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Аминокислоты – это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Белки – это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Восстановление природной структуры белка называется…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Разрушение природной структуры белка называется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24000" y="5084640"/>
          <a:ext cx="8496000" cy="1512720"/>
        </p:xfrm>
        <a:graphic>
          <a:graphicData uri="http://schemas.openxmlformats.org/drawingml/2006/table">
            <a:tbl>
              <a:tblPr/>
              <a:tblGrid>
                <a:gridCol w="3927240"/>
                <a:gridCol w="4568760"/>
              </a:tblGrid>
              <a:tr h="48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. Дайте ответ на следующий вопрос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такое денатурация? Какие факторы могут её вызв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во биологическое значение белков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831-B6C8-410A-BDEB-9EBEAA06D4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ВЕРКА ОТ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476280"/>
          <a:ext cx="9144000" cy="4290840"/>
        </p:xfrm>
        <a:graphic>
          <a:graphicData uri="http://schemas.openxmlformats.org/drawingml/2006/table">
            <a:tbl>
              <a:tblPr/>
              <a:tblGrid>
                <a:gridCol w="4484160"/>
                <a:gridCol w="216000"/>
                <a:gridCol w="4443840"/>
              </a:tblGrid>
              <a:tr h="322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.Вместо точек проставьте нужные слов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В состав белков входят элементы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С,О,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Мономерами белков являются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аминокисл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сего в белках  имеется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ов  аминокисл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сновная связь между мономерами белка -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епти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торичная структура белка в виде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пира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Первичная структура белка в виде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цепочки аминокисл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Аминокислоты – это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производные карбоновых кислот, у которых атом водорода в радикале замещен на аминогрупп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Белки –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это высокомолекулярные природные полимеры, молекулы которых состоят из остатков аминокислот, соединенных пептидной связь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Восстановление природной структуры белка называется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енатур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) Разрушение природной структуры белка называется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енатур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0" y="4797360"/>
          <a:ext cx="9144000" cy="1712880"/>
        </p:xfrm>
        <a:graphic>
          <a:graphicData uri="http://schemas.openxmlformats.org/drawingml/2006/table">
            <a:tbl>
              <a:tblPr/>
              <a:tblGrid>
                <a:gridCol w="4506840"/>
                <a:gridCol w="463716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. Дайте ответ на следующий вопрос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ушение природной структуры белка называется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енатурацией.  Температура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механические воздействия, кислоты, соли тяжелых металлов, щелочи, спирт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белк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Транспортная, структурная,защитная, энергетическая,  каталитическая. Двигательная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799-97F3-43CD-A69A-1226331C40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300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Тема урока: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Нуклеиновые кислот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1F0-51A0-416B-9758-8FB48499FC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52280"/>
            <a:ext cx="4114800" cy="381240"/>
          </a:xfrm>
          <a:custGeom>
            <a:avLst/>
            <a:gdLst>
              <a:gd name="textAreaLeft" fmla="*/ 44640 w 4114800"/>
              <a:gd name="textAreaRight" fmla="*/ 4070160 w 4114800"/>
              <a:gd name="textAreaTop" fmla="*/ 44640 h 381240"/>
              <a:gd name="textAreaBottom" fmla="*/ 336600 h 381240"/>
            </a:gdLst>
            <a:ahLst/>
            <a:rect l="textAreaLeft" t="textAreaTop" r="textAreaRight" b="textAreaBottom"/>
            <a:pathLst>
              <a:path w="23293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29334" y="21600"/>
                </a:lnTo>
                <a:arcTo wR="3600" hR="3600" stAng="10800000" swAng="5400000"/>
                <a:lnTo>
                  <a:pt x="232934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УКЛЕИНОВЫЕ КИСЛ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152280"/>
            <a:ext cx="472428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НОМЕРЫ - НУКЛЕО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838080"/>
            <a:ext cx="4191120" cy="137160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50000">
                <a:srgbClr val="ffffff"/>
              </a:gs>
              <a:gs pos="100000">
                <a:srgbClr val="66ff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НК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дезоксирибонуклеи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838080"/>
            <a:ext cx="304776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50000">
                <a:srgbClr val="ffff99"/>
              </a:gs>
              <a:gs pos="100000">
                <a:srgbClr val="ff66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Н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ибонуклеино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533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3962520" cy="3049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тав нуклеотида в Д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4419720"/>
            <a:ext cx="396216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став нуклеотида в Р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4869000"/>
            <a:ext cx="1562040" cy="1760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денин 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Урацил (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5181480"/>
            <a:ext cx="1190880" cy="114300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5105520"/>
            <a:ext cx="1371600" cy="12189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5638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1523880" cy="1838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денин 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Тимин (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819520"/>
            <a:ext cx="1190520" cy="1143000"/>
          </a:xfrm>
          <a:prstGeom prst="pentagon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зок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2819520"/>
            <a:ext cx="1371600" cy="12189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3276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2514600"/>
            <a:ext cx="19047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матричн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НК (и-РН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15200" y="2590920"/>
            <a:ext cx="16765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анспор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НК (т-РН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3733920"/>
            <a:ext cx="304812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босомная РНК (р-Р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324480" y="198108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205740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2057400"/>
            <a:ext cx="1526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533520"/>
            <a:ext cx="1600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F2FD-056D-4A58-BFDB-60752CDC6C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68360" y="0"/>
            <a:ext cx="53280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ТРУКТУРЫ  ДНК И РН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149640" cy="345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9280" y="479736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ж.Уотсо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Ф.К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крыли структуру ДНК в 195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36960" y="1268280"/>
            <a:ext cx="1476360" cy="372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529240" y="1197000"/>
            <a:ext cx="1077840" cy="4125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516720" y="1197000"/>
            <a:ext cx="2448000" cy="28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E37-1C43-4DC4-9003-AD0D6368BB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2987640" cy="2514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79640" y="0"/>
            <a:ext cx="53276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ТРУКТУРЫ  ДНК И РН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3500280"/>
            <a:ext cx="2359080" cy="285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8880" y="2602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419640" y="836640"/>
            <a:ext cx="5499000" cy="5450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443640" y="3500280"/>
            <a:ext cx="2448000" cy="1982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H="1">
            <a:off x="6084360" y="4365720"/>
            <a:ext cx="5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67B-A99B-4904-ADC5-13E65A7762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омплемент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9360"/>
            <a:ext cx="95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омплементар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это взаимное дополнение азотист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аний в молекуле ДН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2757600" cy="259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627280" y="1341360"/>
            <a:ext cx="633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дача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рагмент цепи ДН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еет   последовательность нуклеотидов: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Г Т Ц Т А Ц Г А 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ройте по принципу комплементарности 2-ю  цепочку ДН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я цепь ДНК: Г-Т-Ц-Т-А-Ц-Г-А-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1080" y="393372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-А-Г-А-Т-Г-Ц-Т-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8360" y="393372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я цепь ДН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9800" y="530064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начение комплементар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360" y="5734080"/>
            <a:ext cx="865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агодаря ей происходят реакции матричного синт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самоудвоение ДНК, который  лежит  в осно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та и  размножения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11280" y="4437000"/>
            <a:ext cx="5419800" cy="8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E3B-806E-463D-B6A9-2AC9EE60A1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8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38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38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385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Репликация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сс самоудвоения молекулы ДНК на основе принципа комплемента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532720" cy="48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0" y="566100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начение репликации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благодаря самоудвоению  ДНК,  происходят процессы деления клеток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7EB-6844-4979-95C9-E5F1060579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4:51:29Z</dcterms:created>
  <dc:creator>Comp</dc:creator>
  <dc:description/>
  <dc:language>en-US</dc:language>
  <cp:lastModifiedBy>User</cp:lastModifiedBy>
  <dcterms:modified xsi:type="dcterms:W3CDTF">2010-03-10T05:12:04Z</dcterms:modified>
  <cp:revision>15</cp:revision>
  <dc:subject/>
  <dc:title>Слайд 1</dc:title>
</cp:coreProperties>
</file>