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42.png" ContentType="image/png"/>
  <Override PartName="/ppt/media/image26.jpeg" ContentType="image/jpeg"/>
  <Override PartName="/ppt/media/image44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27.png" ContentType="image/png"/>
  <Override PartName="/ppt/media/image33.png" ContentType="image/png"/>
  <Override PartName="/ppt/media/image3.png" ContentType="image/png"/>
  <Override PartName="/ppt/media/image55.jpeg" ContentType="image/jpeg"/>
  <Override PartName="/ppt/media/image17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25.png" ContentType="image/png"/>
  <Override PartName="/ppt/media/image62.png" ContentType="image/png"/>
  <Override PartName="/ppt/media/image51.jpeg" ContentType="image/jpeg"/>
  <Override PartName="/ppt/media/image39.png" ContentType="image/png"/>
  <Override PartName="/ppt/media/image22.jpeg" ContentType="image/jpeg"/>
  <Override PartName="/ppt/media/image60.png" ContentType="image/png"/>
  <Override PartName="/ppt/media/image6.jpeg" ContentType="image/jpeg"/>
  <Override PartName="/ppt/media/image31.png" ContentType="image/png"/>
  <Override PartName="/ppt/media/image29.png" ContentType="image/png"/>
  <Override PartName="/ppt/media/image21.jpeg" ContentType="image/jpeg"/>
  <Override PartName="/ppt/media/image16.jpeg" ContentType="image/jpeg"/>
  <Override PartName="/ppt/media/image24.jpeg" ContentType="image/jpeg"/>
  <Override PartName="/ppt/media/image59.png" ContentType="image/png"/>
  <Override PartName="/ppt/media/image64.gif" ContentType="image/gif"/>
  <Override PartName="/ppt/media/image20.jpeg" ContentType="image/jpeg"/>
  <Override PartName="/ppt/media/image19.png" ContentType="image/png"/>
  <Override PartName="/ppt/media/image18.jpeg" ContentType="image/jpeg"/>
  <Override PartName="/ppt/media/image61.png" ContentType="image/png"/>
  <Override PartName="/ppt/media/image5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43.jpeg" ContentType="image/jpeg"/>
  <Override PartName="/ppt/media/image36.jpeg" ContentType="image/jpeg"/>
  <Override PartName="/ppt/media/image10.png" ContentType="image/png"/>
  <Override PartName="/ppt/media/image41.jpeg" ContentType="image/jpeg"/>
  <Override PartName="/ppt/media/image54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1.png" ContentType="image/png"/>
  <Override PartName="/ppt/media/image52.jpeg" ContentType="image/jpe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B0495F-9FD9-4CE1-B230-B5BBBD8624B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9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7055C4-084D-4B09-A186-DA5FF46AD7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9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EED630-1D15-4359-B6A4-D36FE94DCA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49B-D3A4-45F0-8A54-7A477926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B56-5D77-44B4-BA9E-83908BC7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0C3-AA19-407B-A019-F3E9C9A1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362-4FAE-4C90-A4D9-21AC5B7D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159-62D0-4C68-AD70-A1B354E9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E97-D434-4BE1-B0BD-97C35E01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09E-F098-48CC-A454-20D64F08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6CD-3BDD-442D-AFDA-172B3A4C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925-626A-41A7-B9DB-D4372E3D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52E9-B5F0-47D9-83E6-242D9DB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704-47BA-4CB2-8CD4-57CD63C9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1FA-D2D0-4E24-A9C1-93B603C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304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6.06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138720"/>
            <a:ext cx="289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иселёв Никита ГОУ СОШ №3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3040"/>
            <a:ext cx="760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4A13EB-B8B0-4239-8B6D-0174C4FDCAC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image" Target="../media/image5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64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image" Target="../media/image64.gif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64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47760" y="469800"/>
            <a:ext cx="8118360" cy="3137040"/>
            <a:chOff x="347760" y="469800"/>
            <a:chExt cx="8118360" cy="3137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47760" y="469800"/>
              <a:ext cx="8118360" cy="31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469800"/>
              <a:ext cx="8118360" cy="31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C79981-FCEB-4DFE-8A40-DBAE1E9242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л: ученик 6 б класса ГОУ СОШ №352 Киселёв Ник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учитель высшей категории Притворова Нина Ива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кт-Петербург, 2010 – 2011 учебн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 великий Гете считал, что «немцы усложняют все себе и другим»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EA0A4F-A782-4AD3-853F-935CBE5617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0040" y="857160"/>
            <a:ext cx="39546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0720" y="219240"/>
            <a:ext cx="8344080" cy="1206360"/>
            <a:chOff x="450720" y="219240"/>
            <a:chExt cx="8344080" cy="12063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0720" y="219240"/>
              <a:ext cx="834408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0720" y="219240"/>
              <a:ext cx="8344080" cy="12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национальный характер? Существует ли он вообще? Насколько правомерно обобщение типичных черт в масштабе целого народа, когда хорошо известно, что все люди — разн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08C19F-CA04-43AF-AAFF-6E78132059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71880" y="335772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43040"/>
            <a:ext cx="4037040" cy="4427640"/>
            <a:chOff x="457200" y="1643040"/>
            <a:chExt cx="4037040" cy="442764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457200" y="1643040"/>
              <a:ext cx="403704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57200" y="1643040"/>
              <a:ext cx="4037040" cy="44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своем первоначальном значении греческое слово «характер» обозначало знак или символ, выражающий специфику какого-нибудь я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326005-2874-4C9E-B571-3B64A8AFDC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овом «Философском словаре»  национальный  характер определяется как  исторически сложившаяся совокупность устойчивых психологических черт представителей той или иной н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и характерные черты определяют  привычную манеру их поведения и проявляются  в их отношении к социально-бытовой сре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BC09DC-A063-4C7B-BED2-F211C28F3C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37148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dur="indefinite" fill="hold">
                      <p:stCondLst>
                        <p:cond delay="indefinite"/>
                      </p:stCondLst>
                      <p:childTnLst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цы стремятся к созданию семьи, но не больше, чем их европейские сосе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я для них - идеал, символ  верности, но процент разводов в Германии высо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ие «уют» ассоциируется у них с идеей Род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2  Проявление национального характера в социально-бытов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979F40-D6EF-4E22-8165-0D384A7084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786120" y="1428840"/>
            <a:ext cx="5000760" cy="50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60360" y="268200"/>
            <a:ext cx="3216240" cy="1217880"/>
            <a:chOff x="360360" y="268200"/>
            <a:chExt cx="3216240" cy="1217880"/>
          </a:xfrm>
        </p:grpSpPr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21624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60360" y="268200"/>
              <a:ext cx="321624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мцев отличает особое отношение к старикам, то есть пожилым членам об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рмания — одна из самых возрастных стран в мире. Средний возраст ее жителей — 40,1 года, в то время как средний возраст человечества — 26,5.    Сегодня немцы живут в среднем в два раза дольше, чем 100 лет наз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1393EC-ED25-4531-A2B7-AA787ECE79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929040" y="214200"/>
            <a:ext cx="4500720" cy="610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рковь в Германии отделена от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теранская церковь оказала огромное влияние на мировоззрение нем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од Мартином Лютером Библии сформировал современный немецкий язык, а составной частью его учения являлся тезис о том, что повиновение мирской власти является святой обязанностью кажд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F1B430-F852-4B13-988C-0356685BDE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29040" y="357120"/>
            <a:ext cx="457200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ермании больше не существует классов. Старые классовые различия перестали существовать после Второй мировой вой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 не менее продолжает  существовать немногочисленная, но очень влиятельная часть немецких аристокр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A413A3-05D4-43C6-8BB4-E4865FCA93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786120" y="357120"/>
            <a:ext cx="485784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dur="indefinite" fill="hold">
                      <p:stCondLst>
                        <p:cond delay="indefinite"/>
                      </p:stCondLst>
                      <p:childTnLst>
                        <p:par>
                          <p:cTn id="3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dur="indefinite" fill="hold">
                      <p:stCondLst>
                        <p:cond delay="indefinite"/>
                      </p:stCondLst>
                      <p:childTnLst>
                        <p:par>
                          <p:cTn id="3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231840" y="268200"/>
            <a:ext cx="8459640" cy="1157400"/>
            <a:chOff x="231840" y="268200"/>
            <a:chExt cx="8459640" cy="1157400"/>
          </a:xfrm>
        </p:grpSpPr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231840" y="268200"/>
              <a:ext cx="84596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31840" y="268200"/>
              <a:ext cx="845964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25400" y="1600200"/>
            <a:ext cx="3500640" cy="4524480"/>
            <a:chOff x="725400" y="1600200"/>
            <a:chExt cx="3500640" cy="452448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725400" y="1600200"/>
              <a:ext cx="350064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5400" y="1600200"/>
              <a:ext cx="350064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личие от Америки, Германия не стала тем местом, где люди разных культур сообща и мужественно переносят неудачи и затрудн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остранные рабочие стремятся со временем вернуться из Германии на родин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F92A6-0E50-4014-A7FF-6D6494D462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dur="indefinite" fill="hold">
                      <p:stCondLst>
                        <p:cond delay="indefinite"/>
                      </p:stCondLst>
                      <p:childTnLst>
                        <p:par>
                          <p:cTn id="3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dur="indefinite" fill="hold">
                      <p:stCondLst>
                        <p:cond delay="indefinite"/>
                      </p:stCondLst>
                      <p:childTnLst>
                        <p:par>
                          <p:cTn id="3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мцы пожимают руки при каждом удобном случа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немец стискивает вашу руку, и не отпускает даже тогда,  когда вы чувствуете, что вот-вот потеряете сознание, это означает, что вы ему нравите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3393B5-0642-4F8C-BA89-ED702E8103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786120" y="357120"/>
            <a:ext cx="5000760" cy="600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dur="indefinite" fill="hold">
                      <p:stCondLst>
                        <p:cond delay="indefinite"/>
                      </p:stCondLst>
                      <p:childTnLst>
                        <p:par>
                          <p:cTn id="4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dur="indefinite" fill="hold">
                      <p:stCondLst>
                        <p:cond delay="indefinite"/>
                      </p:stCondLst>
                      <p:childTnLst>
                        <p:par>
                          <p:cTn id="4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65040" y="96840"/>
            <a:ext cx="8502840" cy="1449360"/>
            <a:chOff x="365040" y="96840"/>
            <a:chExt cx="8502840" cy="1449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365040" y="96840"/>
              <a:ext cx="850284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65040" y="96840"/>
              <a:ext cx="850284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анализировать проявления немецкого характера в повседневной жизни, в  обычаях и традиц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ть различные литературные источники о национальном характере немц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анализировать понятие «национальный характер", существует ли он вообще, насколько правомерно обобщение типичных черт в масштабе целого народ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следить проявление национального характера в социально-бытовой сре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016F1B-6B37-4C7A-821D-0DB08C2A0E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0360" y="268200"/>
            <a:ext cx="3106800" cy="1217880"/>
            <a:chOff x="360360" y="268200"/>
            <a:chExt cx="3106800" cy="1217880"/>
          </a:xfrm>
        </p:grpSpPr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60360" y="268200"/>
              <a:ext cx="31068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ные правила этикета очень просты. Когда вы знакомитесь с кем-то, то обращаетесь к нему на «Вы», и это длится до тех пор, пока переход на «ты» не становится абсолютно неизбеж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3CD0D7-D2FF-4665-A8CF-D38FC9BA72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500280" y="1357200"/>
            <a:ext cx="5143680" cy="382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dur="indefinite" fill="hold">
                      <p:stCondLst>
                        <p:cond delay="indefinite"/>
                      </p:stCondLst>
                      <p:childTnLst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dur="indefinite" fill="hold">
                      <p:stCondLst>
                        <p:cond delay="indefinite"/>
                      </p:stCondLst>
                      <p:childTnLst>
                        <p:par>
                          <p:cTn id="4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dur="indefinite" fill="hold">
                      <p:stCondLst>
                        <p:cond delay="indefinite"/>
                      </p:stCondLst>
                      <p:childTnLst>
                        <p:par>
                          <p:cTn id="4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00080" y="1862280"/>
            <a:ext cx="2951280" cy="3998880"/>
            <a:chOff x="1000080" y="1862280"/>
            <a:chExt cx="2951280" cy="3998880"/>
          </a:xfrm>
        </p:grpSpPr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1000080" y="1862280"/>
              <a:ext cx="295128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000080" y="1862280"/>
              <a:ext cx="2951280" cy="39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й распространенный «немецкий» стереотип касается их педантичности и любви к поряд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 удивительной способности немцев много и увлеченно работать написано немало добрых слов, и не только самими немц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подметил английский драматург Бернард Шоу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мцы обладают большими достоинствами, но имеют и одну опасную слабость — одержимость всякое хорошее дело доводить до крайности, так что добро превращается в зло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Это в полной мере применимо к немецкому поряд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536A91-46C1-46CE-B2AA-F9BD75D4B6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2" dur="1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360360" y="268200"/>
            <a:ext cx="3106800" cy="1217880"/>
            <a:chOff x="360360" y="268200"/>
            <a:chExt cx="3106800" cy="1217880"/>
          </a:xfrm>
        </p:grpSpPr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60360" y="268200"/>
              <a:ext cx="31068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мобили - еще одна страсть немц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 производстве машин  немцы достигли настоящих высо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упка следующего по классу автомобиля для них гораздо важнее продвижения по карьерной лестни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425F2E-89BF-4A7F-95B6-988641837A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714840" y="285840"/>
            <a:ext cx="4667040" cy="3500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572000" y="3786120"/>
            <a:ext cx="320976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dur="indefinite" fill="hold">
                      <p:stCondLst>
                        <p:cond delay="indefinite"/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dur="indefinite" fill="hold">
                      <p:stCondLst>
                        <p:cond delay="indefinite"/>
                      </p:stCondLst>
                      <p:childTnLst>
                        <p:par>
                          <p:cTn id="4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1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льзя обойти молчанием важнейшую особенность современной немецкой жизни: страсть к путешеств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чести немцев, надо отметить, что они, в отличие от многих других представителей западной цивилизации, несмотря на привычный комфорт и удобство жизни у себя дома, совершенно неприхотливы и не боятся труд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39E3D2-6FDA-4FA5-BE4D-E6769BE876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571920" y="500040"/>
            <a:ext cx="4948200" cy="53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dur="indefinite" fill="hold">
                      <p:stCondLst>
                        <p:cond delay="indefinite"/>
                      </p:stCondLst>
                      <p:childTnLst>
                        <p:par>
                          <p:cTn id="5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dur="indefinite" fill="hold">
                      <p:stCondLst>
                        <p:cond delay="indefinite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95280" y="1484280"/>
            <a:ext cx="307008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и немцы любят возражать — мол, вот все говорят, что мы педантичны и интересуемся только порядком и законом, а посмотрите на наш вклад в мировую культуру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йствительно, вклад немцев в развитие литературы, философии, музыки — неоспор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х И.С., В.Гёте,  Ф. Шиллер, А. Энштейн, Г. Гейне, Людвиг ван Бетховен,  Иммануил Кант,  Вильгельм  Конрад Рентген,  Томас Манн и мн.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0C182A-1DED-4571-B01E-2463A2ECC2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429000" y="21420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072040" y="285840"/>
            <a:ext cx="1552680" cy="2143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6643800" y="285840"/>
            <a:ext cx="2000160" cy="2311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214800" y="1857240"/>
            <a:ext cx="1962000" cy="2776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4929120" y="2428920"/>
            <a:ext cx="1978200" cy="2619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6715080" y="2571840"/>
            <a:ext cx="2152800" cy="2068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9"/>
          <a:stretch/>
        </p:blipFill>
        <p:spPr>
          <a:xfrm>
            <a:off x="3214800" y="4286160"/>
            <a:ext cx="1809720" cy="2374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5072040" y="4262400"/>
            <a:ext cx="1946160" cy="2595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1"/>
          <a:stretch/>
        </p:blipFill>
        <p:spPr>
          <a:xfrm>
            <a:off x="7072200" y="4429080"/>
            <a:ext cx="1690920" cy="22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dur="indefinite" fill="hold">
                      <p:stCondLst>
                        <p:cond delay="indefinite"/>
                      </p:stCondLst>
                      <p:childTnLst>
                        <p:par>
                          <p:cTn id="5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dur="indefinite" fill="hold">
                      <p:stCondLst>
                        <p:cond delay="indefinite"/>
                      </p:stCondLst>
                      <p:childTnLst>
                        <p:par>
                          <p:cTn id="5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dur="indefinite" fill="hold">
                      <p:stCondLst>
                        <p:cond delay="indefinite"/>
                      </p:stCondLst>
                      <p:childTnLst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dur="indefinite" fill="hold">
                      <p:stCondLst>
                        <p:cond delay="indefinite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dur="indefinite" fill="hold">
                      <p:stCondLst>
                        <p:cond delay="indefinite"/>
                      </p:stCondLst>
                      <p:childTnLst>
                        <p:par>
                          <p:cTn id="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dur="indefinite" fill="hold">
                      <p:stCondLst>
                        <p:cond delay="indefinite"/>
                      </p:stCondLst>
                      <p:childTnLst>
                        <p:par>
                          <p:cTn id="5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dur="indefinite" fill="hold">
                      <p:stCondLst>
                        <p:cond delay="indefinite"/>
                      </p:stCondLst>
                      <p:childTnLst>
                        <p:par>
                          <p:cTn id="5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fill="hold">
                      <p:stCondLst>
                        <p:cond delay="indefinite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всех своих непростых свойствах характера немцы просты и приятны в обще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зговор с ними приятен и непринужден, с ними можно говорить обо всем, а не только о них самих, как это нередко бывает с другими наро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чное и общественное для немца — вещи разного порядка, причем последнее всегда важнее перв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44862B-7AC4-4CF3-90B3-AD2724D73B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643280" y="1500120"/>
            <a:ext cx="4286520" cy="46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dur="indefinite" fill="hold">
                      <p:stCondLst>
                        <p:cond delay="indefinite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dur="indefinite" fill="hold">
                      <p:stCondLst>
                        <p:cond delay="indefinite"/>
                      </p:stCondLst>
                      <p:childTnLst>
                        <p:par>
                          <p:cTn id="6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57200" y="1787400"/>
            <a:ext cx="4037040" cy="4149720"/>
            <a:chOff x="457200" y="1787400"/>
            <a:chExt cx="4037040" cy="4149720"/>
          </a:xfrm>
        </p:grpSpPr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457200" y="1787400"/>
              <a:ext cx="4037040" cy="41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787400"/>
              <a:ext cx="403704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и европейцев популярно мнение, что для француза важно качество пищи, для немца — количество, а для англичан хорошие манеры за сто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современной немецкой женщины из знаменитой когда-то «К»-триады — «K</a:t>
            </a: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he, Kinder, </a:t>
            </a:r>
            <a:r>
              <a:rPr b="0" lang="de-DE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Kirche», то есть «кухня, ребенок и церковь», на сегодня актуальным остается только пер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 этом же говорит магазинное и рыночное изобил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й же стране находится каждая третья пивоварня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6D2B2A-61A9-4F85-9F85-7F59724100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1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7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dur="indefinite" fill="hold">
                      <p:stCondLst>
                        <p:cond delay="indefinite"/>
                      </p:stCondLst>
                      <p:childTnLst>
                        <p:par>
                          <p:cTn id="6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dur="indefinite" fill="hold">
                      <p:stCondLst>
                        <p:cond delay="indefinite"/>
                      </p:stCondLst>
                      <p:childTnLst>
                        <p:par>
                          <p:cTn id="6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8786880" cy="61437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57200" y="2857680"/>
            <a:ext cx="822960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94CE03-374B-4C78-8834-0319B4BA1F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189000" y="268200"/>
            <a:ext cx="8502480" cy="1157400"/>
            <a:chOff x="189000" y="268200"/>
            <a:chExt cx="8502480" cy="115740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189000" y="268200"/>
              <a:ext cx="85024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89000" y="268200"/>
              <a:ext cx="850248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ермания сегодня — страна мощная, красивая, набирающая силу. Своим процветанием она прежде всего обязана своему народу — трудолюбивому, преданному, простому, честному. Народу, в котором, несмотря на многообразие, чувствуется национальное единство, которому есть что дать человечеств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 быть, не зря немец Томас Манн мечтал о том счастливом времени, когда все сольются в единое целое и все «народы... обменяются своими самыми драгоценными качествами: прекрасный англичанин, утонченный француз, человечный русский и знающий немец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496187-C4D8-42B7-9F0C-F4738BD66D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dur="indefinite" fill="hold">
                      <p:stCondLst>
                        <p:cond delay="indefinite"/>
                      </p:stCondLst>
                      <p:childTnLst>
                        <p:par>
                          <p:cTn id="6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dur="indefinite" fill="hold">
                      <p:stCondLst>
                        <p:cond delay="indefinite"/>
                      </p:stCondLst>
                      <p:childTnLst>
                        <p:par>
                          <p:cTn id="6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все-таки немецкий характер существует, и разобраться в нем можно, особенно если принять его противоречивость, не пугаться стереотипных представлений и не пытаться их обязательно опровергнуть, согласившись с тем, что в них есть и доля прав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а работа очень важна для меня, как изучающего немецкий язык в школе с углублённым изучением языка. Не зная обычаев и традиций народа, не понимая национального характера носителя языка невозможно качественное об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Я считаю, что поставленные задачи выполне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3C449E-1BB0-44E5-BF25-31C4A881D3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dur="indefinite" fill="hold">
                      <p:stCondLst>
                        <p:cond delay="indefinite"/>
                      </p:stCondLst>
                      <p:childTnLst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dur="indefinite" fill="hold">
                      <p:stCondLst>
                        <p:cond delay="indefinite"/>
                      </p:stCondLst>
                      <p:childTnLst>
                        <p:par>
                          <p:cTn id="7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dur="indefinite" fill="hold">
                      <p:stCondLst>
                        <p:cond delay="indefinite"/>
                      </p:stCondLst>
                      <p:childTnLst>
                        <p:par>
                          <p:cTn id="7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8" dur="1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360360" y="268200"/>
            <a:ext cx="3106800" cy="1168560"/>
            <a:chOff x="360360" y="268200"/>
            <a:chExt cx="3106800" cy="11685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360360" y="268200"/>
              <a:ext cx="310680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60360" y="268200"/>
              <a:ext cx="3106800" cy="11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овседневной жизни принято считать, что каждая нация имеет свой характер, и что определенные черты характера закреплены за той или иной нацией. Так, например, американца связывают с деловитостью, русских  - с открытостью и гостеприимством, немцев – с пунктуальностью и аккуратностью, французов – с остроум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71920" y="4718160"/>
            <a:ext cx="3070080" cy="1984320"/>
            <a:chOff x="3571920" y="4718160"/>
            <a:chExt cx="3070080" cy="198432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3571920" y="4718160"/>
              <a:ext cx="307008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571920" y="4718160"/>
              <a:ext cx="307008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478A65-BE48-4DBA-96BC-200CC3C231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500280" y="142920"/>
            <a:ext cx="2738520" cy="1859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786280" y="857160"/>
            <a:ext cx="3132360" cy="208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6215040" y="3071880"/>
            <a:ext cx="2793960" cy="219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857760" y="2643120"/>
            <a:ext cx="1935000" cy="18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262080" y="268200"/>
            <a:ext cx="8429400" cy="1157400"/>
            <a:chOff x="262080" y="268200"/>
            <a:chExt cx="8429400" cy="115740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262080" y="268200"/>
              <a:ext cx="842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62080" y="268200"/>
              <a:ext cx="8429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Stefan Zeidenitz, Ben Bakow „Die Deutschen pauschal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Fischer Taschenbuchverlag Gmbh, Frankfurt am Main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Kleine Deutschlandkunde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собие по стран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ОО «Издательство ЦентрКом»,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SBN 3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-12-</a:t>
            </a:r>
            <a:r>
              <a:rPr b="1" lang="de-DE" sz="2000" spc="-1" strike="noStrike">
                <a:solidFill>
                  <a:srgbClr val="000000"/>
                </a:solidFill>
                <a:latin typeface="Book Antiqua"/>
              </a:rPr>
              <a:t>4872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-0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.Г. Козьмин «По странам изучаемого язык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ва «Просвещение»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Volker Borbein „Menschen in Deutschland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Langenscheidt-Verlag, Berlin und München,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Book Antiqua"/>
              </a:rPr>
              <a:t>Deutschen! Gesichter und Geschichten“, die Zeitschrift „Deutschland“ №5/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ьева Г.В. «Немецкий 7-8 классы. Занимательные материалы» Издательско-торговый дом «Корифей», Волгоград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асова З.А. «Внеклассная работа по немецкому языку. 7-8 классы», Издательско-торговый дом «Корифей», Волгоград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5BA41D-753E-4FBC-A535-604413E02F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dur="indefinite" fill="hold">
                      <p:stCondLst>
                        <p:cond delay="indefinite"/>
                      </p:stCondLst>
                      <p:childTnLst>
                        <p:par>
                          <p:cTn id="7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dur="indefinite" fill="hold">
                      <p:stCondLst>
                        <p:cond delay="indefinite"/>
                      </p:stCondLst>
                      <p:childTnLst>
                        <p:par>
                          <p:cTn id="7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0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dur="indefinite" fill="hold">
                      <p:stCondLst>
                        <p:cond delay="indefinite"/>
                      </p:stCondLst>
                      <p:childTnLst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dur="indefinite" fill="hold">
                      <p:stCondLst>
                        <p:cond delay="indefinite"/>
                      </p:stCondLst>
                      <p:childTnLst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dur="indefinite" fill="hold">
                      <p:stCondLst>
                        <p:cond delay="indefinite"/>
                      </p:stCondLst>
                      <p:childTnLst>
                        <p:par>
                          <p:cTn id="7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dur="indefinite" fill="hold">
                      <p:stCondLst>
                        <p:cond delay="indefinite"/>
                      </p:stCondLst>
                      <p:childTnLst>
                        <p:par>
                          <p:cTn id="7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0" dur="1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dur="indefinite" fill="hold">
                      <p:stCondLst>
                        <p:cond delay="indefinite"/>
                      </p:stCondLst>
                      <p:childTnLst>
                        <p:par>
                          <p:cTn id="7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dur="indefinite" fill="hold">
                      <p:stCondLst>
                        <p:cond delay="indefinite"/>
                      </p:stCondLst>
                      <p:childTnLst>
                        <p:par>
                          <p:cTn id="7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1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dur="indefinite" fill="hold">
                      <p:stCondLst>
                        <p:cond delay="indefinite"/>
                      </p:stCondLst>
                      <p:childTnLst>
                        <p:par>
                          <p:cTn id="7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 fill="hold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dur="indefinite" fill="hold">
                      <p:stCondLst>
                        <p:cond delay="indefinite"/>
                      </p:stCondLst>
                      <p:childTnLst>
                        <p:par>
                          <p:cTn id="7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5" dur="1000" fill="hold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dur="indefinite" fill="hold">
                      <p:stCondLst>
                        <p:cond delay="indefinite"/>
                      </p:stCondLst>
                      <p:childTnLst>
                        <p:par>
                          <p:cTn id="7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0" dur="1000" fill="hold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7D6386-B4D1-4E3F-B3D0-37BE4CE33F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2143080"/>
            <a:ext cx="2465640" cy="23716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760" y="3786120"/>
            <a:ext cx="2465280" cy="2371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240" y="1071720"/>
            <a:ext cx="246564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dur="indefinite" fill="hold">
                      <p:stCondLst>
                        <p:cond delay="indefinite"/>
                      </p:stCondLst>
                      <p:childTnLst>
                        <p:par>
                          <p:cTn id="7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5360" y="96840"/>
            <a:ext cx="8466120" cy="1449360"/>
            <a:chOff x="225360" y="96840"/>
            <a:chExt cx="8466120" cy="144936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25360" y="96840"/>
              <a:ext cx="8466120" cy="14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25360" y="96840"/>
              <a:ext cx="84661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ервый взгляд немец являет собой самый простой из устойчивых национальных образов. Согласно популярному в Европе анекдоту в раю немцы — механики, а в аду — полицейские. И то, и другое — благодаря своей чёткости и принципиальности. Стереотипный немец всегда носит усы, всегда прекрасно организован, мечтает о порядке, выполняет законы, в идеале живет в ритме военного марша. И все это в основном (кроме усов) — прав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00760" y="1600200"/>
            <a:ext cx="3686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325A66-9B70-4982-B1BE-5F1593DDB0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286240" y="1284120"/>
            <a:ext cx="310536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за этой простой схемой-стереотипом скрывается нечто неопределенное и туман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ть с того, что даже название обсуждаемого народа  звучит по-разному в разных язы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-русски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ме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же по-английски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erman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-французски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allemand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-итальянски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tedesc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своем языке —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eutsch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6C8F8A-0D99-4534-B5D9-48106470DD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4143240" cy="42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зможно, данная неустойчивость и неопределенность немецкого характера обуславливаются неопределенностью и неустойчивостью положения самого государств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дь Германия — страна, почти не имеющая естественных границ, зажатая между другими европейскими государств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D9A284-39A7-4882-8CFB-A4B9090110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28760" y="1643040"/>
            <a:ext cx="4214520" cy="474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450720" y="268200"/>
            <a:ext cx="3102120" cy="1217880"/>
            <a:chOff x="450720" y="268200"/>
            <a:chExt cx="3102120" cy="121788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50720" y="268200"/>
              <a:ext cx="310212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0720" y="268200"/>
              <a:ext cx="31021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жность и неопределенность характера немцев подчеркивает и то, как они изображаются в записках путешественников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М. Карамзин одним из первых в России дал блестящие характеристики европейским народам, с которыми он сталкивался во время своего путешеств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вот про характер немцев у него — ни слова. При этом отметим, что в Германии он провел самую значительно часть своего путешеств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139AE3-C71F-4C3B-92A7-3FAB358CA9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857760" y="214200"/>
            <a:ext cx="4643280" cy="593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9640" y="1600200"/>
            <a:ext cx="3332160" cy="4524480"/>
            <a:chOff x="809640" y="1600200"/>
            <a:chExt cx="3332160" cy="452448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809640" y="1600200"/>
              <a:ext cx="3332160" cy="45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09640" y="1600200"/>
              <a:ext cx="3332160" cy="45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.М. Достоевский заявлял категорично: «К немцу надо особенно привыкать и... с непривычки его весьма трудно выносить в больших массах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6B07C0-C1B1-42C1-83F2-9D36E860A3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а и сами немцы не отставали. Томас Манн, например, утверждал, что «немцы воистину непостижимый народ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6120" indent="-409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иселёв Никита ГОУ СОШ №3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ACF4CF-2F2B-4EFC-9DBE-4B9F99C55B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86200" y="1357200"/>
            <a:ext cx="37245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1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4:44:19Z</dcterms:created>
  <dc:creator>Администратор</dc:creator>
  <dc:description/>
  <dc:language>en-US</dc:language>
  <cp:lastModifiedBy>39</cp:lastModifiedBy>
  <dcterms:modified xsi:type="dcterms:W3CDTF">2011-05-16T11:00:38Z</dcterms:modified>
  <cp:revision>66</cp:revision>
  <dc:subject/>
  <dc:title>Тема: Особенности национального характера немца. </dc:title>
</cp:coreProperties>
</file>