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42.png" ContentType="image/png"/>
  <Override PartName="/ppt/media/image26.jpeg" ContentType="image/jpeg"/>
  <Override PartName="/ppt/media/image44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55.jpeg" ContentType="image/jpeg"/>
  <Override PartName="/ppt/media/image17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39.png" ContentType="image/png"/>
  <Override PartName="/ppt/media/image22.jpeg" ContentType="image/jpeg"/>
  <Override PartName="/ppt/media/image60.png" ContentType="image/png"/>
  <Override PartName="/ppt/media/image6.jpeg" ContentType="image/jpeg"/>
  <Override PartName="/ppt/media/image31.png" ContentType="image/png"/>
  <Override PartName="/ppt/media/image29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59.png" ContentType="image/png"/>
  <Override PartName="/ppt/media/image64.gif" ContentType="image/gif"/>
  <Override PartName="/ppt/media/image20.jpeg" ContentType="image/jpeg"/>
  <Override PartName="/ppt/media/image19.png" ContentType="image/png"/>
  <Override PartName="/ppt/media/image18.jpeg" ContentType="image/jpeg"/>
  <Override PartName="/ppt/media/image61.png" ContentType="image/png"/>
  <Override PartName="/ppt/media/image5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3.jpeg" ContentType="image/jpeg"/>
  <Override PartName="/ppt/media/image36.jpeg" ContentType="image/jpeg"/>
  <Override PartName="/ppt/media/image10.png" ContentType="image/png"/>
  <Override PartName="/ppt/media/image41.jpeg" ContentType="image/jpeg"/>
  <Override PartName="/ppt/media/image54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619593-97F5-4703-B2C4-FE93670C0C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10BEDC-99D0-4C93-8414-69191D0B1C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28F080-0D13-4174-8A86-053C195C1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426-7D42-4734-881F-6146B3B9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A34-C9E9-47B2-9B3F-98E2057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0F7-E6D2-4DAC-92C7-002E6FA6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D49-E391-4336-8CC8-83E72C69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32F-0B01-4AB9-AA0C-2B4C07EA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9A5-C88E-4508-B7FC-9771431E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727-86D5-4288-8D2F-4F35AC0E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4CA-CD6C-4134-B3E2-AB6BAE95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F25-C667-4707-8DFD-7B9E0C7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8AD-D7F3-475E-80E6-2E7C4848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2C1-BBF6-40A9-8904-C78871D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913-4E48-450D-970C-9AE841A6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304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6.06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138720"/>
            <a:ext cx="289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иселёв Никита ГОУ СОШ №3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3040"/>
            <a:ext cx="76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00597E-6EA6-44E4-8F86-43A2CB2210F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64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4.gif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64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47760" y="469800"/>
            <a:ext cx="8118360" cy="3137040"/>
            <a:chOff x="347760" y="469800"/>
            <a:chExt cx="8118360" cy="3137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47760" y="469800"/>
              <a:ext cx="8118360" cy="31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469800"/>
              <a:ext cx="8118360" cy="31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CD2DC9-7386-4BD6-ADEF-1A84FFE2F1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л: ученик 6 б класса ГОУ СОШ №352 Киселёв Ник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учитель высшей категории Притворова Ни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, 2010 – 2011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 великий Гете считал, что «немцы усложняют все себе и другим»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220E39-B87C-44AB-9362-6BFD29BCE2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9546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0720" y="219240"/>
            <a:ext cx="8344080" cy="1206360"/>
            <a:chOff x="450720" y="219240"/>
            <a:chExt cx="8344080" cy="12063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0720" y="219240"/>
              <a:ext cx="83440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0720" y="219240"/>
              <a:ext cx="834408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национальный характер? Существует ли он вообще? Насколько правомерно обобщение типичных черт в масштабе целого народа, когда хорошо известно, что все люди — раз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A54816-CAF0-44BF-A033-4D74B9259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71880" y="335772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43040"/>
            <a:ext cx="4037040" cy="4427640"/>
            <a:chOff x="457200" y="1643040"/>
            <a:chExt cx="4037040" cy="4427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57200" y="1643040"/>
              <a:ext cx="40370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57200" y="1643040"/>
              <a:ext cx="40370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воем первоначальном значении греческое слово «характер» обозначало знак или символ, выражающий специфику какого-нибудь я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CBF3CE-D9AC-46AD-8602-848769B71A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овом «Философском словаре»  национальный  характер определяется как  исторически сложившаяся совокупность устойчивых психологических черт представителей той или иной н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и характерные черты определяют  привычную манеру их поведения и проявляются  в их отношении к социально-бытовой ср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5702F4-13F4-4011-B026-7B0E7DDC94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цы стремятся к созданию семьи, но не больше, чем их европейские сос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 для них - идеал, символ  верности, но процент разводов в Германии высо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 «уют» ассоциируется у них с идеей Ро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2  Проявление национального характера в социально-бытов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949CC8-9962-4D89-A15D-D4735B0BE1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786120" y="1428840"/>
            <a:ext cx="5000760" cy="50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60360" y="268200"/>
            <a:ext cx="3216240" cy="1217880"/>
            <a:chOff x="360360" y="268200"/>
            <a:chExt cx="3216240" cy="12178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2162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60360" y="268200"/>
              <a:ext cx="321624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цев отличает особое отношение к старикам, то есть пожилым членам об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мания — одна из самых возрастных стран в мире. Средний возраст ее жителей — 40,1 года, в то время как средний возраст человечества — 26,5.    Сегодня немцы живут в среднем в два раза дольше, чем 100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A4A779-BA5C-4895-9ABA-3B7112480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29040" y="214200"/>
            <a:ext cx="4500720" cy="610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рковь в Германии отделена от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теранская церковь оказала огромное влияние на мировоззрение нем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 Мартином Лютером Библии сформировал современный немецкий язык, а составной частью его учения являлся тезис о том, что повиновение мирской власти является святой обязанностью кажд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FDFC63-1623-4B7E-8651-BFB4E4F4D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29040" y="35712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ермании больше не существует классов. Старые классовые различия перестали существовать после Второй мировой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 не менее продолжает  существовать немногочисленная, но очень влиятельная часть немецких аристок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F2FCF7-0989-4E1D-B654-3939D19399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786120" y="357120"/>
            <a:ext cx="48578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31840" y="268200"/>
            <a:ext cx="8459640" cy="1157400"/>
            <a:chOff x="231840" y="268200"/>
            <a:chExt cx="8459640" cy="115740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231840" y="268200"/>
              <a:ext cx="84596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31840" y="268200"/>
              <a:ext cx="845964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25400" y="1600200"/>
            <a:ext cx="3500640" cy="4524480"/>
            <a:chOff x="725400" y="1600200"/>
            <a:chExt cx="3500640" cy="452448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725400" y="1600200"/>
              <a:ext cx="35006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5400" y="1600200"/>
              <a:ext cx="350064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личие от Америки, Германия не стала тем местом, где люди разных культур сообща и мужественно переносят неудачи и затруд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остранные рабочие стремятся со временем вернуться из Германии на родин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5CE7D6-24AC-411D-8E97-5F3714088D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цы пожимают руки при каждом удобном случа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немец стискивает вашу руку, и не отпускает даже тогда,  когда вы чувствуете, что вот-вот потеряете сознание, это означает, что вы ему нравите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382A4D-23B5-4D13-8B30-D551E7B68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786120" y="357120"/>
            <a:ext cx="5000760" cy="60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65040" y="96840"/>
            <a:ext cx="8502840" cy="1449360"/>
            <a:chOff x="365040" y="96840"/>
            <a:chExt cx="8502840" cy="1449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365040" y="96840"/>
              <a:ext cx="850284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5040" y="96840"/>
              <a:ext cx="850284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анализировать проявления немецкого характера в повседневной жизни, в  обычаях и традиц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ть различные литературные источники о национальном характере немц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анализировать понятие «национальный характер", существует ли он вообще, насколько правомерно обобщение типичных черт в масштабе целого народ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следить проявление национального характера в социально-бытовой сре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18CF67-69DD-4C6E-879E-F5BFA59C3B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360" y="268200"/>
            <a:ext cx="3106800" cy="1217880"/>
            <a:chOff x="360360" y="268200"/>
            <a:chExt cx="3106800" cy="12178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60360" y="268200"/>
              <a:ext cx="31068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ые правила этикета очень просты. Когда вы знакомитесь с кем-то, то обращаетесь к нему на «Вы», и это длится до тех пор, пока переход на «ты» не становится абсолютно неизбе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F1948-7BDF-4AE5-B72D-C6DDE24C29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500280" y="1357200"/>
            <a:ext cx="5143680" cy="38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00080" y="1862280"/>
            <a:ext cx="2951280" cy="3998880"/>
            <a:chOff x="1000080" y="1862280"/>
            <a:chExt cx="2951280" cy="399888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1000080" y="1862280"/>
              <a:ext cx="295128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000080" y="1862280"/>
              <a:ext cx="295128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распространенный «немецкий» стереотип касается их педантичности и любви к поряд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удивительной способности немцев много и увлеченно работать написано немало добрых слов, и не только самими немц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одметил английский драматург Бернард Шоу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мцы обладают большими достоинствами, но имеют и одну опасную слабость — одержимость всякое хорошее дело доводить до крайности, так что добро превращается в зло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Это в полной мере применимо к немецкому поряд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26AC36-A2D0-45E0-B3DA-49E215D201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60360" y="268200"/>
            <a:ext cx="3106800" cy="1217880"/>
            <a:chOff x="360360" y="268200"/>
            <a:chExt cx="3106800" cy="121788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60360" y="268200"/>
              <a:ext cx="31068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 - еще одна страсть нем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 производстве машин  немцы достигли настоящих высо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упка следующего по классу автомобиля для них гораздо важнее продвижения по карьерной лестн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0FF24B-A685-488C-A159-9C697CE94F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714840" y="285840"/>
            <a:ext cx="4667040" cy="3500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72000" y="3786120"/>
            <a:ext cx="320976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льзя обойти молчанием важнейшую особенность современной немецкой жизни: страсть к путешеств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чести немцев, надо отметить, что они, в отличие от многих других представителей западной цивилизации, несмотря на привычный комфорт и удобство жизни у себя дома, совершенно неприхотливы и не боятся труд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4BAD09-7AB3-4F5B-8C83-E995C00B09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71920" y="500040"/>
            <a:ext cx="494820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dur="indefinite" fill="hold">
                      <p:stCondLst>
                        <p:cond delay="indefinite"/>
                      </p:stCondLst>
                      <p:childTnLst>
                        <p:par>
                          <p:cTn id="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95280" y="1484280"/>
            <a:ext cx="307008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и немцы любят возражать — мол, вот все говорят, что мы педантичны и интересуемся только порядком и законом, а посмотрите на наш вклад в мировую культу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тельно, вклад немцев в развитие литературы, философии, музыки — неоспор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х И.С., В.Гёте,  Ф. Шиллер, А. Энштейн, Г. Гейне, Людвиг ван Бетховен,  Иммануил Кант,  Вильгельм  Конрад Рентген,  Томас Манн и мн.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2BA345-E4C4-4DC3-BBD1-1CBBC473C8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072040" y="285840"/>
            <a:ext cx="1552680" cy="2143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643800" y="285840"/>
            <a:ext cx="2000160" cy="2311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214800" y="1857240"/>
            <a:ext cx="1962000" cy="2776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929120" y="2428920"/>
            <a:ext cx="1978200" cy="2619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6715080" y="2571840"/>
            <a:ext cx="2152800" cy="2068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3214800" y="4286160"/>
            <a:ext cx="1809720" cy="237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5072040" y="4262400"/>
            <a:ext cx="1946160" cy="2595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7072200" y="4429080"/>
            <a:ext cx="169092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dur="indefinite" fill="hold">
                      <p:stCondLst>
                        <p:cond delay="indefinite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сех своих непростых свойствах характера немцы просты и приятны в общ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говор с ними приятен и непринужден, с ними можно говорить обо всем, а не только о них самих, как это нередко бывает с другими наро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чное и общественное для немца — вещи разного порядка, причем последнее всегда важнее перв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25A1B9-504C-426C-BEC4-4AE67EB081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643280" y="1500120"/>
            <a:ext cx="4286520" cy="46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57200" y="1787400"/>
            <a:ext cx="4037040" cy="4149720"/>
            <a:chOff x="457200" y="1787400"/>
            <a:chExt cx="4037040" cy="414972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457200" y="1787400"/>
              <a:ext cx="403704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787400"/>
              <a:ext cx="403704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европейцев популярно мнение, что для француза важно качество пищи, для немца — количество, а для англичан хорошие манеры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овременной немецкой женщины из знаменитой когда-то «К»-триады — «K</a:t>
            </a: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he, Kinder, </a:t>
            </a: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irche», то есть «кухня, ребенок и церковь», на сегодня актуальным остается только пер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 этом же говорит магазинное и рыночное изобил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й же стране находится каждая третья пивоварня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60D470-915D-4E61-95F3-EA68CCA70B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8786880" cy="61437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57200" y="2857680"/>
            <a:ext cx="82296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E6BAEF-323D-453A-AECE-C9C6A0DAE5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9000" y="268200"/>
            <a:ext cx="8502480" cy="1157400"/>
            <a:chOff x="189000" y="268200"/>
            <a:chExt cx="8502480" cy="115740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189000" y="268200"/>
              <a:ext cx="85024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89000" y="268200"/>
              <a:ext cx="850248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ермания сегодня — страна мощная, красивая, набирающая силу. Своим процветанием она прежде всего обязана своему народу — трудолюбивому, преданному, простому, честному. Народу, в котором, несмотря на многообразие, чувствуется национальное единство, которому есть что дать человечеств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 быть, не зря немец Томас Манн мечтал о том счастливом времени, когда все сольются в единое целое и все «народы... обменяются своими самыми драгоценными качествами: прекрасный англичанин, утонченный француз, человечный русский и знающий немец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783B05-278C-41FB-BA59-071425778D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fill="hold">
                      <p:stCondLst>
                        <p:cond delay="indefinite"/>
                      </p:stCondLst>
                      <p:childTnLst>
                        <p:par>
                          <p:cTn id="6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все-таки немецкий характер существует, и разобраться в нем можно, особенно если принять его противоречивость, не пугаться стереотипных представлений и не пытаться их обязательно опровергнуть, согласившись с тем, что в них есть и доля прав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а работа очень важна для меня, как изучающего немецкий язык в школе с углублённым изучением языка. Не зная обычаев и традиций народа, не понимая национального характера носителя языка невозможно качественное об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Я считаю, что поставленные задачи выполн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0623DE-6E3A-4F70-8CAA-4F17EFDE7C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dur="indefinite" fill="hold">
                      <p:stCondLst>
                        <p:cond delay="indefinite"/>
                      </p:stCondLst>
                      <p:childTnLst>
                        <p:par>
                          <p:cTn id="7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вседневной жизни принято считать, что каждая нация имеет свой характер, и что определенные черты характера закреплены за той или иной нацией. Так, например, американца связывают с деловитостью, русских  - с открытостью и гостеприимством, немцев – с пунктуальностью и аккуратностью, французов – с остроум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71920" y="4718160"/>
            <a:ext cx="3070080" cy="1984320"/>
            <a:chOff x="3571920" y="4718160"/>
            <a:chExt cx="3070080" cy="198432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3571920" y="4718160"/>
              <a:ext cx="307008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71920" y="4718160"/>
              <a:ext cx="307008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B47DCB-003F-4F60-B0E2-79687250F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0280" y="142920"/>
            <a:ext cx="2738520" cy="1859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786280" y="857160"/>
            <a:ext cx="3132360" cy="208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215040" y="3071880"/>
            <a:ext cx="2793960" cy="219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857760" y="2643120"/>
            <a:ext cx="1935000" cy="18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Stefan Zeidenitz, Ben Bakow „Die Deutschen pauscha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Fischer Taschenbuchverlag Gmbh, Frankfurt am Main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Kleine Deutschlandkunde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собие по стран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ОО «Издательство ЦентрКом»,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SBN 3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-12-</a:t>
            </a:r>
            <a:r>
              <a:rPr b="1" lang="de-DE" sz="2000" spc="-1" strike="noStrike">
                <a:solidFill>
                  <a:srgbClr val="000000"/>
                </a:solidFill>
                <a:latin typeface="Book Antiqua"/>
              </a:rPr>
              <a:t>4872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-0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.Г. Козьмин «По странам изучаемого язы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ва «Просвещение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Volker Borbein „Menschen in Deutschland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Langenscheidt-Verlag, Berlin und München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Deutschen! Gesichter und Geschichten“, die Zeitschrift „Deutschland“ №5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ьева Г.В. «Немецкий 7-8 классы. Занимательные материалы» Издательско-торговый дом «Корифей», Волгоград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сова З.А. «Внеклассная работа по немецкому языку. 7-8 классы», Издательско-торговый дом «Корифей», Волгоград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083CA2-55EB-4A7D-8BC8-E1EF9248D3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dur="indefinite" fill="hold">
                      <p:stCondLst>
                        <p:cond delay="indefinite"/>
                      </p:stCondLst>
                      <p:childTnLst>
                        <p:par>
                          <p:cTn id="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dur="indefinite" fill="hold">
                      <p:stCondLst>
                        <p:cond delay="indefinite"/>
                      </p:stCondLst>
                      <p:childTnLst>
                        <p:par>
                          <p:cTn id="7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dur="indefinite" fill="hold">
                      <p:stCondLst>
                        <p:cond delay="indefinite"/>
                      </p:stCondLst>
                      <p:childTnLst>
                        <p:par>
                          <p:cTn id="7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fill="hold">
                      <p:stCondLst>
                        <p:cond delay="indefinite"/>
                      </p:stCondLst>
                      <p:childTnLst>
                        <p:par>
                          <p:cTn id="7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dur="indefinite" fill="hold">
                      <p:stCondLst>
                        <p:cond delay="indefinite"/>
                      </p:stCondLst>
                      <p:childTnLst>
                        <p:par>
                          <p:cTn id="7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1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dur="indefinite" fill="hold">
                      <p:stCondLst>
                        <p:cond delay="indefinite"/>
                      </p:stCondLst>
                      <p:childTnLst>
                        <p:par>
                          <p:cTn id="7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5" dur="1000" fill="hold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dur="indefinite" fill="hold">
                      <p:stCondLst>
                        <p:cond delay="indefinite"/>
                      </p:stCondLst>
                      <p:childTnLst>
                        <p:par>
                          <p:cTn id="7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0" dur="1000" fill="hold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C7E0D4-0A45-4D71-9D5F-A217B23FC0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214308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786120"/>
            <a:ext cx="2465280" cy="2371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240" y="1071720"/>
            <a:ext cx="246564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dur="indefinite" fill="hold">
                      <p:stCondLst>
                        <p:cond delay="indefinite"/>
                      </p:stCondLst>
                      <p:childTnLst>
                        <p:par>
                          <p:cTn id="7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5360" y="96840"/>
            <a:ext cx="8466120" cy="1449360"/>
            <a:chOff x="225360" y="96840"/>
            <a:chExt cx="8466120" cy="14493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25360" y="96840"/>
              <a:ext cx="846612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25360" y="96840"/>
              <a:ext cx="84661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ервый взгляд немец являет собой самый простой из устойчивых национальных образов. Согласно популярному в Европе анекдоту в раю немцы — механики, а в аду — полицейские. И то, и другое — благодаря своей чёткости и принципиальности. Стереотипный немец всегда носит усы, всегда прекрасно организован, мечтает о порядке, выполняет законы, в идеале живет в ритме военного марша. И все это в основном (кроме усов) — прав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076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4373A5-0366-4701-9C8C-62757E20BA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86240" y="1284120"/>
            <a:ext cx="310536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за этой простой схемой-стереотипом скрывается нечто неопределенное и тум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ть с того, что даже название обсуждаемого народа  звучит по-разному в разных язы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-рус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ме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же по-англий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erman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-француз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lleman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-итальян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tedesc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воем языке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eutsch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BBBF64-4F78-4399-A4D4-BC3A15046C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4143240" cy="42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можно, данная неустойчивость и неопределенность немецкого характера обуславливаются неопределенностью и неустойчивостью положения самого государ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дь Германия — страна, почти не имеющая естественных границ, зажатая между другими европейскими государств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B54423-7CB4-4BC8-94C2-4A2BCF5F5C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421452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50720" y="268200"/>
            <a:ext cx="3102120" cy="1217880"/>
            <a:chOff x="450720" y="268200"/>
            <a:chExt cx="3102120" cy="121788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310212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0720" y="268200"/>
              <a:ext cx="31021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жность и неопределенность характера немцев подчеркивает и то, как они изображаются в записках путешественников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М. Карамзин одним из первых в России дал блестящие характеристики европейским народам, с которыми он сталкивался во время своего путеше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вот про характер немцев у него — ни слова. При этом отметим, что в Германии он провел самую значительно часть своего путешеств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DD4957-7604-41E2-BD82-902CB43AB5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57760" y="214200"/>
            <a:ext cx="4643280" cy="593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9640" y="1600200"/>
            <a:ext cx="3332160" cy="4524480"/>
            <a:chOff x="809640" y="1600200"/>
            <a:chExt cx="3332160" cy="45244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809640" y="1600200"/>
              <a:ext cx="333216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09640" y="1600200"/>
              <a:ext cx="333216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.М. Достоевский заявлял категорично: «К немцу надо особенно привыкать и... с непривычки его весьма трудно выносить в больших масса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2C9BB1-D43C-4C28-B068-57DD22E95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 и сами немцы не отставали. Томас Манн, например, утверждал, что «немцы воистину непостижимый народ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8B1BED-39CE-4E3B-972B-F53065FF9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86200" y="1357200"/>
            <a:ext cx="37245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4:19Z</dcterms:created>
  <dc:creator>Администратор</dc:creator>
  <dc:description/>
  <dc:language>en-US</dc:language>
  <cp:lastModifiedBy>39</cp:lastModifiedBy>
  <dcterms:modified xsi:type="dcterms:W3CDTF">2011-05-16T11:00:38Z</dcterms:modified>
  <cp:revision>66</cp:revision>
  <dc:subject/>
  <dc:title>Тема: Особенности национального характера немца. </dc:title>
</cp:coreProperties>
</file>