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814-01EA-4EE3-96BD-FAF1D543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DC5-C9CB-464B-81D2-D3F4A066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EF7FA-7C65-4E58-8237-DD47F3CA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4AED0-306A-419B-B703-DC139CF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16049-E46D-48EB-B644-1EFDC87A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E5F4A-D0DC-49C2-A122-9DDE7F9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0AA1A-1188-4D91-A055-C4A5BD47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B6A1E-9C2D-4DFA-8610-E503723C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C546C-F18E-48BD-B1C5-F9102546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72DBB-062B-4B53-A186-3943673C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C320A-4708-4286-8161-59A797E1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65C-A285-453D-8453-8D43C4CA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502-4D09-412D-A3E1-188013A4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B6C5-69CE-4E9B-B58D-01E5EEC7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F8FB-B5E8-4EA8-85B9-59BEAF6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55F-B035-492B-A151-A04E02D8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63EF-AEE4-47E5-A06C-4EC74D06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E5A5-F0A8-4030-9746-6BEA4662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26D4-F20E-43AA-9CA3-EA0CC82D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997-9AC5-414C-BCA7-9C050F18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D6D-E05D-403A-AEA3-FDADCC00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A588-C267-4A8D-87F7-608319D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DD7A-B596-42C6-A464-71EB854A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DB04-D208-4590-B063-231FCCE2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824D-B42B-4FF8-8E50-F606E332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7297-4C7D-4797-89DF-8FC23D1B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D94D-6BC5-467D-B14C-4F01EFA2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00FA-49EC-431D-95C0-06F68165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4CEE-D61B-448C-A3C1-C917ACA5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E433-DE27-46CE-993B-8815B754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2220-48FD-4410-BD77-6D39151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62B-89FB-4AC0-B16E-3A3D7590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3701-F71D-4FB1-84D3-14802025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784E1-A0CD-49E8-B76F-987C9037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3E44-5033-4DEB-87CA-5518F348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CB25-C67C-4765-85FB-0380BBA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4225-487E-4C03-B7D2-817324B6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9930-D529-4B75-A24C-2B09FBC7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4327-972F-458C-885C-C9FF4E64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2D2A-DB79-4BD7-A83B-F5F09EAF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148B-AE28-4C5A-BA82-EE944ACB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1808D-A50F-447D-9CD5-958DF098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951-9627-475F-86D0-9767BDDE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E16B-CFCF-46A0-9FE2-B657C1B7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75AA-E362-4C61-AB1D-D7F72E04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975E-1B46-4B13-9D00-77E04990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F8E36-153A-409D-B915-0ABBF4E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BFA70-DD0C-4978-A4E3-1D69A4EE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1BE8-C9FF-4D5F-8100-8B7BF149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7D9F-D160-451E-B174-1EEC5CC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CDFE-BDE4-4E94-AD43-2647E289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DE27-7B59-467B-9198-63B7BC15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8F70-409F-4DB2-9BE2-1AFB5D12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C9E-3ED1-414D-A165-A66F559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FC61-81F0-45DC-9564-90EC8BA6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33490-28D6-4085-835C-E2F20D31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C3DDD-F966-4001-B20D-5191C041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CA3A-1784-4EE6-968F-5EA777CE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6D8A9-CD26-4400-A465-80DC1739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412B-3ECC-4682-ABA8-A2BF4226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0DA53-1A0F-4E53-B1AA-DB5F627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0A711-52CB-475D-8412-FD96FDCB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95D4C-AF7B-4554-B3B7-94A735B9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737B2-CC08-4048-8213-4F2BB174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569-F822-40B6-896C-524C46AE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E7A0-73A5-404A-AD06-0F40E426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934B-4187-4D40-BDA0-5E91968B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14B8-A02F-4D54-A942-18C8B587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E3AA-6B6F-4420-AACF-ABEEF781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0B70-80D0-4CB1-84F5-074AEF0B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1FEBA-6361-41DC-A41C-9C0697D2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8DF68-133C-452E-A6F4-5B3B94D1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655A4-7D56-4BBF-BBB0-E4BBBECF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6985-477A-46C6-936C-A1365A64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3DF7-6735-456E-AD33-46ABDAE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F14-F7A0-4A4A-89F2-BE12BE5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476B3-A1E8-4878-A575-A31DB57C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E8606-9F09-488F-8FD8-83FC78E9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2AAA-4802-4E26-9A35-385D1043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02066-2155-4F05-8A19-0E74C51A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C0535-FA11-4992-874A-FA3424D4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5CD9-7D84-4F74-B6F9-E753225F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E7EE-3994-4B91-926D-872F402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CC682-A154-4AF4-BC6A-2BC6008C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09E84-1650-4152-B712-88F24396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0802F-0C7B-4F5F-8819-E84D386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104-A7B0-4E46-B411-9DA6BD68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72C85-58D6-444C-833E-AFE3AAD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B8F59-11C7-49FC-AC70-2408B76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B879B-A925-4EE7-B89B-D0511DD9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B6259-8022-47BE-95DC-882BE75D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DAECC-E2C0-4104-B682-0508AF7B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90BA5-DFC6-4BE6-BE9E-2D41AFEE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1D86D-DE2F-4324-910B-6919F4B4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AD59-0B34-4116-8221-F8F7C60D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11040-F30F-4B9F-AC85-B3B6D7B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99C17-85C2-478C-A5E5-0E10B612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B60-E8EB-43C7-A717-05974B9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FEAAD-F193-4B1E-9785-EB6A32E1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8930C-267B-4EDA-8999-439D8C07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3EBCD-7734-4065-9A52-5436704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8737A-463B-4707-B613-B6369293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E779-A244-40A6-B871-A635BDA1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B6D5F-967A-4B0C-A952-B3155045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9D7F4-643F-4418-9630-539DD93F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1D54B-E92D-4983-9795-6A932925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D47AC-4932-4E40-92D3-DB200085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6118F-6F68-485A-8E75-9B514C8E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C3F3-3680-4482-97E6-E4333AE7BE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EE4-BC8F-4D8E-9047-7401D83522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3A6C-E747-4EBD-B564-819121363E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2D57-A4B8-4743-A350-C24CCAEBBF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77FD-2334-4AEA-A293-8238293636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4EBD-C8DF-4DEA-9561-F15D57A290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D247-D31A-456B-8591-D82E3B84DC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D277-9D6A-4E2B-9C44-EAE5721E61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0A40-2E76-4B72-919E-623C4AEDB6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-347760" y="523800"/>
            <a:ext cx="10283760" cy="5353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4572000" y="1484280"/>
            <a:ext cx="4572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Гб, двухслойные – 8,5 Г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ссчитаны на использовани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расного лазера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длиной волны 650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едохранять от механических воздействий, прямых солнечных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052720" y="56610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464000" cy="346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3"/>
          <p:cNvSpPr/>
          <p:nvPr/>
        </p:nvSpPr>
        <p:spPr>
          <a:xfrm>
            <a:off x="4932360" y="1484280"/>
            <a:ext cx="4211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4-23,5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Г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ссчитаны на использовани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инего лазера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длиной волны 405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едохранять от механических воздействий, прямых солнечных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2052720" y="56610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" descr="013623"/>
          <p:cNvPicPr/>
          <p:nvPr/>
        </p:nvPicPr>
        <p:blipFill>
          <a:blip r:embed="rId2"/>
          <a:stretch/>
        </p:blipFill>
        <p:spPr>
          <a:xfrm>
            <a:off x="179280" y="1773360"/>
            <a:ext cx="4762440" cy="2523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Comparison-lasers-350x185"/>
          <p:cNvPicPr/>
          <p:nvPr/>
        </p:nvPicPr>
        <p:blipFill>
          <a:blip r:embed="rId1"/>
          <a:stretch/>
        </p:blipFill>
        <p:spPr>
          <a:xfrm>
            <a:off x="179280" y="1109520"/>
            <a:ext cx="8856720" cy="467676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1332000" y="40464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851280" y="404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6372360" y="40464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HD D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68000" y="2276280"/>
            <a:ext cx="867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-ROM, DVD-ROM (Read Only Memory)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-R, DVD</a:t>
            </a:r>
            <a:r>
              <a:rPr b="0" lang="en-US" sz="3200" spc="-1" strike="noStrike">
                <a:solidFill>
                  <a:srgbClr val="6633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R (Recordable)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-RW, DVD</a:t>
            </a:r>
            <a:r>
              <a:rPr b="0" lang="en-US" sz="3200" spc="-1" strike="noStrike">
                <a:solidFill>
                  <a:srgbClr val="6633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RW (ReWritable)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4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Первые 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-дисководы имели скорость 150 Кб/с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Современные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 CD-Rx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52 – до 7,8 Мб/с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Современные 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-RW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 – 52х52х32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2968920" y="41688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4502160" y="486900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записи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D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6389640" y="566100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записи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D-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9"/>
          <p:cNvSpPr/>
          <p:nvPr/>
        </p:nvSpPr>
        <p:spPr>
          <a:xfrm flipV="1">
            <a:off x="4500720" y="3789000"/>
            <a:ext cx="1150920" cy="431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"/>
          <p:cNvSpPr/>
          <p:nvPr/>
        </p:nvSpPr>
        <p:spPr>
          <a:xfrm flipV="1">
            <a:off x="5724360" y="3789000"/>
            <a:ext cx="574920" cy="1079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1"/>
          <p:cNvSpPr/>
          <p:nvPr/>
        </p:nvSpPr>
        <p:spPr>
          <a:xfrm flipH="1" flipV="1">
            <a:off x="7017840" y="3789000"/>
            <a:ext cx="1009800" cy="1871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Первые 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DVD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-дисководы имели скорость 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1,3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 Мб/с</a:t>
            </a:r>
            <a:endParaRPr b="0" lang="en-US" sz="30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Современные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 DVD-Rx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16 – до 21 Мб/с</a:t>
            </a:r>
            <a:endParaRPr b="0" lang="en-US" sz="30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Современные 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DVD-RW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 – 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16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х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8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х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6</a:t>
            </a:r>
            <a:endParaRPr b="0" lang="en-US" sz="30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2968920" y="41688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474440" y="486576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записи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VD</a:t>
            </a:r>
            <a:r>
              <a:rPr b="0" lang="en-US" sz="1800" spc="-1" strike="noStrike">
                <a:solidFill>
                  <a:srgbClr val="6633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6159960" y="566100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записи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VD</a:t>
            </a:r>
            <a:r>
              <a:rPr b="0" lang="en-US" sz="1800" spc="-1" strike="noStrike">
                <a:solidFill>
                  <a:srgbClr val="6633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"/>
          <p:cNvSpPr/>
          <p:nvPr/>
        </p:nvSpPr>
        <p:spPr>
          <a:xfrm flipV="1">
            <a:off x="4500720" y="3789000"/>
            <a:ext cx="1511280" cy="431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 flipV="1">
            <a:off x="5724360" y="3789000"/>
            <a:ext cx="792360" cy="1079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 flipH="1" flipV="1">
            <a:off x="7017840" y="3789000"/>
            <a:ext cx="1009800" cy="1871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133200" y="768240"/>
            <a:ext cx="8626680" cy="4748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usbflash"/>
          <p:cNvPicPr/>
          <p:nvPr/>
        </p:nvPicPr>
        <p:blipFill>
          <a:blip r:embed="rId1"/>
          <a:stretch/>
        </p:blipFill>
        <p:spPr>
          <a:xfrm>
            <a:off x="468360" y="1341360"/>
            <a:ext cx="2808360" cy="2624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1212517190_180px-flash_memory_cards_size"/>
          <p:cNvPicPr/>
          <p:nvPr/>
        </p:nvPicPr>
        <p:blipFill>
          <a:blip r:embed="rId2"/>
          <a:stretch/>
        </p:blipFill>
        <p:spPr>
          <a:xfrm>
            <a:off x="684360" y="4149720"/>
            <a:ext cx="2393640" cy="25401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8"/>
          <p:cNvSpPr/>
          <p:nvPr/>
        </p:nvSpPr>
        <p:spPr>
          <a:xfrm>
            <a:off x="3564000" y="1916280"/>
            <a:ext cx="55800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128 Мб - 16 Г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Значение скорости считывания/записи находится между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НЖМ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ссчитаны на использование в течение 20-10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ыдерживают механические нагрузки, превышающие в 5-10 раз допустимые для жестких д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требляет в 10-20 раз меньше электроэнергии, чем магнитные и оптические  накопит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9" descr=""/>
          <p:cNvPicPr/>
          <p:nvPr/>
        </p:nvPicPr>
        <p:blipFill>
          <a:blip r:embed="rId3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3564000" y="1989000"/>
            <a:ext cx="5580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едоста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1. Нет единого стандарта на изгот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2. Нужны специальные накопители (картридеры) или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USB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по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Rectangle 5" descr=""/>
          <p:cNvPicPr/>
          <p:nvPr/>
        </p:nvPicPr>
        <p:blipFill>
          <a:blip r:embed="rId1"/>
          <a:stretch/>
        </p:blipFill>
        <p:spPr>
          <a:xfrm>
            <a:off x="2505240" y="334800"/>
            <a:ext cx="8881920" cy="10004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3564000" y="4581360"/>
            <a:ext cx="55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едохранять от механических воз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7" descr="2086_3"/>
          <p:cNvPicPr/>
          <p:nvPr/>
        </p:nvPicPr>
        <p:blipFill>
          <a:blip r:embed="rId2"/>
          <a:stretch/>
        </p:blipFill>
        <p:spPr>
          <a:xfrm>
            <a:off x="539640" y="5157720"/>
            <a:ext cx="2340000" cy="14623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67c5311500636d88f8ae3dd29d8834ea"/>
          <p:cNvPicPr/>
          <p:nvPr/>
        </p:nvPicPr>
        <p:blipFill>
          <a:blip r:embed="rId3"/>
          <a:stretch/>
        </p:blipFill>
        <p:spPr>
          <a:xfrm>
            <a:off x="395280" y="333360"/>
            <a:ext cx="1954080" cy="2421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armi"/>
          <p:cNvPicPr/>
          <p:nvPr/>
        </p:nvPicPr>
        <p:blipFill>
          <a:blip r:embed="rId4"/>
          <a:stretch/>
        </p:blipFill>
        <p:spPr>
          <a:xfrm>
            <a:off x="179280" y="3213000"/>
            <a:ext cx="2222640" cy="1727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size_imageinfo"/>
          <p:cNvPicPr/>
          <p:nvPr/>
        </p:nvPicPr>
        <p:blipFill>
          <a:blip r:embed="rId5"/>
          <a:stretch/>
        </p:blipFill>
        <p:spPr>
          <a:xfrm>
            <a:off x="2484360" y="1341360"/>
            <a:ext cx="1227240" cy="24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1463760" y="1682640"/>
            <a:ext cx="5638680" cy="2657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Основная функция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– долговременное хранение большого объема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0" y="2421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акопитель (дисковод)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– устройство, которое обеспечивает запись/считывание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0" y="508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Информация хранится на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осител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-6480" y="1835280"/>
            <a:ext cx="8705880" cy="3090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4" descr=""/>
          <p:cNvPicPr/>
          <p:nvPr/>
        </p:nvPicPr>
        <p:blipFill>
          <a:blip r:embed="rId1"/>
          <a:stretch/>
        </p:blipFill>
        <p:spPr>
          <a:xfrm>
            <a:off x="262080" y="1352520"/>
            <a:ext cx="84247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5"/>
          <p:cNvSpPr/>
          <p:nvPr/>
        </p:nvSpPr>
        <p:spPr>
          <a:xfrm>
            <a:off x="250920" y="400356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Гибкие диски (дискет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5148360" y="4038480"/>
            <a:ext cx="37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Жесткие диски («винчестеры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 flipH="1">
            <a:off x="2124000" y="2421000"/>
            <a:ext cx="1943280" cy="15112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5219640" y="2421000"/>
            <a:ext cx="1657440" cy="165564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4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гибкий диск 5"/>
          <p:cNvPicPr/>
          <p:nvPr/>
        </p:nvPicPr>
        <p:blipFill>
          <a:blip r:embed="rId2"/>
          <a:stretch/>
        </p:blipFill>
        <p:spPr>
          <a:xfrm>
            <a:off x="250920" y="1197000"/>
            <a:ext cx="1650960" cy="1655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гибкий диск"/>
          <p:cNvPicPr/>
          <p:nvPr/>
        </p:nvPicPr>
        <p:blipFill>
          <a:blip r:embed="rId3"/>
          <a:stretch/>
        </p:blipFill>
        <p:spPr>
          <a:xfrm>
            <a:off x="2411280" y="170028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7"/>
          <p:cNvSpPr/>
          <p:nvPr/>
        </p:nvSpPr>
        <p:spPr>
          <a:xfrm>
            <a:off x="2701800" y="3068640"/>
            <a:ext cx="56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3,5 </a:t>
            </a:r>
            <a:r>
              <a:rPr b="0" sz="1600" spc="-1" strike="noStrike">
                <a:solidFill>
                  <a:srgbClr val="6633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12720" y="306864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5,25 </a:t>
            </a:r>
            <a:r>
              <a:rPr b="0" sz="1600" spc="-1" strike="noStrike">
                <a:solidFill>
                  <a:srgbClr val="6633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3780000" y="1484280"/>
            <a:ext cx="536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1,44 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– 360 об/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– 50 Кб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0" y="472428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1. Предохранять от воздействия магнитных п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2. Предохранять от нагр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3. Предохранять от механических воз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2052720" y="378936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3780000" y="1484280"/>
            <a:ext cx="536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</a:t>
            </a: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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00-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500 Г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– 7200 об/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– 300 Мб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0" y="4724280"/>
            <a:ext cx="9144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2080" indent="-26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1. Предохранять от воздействия магнитных п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2080" indent="-26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2. Предохранять от уд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2080" indent="-26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3. Предохранять от резких изменений пространственной ориентации в процесс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2052720" y="378936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1" descr="винчестер"/>
          <p:cNvPicPr/>
          <p:nvPr/>
        </p:nvPicPr>
        <p:blipFill>
          <a:blip r:embed="rId2"/>
          <a:stretch/>
        </p:blipFill>
        <p:spPr>
          <a:xfrm>
            <a:off x="179280" y="1413000"/>
            <a:ext cx="3743280" cy="198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3" name="Приложение2.avi" descr=""/>
          <p:cNvPicPr/>
          <p:nvPr/>
        </p:nvPicPr>
        <p:blipFill>
          <a:blip r:embed="rId2"/>
          <a:stretch/>
        </p:blipFill>
        <p:spPr>
          <a:xfrm>
            <a:off x="3124080" y="267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200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62080" y="1079640"/>
            <a:ext cx="8424720" cy="11509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250920" y="3728880"/>
            <a:ext cx="349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(Compact Dis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4716360" y="3763800"/>
            <a:ext cx="421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DV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(Digital Video Dis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 flipH="1">
            <a:off x="2124000" y="2146320"/>
            <a:ext cx="1943280" cy="15112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"/>
          <p:cNvSpPr/>
          <p:nvPr/>
        </p:nvSpPr>
        <p:spPr>
          <a:xfrm>
            <a:off x="5219640" y="2146320"/>
            <a:ext cx="1657440" cy="165564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7"/>
          <p:cNvSpPr/>
          <p:nvPr/>
        </p:nvSpPr>
        <p:spPr>
          <a:xfrm>
            <a:off x="4572000" y="1484280"/>
            <a:ext cx="4572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700 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ссчитаны на использовани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нфракрасного лазера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длиной волны 780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едохранять от механических воздействий, прямых солнечных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2052720" y="56610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0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464000" cy="3513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9:01:32Z</dcterms:created>
  <dc:creator>Masha</dc:creator>
  <dc:description/>
  <dc:language>en-US</dc:language>
  <cp:lastModifiedBy>annaysh</cp:lastModifiedBy>
  <dcterms:modified xsi:type="dcterms:W3CDTF">2012-06-14T22:23:48Z</dcterms:modified>
  <cp:revision>17</cp:revision>
  <dc:subject/>
  <dc:title>Внешняя  (долговременная)  память</dc:title>
</cp:coreProperties>
</file>