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6A6-22A5-47AB-B5D8-83545A9A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685-CD17-499D-8E81-49C7F7D0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1B52F-5281-4D45-881E-62B8198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9D234-7BAD-4760-98F5-DCDEFA1F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52C44-55E2-4874-A6EB-3553758C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017A9-BC37-4D9C-BE82-AEC943FD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EFD12-BFED-4B8A-B4D9-CA4A5061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52205-AF42-4BA5-A4D0-A0DB62F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E7652-98DF-41BC-A9C4-95529E9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CAA60-9CAA-459F-90FF-748075DD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337C6-5331-4569-B284-45FB748A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DFE-3964-4FC0-A1D6-84918BC2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628-561D-4098-B7F7-AA8D8E40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918F-5FFE-41C6-ABBA-B362AE9A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DF94-6150-46FC-BF23-3B36675E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3CC5-EDFE-4AC2-80A0-9044364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BD9-65EE-45A2-9503-BD9696E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23C0-87C2-4203-B5D6-009333D0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82E3-A28F-4E52-90AC-57078989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9D96-372E-4810-902D-4FDDD56F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987-D2F3-43F7-B238-9E48B281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6CB7-DB1D-4376-AB44-DE568794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0CBB-F801-418A-9C3C-1DD0257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4027-75EE-4265-9DE5-F97E27C8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2BF1-4DE3-4A2D-8EB3-70EB3D1E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1C75-26AE-4080-A757-B769E836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1973-2D96-4F3B-A380-EC5083F6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8A7F8-AEC2-4F0A-A774-52A1430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C198-1E88-430E-BFB3-6EEC88B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D67F-22B2-4B21-80DD-0B234DB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B1D6-2DC3-43C2-BCF2-8D62547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364-2D62-4104-8231-376B19AA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127E-3344-4BDD-9885-38C123D1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C714-22C3-457E-9D79-9B18489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DD967-8A72-48DF-AE98-4FB087D8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5BCE-D759-43FB-9397-1BCE6B08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9B0A-DE62-4CE3-B89A-0362DFD3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4718-BA67-4F51-8560-F9CCBB74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92B4-B6D9-453A-9DAC-9025223A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7BFF-292D-441F-92D1-3061D13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7A4E7-8D3A-42C1-AF96-C7EB04F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A612-8096-4093-9446-A22D6E67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5312-A478-41C9-B52E-CBD95240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B2C4-6198-4799-A739-43A008E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E3BF-396B-4D91-8B94-EA09B8E4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928D5-D592-4A3A-8456-67C0D0E0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93AE5-C3A9-4375-B470-0C6D389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401EB-A26C-43DC-B188-8C57817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F1B4-2984-4070-9AD7-B3A4C0E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F1B8-5E77-4F38-AAB5-596E7AD2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6BFF-5486-4F9B-A37D-5375E23C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BCBA-9772-4688-BC08-D6B00D4F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0874D-14EC-4690-8FD6-0E063476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C58-BF8D-4C8C-884C-A0D1A929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821AF-B811-41B2-A7F1-A9062B9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B45D-626F-4E5D-8F79-C1F4E42F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9991-1E9F-4908-B3C3-53516A9D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FB60-C1B2-4764-91ED-651ED1B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7B754-F021-4DC4-9FC1-2202F1B8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70C4-AA07-4F78-84DE-9D3187A3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0E9C-05B7-4C9D-B2F5-AB7A888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6613-DDEA-46DA-AE60-2FB360B3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D4EA-DC8C-49F7-97DB-2644B5F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23141-808E-40C2-9E0A-C18A1FA8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678-89C7-4CFE-A195-F23DDAFE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06C41-5831-4F82-A62A-CA6E4558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676A2-A428-4B8C-887E-B6F9EA9C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9B5C6-4C69-4303-86F4-6E8AE7A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6D45-70BB-4379-AB5E-EAD002D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C0CB-7A18-4167-BA39-F4B13D3E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EFF26-6792-4CCB-909F-1E5E86FC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A67E7-B420-4BCF-A32A-8006F1B0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0F899-A94B-4A6F-BCC3-2F33135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4980-1B2A-4FFE-BAE8-57A08C6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3C820-2E5B-45EC-B8F4-047213E2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DD6-1E96-4D1C-A07E-CF430823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F81C9-F911-4AC6-847A-A2240B38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A468B-08B9-4DED-B167-E0F6A690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ED23F-DCC9-4198-AD1D-E371F9DC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08ECD-00C8-4965-B816-7E9D5F81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8AD7B-9D66-4B4A-B6A9-90DB3F9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C409-2718-4876-8F36-66AF3CE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B53A-78B7-439D-AFF9-4740ED5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12A3-DF39-4EC4-9362-20A49E0D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16A5-82B7-4106-9BA4-87ADA2A9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777E-D39E-4AB3-A45F-AB03BBA6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735-2C0B-4800-AF10-2118EE9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76EB8-4F9D-42AF-B05D-66DE609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BBD15-A682-4884-8BE6-165A0F4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33335-50B2-4DC9-9CEB-35FF2E1C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5E96A-227D-4FE9-9276-CFE2DDCE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DA3E-AADF-4C61-B528-F719A512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8DA3-2C7A-40C9-97D9-353C9B0F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8857-2C8E-4E15-B5A1-1EC1D0FF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E370F-C30C-4D10-81CA-89ADA84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FA746-7254-48AE-B5DA-AAF2B3EE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166FB-A34C-494E-A248-667B7B9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226-95FF-4474-9F3A-3639691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58109-F50D-43EE-A5E3-0BBF970E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392F0-30C9-4711-B5A7-969B2BB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3FD3C-6CBF-4AD2-A9F9-7BD4BB9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E40C-C50B-4AF8-B965-77436AA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5334C-529C-4876-B757-9FF59CB0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439CA-DF22-489C-877F-AC464EC7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D8B81-FD65-4B8F-9C5D-B84CF024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8C1C0-9DF1-43AB-8BFE-9FC9496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E34F1-6BEE-410B-BC9A-B2FDC7DC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99260-D0C0-4A4B-8934-186F0715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33D9-A428-4CFE-BA70-4CB10B388B3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576A-AB22-4D75-8746-881CBE22DD4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4CAE-80B2-4336-A703-BBF70B38F4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7FDB-A439-4EFF-B655-44CE6428381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C139-B1B0-4D1D-A705-A1314016966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964-CD40-457D-9345-8193ACC3FD2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D212-292D-483B-A87B-3E22B09902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5912-C388-48AE-9F6A-EEC9CB04435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6B2-5618-4259-9D58-9AC9A9461E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347760" y="523800"/>
            <a:ext cx="10283760" cy="535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4572000" y="1484280"/>
            <a:ext cx="4572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Гб, двухслойные – 8,5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расно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650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3462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3"/>
          <p:cNvSpPr/>
          <p:nvPr/>
        </p:nvSpPr>
        <p:spPr>
          <a:xfrm>
            <a:off x="4932360" y="1484280"/>
            <a:ext cx="4211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4-23,5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ине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405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013623"/>
          <p:cNvPicPr/>
          <p:nvPr/>
        </p:nvPicPr>
        <p:blipFill>
          <a:blip r:embed="rId2"/>
          <a:stretch/>
        </p:blipFill>
        <p:spPr>
          <a:xfrm>
            <a:off x="179280" y="1773360"/>
            <a:ext cx="4762440" cy="2523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Comparison-lasers-350x185"/>
          <p:cNvPicPr/>
          <p:nvPr/>
        </p:nvPicPr>
        <p:blipFill>
          <a:blip r:embed="rId1"/>
          <a:stretch/>
        </p:blipFill>
        <p:spPr>
          <a:xfrm>
            <a:off x="179280" y="1109520"/>
            <a:ext cx="8856720" cy="467676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1332000" y="40464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851280" y="404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6372360" y="40464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HD DV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68000" y="2276280"/>
            <a:ext cx="867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OM, DVD-ROM (Read Only Memory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, DVD</a:t>
            </a:r>
            <a:r>
              <a:rPr b="0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R (Recordable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W, DVD</a:t>
            </a:r>
            <a:r>
              <a:rPr b="0" lang="en-US" sz="32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RW (ReWritable)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4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Первые 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-дисководы имели скорость 150 Кб/с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Современные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 CD-Rx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52 – до 7,8 Мб/с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Современные </a:t>
            </a:r>
            <a:r>
              <a:rPr b="0" lang="en-US" sz="3200" spc="-1" strike="noStrike">
                <a:solidFill>
                  <a:srgbClr val="663300"/>
                </a:solidFill>
                <a:latin typeface="Century Gothic"/>
              </a:rPr>
              <a:t>CD-RW</a:t>
            </a:r>
            <a:r>
              <a:rPr b="0" lang="ru-RU" sz="3200" spc="-1" strike="noStrike">
                <a:solidFill>
                  <a:srgbClr val="663300"/>
                </a:solidFill>
                <a:latin typeface="Century Gothic"/>
              </a:rPr>
              <a:t> – 52х52х32</a:t>
            </a:r>
            <a:endParaRPr b="0" lang="en-US" sz="32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2968920" y="416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4502160" y="48690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D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6389640" y="566100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D-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9"/>
          <p:cNvSpPr/>
          <p:nvPr/>
        </p:nvSpPr>
        <p:spPr>
          <a:xfrm flipV="1">
            <a:off x="4500720" y="3789000"/>
            <a:ext cx="1150920" cy="43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0"/>
          <p:cNvSpPr/>
          <p:nvPr/>
        </p:nvSpPr>
        <p:spPr>
          <a:xfrm flipV="1">
            <a:off x="5724360" y="3789000"/>
            <a:ext cx="574920" cy="1079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1"/>
          <p:cNvSpPr/>
          <p:nvPr/>
        </p:nvSpPr>
        <p:spPr>
          <a:xfrm flipH="1" flipV="1">
            <a:off x="7017840" y="3789000"/>
            <a:ext cx="1009800" cy="187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Первые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DVD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-дисководы имели скорость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1,3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 Мб/с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Современные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 DVD-Rx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16 – до 21 Мб/с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Современные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DVD-RW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 – 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16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х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8</a:t>
            </a:r>
            <a:r>
              <a:rPr b="0" lang="ru-RU" sz="3000" spc="-1" strike="noStrike">
                <a:solidFill>
                  <a:srgbClr val="663300"/>
                </a:solidFill>
                <a:latin typeface="Century Gothic"/>
              </a:rPr>
              <a:t>х</a:t>
            </a:r>
            <a:r>
              <a:rPr b="0" lang="en-US" sz="3000" spc="-1" strike="noStrike">
                <a:solidFill>
                  <a:srgbClr val="663300"/>
                </a:solidFill>
                <a:latin typeface="Century Gothic"/>
              </a:rPr>
              <a:t>6</a:t>
            </a:r>
            <a:endParaRPr b="0" lang="en-US" sz="3000" spc="-1" strike="noStrike">
              <a:solidFill>
                <a:srgbClr val="4e3b30"/>
              </a:solidFill>
              <a:latin typeface="Century Gothic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2968920" y="41688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ч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474440" y="486576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VD</a:t>
            </a:r>
            <a:r>
              <a:rPr b="0" lang="en-US" sz="18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6159960" y="5661000"/>
            <a:ext cx="30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корость записи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VD</a:t>
            </a:r>
            <a:r>
              <a:rPr b="0" lang="en-US" sz="1800" spc="-1" strike="noStrike">
                <a:solidFill>
                  <a:srgbClr val="6633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7"/>
          <p:cNvSpPr/>
          <p:nvPr/>
        </p:nvSpPr>
        <p:spPr>
          <a:xfrm flipV="1">
            <a:off x="4500720" y="3789000"/>
            <a:ext cx="1511280" cy="43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 flipV="1">
            <a:off x="5724360" y="3789000"/>
            <a:ext cx="792360" cy="1079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 flipH="1" flipV="1">
            <a:off x="7017840" y="3789000"/>
            <a:ext cx="1009800" cy="1871640"/>
          </a:xfrm>
          <a:prstGeom prst="line">
            <a:avLst/>
          </a:prstGeom>
          <a:ln w="284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33200" y="768240"/>
            <a:ext cx="8626680" cy="4748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usbflash"/>
          <p:cNvPicPr/>
          <p:nvPr/>
        </p:nvPicPr>
        <p:blipFill>
          <a:blip r:embed="rId1"/>
          <a:stretch/>
        </p:blipFill>
        <p:spPr>
          <a:xfrm>
            <a:off x="468360" y="1341360"/>
            <a:ext cx="2808360" cy="26240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1212517190_180px-flash_memory_cards_size"/>
          <p:cNvPicPr/>
          <p:nvPr/>
        </p:nvPicPr>
        <p:blipFill>
          <a:blip r:embed="rId2"/>
          <a:stretch/>
        </p:blipFill>
        <p:spPr>
          <a:xfrm>
            <a:off x="684360" y="4149720"/>
            <a:ext cx="2393640" cy="2540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8"/>
          <p:cNvSpPr/>
          <p:nvPr/>
        </p:nvSpPr>
        <p:spPr>
          <a:xfrm>
            <a:off x="3564000" y="1916280"/>
            <a:ext cx="55800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128 Мб - 16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Значение скорости считывания/записи находится между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и НЖМ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в течение 20-100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Выдерживают механические нагрузки, превышающие в 5-10 раз допустимые для жестких д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требляет в 10-20 раз меньше электроэнергии, чем магнитные и оптические  накопите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Rectangle 9" descr=""/>
          <p:cNvPicPr/>
          <p:nvPr/>
        </p:nvPicPr>
        <p:blipFill>
          <a:blip r:embed="rId3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3564000" y="1989000"/>
            <a:ext cx="5580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едоста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Нет единого стандарта на изгот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Нужны специальные накопители (картридеры) или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USB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по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Rectangle 5" descr=""/>
          <p:cNvPicPr/>
          <p:nvPr/>
        </p:nvPicPr>
        <p:blipFill>
          <a:blip r:embed="rId1"/>
          <a:stretch/>
        </p:blipFill>
        <p:spPr>
          <a:xfrm>
            <a:off x="2505240" y="334800"/>
            <a:ext cx="8881920" cy="10004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3564000" y="4581360"/>
            <a:ext cx="55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7" descr="2086_3"/>
          <p:cNvPicPr/>
          <p:nvPr/>
        </p:nvPicPr>
        <p:blipFill>
          <a:blip r:embed="rId2"/>
          <a:stretch/>
        </p:blipFill>
        <p:spPr>
          <a:xfrm>
            <a:off x="539640" y="5157720"/>
            <a:ext cx="2340000" cy="14623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67c5311500636d88f8ae3dd29d8834ea"/>
          <p:cNvPicPr/>
          <p:nvPr/>
        </p:nvPicPr>
        <p:blipFill>
          <a:blip r:embed="rId3"/>
          <a:stretch/>
        </p:blipFill>
        <p:spPr>
          <a:xfrm>
            <a:off x="395280" y="333360"/>
            <a:ext cx="1954080" cy="2421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armi"/>
          <p:cNvPicPr/>
          <p:nvPr/>
        </p:nvPicPr>
        <p:blipFill>
          <a:blip r:embed="rId4"/>
          <a:stretch/>
        </p:blipFill>
        <p:spPr>
          <a:xfrm>
            <a:off x="179280" y="3213000"/>
            <a:ext cx="2222640" cy="17272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size_imageinfo"/>
          <p:cNvPicPr/>
          <p:nvPr/>
        </p:nvPicPr>
        <p:blipFill>
          <a:blip r:embed="rId5"/>
          <a:stretch/>
        </p:blipFill>
        <p:spPr>
          <a:xfrm>
            <a:off x="2484360" y="1341360"/>
            <a:ext cx="1227240" cy="242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1463760" y="1682640"/>
            <a:ext cx="5638680" cy="2657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4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Основная функция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– долговременное хранение большого объема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0" y="2421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акопитель (дисковод)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 – устройство, которое обеспечивает запись/считывание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0" y="508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Информация хранится на </a:t>
            </a: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носител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-6480" y="1835280"/>
            <a:ext cx="8705880" cy="3090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4" descr=""/>
          <p:cNvPicPr/>
          <p:nvPr/>
        </p:nvPicPr>
        <p:blipFill>
          <a:blip r:embed="rId1"/>
          <a:stretch/>
        </p:blipFill>
        <p:spPr>
          <a:xfrm>
            <a:off x="262080" y="1352520"/>
            <a:ext cx="84247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5"/>
          <p:cNvSpPr/>
          <p:nvPr/>
        </p:nvSpPr>
        <p:spPr>
          <a:xfrm>
            <a:off x="250920" y="400356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Гибкие диски (дискет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5148360" y="4038480"/>
            <a:ext cx="37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Жесткие диски («винчестеры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7"/>
          <p:cNvSpPr/>
          <p:nvPr/>
        </p:nvSpPr>
        <p:spPr>
          <a:xfrm flipH="1">
            <a:off x="2124000" y="2421000"/>
            <a:ext cx="1943280" cy="15112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5219640" y="2421000"/>
            <a:ext cx="1657440" cy="1655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4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гибкий диск 5"/>
          <p:cNvPicPr/>
          <p:nvPr/>
        </p:nvPicPr>
        <p:blipFill>
          <a:blip r:embed="rId2"/>
          <a:stretch/>
        </p:blipFill>
        <p:spPr>
          <a:xfrm>
            <a:off x="250920" y="1197000"/>
            <a:ext cx="1650960" cy="165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гибкий диск"/>
          <p:cNvPicPr/>
          <p:nvPr/>
        </p:nvPicPr>
        <p:blipFill>
          <a:blip r:embed="rId3"/>
          <a:stretch/>
        </p:blipFill>
        <p:spPr>
          <a:xfrm>
            <a:off x="2411280" y="1700280"/>
            <a:ext cx="1116000" cy="111600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7"/>
          <p:cNvSpPr/>
          <p:nvPr/>
        </p:nvSpPr>
        <p:spPr>
          <a:xfrm>
            <a:off x="2701800" y="3068640"/>
            <a:ext cx="56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3,5 </a:t>
            </a:r>
            <a:r>
              <a:rPr b="0" sz="1600" spc="-1" strike="noStrike">
                <a:solidFill>
                  <a:srgbClr val="6633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612720" y="306864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5,25 </a:t>
            </a:r>
            <a:r>
              <a:rPr b="0" sz="1600" spc="-1" strike="noStrike">
                <a:solidFill>
                  <a:srgbClr val="6633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3780000" y="1484280"/>
            <a:ext cx="536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1,44 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– 360 об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– 50 Кб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0" y="472428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Предохранять от воздействия магнитных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Предохранять от наг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3. Предохранять от механических воз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052720" y="37893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3780000" y="1484280"/>
            <a:ext cx="536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</a:t>
            </a:r>
            <a:r>
              <a:rPr b="0" lang="en-US" sz="2000" spc="-1" strike="noStrike">
                <a:solidFill>
                  <a:srgbClr val="663300"/>
                </a:solidFill>
                <a:latin typeface="Symbol"/>
                <a:ea typeface="Symbol"/>
              </a:rPr>
              <a:t>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00-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500 Г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– 7200 об/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– 300 Мб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0" y="472428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1. Предохранять от воздействия магнитных п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2. Предохранять от уда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2080" indent="-26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3. Предохранять от резких изменений пространственной ориентации в процессе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2052720" y="378936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1" descr="винчестер"/>
          <p:cNvPicPr/>
          <p:nvPr/>
        </p:nvPicPr>
        <p:blipFill>
          <a:blip r:embed="rId2"/>
          <a:stretch/>
        </p:blipFill>
        <p:spPr>
          <a:xfrm>
            <a:off x="179280" y="1413000"/>
            <a:ext cx="3743280" cy="198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3" name="Приложение2.avi" descr=""/>
          <p:cNvPicPr/>
          <p:nvPr/>
        </p:nvPicPr>
        <p:blipFill>
          <a:blip r:embed="rId2"/>
          <a:stretch/>
        </p:blipFill>
        <p:spPr>
          <a:xfrm>
            <a:off x="3124080" y="267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200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262080" y="1079640"/>
            <a:ext cx="8424720" cy="1150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3"/>
          <p:cNvSpPr/>
          <p:nvPr/>
        </p:nvSpPr>
        <p:spPr>
          <a:xfrm>
            <a:off x="250920" y="3728880"/>
            <a:ext cx="349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(Compact Dis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4716360" y="3763800"/>
            <a:ext cx="421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DV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(Digital Video Dis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 flipH="1">
            <a:off x="2124000" y="2146320"/>
            <a:ext cx="1943280" cy="151128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5219640" y="2146320"/>
            <a:ext cx="1657440" cy="1655640"/>
          </a:xfrm>
          <a:prstGeom prst="line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7"/>
          <p:cNvSpPr/>
          <p:nvPr/>
        </p:nvSpPr>
        <p:spPr>
          <a:xfrm>
            <a:off x="4572000" y="1484280"/>
            <a:ext cx="45720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Информационная емкость – 700 М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вращения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корость считывания/записи зависит от накоп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Рассчитаны на использование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инфракрасного лазер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с длиной волны 780 н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0" y="6237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редохранять от механических воздействий, прямых солнечных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2052720" y="5661000"/>
            <a:ext cx="48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Меры по сохранению носи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0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464000" cy="3513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9:01:32Z</dcterms:created>
  <dc:creator>Masha</dc:creator>
  <dc:description/>
  <dc:language>en-US</dc:language>
  <cp:lastModifiedBy>annaysh</cp:lastModifiedBy>
  <dcterms:modified xsi:type="dcterms:W3CDTF">2012-06-14T22:23:48Z</dcterms:modified>
  <cp:revision>17</cp:revision>
  <dc:subject/>
  <dc:title>Внешняя  (долговременная)  память</dc:title>
</cp:coreProperties>
</file>