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7515-E235-4E01-AF33-04DF9162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D7E1-5A26-465B-A6AF-C03671A2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D4E3-7135-48E4-A38B-1A27332E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0DBA-C765-4EC4-9F35-90CB023C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543E4-5CE8-45A8-9668-F9F99D11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A832E-8C94-4E40-95F7-32917A90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3E2DC-025E-4A09-9242-FC413024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19D3F-96A2-44A8-8CB2-8CE369D0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0A8EF-D4DD-4827-BBF2-701C98D8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98381-19C1-4400-A966-372AB157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F2698-56E5-4032-83FF-847C4BAE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F3F-BD0D-4D4A-884D-ABD03835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225B5-B3D4-4B6B-AA3C-9E3A8C96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EDFE4-F238-42D3-BCD8-8238422A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5177D-06FE-4A89-A289-DCE09271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39527-2D3D-436D-A829-2BA314C7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72BDD-843D-4349-AF37-8CE1805E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6AF-A19C-4EE4-B8C2-B34748B9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385-655B-4F1A-A3E9-A299530F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5A20-4427-40ED-9779-0477DBC3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083-52A3-46AC-907D-374DAE34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AA37-D128-492F-BFC8-7C3B7204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B07-26D9-4AF5-822A-942739D3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447-7D98-4EA6-A04A-C0890205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F4C4-E1FD-4009-B7C0-45347D840A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A6CA-D0B7-492A-83A6-CFAE358FFF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95280" y="4292280"/>
            <a:ext cx="8424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Опыт рабо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оспитателя первой категории Поляниной Елены Иванов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404640"/>
            <a:ext cx="83930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99ff33"/>
                    </a:gs>
                  </a:gsLst>
                  <a:lin ang="5400000"/>
                </a:gradFill>
                <a:latin typeface="Impact"/>
              </a:rPr>
              <a:t>Муниципальное бюджетное дошкольное образовательное учрежден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99ff33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99ff33"/>
                    </a:gs>
                  </a:gsLst>
                  <a:lin ang="5400000"/>
                </a:gradFill>
                <a:latin typeface="Impact"/>
              </a:rPr>
              <a:t>детский сад комбинированного вида №32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99ff33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99ff33"/>
                    </a:gs>
                  </a:gsLst>
                  <a:lin ang="5400000"/>
                </a:gradFill>
                <a:latin typeface="Impact"/>
              </a:rPr>
              <a:t>"Лесная сказка"  г. Пролетарс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99ff33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0920" y="3121200"/>
            <a:ext cx="85690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ff99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Нетрадиционные техники рисован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ff99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81120" y="2394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4390" y="6648"/>
                </a:moveTo>
                <a:lnTo>
                  <a:pt x="4390" y="6648"/>
                </a:ln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5075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Перспективное планиров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905120"/>
          <a:ext cx="8229600" cy="3940200"/>
        </p:xfrm>
        <a:graphic>
          <a:graphicData uri="http://schemas.openxmlformats.org/drawingml/2006/table">
            <a:tbl>
              <a:tblPr/>
              <a:tblGrid>
                <a:gridCol w="382680"/>
                <a:gridCol w="965160"/>
                <a:gridCol w="1168200"/>
                <a:gridCol w="2230560"/>
                <a:gridCol w="2421000"/>
                <a:gridCol w="106200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радиционны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хни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ное содержа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орудова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Ветка мимозы»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сование ватными палочка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жнять в рисовании ватными палочками. Развивать чувство композиции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умажный лист формата А4,  ветка мимозы, гуашь желтого и зеленого цвета, кисти, эскизы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Петушок»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чать от руки, рисование пальчиками ру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олжить знакомить с пальцевой живописью, печатание ладошкой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умажный лист формата А4, гуашь, влажные салфетки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Я рисую море»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сование зубной щетко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звать интерес к созданию образа моря различными нетрадиционными техниками (рисование зубной щеткой). Развивать воображение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умажный лист формата А4, зубные щетки, гуашь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2916360" y="44280"/>
            <a:ext cx="3168360" cy="79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64560" y="26028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Структура заня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557360"/>
            <a:ext cx="1944720" cy="57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557360"/>
            <a:ext cx="1944720" cy="57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59640" y="1557360"/>
            <a:ext cx="1944720" cy="57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6360" y="16542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Ввод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93760" y="16542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Осно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90520" y="164952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Заключит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8527200">
            <a:off x="1632960" y="1025280"/>
            <a:ext cx="1657080" cy="144360"/>
          </a:xfrm>
          <a:prstGeom prst="rightArrow">
            <a:avLst>
              <a:gd name="adj1" fmla="val 50000"/>
              <a:gd name="adj2" fmla="val 28697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322000">
            <a:off x="5866920" y="981000"/>
            <a:ext cx="1657440" cy="144360"/>
          </a:xfrm>
          <a:prstGeom prst="rightArrow">
            <a:avLst>
              <a:gd name="adj1" fmla="val 50000"/>
              <a:gd name="adj2" fmla="val 28703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4176000" y="1161360"/>
            <a:ext cx="720720" cy="71280"/>
          </a:xfrm>
          <a:prstGeom prst="rightArrow">
            <a:avLst>
              <a:gd name="adj1" fmla="val 50000"/>
              <a:gd name="adj2" fmla="val 25277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116000" y="2924280"/>
            <a:ext cx="2951280" cy="2319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932360" y="2852640"/>
            <a:ext cx="324000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-252360" y="4797000"/>
            <a:ext cx="2952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3132000" y="2637000"/>
            <a:ext cx="2880000" cy="18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7040" y="981000"/>
            <a:ext cx="2808360" cy="1224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4941720"/>
            <a:ext cx="2808360" cy="1224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808360" cy="1224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981000"/>
            <a:ext cx="2808360" cy="1224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8680" y="3284640"/>
            <a:ext cx="27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ПРИНЦИП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760" y="141300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От простого к сложно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65600" y="14130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Нагляд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7280" y="5157720"/>
            <a:ext cx="2324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Принцип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индивидуа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31960" y="5086440"/>
            <a:ext cx="1976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Связь обу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с жизнью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3005400">
            <a:off x="2592000" y="2384280"/>
            <a:ext cx="1079640" cy="289080"/>
          </a:xfrm>
          <a:prstGeom prst="leftArrow">
            <a:avLst>
              <a:gd name="adj1" fmla="val 50000"/>
              <a:gd name="adj2" fmla="val 9336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3579200">
            <a:off x="5472000" y="4473360"/>
            <a:ext cx="1079280" cy="289080"/>
          </a:xfrm>
          <a:prstGeom prst="leftArrow">
            <a:avLst>
              <a:gd name="adj1" fmla="val 50000"/>
              <a:gd name="adj2" fmla="val 9333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8904200">
            <a:off x="2629080" y="4508640"/>
            <a:ext cx="1079280" cy="288720"/>
          </a:xfrm>
          <a:prstGeom prst="leftArrow">
            <a:avLst>
              <a:gd name="adj1" fmla="val 50000"/>
              <a:gd name="adj2" fmla="val 9345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7516800">
            <a:off x="5327280" y="2311200"/>
            <a:ext cx="1079280" cy="289080"/>
          </a:xfrm>
          <a:prstGeom prst="leftArrow">
            <a:avLst>
              <a:gd name="adj1" fmla="val 50000"/>
              <a:gd name="adj2" fmla="val 9333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9640" y="263700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300720" y="2565360"/>
            <a:ext cx="24843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291600"/>
            <a:ext cx="889308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Встреча с необычным, интересным на занят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3384720" cy="2789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716360" y="2421000"/>
            <a:ext cx="3780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Нетрадиционные техники рис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116000" y="981000"/>
            <a:ext cx="7316640" cy="54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26920" y="692280"/>
            <a:ext cx="74170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900000" y="836640"/>
            <a:ext cx="7317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4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317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5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900000" y="765000"/>
            <a:ext cx="7317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7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7317000" cy="54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8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4360" y="33336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Book Antiqua"/>
              </a:rPr>
              <a:t>Ум ребенка -на кончиках его пальце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Book Antiqua"/>
              </a:rPr>
              <a:t>                             </a:t>
            </a:r>
            <a:r>
              <a:rPr b="1" i="1" lang="en-US" sz="2000" spc="-1" strike="noStrike">
                <a:solidFill>
                  <a:srgbClr val="ffff00"/>
                </a:solidFill>
                <a:latin typeface="Book Antiqua"/>
              </a:rPr>
              <a:t>В.И.Сухомлинск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63640" y="2060640"/>
            <a:ext cx="5616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900000" y="836640"/>
            <a:ext cx="7317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9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900000" y="765000"/>
            <a:ext cx="7317000" cy="54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0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3311640" cy="2808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643280" y="1916280"/>
            <a:ext cx="3549960" cy="28065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76560" y="60480"/>
            <a:ext cx="49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Выставка детских рабо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19640" y="2997360"/>
            <a:ext cx="230328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32000" y="5084640"/>
            <a:ext cx="2808360" cy="136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3573360"/>
            <a:ext cx="280836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96000" y="333360"/>
            <a:ext cx="280836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87280" y="260280"/>
            <a:ext cx="2808360" cy="1368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53960" y="3284640"/>
            <a:ext cx="98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ИЗ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79840" y="76500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Матема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4680" y="3933720"/>
            <a:ext cx="209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Художествен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литерату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16200" y="620640"/>
            <a:ext cx="194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Ознакомл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с окружающи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мир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45360" y="5589720"/>
            <a:ext cx="18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Развитие ре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3796400">
            <a:off x="2498760" y="2128680"/>
            <a:ext cx="1766880" cy="338400"/>
          </a:xfrm>
          <a:prstGeom prst="rightArrow">
            <a:avLst>
              <a:gd name="adj1" fmla="val 50000"/>
              <a:gd name="adj2" fmla="val 13053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902000">
            <a:off x="5570280" y="3754080"/>
            <a:ext cx="576000" cy="322200"/>
          </a:xfrm>
          <a:prstGeom prst="rightArrow">
            <a:avLst>
              <a:gd name="adj1" fmla="val 50000"/>
              <a:gd name="adj2" fmla="val 4469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9154200">
            <a:off x="3049560" y="375408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8555000">
            <a:off x="5015520" y="2192400"/>
            <a:ext cx="1800360" cy="328680"/>
          </a:xfrm>
          <a:prstGeom prst="rightArrow">
            <a:avLst>
              <a:gd name="adj1" fmla="val 50000"/>
              <a:gd name="adj2" fmla="val 13693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4720" y="3500280"/>
            <a:ext cx="2808360" cy="136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 rot="10855800">
            <a:off x="7019280" y="4005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Музы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4122000" y="4382280"/>
            <a:ext cx="900000" cy="288720"/>
          </a:xfrm>
          <a:prstGeom prst="rightArrow">
            <a:avLst>
              <a:gd name="adj1" fmla="val 50000"/>
              <a:gd name="adj2" fmla="val 7793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837080" y="260280"/>
            <a:ext cx="70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Взаимосвязь с логопедическими заняти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3276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32511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В результа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439272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озрос интерес к нетрадиционным техникам рисо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Рисунки стали интереснее, содержательне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Дети обрели уверенность в себ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Возрос интерес к занятиям по ИЗО и желание рисова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3744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042920" y="1844640"/>
            <a:ext cx="7561440" cy="20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спехов в работе!!!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Влияние изобразительной деятельности на всестороннее развитие ребе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3284640"/>
            <a:ext cx="3024000" cy="1800000"/>
          </a:xfrm>
          <a:prstGeom prst="ellipse">
            <a:avLst/>
          </a:prstGeom>
          <a:gradFill rotWithShape="0">
            <a:gsLst>
              <a:gs pos="0">
                <a:srgbClr val="00ffcc"/>
              </a:gs>
              <a:gs pos="100000">
                <a:srgbClr val="00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48000" y="3860640"/>
            <a:ext cx="23446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ОБРАЗИТЕЛЬ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59280" y="1773360"/>
            <a:ext cx="2376720" cy="934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925720"/>
            <a:ext cx="2376360" cy="934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1846440"/>
            <a:ext cx="2376360" cy="934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2998800"/>
            <a:ext cx="2376360" cy="934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16720" y="4294080"/>
            <a:ext cx="2376360" cy="93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4365720"/>
            <a:ext cx="2376360" cy="934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32360" y="5589720"/>
            <a:ext cx="2376360" cy="934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5589720"/>
            <a:ext cx="2376720" cy="934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83800" y="2054160"/>
            <a:ext cx="26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мственное развит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66040" y="2054160"/>
            <a:ext cx="25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ворческое разви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07160" y="3068640"/>
            <a:ext cx="21132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знаватель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ви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21400" y="458136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удовое разви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48800" y="5734080"/>
            <a:ext cx="1755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стет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спит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37600" y="5734080"/>
            <a:ext cx="20811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моциональ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ви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680" y="4508640"/>
            <a:ext cx="2178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витие мел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тор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7200" y="3141720"/>
            <a:ext cx="1788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равстве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зви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8231000">
            <a:off x="5216400" y="3011040"/>
            <a:ext cx="863280" cy="114480"/>
          </a:xfrm>
          <a:prstGeom prst="rightArrow">
            <a:avLst>
              <a:gd name="adj1" fmla="val 50000"/>
              <a:gd name="adj2" fmla="val 18852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3318800">
            <a:off x="3060360" y="3034800"/>
            <a:ext cx="863640" cy="114480"/>
          </a:xfrm>
          <a:prstGeom prst="rightArrow">
            <a:avLst>
              <a:gd name="adj1" fmla="val 50000"/>
              <a:gd name="adj2" fmla="val 18860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 rot="12538800">
            <a:off x="2580480" y="3715920"/>
            <a:ext cx="576720" cy="71640"/>
          </a:xfrm>
          <a:prstGeom prst="rightArrow">
            <a:avLst>
              <a:gd name="adj1" fmla="val 50000"/>
              <a:gd name="adj2" fmla="val 20125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9372000">
            <a:off x="2566800" y="4533480"/>
            <a:ext cx="566640" cy="69840"/>
          </a:xfrm>
          <a:prstGeom prst="rightArrow">
            <a:avLst>
              <a:gd name="adj1" fmla="val 50000"/>
              <a:gd name="adj2" fmla="val 20283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8014800">
            <a:off x="3117600" y="5243400"/>
            <a:ext cx="863640" cy="114480"/>
          </a:xfrm>
          <a:prstGeom prst="rightArrow">
            <a:avLst>
              <a:gd name="adj1" fmla="val 50000"/>
              <a:gd name="adj2" fmla="val 18860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2691600">
            <a:off x="5287680" y="5208480"/>
            <a:ext cx="863640" cy="114480"/>
          </a:xfrm>
          <a:prstGeom prst="rightArrow">
            <a:avLst>
              <a:gd name="adj1" fmla="val 50000"/>
              <a:gd name="adj2" fmla="val 18860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9992600">
            <a:off x="5937120" y="3632040"/>
            <a:ext cx="648000" cy="74880"/>
          </a:xfrm>
          <a:prstGeom prst="rightArrow">
            <a:avLst>
              <a:gd name="adj1" fmla="val 50000"/>
              <a:gd name="adj2" fmla="val 21634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50600">
            <a:off x="6002280" y="4502160"/>
            <a:ext cx="576360" cy="93600"/>
          </a:xfrm>
          <a:prstGeom prst="rightArrow">
            <a:avLst>
              <a:gd name="adj1" fmla="val 50000"/>
              <a:gd name="adj2" fmla="val 1539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32000" y="333360"/>
            <a:ext cx="3168720" cy="1511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5640" y="2781360"/>
            <a:ext cx="3168720" cy="1511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0360" y="4292640"/>
            <a:ext cx="4392720" cy="20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692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997360"/>
            <a:ext cx="320580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Сформировать у дет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изобразительные навы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и ум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4305240"/>
            <a:ext cx="45003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Пробудить у дет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эмоциональную отзывчив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к окружающему миру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родной природе, событиям наш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6843000">
            <a:off x="1726560" y="2673360"/>
            <a:ext cx="2808360" cy="576360"/>
          </a:xfrm>
          <a:custGeom>
            <a:avLst/>
            <a:gdLst>
              <a:gd name="textAreaLeft" fmla="*/ 438840 w 2808360"/>
              <a:gd name="textAreaRight" fmla="*/ 2457360 w 280836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3358800">
            <a:off x="5565240" y="1906560"/>
            <a:ext cx="1459080" cy="576360"/>
          </a:xfrm>
          <a:custGeom>
            <a:avLst/>
            <a:gdLst>
              <a:gd name="textAreaLeft" fmla="*/ 227880 w 1459080"/>
              <a:gd name="textAreaRight" fmla="*/ 1276920 w 14590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940360" y="4508640"/>
            <a:ext cx="251928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4920" y="4797360"/>
            <a:ext cx="3672000" cy="201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0000" y="189000"/>
            <a:ext cx="3421080" cy="168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8640" y="595440"/>
            <a:ext cx="266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Повысить интере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к изобразитель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1840" y="5229360"/>
            <a:ext cx="300780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Развивать у ни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творческую активнос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желание рисо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89000"/>
            <a:ext cx="2017800" cy="1152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395280" y="404280"/>
            <a:ext cx="1666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це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2050920" y="692280"/>
            <a:ext cx="3529080" cy="287280"/>
          </a:xfrm>
          <a:custGeom>
            <a:avLst/>
            <a:gdLst>
              <a:gd name="textAreaLeft" fmla="*/ 551160 w 3529080"/>
              <a:gd name="textAreaRight" fmla="*/ 3088080 w 3529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4782000">
            <a:off x="-1189080" y="2922480"/>
            <a:ext cx="3745080" cy="287280"/>
          </a:xfrm>
          <a:custGeom>
            <a:avLst/>
            <a:gdLst>
              <a:gd name="textAreaLeft" fmla="*/ 585000 w 3745080"/>
              <a:gd name="textAreaRight" fmla="*/ 3277080 w 3745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3456000" cy="2593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932360" y="360828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rot="16200000">
            <a:off x="6138000" y="1789560"/>
            <a:ext cx="1763640" cy="1584360"/>
          </a:xfrm>
          <a:custGeom>
            <a:avLst/>
            <a:gdLst>
              <a:gd name="textAreaLeft" fmla="*/ 506160 w 1763640"/>
              <a:gd name="textAreaRight" fmla="*/ 1510560 w 1763640"/>
              <a:gd name="textAreaTop" fmla="*/ 1091520 h 1584360"/>
              <a:gd name="textAreaBottom" fmla="*/ 135720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16691"/>
                </a:moveTo>
                <a:lnTo>
                  <a:pt x="6200" y="11782"/>
                </a:lnTo>
                <a:lnTo>
                  <a:pt x="6200" y="14882"/>
                </a:lnTo>
                <a:lnTo>
                  <a:pt x="14882" y="14882"/>
                </a:lnTo>
                <a:lnTo>
                  <a:pt x="14882" y="6200"/>
                </a:lnTo>
                <a:lnTo>
                  <a:pt x="11782" y="6200"/>
                </a:lnTo>
                <a:lnTo>
                  <a:pt x="16691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72000" y="3500280"/>
            <a:ext cx="3672000" cy="201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500280"/>
            <a:ext cx="3672000" cy="201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16560" y="3949560"/>
            <a:ext cx="36144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Изучить соврем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теоретические исследов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по данной пробле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71640" y="4724280"/>
            <a:ext cx="3672000" cy="201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34720" y="5524560"/>
            <a:ext cx="30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Проанализировать сво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де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94120" y="4025880"/>
            <a:ext cx="33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Спроектировать пл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мероприятий для реш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возникшей пробл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826560" y="2060640"/>
            <a:ext cx="1295640" cy="1512720"/>
          </a:xfrm>
          <a:custGeom>
            <a:avLst/>
            <a:gdLst>
              <a:gd name="textAreaLeft" fmla="*/ 431280 w 1295640"/>
              <a:gd name="textAreaRight" fmla="*/ 1046520 w 1295640"/>
              <a:gd name="textAreaTop" fmla="*/ 945360 h 1512720"/>
              <a:gd name="textAreaBottom" fmla="*/ 122184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7652"/>
                </a:moveTo>
                <a:lnTo>
                  <a:pt x="13496" y="17652"/>
                </a:lnTo>
                <a:lnTo>
                  <a:pt x="13496" y="7191"/>
                </a:lnTo>
                <a:lnTo>
                  <a:pt x="9340" y="7191"/>
                </a:lnTo>
                <a:lnTo>
                  <a:pt x="15470" y="0"/>
                </a:lnTo>
                <a:lnTo>
                  <a:pt x="21600" y="7191"/>
                </a:lnTo>
                <a:lnTo>
                  <a:pt x="17444" y="7191"/>
                </a:lnTo>
                <a:lnTo>
                  <a:pt x="174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84720" y="3500280"/>
            <a:ext cx="649080" cy="1224000"/>
          </a:xfrm>
          <a:prstGeom prst="downArrow">
            <a:avLst>
              <a:gd name="adj1" fmla="val 50000"/>
              <a:gd name="adj2" fmla="val 4714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411280" y="1773360"/>
            <a:ext cx="33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9640" y="260280"/>
            <a:ext cx="3672000" cy="2016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20960" y="855720"/>
            <a:ext cx="27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Проявление интерес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к занятиям ИЗ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желание рисов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9800" y="1700280"/>
            <a:ext cx="3959280" cy="2232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18200" y="2131920"/>
            <a:ext cx="384444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Обогатить жизнь ребе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новыми переживания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чувствами в результат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изобразительной деятельности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8360" y="3068640"/>
            <a:ext cx="4464000" cy="334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195640" y="2276640"/>
            <a:ext cx="360360" cy="792000"/>
          </a:xfrm>
          <a:prstGeom prst="downArrow">
            <a:avLst>
              <a:gd name="adj1" fmla="val 50000"/>
              <a:gd name="adj2" fmla="val 5494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8958200">
            <a:off x="4603680" y="4485960"/>
            <a:ext cx="2486160" cy="431640"/>
          </a:xfrm>
          <a:prstGeom prst="leftArrow">
            <a:avLst>
              <a:gd name="adj1" fmla="val 50000"/>
              <a:gd name="adj2" fmla="val 14399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Перспективное планиров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382680"/>
                <a:gridCol w="965160"/>
                <a:gridCol w="1168200"/>
                <a:gridCol w="2230560"/>
                <a:gridCol w="2421000"/>
                <a:gridCol w="106200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радиционны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хни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ное содержа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орудова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Я шагаю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 ковру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осенни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стьев»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чатание листьями, набрыз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комить с техникой печатание листьями. Развивать цветовосприятие. Учить смешивать краски прямо на листьях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умажный лист формата А3, опавшие листья, гуашь, кисти, трафареты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нтябр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Осеннее дерево»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тиск печатками (штампами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комить с приемами печати печатками. Развивать чувство композиции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умажный лист формата А3, печатки в форме листьев, гуашь в мисочке, эскизы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тябр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Поздня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ень»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льцевая живопись, печать от ру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комить детей с пальцевой живописью, печатания ладошкой. Учить быстро наносить краску на ладошку и делать отпечатки. Развивать цветовосприятие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умажный лист формата А4, гуашь, кисточка, эскизы, влажные салфетки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ябр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Перспективное планиров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905120"/>
          <a:ext cx="8229600" cy="4100400"/>
        </p:xfrm>
        <a:graphic>
          <a:graphicData uri="http://schemas.openxmlformats.org/drawingml/2006/table">
            <a:tbl>
              <a:tblPr/>
              <a:tblGrid>
                <a:gridCol w="382680"/>
                <a:gridCol w="965160"/>
                <a:gridCol w="1168200"/>
                <a:gridCol w="2230560"/>
                <a:gridCol w="2421000"/>
                <a:gridCol w="106200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традиционны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хни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раммное содержа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орудова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Животные, которых я сам придумал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стьев»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яксограф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комить с техникой кляксографии. Развивать воображение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умажный лист формата А4,  гуашь, ложечка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кабр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Волшебные картинки»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сование свечо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комить с техникой рисования свечой. Аккуратно закрашивать лист жидкой краской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ковая свеча, бумажный лист формата А4, цветная вода синего (черного) цвета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Мои любимые рыбки»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сковые мелки и акварель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комить с техникой сочетания восковых мелков и акварели. Учить тонировать лист разными цветами акварели. Развивать цветовосприятие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умажный лист формата А4, восковые мелки, акварель, кисти, эскизы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врал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7:27:19Z</dcterms:created>
  <dc:creator>Полянина Е.И.</dc:creator>
  <dc:description/>
  <dc:language>en-US</dc:language>
  <cp:lastModifiedBy>User</cp:lastModifiedBy>
  <dcterms:modified xsi:type="dcterms:W3CDTF">2012-06-16T07:19:23Z</dcterms:modified>
  <cp:revision>31</cp:revision>
  <dc:subject>Нетрадиционные техники рисования</dc:subject>
  <dc:title>Муниципальное дошкольное образовательное учреждение Центр развития ребенка детский сад №32 «Лесная сказка»</dc:title>
</cp:coreProperties>
</file>