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4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6.jpeg" ContentType="image/jpeg"/>
  <Override PartName="/ppt/media/image13.jpeg" ContentType="image/jpeg"/>
  <Override PartName="/ppt/media/image30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703-0F03-468C-913D-BE420390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E97-509B-444A-9C60-93F6201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C2A-A792-4A8D-A5AD-BE91D375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F47-0E62-466B-A00A-CA9C22F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4B92-4B32-4D99-B719-2F710CE2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678B-EE37-4927-84D4-072A61B5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2510-A5AB-4789-A629-47BD811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4468-1EF6-443D-BB8C-87A76FE5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7298-E62F-43BB-B995-FF0BD8F4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0C68-7B2C-4F3F-BA2C-CDC9E996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0797-D865-4610-BB73-FD57014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24F-241D-438F-AC13-4FE3ED81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5457-C1EA-4946-B675-BC4C0626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9D4A-6141-44B0-809D-1ECF0CF1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3651-2C3C-4359-AE46-02462558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2E25-0659-467B-AE83-FA7D4B75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1794-C278-43B1-ADCD-09F798CA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C62-C0CF-4CDB-8C6B-F9CCB182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467-35D5-4F3C-9D4C-E914C04C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D37-5B92-4238-A76D-C0096D1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BEF-FF5F-4065-9E26-48DDDAAA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F3D-17C9-4E4D-9895-4E50746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E8A-1257-4706-B411-5CF20B57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32B-4258-49AF-B95E-B6FC802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F2AD-C450-4E61-9399-27A06A71CA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CEA7-7F3F-47E2-A267-B11620ACAE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Муниципальное дошкольное образовательное учреждение детский сад комбинированного вида</a:t>
            </a:r>
            <a:br>
              <a:rPr sz="2400"/>
            </a:b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№ 32 « Лесная сказка» г. Пролетарска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5181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« Формирование и развитие социально значимых ценностей, гражданственности и патриотизма у детей дошкольного возраст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Выполнила: Полянина    Елена Иван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523880"/>
            <a:ext cx="730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Сроки реализации проекта: 2008- 2011 г.г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1677960"/>
            <a:ext cx="8533440" cy="4418280"/>
            <a:chOff x="304920" y="1677960"/>
            <a:chExt cx="8533440" cy="4418280"/>
          </a:xfrm>
        </p:grpSpPr>
        <p:cxnSp>
          <p:nvCxnSpPr>
            <p:cNvPr id="107" name="_s57358"/>
            <p:cNvCxnSpPr>
              <a:stCxn id="108" idx="0"/>
              <a:endCxn id="109" idx="2"/>
            </p:cNvCxnSpPr>
            <p:nvPr/>
          </p:nvCxnSpPr>
          <p:spPr>
            <a:xfrm flipV="1" rot="16200000">
              <a:off x="5622840" y="2392920"/>
              <a:ext cx="884160" cy="2987280"/>
            </a:xfrm>
            <a:prstGeom prst="bentConnector3">
              <a:avLst>
                <a:gd name="adj1" fmla="val 12912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10" name="_s57357"/>
            <p:cNvCxnSpPr>
              <a:stCxn id="111" idx="0"/>
              <a:endCxn id="109" idx="2"/>
            </p:cNvCxnSpPr>
            <p:nvPr/>
          </p:nvCxnSpPr>
          <p:spPr>
            <a:xfrm flipV="1">
              <a:off x="4571280" y="3444840"/>
              <a:ext cx="3240" cy="884160"/>
            </a:xfrm>
            <a:prstGeom prst="bentConnector2">
              <a:avLst/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12" name="_s57356"/>
            <p:cNvCxnSpPr>
              <a:stCxn id="113" idx="0"/>
              <a:endCxn id="109" idx="2"/>
            </p:cNvCxnSpPr>
            <p:nvPr/>
          </p:nvCxnSpPr>
          <p:spPr>
            <a:xfrm flipH="1" flipV="1" rot="5400000">
              <a:off x="2635920" y="2393280"/>
              <a:ext cx="884160" cy="2987280"/>
            </a:xfrm>
            <a:prstGeom prst="bentConnector3">
              <a:avLst>
                <a:gd name="adj1" fmla="val 12912"/>
              </a:avLst>
            </a:prstGeom>
            <a:ln w="38160">
              <a:solidFill>
                <a:srgbClr val="0099cc"/>
              </a:solidFill>
              <a:miter/>
            </a:ln>
          </p:spPr>
        </p:cxnSp>
        <p:sp>
          <p:nvSpPr>
            <p:cNvPr id="109" name="_s57352"/>
            <p:cNvSpPr/>
            <p:nvPr/>
          </p:nvSpPr>
          <p:spPr>
            <a:xfrm>
              <a:off x="3291480" y="167796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Этапы реализации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роекта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57353"/>
            <p:cNvSpPr/>
            <p:nvPr/>
          </p:nvSpPr>
          <p:spPr>
            <a:xfrm>
              <a:off x="304920" y="432900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1 этап 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Информационно-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подготовитель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8-2009 г.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57354"/>
            <p:cNvSpPr/>
            <p:nvPr/>
          </p:nvSpPr>
          <p:spPr>
            <a:xfrm>
              <a:off x="3291480" y="432900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Внедренчески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09-2010 г.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57355"/>
            <p:cNvSpPr/>
            <p:nvPr/>
          </p:nvSpPr>
          <p:spPr>
            <a:xfrm>
              <a:off x="6278400" y="4329000"/>
              <a:ext cx="2559960" cy="17672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3 этап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Оценочный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2010-2011 г.г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1 этап 2008-2009 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Анализ состояния проблем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Библиографический поиск по проблем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Анализ воспитательных возможностей ДОУ для нравственно- патриотического воспит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Выявление и систематизация материа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Актуализация темы для всех субъектов образовательного процесса, педагогов, воспитанников,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Организация связей с районным Музеем боевой  и революционной славы, РО инвалидов ВОВ, реабилитационным цент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Разработка программы по нравственно- патриотическому воспитанию « Юный патрио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2 этап 2009-2010 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Создание развивающей сре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Организация занятий, экскурсий, выставок, встреч с ветеранами В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Работа кружка « Россияноч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Выступления в С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3 этап 2010-2011 г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Аналитический: мониторинг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Формирование банка методических разработок по нравственно- патриотическому воспитанию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7e7ff"/>
                </a:solidFill>
                <a:latin typeface="Arial"/>
              </a:rPr>
              <a:t>-     Подведение итогов и анализ результ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Оценка ожидаемых результатов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ходе проектной деятельности предполагается получить следующие результа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своение педагогами технологий гражданско- патриотического образ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своение воспитанниками ценностей патриотизма, толерантности, определяющих модель их жизненного пове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приобретение детьми социального опы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организация кружка по нравственно- патриотическому воспитанию дошкольников « Россияночк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разработка программы « Юный патрио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ритериями результативности можно счит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количественный охват субъектов образовательного процесса системой патриотического воспит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рост интереса воспитанников, родителей, педагогов и поддержанию истории и традиций Д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7524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7e7ff"/>
                </a:solidFill>
                <a:latin typeface="Arial"/>
              </a:rPr>
              <a:t>Воспитатель первой квалификационной категории Полянина Е.И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838080"/>
            <a:ext cx="6353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та кружка " Россияночка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441972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426400" y="582840"/>
            <a:ext cx="4217400" cy="5037120"/>
            <a:chOff x="2426400" y="582840"/>
            <a:chExt cx="4217400" cy="5037120"/>
          </a:xfrm>
        </p:grpSpPr>
        <p:sp>
          <p:nvSpPr>
            <p:cNvPr id="121" name="_s62482"/>
            <p:cNvSpPr/>
            <p:nvPr/>
          </p:nvSpPr>
          <p:spPr>
            <a:xfrm flipH="1" flipV="1">
              <a:off x="3495960" y="2878200"/>
              <a:ext cx="518760" cy="20808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62481"/>
            <p:cNvSpPr/>
            <p:nvPr/>
          </p:nvSpPr>
          <p:spPr>
            <a:xfrm>
              <a:off x="2426400" y="1987560"/>
              <a:ext cx="1095120" cy="13572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Экскурс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62480"/>
            <p:cNvSpPr/>
            <p:nvPr/>
          </p:nvSpPr>
          <p:spPr>
            <a:xfrm flipH="1">
              <a:off x="3893040" y="3844440"/>
              <a:ext cx="320040" cy="54720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62479"/>
            <p:cNvSpPr/>
            <p:nvPr/>
          </p:nvSpPr>
          <p:spPr>
            <a:xfrm>
              <a:off x="3022200" y="4262760"/>
              <a:ext cx="1094760" cy="13572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Досуг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62476"/>
            <p:cNvSpPr/>
            <p:nvPr/>
          </p:nvSpPr>
          <p:spPr>
            <a:xfrm>
              <a:off x="4857120" y="3844440"/>
              <a:ext cx="321840" cy="54720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62475"/>
            <p:cNvSpPr/>
            <p:nvPr/>
          </p:nvSpPr>
          <p:spPr>
            <a:xfrm>
              <a:off x="4953240" y="4262760"/>
              <a:ext cx="1094760" cy="1357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стреч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с ветеранам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62474"/>
            <p:cNvSpPr/>
            <p:nvPr/>
          </p:nvSpPr>
          <p:spPr>
            <a:xfrm flipV="1">
              <a:off x="5055480" y="2876040"/>
              <a:ext cx="520200" cy="20988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62473"/>
            <p:cNvSpPr/>
            <p:nvPr/>
          </p:nvSpPr>
          <p:spPr>
            <a:xfrm>
              <a:off x="5548680" y="1987560"/>
              <a:ext cx="1095120" cy="1357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Выставк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62472"/>
            <p:cNvSpPr/>
            <p:nvPr/>
          </p:nvSpPr>
          <p:spPr>
            <a:xfrm flipV="1">
              <a:off x="4535280" y="1940040"/>
              <a:ext cx="0" cy="67824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62471"/>
            <p:cNvSpPr/>
            <p:nvPr/>
          </p:nvSpPr>
          <p:spPr>
            <a:xfrm>
              <a:off x="3987720" y="582840"/>
              <a:ext cx="1094760" cy="13572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Занят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62470"/>
            <p:cNvSpPr/>
            <p:nvPr/>
          </p:nvSpPr>
          <p:spPr>
            <a:xfrm>
              <a:off x="3987720" y="2618640"/>
              <a:ext cx="1094760" cy="1356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Формы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рабо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685800"/>
            <a:ext cx="8533800" cy="5411520"/>
            <a:chOff x="304920" y="685800"/>
            <a:chExt cx="8533800" cy="5411520"/>
          </a:xfrm>
        </p:grpSpPr>
        <p:cxnSp>
          <p:nvCxnSpPr>
            <p:cNvPr id="133" name="_s65558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5900400" y="1523880"/>
              <a:ext cx="1076040" cy="373428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36" name="_s65556"/>
            <p:cNvCxnSpPr>
              <a:stCxn id="137" idx="0"/>
              <a:endCxn id="135" idx="2"/>
            </p:cNvCxnSpPr>
            <p:nvPr/>
          </p:nvCxnSpPr>
          <p:spPr>
            <a:xfrm flipV="1" rot="16200000">
              <a:off x="5278680" y="2146320"/>
              <a:ext cx="1076040" cy="248940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38" name="_s65554"/>
            <p:cNvCxnSpPr>
              <a:stCxn id="139" idx="0"/>
              <a:endCxn id="135" idx="2"/>
            </p:cNvCxnSpPr>
            <p:nvPr/>
          </p:nvCxnSpPr>
          <p:spPr>
            <a:xfrm flipV="1" rot="16200000">
              <a:off x="4655880" y="2768400"/>
              <a:ext cx="1076040" cy="124524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0" name="_s65552"/>
            <p:cNvCxnSpPr>
              <a:stCxn id="141" idx="0"/>
              <a:endCxn id="135" idx="2"/>
            </p:cNvCxnSpPr>
            <p:nvPr/>
          </p:nvCxnSpPr>
          <p:spPr>
            <a:xfrm flipV="1">
              <a:off x="4571640" y="2853000"/>
              <a:ext cx="1800" cy="1076040"/>
            </a:xfrm>
            <a:prstGeom prst="bentConnector2">
              <a:avLst/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2" name="_s65548"/>
            <p:cNvCxnSpPr>
              <a:stCxn id="143" idx="0"/>
              <a:endCxn id="135" idx="2"/>
            </p:cNvCxnSpPr>
            <p:nvPr/>
          </p:nvCxnSpPr>
          <p:spPr>
            <a:xfrm flipH="1" flipV="1" rot="5400000">
              <a:off x="3412440" y="2769120"/>
              <a:ext cx="1076040" cy="124416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4" name="_s65547"/>
            <p:cNvCxnSpPr>
              <a:stCxn id="145" idx="0"/>
              <a:endCxn id="135" idx="2"/>
            </p:cNvCxnSpPr>
            <p:nvPr/>
          </p:nvCxnSpPr>
          <p:spPr>
            <a:xfrm flipH="1" flipV="1" rot="5400000">
              <a:off x="2789640" y="2146680"/>
              <a:ext cx="1076040" cy="248868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cxnSp>
          <p:nvCxnSpPr>
            <p:cNvPr id="146" name="_s65546"/>
            <p:cNvCxnSpPr>
              <a:stCxn id="147" idx="0"/>
              <a:endCxn id="135" idx="2"/>
            </p:cNvCxnSpPr>
            <p:nvPr/>
          </p:nvCxnSpPr>
          <p:spPr>
            <a:xfrm flipH="1" flipV="1" rot="5400000">
              <a:off x="2166840" y="1523880"/>
              <a:ext cx="1076040" cy="3734280"/>
            </a:xfrm>
            <a:prstGeom prst="bentConnector3">
              <a:avLst>
                <a:gd name="adj1" fmla="val 10676"/>
              </a:avLst>
            </a:prstGeom>
            <a:ln w="38160">
              <a:solidFill>
                <a:srgbClr val="0099cc"/>
              </a:solidFill>
              <a:miter/>
            </a:ln>
          </p:spPr>
        </p:cxnSp>
        <p:sp>
          <p:nvSpPr>
            <p:cNvPr id="135" name="_s65542"/>
            <p:cNvSpPr/>
            <p:nvPr/>
          </p:nvSpPr>
          <p:spPr>
            <a:xfrm>
              <a:off x="4038480" y="6858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Содержание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программы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65543"/>
            <p:cNvSpPr/>
            <p:nvPr/>
          </p:nvSpPr>
          <p:spPr>
            <a:xfrm>
              <a:off x="30492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1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Моя семья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65544"/>
            <p:cNvSpPr/>
            <p:nvPr/>
          </p:nvSpPr>
          <p:spPr>
            <a:xfrm>
              <a:off x="154944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2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Мой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любимы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детский сад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65545"/>
            <p:cNvSpPr/>
            <p:nvPr/>
          </p:nvSpPr>
          <p:spPr>
            <a:xfrm>
              <a:off x="279396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3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Мо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город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65551"/>
            <p:cNvSpPr/>
            <p:nvPr/>
          </p:nvSpPr>
          <p:spPr>
            <a:xfrm>
              <a:off x="403848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4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Наш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одина-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оссия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65553"/>
            <p:cNvSpPr/>
            <p:nvPr/>
          </p:nvSpPr>
          <p:spPr>
            <a:xfrm>
              <a:off x="528300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5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Наши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защитники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65555"/>
            <p:cNvSpPr/>
            <p:nvPr/>
          </p:nvSpPr>
          <p:spPr>
            <a:xfrm>
              <a:off x="652752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6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Знаменитые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Женщины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65557"/>
            <p:cNvSpPr/>
            <p:nvPr/>
          </p:nvSpPr>
          <p:spPr>
            <a:xfrm>
              <a:off x="7772040" y="3929400"/>
              <a:ext cx="1066680" cy="2167920"/>
            </a:xfrm>
            <a:custGeom>
              <a:avLst/>
              <a:gdLst>
                <a:gd name="textAreaLeft" fmla="*/ 51840 w 1066680"/>
                <a:gd name="textAreaRight" fmla="*/ 1014840 w 1066680"/>
                <a:gd name="textAreaTop" fmla="*/ 51840 h 2167920"/>
                <a:gd name="textAreaBottom" fmla="*/ 2116080 h 2167920"/>
              </a:gdLst>
              <a:ahLst/>
              <a:rect l="textAreaLeft" t="textAreaTop" r="textAreaRight" b="textAreaBottom"/>
              <a:pathLst>
                <a:path w="21600" h="43892">
                  <a:moveTo>
                    <a:pt x="3600" y="0"/>
                  </a:moveTo>
                  <a:arcTo wR="3600" hR="3600" stAng="16200000" swAng="-5400000"/>
                  <a:lnTo>
                    <a:pt x="0" y="40292"/>
                  </a:lnTo>
                  <a:arcTo wR="3600" hR="3600" stAng="10800000" swAng="-5400000"/>
                  <a:lnTo>
                    <a:pt x="18000" y="438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Раздел 7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Это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День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a4"/>
                  </a:solidFill>
                  <a:latin typeface="Arial"/>
                </a:rPr>
                <a:t>Победы.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05120" y="609480"/>
            <a:ext cx="5734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экскурси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9051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ллея Сл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24280" y="3733920"/>
            <a:ext cx="4137120" cy="2798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3810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981080" y="60948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экскурси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9807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Экскурсия по местам Боевой Слав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4191120" cy="2819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724280" y="3657600"/>
            <a:ext cx="4114800" cy="28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752480" y="53352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экскурси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8288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рам Святого Флора и Лавр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39625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752120"/>
            <a:ext cx="8510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Развлечение «Богатырские состязания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362320" y="304920"/>
            <a:ext cx="471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мероприятия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952880" y="3657600"/>
            <a:ext cx="3727440" cy="27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ние патриотических чувств у детей дошкольного у детей дошкольного возраста- одна из задач нравственного воспитания, включающая в себя воспитание любви к ближним людям, к детскому саду, к родному дому, к родной улице, к родному городу и родной стране. Наиболее сложной является работа по воспитанию любви к родному городу и родной стране. В чём проявляются патриотические чувства у детей дошкольного возраста? К чему должен стремиться воспитатель! Потенциал дошкольного возраста как периода формирования личности уникален. И дело даже не в том, что в более поздних периодах эти возможности утрачиваются и упущенное в дошкольном детстве наверстать в школе чаще всего не удаётся. А ведь именно от того, как ребёнок воспринимает окружающий его мир в детстве в большей степени зависят его школьные годы, а в дальнейшем жизненные успехи взрослого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Утренник «Этот День Победы»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057400" y="3808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мероприятия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3546360"/>
            <a:ext cx="3962520" cy="3006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39466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Утренник «65 лет Великой Победы!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38088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ши мероприятия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172200" y="270504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276720" y="4572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стреча с ветеранами ВОВ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962520" cy="2957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Посещение выставок военных трофее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3886200" cy="2943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Наши  выстав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3322800" cy="2492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2464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ыступление в Доме Культуры.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65 лет Великой Победы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752480" y="1905120"/>
            <a:ext cx="609624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пехов в работе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следние годы идёт переосмысление сущности патриотического воспитания: идея воспитания патриотизма и гражданственности, приобретая всё более общественное значение, становится задачей государственной важности. Программы образования подрастающего поколения, а значит и школьников, должны отразить современную и целостную концепцию нравственно- патриотического воспитания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настоящих условиях эта концепция неотделима от патриотического миропонимания. С ним в настоящее время связывается преодоление кризиса в воспитании нравственно- патриотических чувств, формирование у людей нового, нравственного мышления и пове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666880" y="380880"/>
            <a:ext cx="4496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ьект исследован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1371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7e7ff"/>
                </a:solidFill>
                <a:latin typeface="Arial"/>
              </a:rPr>
              <a:t>Дети дошкольного возраста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57200" y="2989440"/>
            <a:ext cx="3657600" cy="325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57800" y="297180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Патриотическое воспитание дошкольников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4160" y="531720"/>
            <a:ext cx="452124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33720" y="2590920"/>
            <a:ext cx="41907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14600" y="457200"/>
            <a:ext cx="3886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проекта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b7e7ff"/>
                </a:solidFill>
                <a:latin typeface="Arial"/>
              </a:rPr>
              <a:t>« Формирование нравственно- патриотического отношения и чувства сопричастности к семье, городу, к природе, культуре на основе историко- национальных и природных особенностей родного края. Воспитание чувства собственного достоинства как представителя своего народа, уважении к прошлому, настоящему, будущему родного края, толерантного отношения к представителям других национальностей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209680" y="3962520"/>
            <a:ext cx="41148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4194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Формировать у старших дошкольников нравственные качества личности через ознакомление с родным краем, горо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Формировать гражданскую позицию и патриотические чувства к прошлому, настоящему, будущему родного края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увство гордости за свою малую Род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Расширять представление детей об истории, культуре, профессиях, людях, социально- экономической значимости родного края, рай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Сформировать представление  о том чем славен родной кр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90920" y="38088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пректа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42670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b7e7ff"/>
                </a:solidFill>
                <a:latin typeface="Arial"/>
              </a:rPr>
              <a:t>Если деятельность ДОУ по нравственно-патриотическому воспитанию будет организована в доступной, интересной форме, то это будет способствовать освоению воспитанниками нравственно- патриотических ценностей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81080" y="609480"/>
            <a:ext cx="54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ипотеза исследования: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209680" y="3200400"/>
            <a:ext cx="4419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Для реализации проекта было необходимо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учение литературы, которое позволит выявить состояние проблемы, проанализировать опыт, имеющийся в отечественной педагогике по вопросам нравственно- патриотическ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кетирование и собеседование с воспитанниками, педагогами, родителями, которое позволит установить влияние форм, предложенных ДОУ, на состояние нравственно- патриотического воспит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36576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6T13:28:37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