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C66-5E5F-4A1E-A903-65524531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F44-CF6D-494D-94BB-13CE2AEF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6EE-4317-412A-87C1-748435D1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059-BEC4-44C0-9999-660AB78C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3176-E281-4C89-B1EC-D85A9F7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F7A2-C5EE-4281-84E0-A5C86820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07B0-08C2-40F1-8CF9-3F63293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359A-6F02-4621-AC76-371B59C5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98FC-DEFA-4D48-BC16-315BBA7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62E-0A53-4F8E-AC11-37E845F2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401-CDC2-4D72-A711-8BB8BE1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597-524D-4C2B-A875-8BDA1F7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CFC2-A1E4-45C3-B360-F04C068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8AA2-7A6A-4A70-8583-96BC48B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E91-FF94-491C-9372-BCF48616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47ED-976A-4CE3-9828-32E6FFE1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591D-7802-4AD3-AC44-27A5E3C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6CF-7FEB-4BBF-ACAF-C739C601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C5C-3CE7-4BB6-8110-9F0AA75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FA0-40DA-4B3C-ABAD-8EAD63B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DFD-9FE4-4FD1-90EA-C5D25F3A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B29-13D3-438F-8C28-9CB1FD1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AB5-A55D-44A9-A96E-90D1413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0DB-E4EC-41F7-818A-CD066F6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D0A-66FF-454D-8DD3-86B6C02656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1EE3-3AB9-43E2-88DF-811743A98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Муниципальное дошкольное образовательное учреждение детский сад комбинированного вида</a:t>
            </a:r>
            <a:br>
              <a:rPr sz="2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№ 32 « Лесная сказка» г. Пролетарск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« Формирование и развитие социально значимых ценностей, гражданственности и патриотизма у детей дошкольного возраст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Выполнила: Полянина    Елена Иван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523880"/>
            <a:ext cx="730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Сроки реализации проекта: 2008- 2011 г.г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1677960"/>
            <a:ext cx="8533440" cy="4418280"/>
            <a:chOff x="304920" y="1677960"/>
            <a:chExt cx="8533440" cy="4418280"/>
          </a:xfrm>
        </p:grpSpPr>
        <p:cxnSp>
          <p:nvCxnSpPr>
            <p:cNvPr id="107" name="_s57358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622840" y="2392920"/>
              <a:ext cx="884160" cy="2987280"/>
            </a:xfrm>
            <a:prstGeom prst="bentConnector3">
              <a:avLst>
                <a:gd name="adj1" fmla="val 12912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10" name="_s57357"/>
            <p:cNvCxnSpPr>
              <a:stCxn id="111" idx="0"/>
              <a:endCxn id="109" idx="2"/>
            </p:cNvCxnSpPr>
            <p:nvPr/>
          </p:nvCxnSpPr>
          <p:spPr>
            <a:xfrm flipV="1">
              <a:off x="4571280" y="3444840"/>
              <a:ext cx="3240" cy="884160"/>
            </a:xfrm>
            <a:prstGeom prst="bentConnector2">
              <a:avLst/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12" name="_s57356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635920" y="2393280"/>
              <a:ext cx="884160" cy="2987280"/>
            </a:xfrm>
            <a:prstGeom prst="bentConnector3">
              <a:avLst>
                <a:gd name="adj1" fmla="val 12912"/>
              </a:avLst>
            </a:prstGeom>
            <a:ln w="38160">
              <a:solidFill>
                <a:srgbClr val="0099cc"/>
              </a:solidFill>
              <a:miter/>
            </a:ln>
          </p:spPr>
        </p:cxnSp>
        <p:sp>
          <p:nvSpPr>
            <p:cNvPr id="109" name="_s57352"/>
            <p:cNvSpPr/>
            <p:nvPr/>
          </p:nvSpPr>
          <p:spPr>
            <a:xfrm>
              <a:off x="3291480" y="167796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Этапы реализа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роект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57353"/>
            <p:cNvSpPr/>
            <p:nvPr/>
          </p:nvSpPr>
          <p:spPr>
            <a:xfrm>
              <a:off x="30492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1 этап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Информационно-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дготовитель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8-2009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57354"/>
            <p:cNvSpPr/>
            <p:nvPr/>
          </p:nvSpPr>
          <p:spPr>
            <a:xfrm>
              <a:off x="329148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Внедренче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9-2010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7355"/>
            <p:cNvSpPr/>
            <p:nvPr/>
          </p:nvSpPr>
          <p:spPr>
            <a:xfrm>
              <a:off x="627840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Оцен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10-2011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1 этап 2008-2009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нализ состояния пробл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Библиографический поиск по пробл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нализ воспитательных возможностей ДОУ для нравственно- патриотического воспит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Выявление и систематизация материа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ктуализация темы для всех субъектов образовательного процесса, педагогов, воспитанников,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Организация связей с районным Музеем боевой  и революционной славы, РО инвалидов ВОВ, реабилитационным цен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Разработка программы по нравственно- патриотическому воспитанию « Юный патрио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2 этап 2009-2010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Создание развивающей сре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Организация занятий, экскурсий, выставок, встреч с ветеранами 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Работа кружка « Россияноч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Выступления в С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3 этап 2010-2011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Аналитический: мониторинг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Формирование банка методических разработок по нравственно- патриотическому воспитанию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Подведение итогов и анализ 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Оценка ожидаемых результат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ходе проектной деятельности предполагается получить следующи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своение педагогами технологий гражданско- патриотического образ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своение воспитанниками ценностей патриотизма, толерантности, определяющих модель их жизненного пове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приобретение детьми социального опы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рганизация кружка по нравственно- патриотическому воспитанию дошкольников « Россияноч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разработка программы « Юный патрио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ритериями результативности можно счит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количественный охват субъектов образовательного процесса системой патриотического воспит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рост интереса воспитанников, родителей, педагогов и поддержанию истории и традиций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7524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Воспитатель первой квалификационной категории Полянина Е.И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838080"/>
            <a:ext cx="63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кружка " Россияночк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441972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426400" y="582840"/>
            <a:ext cx="4217400" cy="5037120"/>
            <a:chOff x="2426400" y="582840"/>
            <a:chExt cx="4217400" cy="5037120"/>
          </a:xfrm>
        </p:grpSpPr>
        <p:sp>
          <p:nvSpPr>
            <p:cNvPr id="121" name="_s62482"/>
            <p:cNvSpPr/>
            <p:nvPr/>
          </p:nvSpPr>
          <p:spPr>
            <a:xfrm flipH="1" flipV="1">
              <a:off x="3495960" y="2878200"/>
              <a:ext cx="518760" cy="20808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62481"/>
            <p:cNvSpPr/>
            <p:nvPr/>
          </p:nvSpPr>
          <p:spPr>
            <a:xfrm>
              <a:off x="2426400" y="1987560"/>
              <a:ext cx="1095120" cy="1357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кскурс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62480"/>
            <p:cNvSpPr/>
            <p:nvPr/>
          </p:nvSpPr>
          <p:spPr>
            <a:xfrm flipH="1">
              <a:off x="3893040" y="3844440"/>
              <a:ext cx="320040" cy="5472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62479"/>
            <p:cNvSpPr/>
            <p:nvPr/>
          </p:nvSpPr>
          <p:spPr>
            <a:xfrm>
              <a:off x="3022200" y="4262760"/>
              <a:ext cx="1094760" cy="1357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ос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62476"/>
            <p:cNvSpPr/>
            <p:nvPr/>
          </p:nvSpPr>
          <p:spPr>
            <a:xfrm>
              <a:off x="4857120" y="3844440"/>
              <a:ext cx="321840" cy="5472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62475"/>
            <p:cNvSpPr/>
            <p:nvPr/>
          </p:nvSpPr>
          <p:spPr>
            <a:xfrm>
              <a:off x="4953240" y="4262760"/>
              <a:ext cx="1094760" cy="1357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стре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 ветеран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62474"/>
            <p:cNvSpPr/>
            <p:nvPr/>
          </p:nvSpPr>
          <p:spPr>
            <a:xfrm flipV="1">
              <a:off x="5055480" y="2876040"/>
              <a:ext cx="520200" cy="20988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62473"/>
            <p:cNvSpPr/>
            <p:nvPr/>
          </p:nvSpPr>
          <p:spPr>
            <a:xfrm>
              <a:off x="5548680" y="1987560"/>
              <a:ext cx="1095120" cy="1357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став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62472"/>
            <p:cNvSpPr/>
            <p:nvPr/>
          </p:nvSpPr>
          <p:spPr>
            <a:xfrm flipV="1">
              <a:off x="4535280" y="1940040"/>
              <a:ext cx="0" cy="6782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62471"/>
            <p:cNvSpPr/>
            <p:nvPr/>
          </p:nvSpPr>
          <p:spPr>
            <a:xfrm>
              <a:off x="3987720" y="582840"/>
              <a:ext cx="1094760" cy="1357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нят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62470"/>
            <p:cNvSpPr/>
            <p:nvPr/>
          </p:nvSpPr>
          <p:spPr>
            <a:xfrm>
              <a:off x="3987720" y="2618640"/>
              <a:ext cx="1094760" cy="1356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рм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533800" cy="5411520"/>
            <a:chOff x="304920" y="685800"/>
            <a:chExt cx="8533800" cy="5411520"/>
          </a:xfrm>
        </p:grpSpPr>
        <p:cxnSp>
          <p:nvCxnSpPr>
            <p:cNvPr id="133" name="_s6555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900400" y="1523880"/>
              <a:ext cx="1076040" cy="37342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36" name="_s65556"/>
            <p:cNvCxnSpPr>
              <a:stCxn id="137" idx="0"/>
              <a:endCxn id="135" idx="2"/>
            </p:cNvCxnSpPr>
            <p:nvPr/>
          </p:nvCxnSpPr>
          <p:spPr>
            <a:xfrm flipV="1" rot="16200000">
              <a:off x="5278680" y="2146320"/>
              <a:ext cx="1076040" cy="248940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38" name="_s65554"/>
            <p:cNvCxnSpPr>
              <a:stCxn id="139" idx="0"/>
              <a:endCxn id="135" idx="2"/>
            </p:cNvCxnSpPr>
            <p:nvPr/>
          </p:nvCxnSpPr>
          <p:spPr>
            <a:xfrm flipV="1" rot="16200000">
              <a:off x="4655880" y="2768400"/>
              <a:ext cx="1076040" cy="124524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0" name="_s65552"/>
            <p:cNvCxnSpPr>
              <a:stCxn id="141" idx="0"/>
              <a:endCxn id="135" idx="2"/>
            </p:cNvCxnSpPr>
            <p:nvPr/>
          </p:nvCxnSpPr>
          <p:spPr>
            <a:xfrm flipV="1">
              <a:off x="4571640" y="2853000"/>
              <a:ext cx="1800" cy="1076040"/>
            </a:xfrm>
            <a:prstGeom prst="bentConnector2">
              <a:avLst/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2" name="_s65548"/>
            <p:cNvCxnSpPr>
              <a:stCxn id="143" idx="0"/>
              <a:endCxn id="135" idx="2"/>
            </p:cNvCxnSpPr>
            <p:nvPr/>
          </p:nvCxnSpPr>
          <p:spPr>
            <a:xfrm flipH="1" flipV="1" rot="5400000">
              <a:off x="3412440" y="2769120"/>
              <a:ext cx="1076040" cy="124416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4" name="_s65547"/>
            <p:cNvCxnSpPr>
              <a:stCxn id="145" idx="0"/>
              <a:endCxn id="135" idx="2"/>
            </p:cNvCxnSpPr>
            <p:nvPr/>
          </p:nvCxnSpPr>
          <p:spPr>
            <a:xfrm flipH="1" flipV="1" rot="5400000">
              <a:off x="2789640" y="2146680"/>
              <a:ext cx="1076040" cy="24886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6" name="_s65546"/>
            <p:cNvCxnSpPr>
              <a:stCxn id="147" idx="0"/>
              <a:endCxn id="135" idx="2"/>
            </p:cNvCxnSpPr>
            <p:nvPr/>
          </p:nvCxnSpPr>
          <p:spPr>
            <a:xfrm flipH="1" flipV="1" rot="5400000">
              <a:off x="2166840" y="1523880"/>
              <a:ext cx="1076040" cy="37342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sp>
          <p:nvSpPr>
            <p:cNvPr id="135" name="_s65542"/>
            <p:cNvSpPr/>
            <p:nvPr/>
          </p:nvSpPr>
          <p:spPr>
            <a:xfrm>
              <a:off x="4038480" y="6858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Содерж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программ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65543"/>
            <p:cNvSpPr/>
            <p:nvPr/>
          </p:nvSpPr>
          <p:spPr>
            <a:xfrm>
              <a:off x="30492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1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я семья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65544"/>
            <p:cNvSpPr/>
            <p:nvPr/>
          </p:nvSpPr>
          <p:spPr>
            <a:xfrm>
              <a:off x="154944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2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любимы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детский сад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65545"/>
            <p:cNvSpPr/>
            <p:nvPr/>
          </p:nvSpPr>
          <p:spPr>
            <a:xfrm>
              <a:off x="279396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3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город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65551"/>
            <p:cNvSpPr/>
            <p:nvPr/>
          </p:nvSpPr>
          <p:spPr>
            <a:xfrm>
              <a:off x="403848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4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Наш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одина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оссия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65553"/>
            <p:cNvSpPr/>
            <p:nvPr/>
          </p:nvSpPr>
          <p:spPr>
            <a:xfrm>
              <a:off x="528300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5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Наш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защитники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65555"/>
            <p:cNvSpPr/>
            <p:nvPr/>
          </p:nvSpPr>
          <p:spPr>
            <a:xfrm>
              <a:off x="652752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6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Знаменит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Женщины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65557"/>
            <p:cNvSpPr/>
            <p:nvPr/>
          </p:nvSpPr>
          <p:spPr>
            <a:xfrm>
              <a:off x="777204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7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Это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Ден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Победы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05120" y="609480"/>
            <a:ext cx="5734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ллея Сл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137120" cy="2798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3810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60948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Экскурсия по местам Боевой Слав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41148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52480" y="5335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рам Святого Флора и Лав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1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азвлечение «Богатырские состязания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04920"/>
            <a:ext cx="471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952880" y="3657600"/>
            <a:ext cx="3727440" cy="27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ние патриотических чувств у детей дошкольного у детей дошкольного возраста- одна из задач нравственного воспитания, включающая в себя воспитание любви к ближним людям, к детскому саду, к родному дому, к родной улице, к родному городу и родной стране. Наиболее сложной является работа по воспитанию любви к родному городу и родной стране. В чём проявляются патриотические чувства у детей дошкольного возраста? К чему должен стремиться воспитатель! Потенциал дошкольного возраста как периода формирования личности уникален. И дело даже не в том, что в более поздних периодах эти возможности утрачиваются и упущенное в дошкольном детстве наверстать в школе чаще всего не удаётся. А ведь именно от того, как ребёнок воспринимает окружающий его мир в детстве в большей степени зависят его школьные годы, а в дальнейшем жизненные успехи взросло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Утренник «Этот День Победы»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0574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546360"/>
            <a:ext cx="3962520" cy="300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39466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Утренник «65 лет Великой Победы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172200" y="270504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276720" y="4572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стреча с ветеранами ВОВ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сещение выставок военных трофее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86200" cy="29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ши  выстав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322800" cy="249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2464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ыступление в Доме Культуры.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65 лет Великой Побе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52480" y="1905120"/>
            <a:ext cx="609624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 в работ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следние годы идёт переосмысление сущности патриотического воспитания: идея воспитания патриотизма и гражданственности, приобретая всё более общественное значение, становится задачей государственной важности. Программы образования подрастающего поколения, а значит и школьников, должны отразить современную и целостную концепцию нравственно- патриотического воспитания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настоящих условиях эта концепция неотделима от патриотического миропонимания. С ним в настоящее время связывается преодоление кризиса в воспитании нравственно- патриотических чувств, формирование у людей нового, нравственного мышления и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666880" y="380880"/>
            <a:ext cx="4496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ьект исследова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1371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7e7ff"/>
                </a:solidFill>
                <a:latin typeface="Arial"/>
              </a:rPr>
              <a:t>Дети дошкольного возраста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7200" y="2989440"/>
            <a:ext cx="3657600" cy="325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57800" y="297180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Патриотическое воспитание дошкольнико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4160" y="531720"/>
            <a:ext cx="45212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33720" y="2590920"/>
            <a:ext cx="4190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14600" y="457200"/>
            <a:ext cx="3886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« Формирование нравственно- патриотического отношения и чувства сопричастности к семье, городу, к природе, культуре на основе историко- национальных и природных особенностей родного края. Воспитание чувства собственного достоинства как представителя своего народа, уважении к прошлому, настоящему, будущему родного края, толерантного отношения к представителям других национальностей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09680" y="3962520"/>
            <a:ext cx="41148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419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Формировать у старших дошкольников нравственные качества личности через ознакомление с родным краем, гор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Формировать гражданскую позицию и патриотические чувства к прошлому, настоящему, будущему родного края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увство гордости за свою малую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Расширять представление детей об истории, культуре, профессиях, людях, социально- экономической значимости родного края,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Сформировать представление  о том чем славен родной кр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90920" y="3808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пр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b7e7ff"/>
                </a:solidFill>
                <a:latin typeface="Arial"/>
              </a:rPr>
              <a:t>Если деятельность ДОУ по нравственно-патриотическому воспитанию будет организована в доступной, интересной форме, то это будет способствовать освоению воспитанниками нравственно- патриотических ценностей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81080" y="609480"/>
            <a:ext cx="54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потеза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209680" y="320040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Для реализации проекта было необходимо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учение литературы, которое позволит выявить состояние проблемы, проанализировать опыт, имеющийся в отечественной педагогике по вопросам нравственно- патриотическ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кетирование и собеседование с воспитанниками, педагогами, родителями, которое позволит установить влияние форм, предложенных ДОУ, на состояние нравственно- патриотическ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6T13:28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