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ндрей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2-03-01T16:21:14.487000000" idx="1">
    <p:pos x="5391" y="12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4016-D665-4129-A62D-52BA3AE2FB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4945-AB5D-4C26-A411-0C5BD6FB13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586-76F7-4365-9EF5-3585FF8E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4BA-91C4-4B0A-9B86-48546433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7B8-BAFF-4B0E-9B59-16CD5365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EDD-0AC0-43C2-9553-4BC4AF8D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BC4-CE78-4B2A-B5B1-EFC24A13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0D4-913E-4078-A282-FD96DC7C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E2E-4202-4993-B2F0-8CB1A3E3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10A-9025-4E8B-851E-223A90D9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71A-ED22-4CCE-99E7-42085BEF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7C3-3C50-4BD4-893F-52DBDF82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D08-96E4-41A1-9B16-382A16B5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01E-662A-4D11-B9A5-E3F96A8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06D6-2D0C-454A-9E74-DB864942BC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ladenets.ru/wp-content/uploads/postimg/205/204183_1-726x600.jpg" TargetMode="External"/><Relationship Id="rId2" Type="http://schemas.openxmlformats.org/officeDocument/2006/relationships/hyperlink" Target="http://images.yandex.ru/yandsearch?text=travian.ru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3745080" y="1052640"/>
            <a:ext cx="5398920" cy="5545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669456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ыловаре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9280" y="2781360"/>
            <a:ext cx="3672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ыполнил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ченик 10Б класс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имназии №69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м. С.Есени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селедко Андрей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уководитель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читель химии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атвеева И. 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716360" y="1017720"/>
            <a:ext cx="3168720" cy="298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914400" y="3213000"/>
            <a:ext cx="3944880" cy="295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5508720" y="4365720"/>
            <a:ext cx="29289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идео мануал для производства собственного мыл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NVEExport.avi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08720" cy="49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ывод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сегодняшней жизни ни один человек не  может обойтись без использования такого средства как мыло. Как мы видим, в настоящий момент мыло широко используется не только как моющее средство, но и как антисептик ,материал для водонепроницаемых тканей ,применяются в качестве основного компонента многих шампуней и кремов и так далее. Всё вместе это доказывает потребность мыла в жизни челове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5840" y="1844280"/>
            <a:ext cx="8497800" cy="451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kladenets.ru/wp-content/uploads/postimg/205/204183_1-726x600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avian.r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ages.yandex.ru/yandsearch?text=travian.ru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images.yandex.ru/yandsearch?text=%D0%BC%D1%8B%D0%BB%D0%BE&amp;rpt=image&amp;img_url=www.devilsmmo.com%2Fsites%2Fdefault%2Ffiles%2Fteaserimg%2Ftravian_teaser.jp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milovaroff.ru/shop/638/desc/forma-plastikovaja-patk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images.yandex.ru/yandsearch?p=63&amp;text=%D0%BE%D0%B1%D1%8B%D0%BA%D0%BD%D0%BE%D0%B2%D0%B5%D0%BD%D0%BD%D0%BE%D0%B5%20%D0%BC%D1%8B%D0%BB%D0%BE&amp;img_url=img1.liveinternet.ru%2Fimages%2Fattach%2Fc%2F0%2F63%2F27%2F63027633_4601313000426.jpg&amp;rpt=simag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http://ru.wikipedia.org/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http://n-t.ru/ri/kk/hm10.htm, Ю. Кукушкин, к.х.н., «Химия вокруг нас»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http://www.soapmaker.ru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http://www.xumuk.ru/encyklopedia/2335.html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         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Цели презентаци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Узнать историю мыла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спомнить виды мыл и их различия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Определить области применения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Сварить самостоятельно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Изучить химический состав мыла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"/>
          <p:cNvPicPr/>
          <p:nvPr/>
        </p:nvPicPr>
        <p:blipFill>
          <a:blip r:embed="rId1"/>
          <a:stretch/>
        </p:blipFill>
        <p:spPr>
          <a:xfrm>
            <a:off x="0" y="3357720"/>
            <a:ext cx="3357720" cy="3286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4284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Родоначаль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000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обретение мыла приписывается двум народам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аллы                                                Римляне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643280" y="2492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1785960" y="2286000"/>
            <a:ext cx="72072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5715000" y="2214720"/>
            <a:ext cx="719280" cy="72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2"/>
          <a:stretch/>
        </p:blipFill>
        <p:spPr>
          <a:xfrm>
            <a:off x="5929200" y="3643200"/>
            <a:ext cx="245916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 rot="21205200">
            <a:off x="6316200" y="1133640"/>
            <a:ext cx="2471760" cy="2309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42560" y="142920"/>
            <a:ext cx="77007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alibri"/>
              </a:rPr>
              <a:t>В настоящее время дефицита в производстве мыла не  наблюдается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0" y="2428920"/>
            <a:ext cx="582948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иды мыл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Жидкое мыло (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17H35COOK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Жидкое мыло содержит уровень рН ниже, чем у твёрдого, в нём меньше щелочных соединений, а, следовательно, оно более мягкое и не сушит кожу. Жидкое мыло помогает сохранять естественную влажность кожи, поэтому оно действительно хорошо для сухой кожи. Современные жидкие мыла представляют собой водные растворы синтетических ионных или неионогенных поверхностно-активных веществ с добавлением консервантов, отдушек, красителей, солей для контроля вязкости, добавок для связывания ионов кальция и магния и т. д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4" descr="liquid-soap"/>
          <p:cNvPicPr/>
          <p:nvPr/>
        </p:nvPicPr>
        <p:blipFill>
          <a:blip r:embed="rId1"/>
          <a:stretch/>
        </p:blipFill>
        <p:spPr>
          <a:xfrm>
            <a:off x="6732720" y="11592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загруженное"/>
          <p:cNvPicPr/>
          <p:nvPr/>
        </p:nvPicPr>
        <p:blipFill>
          <a:blip r:embed="rId1"/>
          <a:stretch/>
        </p:blipFill>
        <p:spPr>
          <a:xfrm>
            <a:off x="1332000" y="4941720"/>
            <a:ext cx="2016000" cy="1511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003640" y="4635360"/>
            <a:ext cx="2703600" cy="1764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иды мыл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7120" y="10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Твёрдое мыл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Твёрдое мыло может высушить кожу и вызвать повреждения. Но это не означает, что все кусковые виды мыла плохо влияют на неё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химическом отношении основным компонентом твёрдого мыла являются смесь растворимых солей высших жирных кислот. Обычно это натриевые, реже — калиевые и аммониевые соли таких кислот, как стеариновая,  пальмитиновая и олеиновая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011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Хим. состав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499680"/>
            <a:ext cx="90010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b0f0"/>
                </a:solidFill>
                <a:latin typeface="Calibri"/>
              </a:rPr>
              <a:t>Мыла</a:t>
            </a:r>
            <a:r>
              <a:rPr b="0" lang="ru-RU" sz="2100" spc="-1" strike="noStrike">
                <a:solidFill>
                  <a:srgbClr val="ffffff"/>
                </a:solidFill>
                <a:latin typeface="Calibri"/>
              </a:rPr>
              <a:t> – это натриевые или калиевые соли высших жирных кислот, гидролизующихся в водном растворе с образованием кислоты и щелочи.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 rot="21471600">
            <a:off x="2252160" y="831960"/>
            <a:ext cx="2826000" cy="307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179280" y="5229360"/>
            <a:ext cx="4248360" cy="1628640"/>
          </a:xfrm>
          <a:prstGeom prst="rect">
            <a:avLst/>
          </a:prstGeom>
          <a:ln w="0">
            <a:noFill/>
          </a:ln>
        </p:spPr>
      </p:pic>
      <p:sp>
        <p:nvSpPr>
          <p:cNvPr id="75" name="Line 7"/>
          <p:cNvSpPr/>
          <p:nvPr/>
        </p:nvSpPr>
        <p:spPr>
          <a:xfrm>
            <a:off x="1547640" y="5157720"/>
            <a:ext cx="18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8"/>
          <p:cNvSpPr/>
          <p:nvPr/>
        </p:nvSpPr>
        <p:spPr>
          <a:xfrm rot="4974000">
            <a:off x="3321360" y="1813680"/>
            <a:ext cx="1514520" cy="1430280"/>
          </a:xfrm>
          <a:custGeom>
            <a:avLst/>
            <a:gdLst>
              <a:gd name="textAreaLeft" fmla="*/ 436680 w 1514520"/>
              <a:gd name="textAreaRight" fmla="*/ 1077840 w 1514520"/>
              <a:gd name="textAreaTop" fmla="*/ 412200 h 1430280"/>
              <a:gd name="textAreaBottom" fmla="*/ 1018080 h 143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854" y="21600"/>
                </a:lnTo>
                <a:lnTo>
                  <a:pt x="1274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605040" y="2127240"/>
            <a:ext cx="578160" cy="916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O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-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4788000" y="4653000"/>
            <a:ext cx="725400" cy="863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5940360" y="51577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Group 19"/>
          <p:cNvGrpSpPr/>
          <p:nvPr/>
        </p:nvGrpSpPr>
        <p:grpSpPr>
          <a:xfrm>
            <a:off x="6372360" y="2708280"/>
            <a:ext cx="1152360" cy="2445840"/>
            <a:chOff x="6372360" y="2708280"/>
            <a:chExt cx="1152360" cy="2445840"/>
          </a:xfrm>
        </p:grpSpPr>
        <p:sp>
          <p:nvSpPr>
            <p:cNvPr id="81" name="AutoShape 11"/>
            <p:cNvSpPr/>
            <p:nvPr/>
          </p:nvSpPr>
          <p:spPr>
            <a:xfrm>
              <a:off x="6386400" y="2708280"/>
              <a:ext cx="1127160" cy="200412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AutoShape 13"/>
            <p:cNvGrpSpPr/>
            <p:nvPr/>
          </p:nvGrpSpPr>
          <p:grpSpPr>
            <a:xfrm>
              <a:off x="6372360" y="3839760"/>
              <a:ext cx="1152360" cy="1314360"/>
              <a:chOff x="6372360" y="3839760"/>
              <a:chExt cx="1152360" cy="1314360"/>
            </a:xfrm>
          </p:grpSpPr>
          <p:pic>
            <p:nvPicPr>
              <p:cNvPr id="83" name="AutoShap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372360" y="3839760"/>
                <a:ext cx="1152360" cy="13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6386040" y="4175280"/>
                <a:ext cx="1128960" cy="80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Times New Roman"/>
                  </a:rPr>
                  <a:t>мыло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Group 18"/>
          <p:cNvGrpSpPr/>
          <p:nvPr/>
        </p:nvGrpSpPr>
        <p:grpSpPr>
          <a:xfrm>
            <a:off x="1763640" y="2708280"/>
            <a:ext cx="1224000" cy="2449440"/>
            <a:chOff x="1763640" y="2708280"/>
            <a:chExt cx="1224000" cy="2449440"/>
          </a:xfrm>
        </p:grpSpPr>
        <p:sp>
          <p:nvSpPr>
            <p:cNvPr id="86" name="AutoShape 5"/>
            <p:cNvSpPr/>
            <p:nvPr/>
          </p:nvSpPr>
          <p:spPr>
            <a:xfrm>
              <a:off x="1763640" y="2708280"/>
              <a:ext cx="1224000" cy="1728720"/>
            </a:xfrm>
            <a:prstGeom prst="can">
              <a:avLst>
                <a:gd name="adj" fmla="val 477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4"/>
            <p:cNvSpPr/>
            <p:nvPr/>
          </p:nvSpPr>
          <p:spPr>
            <a:xfrm>
              <a:off x="1763640" y="3860640"/>
              <a:ext cx="1224000" cy="129708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жир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" name="WordArt 15" descr=""/>
          <p:cNvPicPr/>
          <p:nvPr/>
        </p:nvPicPr>
        <p:blipFill>
          <a:blip r:embed="rId4"/>
          <a:stretch/>
        </p:blipFill>
        <p:spPr>
          <a:xfrm>
            <a:off x="1017720" y="281160"/>
            <a:ext cx="7102440" cy="77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Применение мыла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428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Моющие средство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I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изводство косметики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II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делка ткане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V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зрывчатые веществ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.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лировки,краск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7:19:41Z</dcterms:created>
  <dc:creator>Юра</dc:creator>
  <dc:description/>
  <dc:language>en-US</dc:language>
  <cp:lastModifiedBy>USER</cp:lastModifiedBy>
  <dcterms:modified xsi:type="dcterms:W3CDTF">2012-06-16T16:15:40Z</dcterms:modified>
  <cp:revision>100</cp:revision>
  <dc:subject/>
  <dc:title>Мыловарение и его роль в жизни человека</dc:title>
</cp:coreProperties>
</file>