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ндрей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2-03-01T16:21:14.487000000" idx="1">
    <p:pos x="5391" y="12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6F0D-EEBA-4CDA-9061-1DDD2B1DE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1461-27C9-4E67-85C4-387CCE1BB2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E8B-F7AB-4794-BCA5-989B09D3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AE9-10FB-43E3-96BF-3D9B350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156-7D24-4C14-837C-FBC3CE61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929-2B6F-4F30-A006-57161E8E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F1A-B3A2-47C5-90F4-1797BA4E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828-DD2D-46E2-AC07-5E2C9B26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66B-2610-4FC5-99AB-2671CE7E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477-3313-4416-BB53-338717E3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DB0-0C35-496B-AC44-BE375BE9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14C-4447-4649-B697-5064031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E1D-CEEE-4D0E-A3D5-B2DCB34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2C8-B492-4848-BE72-B73F3DA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05E-E1A2-4C9D-A895-F4C9D88629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ladenets.ru/wp-content/uploads/postimg/205/204183_1-726x600.jpg" TargetMode="External"/><Relationship Id="rId2" Type="http://schemas.openxmlformats.org/officeDocument/2006/relationships/hyperlink" Target="http://images.yandex.ru/yandsearch?text=travian.ru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745080" y="1052640"/>
            <a:ext cx="5398920" cy="5545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6945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ыловар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3672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полнил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еник 10Б класс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имназии №6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м. С.Есени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селедко Андре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уководитель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итель хими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атвеева И. 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716360" y="1017720"/>
            <a:ext cx="3168720" cy="298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914400" y="3213000"/>
            <a:ext cx="3944880" cy="295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928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идео мануал для производства собственного мыл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NVEExport.avi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ывод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сегодняшней жизни ни один человек не  может обойтись без использования такого средства как мыло. Как мы видим, в настоящий момент мыло широко используется не только как моющее средство, но и как антисептик ,материал для водонепроницаемых тканей ,применяются в качестве основного компонента многих шампуней и кремов и так далее. Всё вместе это доказывает потребность мыла в жизни челове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5840" y="1844280"/>
            <a:ext cx="8497800" cy="451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kladenets.ru/wp-content/uploads/postimg/205/204183_1-726x600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vian.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yandex.ru/yandsearch?text=travian.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/yandsearch?text=%D0%BC%D1%8B%D0%BB%D0%BE&amp;rpt=image&amp;img_url=www.devilsmmo.com%2Fsites%2Fdefault%2Ffiles%2Fteaserimg%2Ftravian_teaser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milovaroff.ru/shop/638/desc/forma-plastikovaja-patk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/yandsearch?p=63&amp;text=%D0%BE%D0%B1%D1%8B%D0%BA%D0%BD%D0%BE%D0%B2%D0%B5%D0%BD%D0%BD%D0%BE%D0%B5%20%D0%BC%D1%8B%D0%BB%D0%BE&amp;img_url=img1.liveinternet.ru%2Fimages%2Fattach%2Fc%2F0%2F63%2F27%2F63027633_4601313000426.jpg&amp;rpt=sim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ru.wikipedia.org/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n-t.ru/ri/kk/hm10.htm, Ю. Кукушкин, к.х.н., «Химия вокруг нас»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www.soapmaker.ru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www.xumuk.ru/encyklopedia/2335.html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Цели презентаци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Узнать историю мыл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спомнить виды мыл и их различия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пределить области применения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варить самостоятельно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Изучить химический состав мыл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"/>
          <p:cNvPicPr/>
          <p:nvPr/>
        </p:nvPicPr>
        <p:blipFill>
          <a:blip r:embed="rId1"/>
          <a:stretch/>
        </p:blipFill>
        <p:spPr>
          <a:xfrm>
            <a:off x="0" y="3357720"/>
            <a:ext cx="335772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4284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одоначаль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етение мыла приписывается двум народам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аллы                                                Римлян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1785960" y="228600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715000" y="2214720"/>
            <a:ext cx="719280" cy="72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5929200" y="3643200"/>
            <a:ext cx="245916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 rot="21205200">
            <a:off x="6316200" y="1133640"/>
            <a:ext cx="2471760" cy="2309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2560" y="142920"/>
            <a:ext cx="7700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В настоящее время дефицита в производстве мыла не  наблюдаетс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0" y="2428920"/>
            <a:ext cx="58294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мы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Жидкое мыло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17H35COOK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Жидкое мыло содержит уровень рН ниже, чем у твёрдого, в нём меньше щелочных соединений, а, следовательно, оно более мягкое и не сушит кожу. Жидкое мыло помогает сохранять естественную влажность кожи, поэтому оно действительно хорошо для сухой кожи. Современные жидкие мыла представляют собой водные растворы синтетических ионных или неионогенных поверхностно-активных веществ с добавлением консервантов, отдушек, красителей, солей для контроля вязкости, добавок для связывания ионов кальция и магния и т. д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4" descr="liquid-soap"/>
          <p:cNvPicPr/>
          <p:nvPr/>
        </p:nvPicPr>
        <p:blipFill>
          <a:blip r:embed="rId1"/>
          <a:stretch/>
        </p:blipFill>
        <p:spPr>
          <a:xfrm>
            <a:off x="6732720" y="1159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загруженное"/>
          <p:cNvPicPr/>
          <p:nvPr/>
        </p:nvPicPr>
        <p:blipFill>
          <a:blip r:embed="rId1"/>
          <a:stretch/>
        </p:blipFill>
        <p:spPr>
          <a:xfrm>
            <a:off x="1332000" y="4941720"/>
            <a:ext cx="2016000" cy="151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003640" y="4635360"/>
            <a:ext cx="2703600" cy="1764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иды мыл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Твёрдое мыл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Твёрдое мыло может высушить кожу и вызвать повреждения. Но это не означает, что все кусковые виды мыла плохо влияют на неё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химическом отношении основным компонентом твёрдого мыла являются смесь растворимых солей высших жирных кислот. Обычно это натриевые, реже — калиевые и аммониевые соли таких кислот, как стеариновая,  пальмитиновая и олеиновая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0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Хим. соста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49968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b0f0"/>
                </a:solidFill>
                <a:latin typeface="Calibri"/>
              </a:rPr>
              <a:t>Мыла</a:t>
            </a: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 – это натриевые или калиевые соли высших жирных кислот, гидролизующихся в водном растворе с образованием кислоты и щелочи.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 rot="21471600">
            <a:off x="2252160" y="831960"/>
            <a:ext cx="2826000" cy="307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179280" y="5229360"/>
            <a:ext cx="4248360" cy="162864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>
            <a:off x="1547640" y="5157720"/>
            <a:ext cx="18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 rot="4974000">
            <a:off x="3321360" y="1813680"/>
            <a:ext cx="1514520" cy="1430280"/>
          </a:xfrm>
          <a:custGeom>
            <a:avLst/>
            <a:gdLst>
              <a:gd name="textAreaLeft" fmla="*/ 436680 w 1514520"/>
              <a:gd name="textAreaRight" fmla="*/ 1077840 w 1514520"/>
              <a:gd name="textAreaTop" fmla="*/ 412200 h 1430280"/>
              <a:gd name="textAreaBottom" fmla="*/ 101808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854" y="21600"/>
                </a:lnTo>
                <a:lnTo>
                  <a:pt x="1274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605040" y="2127240"/>
            <a:ext cx="578160" cy="916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O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-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4788000" y="4653000"/>
            <a:ext cx="7254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5940360" y="5157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19"/>
          <p:cNvGrpSpPr/>
          <p:nvPr/>
        </p:nvGrpSpPr>
        <p:grpSpPr>
          <a:xfrm>
            <a:off x="6372360" y="2708280"/>
            <a:ext cx="1152360" cy="2445840"/>
            <a:chOff x="6372360" y="2708280"/>
            <a:chExt cx="1152360" cy="2445840"/>
          </a:xfrm>
        </p:grpSpPr>
        <p:sp>
          <p:nvSpPr>
            <p:cNvPr id="81" name="AutoShape 11"/>
            <p:cNvSpPr/>
            <p:nvPr/>
          </p:nvSpPr>
          <p:spPr>
            <a:xfrm>
              <a:off x="6386400" y="2708280"/>
              <a:ext cx="1127160" cy="20041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AutoShape 13"/>
            <p:cNvGrpSpPr/>
            <p:nvPr/>
          </p:nvGrpSpPr>
          <p:grpSpPr>
            <a:xfrm>
              <a:off x="6372360" y="3839760"/>
              <a:ext cx="1152360" cy="1314360"/>
              <a:chOff x="6372360" y="3839760"/>
              <a:chExt cx="1152360" cy="1314360"/>
            </a:xfrm>
          </p:grpSpPr>
          <p:pic>
            <p:nvPicPr>
              <p:cNvPr id="83" name="AutoShap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372360" y="3839760"/>
                <a:ext cx="1152360" cy="13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6386040" y="4175280"/>
                <a:ext cx="1128960" cy="8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мыло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Group 18"/>
          <p:cNvGrpSpPr/>
          <p:nvPr/>
        </p:nvGrpSpPr>
        <p:grpSpPr>
          <a:xfrm>
            <a:off x="1763640" y="2708280"/>
            <a:ext cx="1224000" cy="2449440"/>
            <a:chOff x="1763640" y="2708280"/>
            <a:chExt cx="1224000" cy="2449440"/>
          </a:xfrm>
        </p:grpSpPr>
        <p:sp>
          <p:nvSpPr>
            <p:cNvPr id="86" name="AutoShape 5"/>
            <p:cNvSpPr/>
            <p:nvPr/>
          </p:nvSpPr>
          <p:spPr>
            <a:xfrm>
              <a:off x="1763640" y="2708280"/>
              <a:ext cx="1224000" cy="1728720"/>
            </a:xfrm>
            <a:prstGeom prst="can">
              <a:avLst>
                <a:gd name="adj" fmla="val 477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4"/>
            <p:cNvSpPr/>
            <p:nvPr/>
          </p:nvSpPr>
          <p:spPr>
            <a:xfrm>
              <a:off x="1763640" y="3860640"/>
              <a:ext cx="1224000" cy="12970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жи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WordArt 15" descr=""/>
          <p:cNvPicPr/>
          <p:nvPr/>
        </p:nvPicPr>
        <p:blipFill>
          <a:blip r:embed="rId4"/>
          <a:stretch/>
        </p:blipFill>
        <p:spPr>
          <a:xfrm>
            <a:off x="1017720" y="281160"/>
            <a:ext cx="710244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именение мыл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Моющие средст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I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изводство косметик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II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делка ткане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V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зрывчатые веще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лировки,крас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19:41Z</dcterms:created>
  <dc:creator>Юра</dc:creator>
  <dc:description/>
  <dc:language>en-US</dc:language>
  <cp:lastModifiedBy>USER</cp:lastModifiedBy>
  <dcterms:modified xsi:type="dcterms:W3CDTF">2012-06-16T16:15:40Z</dcterms:modified>
  <cp:revision>100</cp:revision>
  <dc:subject/>
  <dc:title>Мыловарение и его роль в жизни человека</dc:title>
</cp:coreProperties>
</file>