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837-E976-4B38-8D1F-8AE85DE7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F466-CB0D-4115-A18E-3A27A6C6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A309-EC3B-4F29-BE77-F64F2371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99FC-3C72-482D-BC17-5D7E1419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CAA8-FE64-4577-9929-621ACA0A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E1BD-2C82-434B-8DFC-4CDC7CCF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5C60-A051-4622-88E4-464D3FCF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83B9-F060-4680-9E05-03E46C59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B728-E771-466A-A0E4-8A78C131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0AC5-BF2D-47A5-B61D-5C1FED86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6355-7B0C-4053-901A-1FB0C7E1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5D4-282A-40E3-885E-445F236D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2D44-4472-4C44-A4F6-27BEAE69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791F-8682-4C30-B036-CB43DF6B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26CB-F33F-454C-B90E-27B6661A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F55C-A7DA-4C03-8DBB-7B1E2D30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FA43-5A24-4A28-90EE-1DE52D51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FF8-F90C-4FA7-8AC4-E8790915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87B-178B-4F9D-9E22-9D2EDB6A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28E-C107-4FDE-9527-54521203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E97-802C-43DE-8F6F-CDF4E2D1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D02-0C95-45A2-8BAF-1B4042A8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35A-9437-437B-B750-420412AD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DF7-CDDF-4DEC-9C89-3DE8F853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11FA-DAF5-4DEC-BB85-CC2620DA575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B779-3DF4-48E8-848C-1F34BF3F642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403280" y="62064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ань успешным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422360" y="2689920"/>
            <a:ext cx="39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24360" y="2276640"/>
            <a:ext cx="3419640" cy="3419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2133720"/>
            <a:ext cx="6192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качества, помогающие человеку стать популярным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дар природы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голова на плечах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уважение к людям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умение работать над собой.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03280" y="26028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ань успешным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208160"/>
            <a:ext cx="381636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 Black"/>
              </a:rPr>
              <a:t>САМОПРИКАЗ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Это короткое, отрывистое распоряжение, сделанное самому себе, которое помогает сдерживать эмоции, выполнять неприятно обязанности. Важно, чтобы он был разумным и в то же время, чтобы заставлял преодолевать нежелание, заставлял делать ЧТО НУЖНО, а не ЧТО ХОЧЕТСЯ. Волевой человек всегда добивается успех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51640" y="4005360"/>
            <a:ext cx="3492360" cy="1828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1980" t="0" r="17131" b="0"/>
          <a:stretch/>
        </p:blipFill>
        <p:spPr>
          <a:xfrm flipH="1">
            <a:off x="3563640" y="2276640"/>
            <a:ext cx="1841400" cy="35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403280" y="62064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ань успешным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684080"/>
            <a:ext cx="3456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 Black"/>
              </a:rPr>
              <a:t>САМОВНУШ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Оно помогает вести себя в рамках правил культурного поведения, владеть собой в самые трудных ситуациях.  В течении нескольких недель, а иногда и месяцев  по многу раз в день произносится заранее подготовленная фраза и делается это до тех пор, пока уверенность не становится непоколебимой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 flipH="1">
            <a:off x="4284720" y="1916280"/>
            <a:ext cx="3959280" cy="38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353680"/>
            <a:ext cx="421164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 Black"/>
              </a:rPr>
              <a:t>САМООБОДР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Во многих жизненных ситуациях целесообразно «оглянутся назад», вспомнить о  своих успехах в аналогичных случаях. Прошлые успехи говорят человеку о его возможностях, о скрытых резервах и вселяют уверенность в своих силах. Ободряя себя, надо не бороться со своими недостатками, а изменять свое отношение к ним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03280" y="62064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ань успешным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 rot="10800000">
            <a:off x="4535280" y="2492280"/>
            <a:ext cx="46083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2238480"/>
            <a:ext cx="36352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 Black"/>
              </a:rPr>
              <a:t>САМОРЕГУЛЯЦ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Дает возможность корректировать накал страстей, приучает держать себя в руках, быстро успокаиваться в сложных ситуациях.  Движение, дыхание, счет шагов в уме быстро отвлекают от ситуации, успокаивают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03280" y="62064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ань успешным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427640" y="2421000"/>
            <a:ext cx="42847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1959480"/>
            <a:ext cx="473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 Black"/>
              </a:rPr>
              <a:t>САМОПООЩРЕНИЕ  и  САМОНАКАЗА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В  случае даже незначительных успехов целесообразно хвалить себя, мысленно говоря: «Умница!», «Здорово получилось!», «И так дальше!». А в случае неудачи мысленно выговаривать себе: «Плохо!»,  « Очень плохо!»,  «Стыдно!». Кроме того, подкреплять успех можно с помощью приятных встреч, занятий любимым делом и т.д. А лишение себя удовольствия будет эффективным средством самонаказания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03280" y="62064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ань успешным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867280" y="3573360"/>
            <a:ext cx="3276720" cy="2140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508720" y="1341360"/>
            <a:ext cx="2663640" cy="2664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2:10:41Z</dcterms:created>
  <dc:creator>LLL</dc:creator>
  <dc:description/>
  <dc:language>en-US</dc:language>
  <cp:lastModifiedBy>User</cp:lastModifiedBy>
  <dcterms:modified xsi:type="dcterms:W3CDTF">2011-12-02T13:48:15Z</dcterms:modified>
  <cp:revision>7</cp:revision>
  <dc:subject/>
  <dc:title>Слайд 1</dc:title>
</cp:coreProperties>
</file>