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C6A-BCF0-402D-887D-29C37DD9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9C0-74CA-40F8-9682-3812ED3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0DD-81AE-4B71-94BE-11D3F67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308-6094-4D9C-A97F-0F86EF5E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78EC-F09C-4485-A633-1236AF74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8F3-E0A8-49A0-AAFA-7E282F1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12F7-C18A-46C0-9C97-F11140A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347-1DEB-4156-862A-17E29D0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1D0B-6D53-4951-8CC2-87C6CE6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CFC-24AC-46D7-BA4E-7FA07F42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5C3-F645-469D-AAF1-70BB079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886-4398-430F-9904-F2C7FD5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6BB-39AA-426C-8E9B-8C5E97C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ECA9-AE09-45A5-953B-C4DAD264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94A-7CFF-41C9-AD91-C9E9B08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5F45-E29F-4F57-9C9C-225E639B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36B4-3ADD-4939-9DEB-07036EFA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C5E-945F-4B16-9A33-05BFD63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6EC-4809-4985-A250-1391F440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F67-E951-4D13-ABAF-750F5E8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C5C-D13E-4775-8C6E-567A00B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E4D-517B-48DE-AF40-6C4A83F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B5E-CBBC-4751-A60F-05431C17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90A-13F5-433D-9CA3-6F33880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BEA-97E2-4DA9-BD82-7808037338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E70-3717-46DB-A8EB-459C80E998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422360" y="268992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419640" cy="34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13372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качества, помогающие человеку стать популярным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дар природы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голова на плечах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уважение к людям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умение работать над собой.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03280" y="26028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208160"/>
            <a:ext cx="3816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ПРИКАЗ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Это короткое, отрывистое распоряжение, сделанное самому себе, которое помогает сдерживать эмоции, выполнять неприятно обязанности. Важно, чтобы он был разумным и в то же время, чтобы заставлял преодолевать нежелание, заставлял делать ЧТО НУЖНО, а не ЧТО ХОЧЕТСЯ. Волевой человек всегда добивается успех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349236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1980" t="0" r="17131" b="0"/>
          <a:stretch/>
        </p:blipFill>
        <p:spPr>
          <a:xfrm flipH="1">
            <a:off x="3563640" y="2276640"/>
            <a:ext cx="1841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684080"/>
            <a:ext cx="345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ВНУШ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Оно помогает вести себя в рамках правил культурного поведения, владеть собой в самые трудных ситуациях.  В течении нескольких недель, а иногда и месяцев  по многу раз в день произносится заранее подготовленная фраза и делается это до тех пор, пока уверенность не становится непоколебим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4284720" y="1916280"/>
            <a:ext cx="395928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353680"/>
            <a:ext cx="4211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ОБОДР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Во многих жизненных ситуациях целесообразно «оглянутся назад», вспомнить о  своих успехах в аналогичных случаях. Прошлые успехи говорят человеку о его возможностях, о скрытых резервах и вселяют уверенность в своих силах. Ободряя себя, надо не бороться со своими недостатками, а изменять свое отношение к ним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800000">
            <a:off x="4535280" y="2492280"/>
            <a:ext cx="4608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38480"/>
            <a:ext cx="3635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РЕГУЛЯ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Дает возможность корректировать накал страстей, приучает держать себя в руках, быстро успокаиваться в сложных ситуациях.  Движение, дыхание, счет шагов в уме быстро отвлекают от ситуации, успокаиваю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84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1959480"/>
            <a:ext cx="473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ПООЩРЕНИЕ  и  САМОНАКАЗА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В  случае даже незначительных успехов целесообразно хвалить себя, мысленно говоря: «Умница!», «Здорово получилось!», «И так дальше!». А в случае неудачи мысленно выговаривать себе: «Плохо!»,  « Очень плохо!»,  «Стыдно!». Кроме того, подкреплять успех можно с помощью приятных встреч, занятий любимым делом и т.д. А лишение себя удовольствия будет эффективным средством самонаказа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3276720" cy="214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2663640" cy="266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10:41Z</dcterms:created>
  <dc:creator>LLL</dc:creator>
  <dc:description/>
  <dc:language>en-US</dc:language>
  <cp:lastModifiedBy>User</cp:lastModifiedBy>
  <dcterms:modified xsi:type="dcterms:W3CDTF">2011-12-02T13:48:15Z</dcterms:modified>
  <cp:revision>7</cp:revision>
  <dc:subject/>
  <dc:title>Слайд 1</dc:title>
</cp:coreProperties>
</file>