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D05-287A-4BFE-9E4B-A62E9796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543-D5A5-4C7B-8B09-855E60C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DC8-8E3A-4DFF-B7DF-7161579D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736-ED3D-4333-B545-793B5EED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1D4-AE4E-4D63-8CE8-631F7E5B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4206-6853-4BE5-A2C1-1A1C204E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8EED-093C-401A-BA13-16EDFC9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E641-714F-49E2-89DA-931DC0FA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5148-2C59-495A-83AE-8DD4C22E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0B45-138C-490B-9F32-04FD7276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4A69-E0D6-462A-8104-6EC79C1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EDB-3DC9-49F1-9BBE-E957386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923-BE98-426B-9373-1EE33510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DBF3-D710-4182-B4A3-0D0561A6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95CB-9AC5-4CC2-8430-3FBCFCA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B2C-A3E5-458B-B2D5-7387DDFD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4CE-BB12-4F2A-900C-882EF126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BFA-8040-4F24-A8CE-7F10244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39E-6374-4186-B011-29A87E1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4B7-BD77-47F9-986F-AECEAF23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4FE-E3C9-44F9-87B7-917933B5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B4D-72A6-4B66-B989-7A0AD35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415-F8B2-4D3A-A1FB-E3C4FBA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B90-ECE2-4CCC-8434-5A94574D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1609-C035-442F-9529-061E57005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DB27-BB64-48F3-A1FF-5EECFA114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Вкусное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печенье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Arial"/>
              </a:rPr>
              <a:t>Сюжетно-ролевая</a:t>
            </a: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cc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ь пользоваться посудой и знать её название. Развивать у детей интерес к профессии повар, желание делать что-либо для других. Закреплять приемы лепки; умение аккуратно обращаться с материалами и оборудованием. Вызывать чувство радости от получившегося изобра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Ингредиенты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очное печень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ка-1 ста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ло сливочное-1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хар-0,5 стак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мешиваем тест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6986520" cy="532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Укладываем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на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сковород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697800" cy="47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авим в духовой шкаф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6264360" cy="42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Arial"/>
              </a:rPr>
              <a:t>Чаепитие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05440" cy="31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4103640" cy="316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636640"/>
            <a:ext cx="8510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44:40Z</dcterms:created>
  <dc:creator>Admin</dc:creator>
  <dc:description/>
  <dc:language>en-US</dc:language>
  <cp:lastModifiedBy>Admin</cp:lastModifiedBy>
  <dcterms:modified xsi:type="dcterms:W3CDTF">2012-06-16T07:31:22Z</dcterms:modified>
  <cp:revision>3</cp:revision>
  <dc:subject/>
  <dc:title>Вкусное печенье</dc:title>
</cp:coreProperties>
</file>