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713-D390-4695-AB90-F1D39569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939-A5C6-4140-9F35-B8C01B01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C39-3646-4CF3-B7F4-5ED214BB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C8F-D92B-4A3E-B603-5F04C350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2D9-193B-47C7-AADB-610850F8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ED0D-4199-49D9-991D-B764C55E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737C-A5C1-45C5-8E2F-E607503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F237-06CB-4C0F-BAFA-EE8A75FC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C03A-7B82-45F7-8FD0-5CAA4899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15C3-9B76-4A4D-AA7D-D0FFE2F1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C67-CDD1-4256-A9FC-45259C5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B5A-6C58-4D96-B943-706FD181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A1EF-C6C0-4CD1-98EE-4F08BEF9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F73C-6FEC-4DAD-915C-CDF2350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B03B-162E-446A-9F36-C4962A1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BAB1-A8AD-4B37-9F4D-5CCADA8C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98F6-9548-45AC-968B-ACC925BC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1C3-E2DD-419D-8C4B-994430C2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6E9-A49C-40E7-B4E2-0D0BC5AD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ED4-918C-4518-968F-DCE7709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A5A5-24A3-45D4-BD75-EC99F617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F53-6BBD-470D-B8B4-C2C4FD9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168-52EB-4BD6-9F59-19E028B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C7D-470F-4190-937B-72D9820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B1B-DEAF-4C45-8C1E-C6EBE9EBE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F669-716F-426D-B410-B7863848D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Вкусное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печенье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Arial"/>
              </a:rPr>
              <a:t>Сюжетно-ролевая</a:t>
            </a:r>
            <a:r>
              <a:rPr b="0" lang="en-US" sz="3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ccc"/>
                </a:solidFill>
                <a:latin typeface="Arial"/>
              </a:rPr>
              <a:t>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ь пользоваться посудой и знать её название. Развивать у детей интерес к профессии повар, желание делать что-либо для других. Закреплять приемы лепки; умение аккуратно обращаться с материалами и оборудованием. Вызывать чувство радости от получившегося изображ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Ингредиенты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сочное печень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ука-1 ста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ло сливочное-1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хар-0,5 стак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Замешиваем тест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6480360" cy="431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620640"/>
            <a:ext cx="6986520" cy="5329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Укладываем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на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сковород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697800" cy="47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авим в духовой шкаф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6264360" cy="424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7e7ff"/>
                </a:solidFill>
                <a:latin typeface="Arial"/>
              </a:rPr>
              <a:t>Чаепитие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05440" cy="31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4103640" cy="316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636640"/>
            <a:ext cx="8510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44:40Z</dcterms:created>
  <dc:creator>Admin</dc:creator>
  <dc:description/>
  <dc:language>en-US</dc:language>
  <cp:lastModifiedBy>Admin</cp:lastModifiedBy>
  <dcterms:modified xsi:type="dcterms:W3CDTF">2012-06-16T07:31:22Z</dcterms:modified>
  <cp:revision>3</cp:revision>
  <dc:subject/>
  <dc:title>Вкусное печенье</dc:title>
</cp:coreProperties>
</file>