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wmf" ContentType="image/x-wmf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453-6597-4CEE-82AE-6108B6CE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466B-5421-4767-BC81-F67101C1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88F-28A7-4172-B0D1-4314D02C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7AA-4BA1-4CEC-89F7-BCD2A3DC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8043C-3E34-419C-88C5-43C06AF9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80BE4-AA39-43CA-BD5B-F4DECF25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B715A-9F10-4CD6-9EC3-1525B691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9D1BD-F17C-463D-941D-5907AB0E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4B27C-4FDB-4580-AFFA-4F0D4AA6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DA0A1-4666-46BD-BD7F-344B9FCA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B2BB1-7754-49FF-975C-50F68196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5E0-6F11-4A25-BF6C-780A3B53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7BBC6-2664-4437-8F5C-9B1FEC35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DCC6D-F788-4EC9-BCEB-CF1A29BC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EF2FF-1F16-4C6D-9301-25139FC4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13F18-68B7-4291-844D-305623CE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2CF95-9F7A-44DB-8F8C-9961FA3A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7B5-0D47-4500-8E7F-3BB09C96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5C5-8A43-4902-909B-9A792844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76F-6C04-418C-ADD7-63728960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3AD2-7906-4E31-BB2C-2E9E4FE2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B1A-752D-4A53-B959-CFEE5FFD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17E-081C-4D82-B114-C3C9B382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CE7-D341-4ECB-9267-0956E0D1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F4E3-F743-46CC-840B-E5F51AB4B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32AB-BCF9-4F07-9709-F3312F1D13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родской конкурс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роектно-исследовательских работ старшеклассников по химии  г.Новочеркасск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В науке первые шаг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388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следовательский проект: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«Влияние биологически активной воды на рост растени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полнила:                                                    уч-ся  10 класса МБОУСОШ №12  г. Новочеркасска                                                     Лукьянова Надежд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:                                               учитель химии МБОУСОШ №12  г. Новочеркасска                                                     Суринова Лариса Михайл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2" descr="S7301111"/>
          <p:cNvPicPr/>
          <p:nvPr/>
        </p:nvPicPr>
        <p:blipFill>
          <a:blip r:embed="rId2"/>
          <a:stretch/>
        </p:blipFill>
        <p:spPr>
          <a:xfrm>
            <a:off x="179280" y="2127240"/>
            <a:ext cx="4321440" cy="39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иаграмма рос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Object 2"/>
          <p:cNvGraphicFramePr/>
          <p:nvPr/>
        </p:nvGraphicFramePr>
        <p:xfrm>
          <a:off x="1332000" y="1521000"/>
          <a:ext cx="6553080" cy="5187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521000"/>
                    <a:ext cx="655308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зультаты наблюдений за ростом растений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Длина корневой систем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7" descr="S7301103"/>
          <p:cNvPicPr/>
          <p:nvPr/>
        </p:nvPicPr>
        <p:blipFill>
          <a:blip r:embed="rId2"/>
          <a:stretch/>
        </p:blipFill>
        <p:spPr>
          <a:xfrm>
            <a:off x="179280" y="1557360"/>
            <a:ext cx="2952720" cy="2509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S7301102"/>
          <p:cNvPicPr/>
          <p:nvPr/>
        </p:nvPicPr>
        <p:blipFill>
          <a:blip r:embed="rId3"/>
          <a:stretch/>
        </p:blipFill>
        <p:spPr>
          <a:xfrm>
            <a:off x="179280" y="4149720"/>
            <a:ext cx="3025800" cy="248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7301106"/>
          <p:cNvPicPr/>
          <p:nvPr/>
        </p:nvPicPr>
        <p:blipFill>
          <a:blip r:embed="rId4"/>
          <a:stretch/>
        </p:blipFill>
        <p:spPr>
          <a:xfrm>
            <a:off x="3203640" y="1566720"/>
            <a:ext cx="2881080" cy="2419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S7301105"/>
          <p:cNvPicPr/>
          <p:nvPr/>
        </p:nvPicPr>
        <p:blipFill>
          <a:blip r:embed="rId5"/>
          <a:stretch/>
        </p:blipFill>
        <p:spPr>
          <a:xfrm>
            <a:off x="3276720" y="4149720"/>
            <a:ext cx="2735280" cy="2432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S7301108"/>
          <p:cNvPicPr/>
          <p:nvPr/>
        </p:nvPicPr>
        <p:blipFill>
          <a:blip r:embed="rId6"/>
          <a:stretch/>
        </p:blipFill>
        <p:spPr>
          <a:xfrm>
            <a:off x="6156360" y="1628640"/>
            <a:ext cx="2741400" cy="23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7301107"/>
          <p:cNvPicPr/>
          <p:nvPr/>
        </p:nvPicPr>
        <p:blipFill>
          <a:blip r:embed="rId7"/>
          <a:stretch/>
        </p:blipFill>
        <p:spPr>
          <a:xfrm>
            <a:off x="6084720" y="4149720"/>
            <a:ext cx="296244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зультаты наблюдени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 ростом корневой системы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-ый день                                          8-ой д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48320" y="1905120"/>
          <a:ext cx="4038480" cy="4763520"/>
        </p:xfrm>
        <a:graphic>
          <a:graphicData uri="http://schemas.openxmlformats.org/drawingml/2006/table">
            <a:tbl>
              <a:tblPr/>
              <a:tblGrid>
                <a:gridCol w="1336680"/>
                <a:gridCol w="2701800"/>
              </a:tblGrid>
              <a:tr h="697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ина корневой системы8 день),с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опроводная(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уще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я через активи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нный уголь(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лая(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ебряная(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агниченная(5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42960" y="1928880"/>
          <a:ext cx="3857760" cy="4686120"/>
        </p:xfrm>
        <a:graphic>
          <a:graphicData uri="http://schemas.openxmlformats.org/drawingml/2006/table">
            <a:tbl>
              <a:tblPr/>
              <a:tblGrid>
                <a:gridCol w="1433520"/>
                <a:gridCol w="2424240"/>
              </a:tblGrid>
              <a:tr h="67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ина корневой системы(4 день),м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опроводная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ущ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я через активи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нный уголь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лая(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зультаты наблюдений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а ростом пера лука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0-ый день                     Длина пера л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Копия S7301109"/>
          <p:cNvPicPr/>
          <p:nvPr/>
        </p:nvPicPr>
        <p:blipFill>
          <a:blip r:embed="rId2"/>
          <a:stretch/>
        </p:blipFill>
        <p:spPr>
          <a:xfrm>
            <a:off x="4643280" y="1979640"/>
            <a:ext cx="4392720" cy="41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468360" y="1916280"/>
          <a:ext cx="4038480" cy="4319280"/>
        </p:xfrm>
        <a:graphic>
          <a:graphicData uri="http://schemas.openxmlformats.org/drawingml/2006/table">
            <a:tbl>
              <a:tblPr/>
              <a:tblGrid>
                <a:gridCol w="1560600"/>
                <a:gridCol w="24778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ина пера лука (20 день),с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допроводная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пущенна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ез активи-рованный уголь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лая(3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ебрянная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агни-чен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я(5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ыводы  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 результатам исследования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ботая по теме исследования, я пришла к следующим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ывода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результате домашнего эксперимента  было установлено, что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наилучшим образом влияет на рост  растений талая вод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хорошо влияет на рост растений серебряная и  омагниченная вод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неплохо растут растения в воде, пропущенной через активированный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ол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самые плохие показатели роста в простой водопроводной во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им образом, при выполнении данной работы я смогла проверить сформулированную  мной  гипотезу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Гипотеза верна:  не вся биологически активная вода одинаково влияет на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живые организм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Я расширила свой кругозор по теме: виды биологически активной воды и ее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войств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владела методиками приготовления биологически активной воды, приобрела навыки проведения домашнего эксперимента и исследовательской рабо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нный материал можно использовать на уроках химии, экологии, биологии, классных часа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Рекомендации 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 результатам исследов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отметить, что поскольку  самые плохие показатели выявлены в водопроводной воде, следовательно, подобная очистка воды отнюдь не гарантирует того, что вода будет полезна или хотя бы не опасна для нашего здоровья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этому я считаю, что главным в настоящее время буде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овести  беседы с целью ознакомления окружающих с результатами проделанной работ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овести п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осветительскую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работу среди населения по обязательному  использованию в быту фильтров для очистки воды или  бутилированной вод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рекомендовать приготовлять в домашних условиях серебряную (с помощью изделий из серебра) или талую воду (с помощью льд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это доступно каждому человеку. Я хочу, чтобы мое выросло экологически грамотным и здоров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Влияние биологически активной воды на рост растений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Актуальность  выбранной 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последнее время активно возрождается интерес к очистке воды, к фильтрам для воды, очистным системам и подобному оборудованию. Людям приходится в быту пользоваться фильтрами, через которые очищается водопроводная вода или покупать бутилированную в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да обладает уникальными свойствами как растворитель и дисперсионная сре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выдвинула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гипотезу: не вся биологически активная вода одинаково влияет на живые организм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как вода служит средой жизни живых организмов, я решила приготовить различные виды биологически активной воды и исследовать их влияние на рост раст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итаю, что данная тема  актуальна и заслуживае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мотр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2" descr="1"/>
          <p:cNvPicPr/>
          <p:nvPr/>
        </p:nvPicPr>
        <p:blipFill>
          <a:blip r:embed="rId2"/>
          <a:stretch/>
        </p:blipFill>
        <p:spPr>
          <a:xfrm>
            <a:off x="468360" y="5429160"/>
            <a:ext cx="2071800" cy="14288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Цели исследования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Целью моей работы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Влияние биологически активной воды на рост растений» является исследование влияния различных видов биологически активной воды на рост растений на примере лу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ести исследование, чтобы выяснить, какая вода: водопроводная (1), пропущенная через активированный уголь(2), талая(3), серебряная(4), омагниченная(5) является наиболее благоприятной средой для роста растений, на примере лу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S7301070"/>
          <p:cNvPicPr/>
          <p:nvPr/>
        </p:nvPicPr>
        <p:blipFill>
          <a:blip r:embed="rId2"/>
          <a:stretch/>
        </p:blipFill>
        <p:spPr>
          <a:xfrm>
            <a:off x="2556000" y="4149720"/>
            <a:ext cx="439236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Задачи и методы исследо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Для достижения  цели моей работы были поставлены следующие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учить и проанализировать литературные источники о свойствах и видах биологически активной 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актически ознакомиться с различными способами  приготовления биологически активной вод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вести домашний эксперимен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формулировать выв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вести беседы с целью ознакомления окружающих с результатами проделанной работ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В своей работе я применяла следующие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методы исследования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омашний эксперимент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ализ и наблюдени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ализ научной и исторической литературы по данной тем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иды биологически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активной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1. Водопроводная в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2. Вода ,пропущенная через активированный уг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3. Талая в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4. Серебряная в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5. Омагниченная в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7" descr="S7301070"/>
          <p:cNvPicPr/>
          <p:nvPr/>
        </p:nvPicPr>
        <p:blipFill>
          <a:blip r:embed="rId2"/>
          <a:stretch/>
        </p:blipFill>
        <p:spPr>
          <a:xfrm>
            <a:off x="4211640" y="2492280"/>
            <a:ext cx="4753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Анализ литературных источников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Водопроводная в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7120" y="4714560"/>
            <a:ext cx="8229600" cy="14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ahoma"/>
              </a:rPr>
              <a:t>При такой фильтрации воды кальций и магний остаются в воде, т. к. их катионы имеют меньший радиус, чем ионы тяжелых металлов. Структура молекулы не изменяе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Вода ,пропущенная через активированный уго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Содержимое 2"/>
          <p:cNvSpPr/>
          <p:nvPr/>
        </p:nvSpPr>
        <p:spPr>
          <a:xfrm>
            <a:off x="285840" y="1714680"/>
            <a:ext cx="70009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aaaac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Вода, текущая из наших кранов ,без механических примесей, но с содержанием хлора и тяжелых металлов. Имеет хаотичную структур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2" descr="Водопроводная вода"/>
          <p:cNvPicPr/>
          <p:nvPr/>
        </p:nvPicPr>
        <p:blipFill>
          <a:blip r:embed="rId2"/>
          <a:stretch/>
        </p:blipFill>
        <p:spPr>
          <a:xfrm>
            <a:off x="7000920" y="1557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ffffff"/>
                </a:solidFill>
                <a:latin typeface="Tahoma"/>
              </a:rPr>
              <a:t>Омагниченная вода.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cccc"/>
                </a:solidFill>
                <a:latin typeface="Tahoma"/>
              </a:rPr>
              <a:t>При пропускании воды через магниты вода меняет свои физико-химические свойства : скорость химических реакций в ней увеличивается, ускоряется кристаллизация растворенных веществ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cccc"/>
                </a:solidFill>
                <a:latin typeface="Tahoma"/>
              </a:rPr>
              <a:t>Но вода обладает не очень длительной «памятью», поэтому омагниченная вода со временем теряет свои свойства, постепенно возвращаясь в свое исходное состояние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2" descr="D:\Мои документы\УЧЕБА\clip_image001.jpg"/>
          <p:cNvPicPr/>
          <p:nvPr/>
        </p:nvPicPr>
        <p:blipFill>
          <a:blip r:embed="rId2"/>
          <a:stretch/>
        </p:blipFill>
        <p:spPr>
          <a:xfrm>
            <a:off x="7170840" y="4741920"/>
            <a:ext cx="1973160" cy="211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ahoma"/>
              </a:rPr>
              <a:t>Талая вод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5194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Tahoma"/>
              </a:rPr>
              <a:t>Это чистая высококачественная вода, которая не содержит хлориды, соли, вредные вещества. Имеет  точно упорядоченную структуру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Серебряная во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оны серебра обладают антибактериальным действием , за счет чего они обеззараживают воду, избавляют от вредных веществ</a:t>
            </a:r>
            <a:r>
              <a:rPr b="1" i="1" lang="en-US" sz="2800" spc="-1" strike="noStrike">
                <a:solidFill>
                  <a:srgbClr val="33cc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" descr="Талая вода"/>
          <p:cNvPicPr/>
          <p:nvPr/>
        </p:nvPicPr>
        <p:blipFill>
          <a:blip r:embed="rId2"/>
          <a:stretch/>
        </p:blipFill>
        <p:spPr>
          <a:xfrm>
            <a:off x="6012000" y="1484280"/>
            <a:ext cx="2592360" cy="2535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o8ode-silver1"/>
          <p:cNvPicPr/>
          <p:nvPr/>
        </p:nvPicPr>
        <p:blipFill>
          <a:blip r:embed="rId3"/>
          <a:stretch/>
        </p:blipFill>
        <p:spPr>
          <a:xfrm>
            <a:off x="6084720" y="4076640"/>
            <a:ext cx="2664000" cy="25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19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ведение исследований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лияния биологически активной воды на рост  растений на примере лука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одготовка и посадка головок лук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4038480" cy="3538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2920" y="2421000"/>
            <a:ext cx="4038840" cy="3610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7301099"/>
          <p:cNvPicPr/>
          <p:nvPr/>
        </p:nvPicPr>
        <p:blipFill>
          <a:blip r:embed="rId4"/>
          <a:stretch/>
        </p:blipFill>
        <p:spPr>
          <a:xfrm>
            <a:off x="0" y="2492280"/>
            <a:ext cx="4786200" cy="364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S7301078"/>
          <p:cNvPicPr/>
          <p:nvPr/>
        </p:nvPicPr>
        <p:blipFill>
          <a:blip r:embed="rId5"/>
          <a:stretch/>
        </p:blipFill>
        <p:spPr>
          <a:xfrm>
            <a:off x="4643280" y="2421000"/>
            <a:ext cx="45007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3:45:00Z</dcterms:created>
  <dc:creator>User</dc:creator>
  <dc:description/>
  <dc:language>en-US</dc:language>
  <cp:lastModifiedBy>Суринова</cp:lastModifiedBy>
  <dcterms:modified xsi:type="dcterms:W3CDTF">2012-06-02T18:37:14Z</dcterms:modified>
  <cp:revision>23</cp:revision>
  <dc:subject/>
  <dc:title>Влияние биологически активной воды на рост растений. </dc:title>
</cp:coreProperties>
</file>