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wmf" ContentType="image/x-wmf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A0F-4DC7-4E37-AD69-02A04225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A2D-1D40-4354-9ED9-61FFFBAF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D5E-18C3-4DEF-844D-B9BE111D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6C06-605D-4CDE-85B7-4862D893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C25C4-BE28-4A3F-AE24-0DE9142F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C265E-3FBD-4A96-9E26-2113C655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78862-0922-4B96-8FB3-1F48A162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B6FE2-51BD-4681-B6DF-66383E0D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34CFA-8033-4525-9727-02149647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646BE-ED7E-4870-A5D8-1710436B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D3771-5BF0-4DD0-8F93-DB351952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E3F-F899-402F-BC56-6C40A2DB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41D88-D0C0-47A9-BB47-16396F6F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B3CD1-3E87-464D-A8B1-6671A256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AAFD7-E4B4-4893-ADD0-01B6912F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71249-410E-4DC4-87BC-4643E1DF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5AB6C-0678-4F0B-8589-F62E5EA8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FB06-F20E-4044-87F8-D0E368BA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D79-8BB9-4C59-8498-C7C197A7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4D3-192F-4683-89C1-A5CA689C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5E23-C2F3-4CA8-AC55-C4BCD35F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83E-31FB-4960-B9DD-AD605AE7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DD1-B992-4824-BD6C-89C8AE0B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9277-EF64-4BF3-BAE5-F8CA161F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B726-B3C9-4EAC-AF09-39D720284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6BCE-11D0-4411-8241-48BD24D281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ородской конкурс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проектно-исследовательских работ старшеклассников по химии  г.Новочеркасск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В науке первые шаг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следовательский проект:                   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«Влияние биологически активной воды на рост растени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а:                                                    уч-ся  10 класса МБОУСОШ №12  г. Новочеркасска                                                     Лукьянова Надежда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ководитель:                                               учитель химии МБОУСОШ №12  г. Новочеркасска                                                     Суринова Лариса Михайл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2" descr="S7301111"/>
          <p:cNvPicPr/>
          <p:nvPr/>
        </p:nvPicPr>
        <p:blipFill>
          <a:blip r:embed="rId2"/>
          <a:stretch/>
        </p:blipFill>
        <p:spPr>
          <a:xfrm>
            <a:off x="179280" y="2127240"/>
            <a:ext cx="4321440" cy="39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иаграмма рос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Object 2"/>
          <p:cNvGraphicFramePr/>
          <p:nvPr/>
        </p:nvGraphicFramePr>
        <p:xfrm>
          <a:off x="1332000" y="1521000"/>
          <a:ext cx="6553080" cy="5187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521000"/>
                    <a:ext cx="6553080" cy="51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зультаты наблюдений за ростом растений    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Длина корневой систем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S7301103"/>
          <p:cNvPicPr/>
          <p:nvPr/>
        </p:nvPicPr>
        <p:blipFill>
          <a:blip r:embed="rId2"/>
          <a:stretch/>
        </p:blipFill>
        <p:spPr>
          <a:xfrm>
            <a:off x="179280" y="1557360"/>
            <a:ext cx="2952720" cy="2509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S7301102"/>
          <p:cNvPicPr/>
          <p:nvPr/>
        </p:nvPicPr>
        <p:blipFill>
          <a:blip r:embed="rId3"/>
          <a:stretch/>
        </p:blipFill>
        <p:spPr>
          <a:xfrm>
            <a:off x="179280" y="4149720"/>
            <a:ext cx="3025800" cy="2487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7301106"/>
          <p:cNvPicPr/>
          <p:nvPr/>
        </p:nvPicPr>
        <p:blipFill>
          <a:blip r:embed="rId4"/>
          <a:stretch/>
        </p:blipFill>
        <p:spPr>
          <a:xfrm>
            <a:off x="3203640" y="1566720"/>
            <a:ext cx="2881080" cy="2419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S7301105"/>
          <p:cNvPicPr/>
          <p:nvPr/>
        </p:nvPicPr>
        <p:blipFill>
          <a:blip r:embed="rId5"/>
          <a:stretch/>
        </p:blipFill>
        <p:spPr>
          <a:xfrm>
            <a:off x="3276720" y="4149720"/>
            <a:ext cx="2735280" cy="2432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S7301108"/>
          <p:cNvPicPr/>
          <p:nvPr/>
        </p:nvPicPr>
        <p:blipFill>
          <a:blip r:embed="rId6"/>
          <a:stretch/>
        </p:blipFill>
        <p:spPr>
          <a:xfrm>
            <a:off x="6156360" y="1628640"/>
            <a:ext cx="2741400" cy="2381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S7301107"/>
          <p:cNvPicPr/>
          <p:nvPr/>
        </p:nvPicPr>
        <p:blipFill>
          <a:blip r:embed="rId7"/>
          <a:stretch/>
        </p:blipFill>
        <p:spPr>
          <a:xfrm>
            <a:off x="6084720" y="4149720"/>
            <a:ext cx="296244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зультаты наблюдений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 ростом корневой системы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-ый день                                          8-ой де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48320" y="1905120"/>
          <a:ext cx="4038480" cy="4763520"/>
        </p:xfrm>
        <a:graphic>
          <a:graphicData uri="http://schemas.openxmlformats.org/drawingml/2006/table">
            <a:tbl>
              <a:tblPr/>
              <a:tblGrid>
                <a:gridCol w="1336680"/>
                <a:gridCol w="2701800"/>
              </a:tblGrid>
              <a:tr h="697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лина корневой системы8 день),с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опроводная(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2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пуще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я через активи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нный уголь(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лая(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ебряная(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магниченная(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42960" y="1928880"/>
          <a:ext cx="3857760" cy="4686120"/>
        </p:xfrm>
        <a:graphic>
          <a:graphicData uri="http://schemas.openxmlformats.org/drawingml/2006/table">
            <a:tbl>
              <a:tblPr/>
              <a:tblGrid>
                <a:gridCol w="1433520"/>
                <a:gridCol w="2424240"/>
              </a:tblGrid>
              <a:tr h="67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лина корневой системы(4 день),м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опроводная(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пущ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я через активир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нный уголь(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лая(3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зультаты наблюдений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 ростом пера лука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0-ый день                     Длина пера лу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" descr="Копия S7301109"/>
          <p:cNvPicPr/>
          <p:nvPr/>
        </p:nvPicPr>
        <p:blipFill>
          <a:blip r:embed="rId2"/>
          <a:stretch/>
        </p:blipFill>
        <p:spPr>
          <a:xfrm>
            <a:off x="4643280" y="1979640"/>
            <a:ext cx="4392720" cy="41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468360" y="1916280"/>
          <a:ext cx="4038480" cy="4319280"/>
        </p:xfrm>
        <a:graphic>
          <a:graphicData uri="http://schemas.openxmlformats.org/drawingml/2006/table">
            <a:tbl>
              <a:tblPr/>
              <a:tblGrid>
                <a:gridCol w="1560600"/>
                <a:gridCol w="24778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лина пера лука (20 день),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опроводная(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пущен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ез активи-рованный уголь(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лая(3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ебрянная(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магни-чен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я(5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ыводы  </a:t>
            </a:r>
            <a:br>
              <a:rPr sz="40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 результатам исследования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ботая по теме исследования, я пришла к следующим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выводам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результате домашнего эксперимента  было установлено, чт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наилучшим образом влияет на рост  растений талая вод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хорошо влияет на рост растений серебряная и  омагниченная вод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неплохо растут растения в воде, пропущенной через активированный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самые плохие показатели роста в простой водопроводной вод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ким образом, при выполнении данной работы я смогла проверить сформулированную  мной  гипотезу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Гипотеза верна:  не вся биологически активная вода одинаково влияет на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живые организм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Я расширила свой кругозор по теме: виды биологически активной воды и ее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войст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владела методиками приготовления биологически активной воды, приобрела навыки проведения домашнего эксперимента и исследовательской работ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анный материал можно использовать на уроках химии, экологии, биологии, классных часа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Рекомендации 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 результатам исследова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обходимо отметить, что поскольку  самые плохие показатели выявлены в водопроводной воде, следовательно, подобная очистка воды отнюдь не гарантирует того, что вода будет полезна или хотя бы не опасна для нашего здоровья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этому я считаю, что главным в настоящее время буд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ровести  беседы с целью ознакомления окружающих с результатами проделанной работ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ровести п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осветительскую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работу среди населения по обязательному  использованию в быту фильтров для очистки воды или  бутилированной водо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рекомендовать приготовлять в домашних условиях серебряную (с помощью изделий из серебра) или талую воду (с помощью льд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это доступно каждому человеку. Я хочу, чтобы мое выросло экологически грамотным и здоровы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Влияние биологически активной воды на рост растени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Актуальность  выбранной т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оследнее время активно возрождается интерес к очистке воды, к фильтрам для воды, очистным системам и подобному оборудованию. Людям приходится в быту пользоваться фильтрами, через которые очищается водопроводная вода или покупать бутилированную вод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да обладает уникальными свойствами как растворитель и дисперсионная сре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выдвинула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гипотезу: не вся биологически активная вода одинаково влияет на живые организм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 как вода служит средой жизни живых организмов, я решила приготовить различные виды биологически активной воды и исследовать их влияние на рост раст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читаю, что данная тема  актуальна и заслуживает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смотр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2" descr="1"/>
          <p:cNvPicPr/>
          <p:nvPr/>
        </p:nvPicPr>
        <p:blipFill>
          <a:blip r:embed="rId2"/>
          <a:stretch/>
        </p:blipFill>
        <p:spPr>
          <a:xfrm>
            <a:off x="468360" y="5429160"/>
            <a:ext cx="2071800" cy="14288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Цели исследова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Целью моей работы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Влияние биологически активной воды на рост растений» является исследование влияния различных видов биологически активной воды на рост растений на примере лу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вести исследование, чтобы выяснить, какая вода: водопроводная (1), пропущенная через активированный уголь(2), талая(3), серебряная(4), омагниченная(5) является наиболее благоприятной средой для роста растений, на примере лу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7" descr="S7301070"/>
          <p:cNvPicPr/>
          <p:nvPr/>
        </p:nvPicPr>
        <p:blipFill>
          <a:blip r:embed="rId2"/>
          <a:stretch/>
        </p:blipFill>
        <p:spPr>
          <a:xfrm>
            <a:off x="2556000" y="4149720"/>
            <a:ext cx="439236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Задачи и методы исследов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Для достижения  цели моей работы были поставлены следующие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учить и проанализировать литературные источники о свойствах и видах биологически активной в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актически ознакомиться с различными способами  приготовления биологически активной вод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вести домашний эксперимен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формулировать выв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вести беседы с целью ознакомления окружающих с результатами проделанной работ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 своей работе я применяла следующие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методы исследования: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машний эксперимент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ализ и наблюдени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ализ научной и исторической литературы по данной тем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иды биологически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активной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1. Водопроводная в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2. Вода ,пропущенная через активированный уго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3. Талая в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4. Серебряная в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5. Омагниченная в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7" descr="S7301070"/>
          <p:cNvPicPr/>
          <p:nvPr/>
        </p:nvPicPr>
        <p:blipFill>
          <a:blip r:embed="rId2"/>
          <a:stretch/>
        </p:blipFill>
        <p:spPr>
          <a:xfrm>
            <a:off x="4211640" y="2492280"/>
            <a:ext cx="47530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Анализ литературных источников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Водопроводная в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7120" y="4714560"/>
            <a:ext cx="8229600" cy="14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ahoma"/>
              </a:rPr>
              <a:t>При такой фильтрации воды кальций и магний остаются в воде, т. к. их катионы имеют меньший радиус, чем ионы тяжелых металлов. Структура молекулы не изменяетс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50004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Вода ,пропущенная через активированный уго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Содержимое 2"/>
          <p:cNvSpPr/>
          <p:nvPr/>
        </p:nvSpPr>
        <p:spPr>
          <a:xfrm>
            <a:off x="285840" y="1714680"/>
            <a:ext cx="70009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aaaac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ahoma"/>
              </a:rPr>
              <a:t>Вода, текущая из наших кранов ,без механических примесей, но с содержанием хлора и тяжелых металлов. Имеет хаотичную структуру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2" descr="Водопроводная вода"/>
          <p:cNvPicPr/>
          <p:nvPr/>
        </p:nvPicPr>
        <p:blipFill>
          <a:blip r:embed="rId2"/>
          <a:stretch/>
        </p:blipFill>
        <p:spPr>
          <a:xfrm>
            <a:off x="7000920" y="15573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900" spc="-1" strike="noStrike">
                <a:solidFill>
                  <a:srgbClr val="ffffff"/>
                </a:solidFill>
                <a:latin typeface="Tahoma"/>
              </a:rPr>
              <a:t>Омагниченная вода.</a:t>
            </a:r>
            <a:endParaRPr b="0" lang="en-US" sz="5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cccc"/>
                </a:solidFill>
                <a:latin typeface="Tahoma"/>
              </a:rPr>
              <a:t>При пропускании воды через магниты вода меняет свои физико-химические свойства : скорость химических реакций в ней увеличивается, ускоряется кристаллизация растворенных веществ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cccc"/>
                </a:solidFill>
                <a:latin typeface="Tahoma"/>
              </a:rPr>
              <a:t>Но вода обладает не очень длительной «памятью», поэтому омагниченная вода со временем теряет свои свойства, постепенно возвращаясь в свое исходное состояние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2" descr="D:\Мои документы\УЧЕБА\clip_image001.jpg"/>
          <p:cNvPicPr/>
          <p:nvPr/>
        </p:nvPicPr>
        <p:blipFill>
          <a:blip r:embed="rId2"/>
          <a:stretch/>
        </p:blipFill>
        <p:spPr>
          <a:xfrm>
            <a:off x="7170840" y="4741920"/>
            <a:ext cx="1973160" cy="2116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ahoma"/>
              </a:rPr>
              <a:t>Талая вод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194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Tahoma"/>
              </a:rPr>
              <a:t>Это чистая высококачественная вода, которая не содержит хлориды, соли, вредные вещества. Имеет  точно упорядоченную структуру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Серебряная вод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оны серебра обладают антибактериальным действием , за счет чего они обеззараживают воду, избавляют от вредных веществ</a:t>
            </a:r>
            <a:r>
              <a:rPr b="1" i="1" lang="en-US" sz="2800" spc="-1" strike="noStrike">
                <a:solidFill>
                  <a:srgbClr val="33cc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2" descr="Талая вода"/>
          <p:cNvPicPr/>
          <p:nvPr/>
        </p:nvPicPr>
        <p:blipFill>
          <a:blip r:embed="rId2"/>
          <a:stretch/>
        </p:blipFill>
        <p:spPr>
          <a:xfrm>
            <a:off x="6012000" y="1484280"/>
            <a:ext cx="2592360" cy="2535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o8ode-silver1"/>
          <p:cNvPicPr/>
          <p:nvPr/>
        </p:nvPicPr>
        <p:blipFill>
          <a:blip r:embed="rId3"/>
          <a:stretch/>
        </p:blipFill>
        <p:spPr>
          <a:xfrm>
            <a:off x="6084720" y="4076640"/>
            <a:ext cx="2664000" cy="25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91520" cy="19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роведение исследований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лияния биологически активной воды на рост  растений на примере лука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одготовка и посадка головок лука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4038480" cy="3538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642920" y="2421000"/>
            <a:ext cx="4038840" cy="3610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7301099"/>
          <p:cNvPicPr/>
          <p:nvPr/>
        </p:nvPicPr>
        <p:blipFill>
          <a:blip r:embed="rId4"/>
          <a:stretch/>
        </p:blipFill>
        <p:spPr>
          <a:xfrm>
            <a:off x="0" y="2492280"/>
            <a:ext cx="4786200" cy="3643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S7301078"/>
          <p:cNvPicPr/>
          <p:nvPr/>
        </p:nvPicPr>
        <p:blipFill>
          <a:blip r:embed="rId5"/>
          <a:stretch/>
        </p:blipFill>
        <p:spPr>
          <a:xfrm>
            <a:off x="4643280" y="2421000"/>
            <a:ext cx="4500720" cy="3714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3:45:00Z</dcterms:created>
  <dc:creator>User</dc:creator>
  <dc:description/>
  <dc:language>en-US</dc:language>
  <cp:lastModifiedBy>Суринова</cp:lastModifiedBy>
  <dcterms:modified xsi:type="dcterms:W3CDTF">2012-06-02T18:37:14Z</dcterms:modified>
  <cp:revision>23</cp:revision>
  <dc:subject/>
  <dc:title>Влияние биологически активной воды на рост растений. </dc:title>
</cp:coreProperties>
</file>