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46B4-4575-41ED-9D44-2ACD0AB0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5006-947E-460F-A7BC-85EAE437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19F5-ACB6-4C69-B5EA-B614B1C2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A0CD-D6F5-4914-A656-EE26CC2E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6558-6906-47D2-B8C4-57E1BFFF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88ED-6474-4FA7-A80B-0B595CEE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1265-4637-4A84-AC88-51C73BD0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88E8-AEA3-4D42-9501-47BA7C3A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7F45-A924-41E3-955E-71044712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EF27-E7C4-41E4-9E3B-B3A48B0B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1560-1FAF-4EF5-9740-91DC6D13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E97E-642D-44F6-AF2D-28F78998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0519-48ED-49D7-8ABB-BC206E1B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5508-14F1-4FAB-B495-7101D704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F73A-01E8-42AB-92F2-033A32A5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44AD-9C05-4844-B60C-E81C48C0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A7CD-B007-4D4F-AAA7-070A5AC8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541B-B90E-4535-9B84-12456458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8931-FB04-4A22-BEE3-ABD4823D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9DC2-A521-4833-A2F3-B738B8F7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AB49-F43D-45B3-814F-A60EAE37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CF10-DF78-4204-ACA0-0A3ADFD6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7B77-2129-479C-B440-C23DB252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D1E7-C9F9-48E5-9932-F698BE56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80C6-BB23-4804-9B7E-7CF2982488CD}" type="slidenum">
              <a:rPr b="0" lang="en-US" sz="14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DB4B-65FA-4942-B6B4-54D56A642F52}" type="slidenum">
              <a:rPr b="0" lang="en-US" sz="14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836640"/>
            <a:ext cx="815328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000" spc="-1" strike="noStrike">
                <a:solidFill>
                  <a:srgbClr val="ff0066"/>
                </a:solidFill>
                <a:latin typeface="Arial"/>
              </a:rPr>
              <a:t>2 сентября – новая памятная дата в истории России.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Картинка 7 из 113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Картинка 9 из 113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Картинка 11 из 11371"/>
          <p:cNvPicPr/>
          <p:nvPr/>
        </p:nvPicPr>
        <p:blipFill>
          <a:blip r:embed="rId1"/>
          <a:stretch/>
        </p:blipFill>
        <p:spPr>
          <a:xfrm>
            <a:off x="0" y="0"/>
            <a:ext cx="651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Картинка 108 из 11371"/>
          <p:cNvPicPr/>
          <p:nvPr/>
        </p:nvPicPr>
        <p:blipFill>
          <a:blip r:embed="rId1"/>
          <a:stretch/>
        </p:blipFill>
        <p:spPr>
          <a:xfrm>
            <a:off x="0" y="0"/>
            <a:ext cx="459432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Картинка 16 из 101945"/>
          <p:cNvPicPr/>
          <p:nvPr/>
        </p:nvPicPr>
        <p:blipFill>
          <a:blip r:embed="rId2"/>
          <a:stretch/>
        </p:blipFill>
        <p:spPr>
          <a:xfrm>
            <a:off x="5940360" y="2924280"/>
            <a:ext cx="2149560" cy="3573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8000" y="190440"/>
            <a:ext cx="399564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Герой Советского Союз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4720" y="190440"/>
            <a:ext cx="4859280" cy="27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e958"/>
                </a:solidFill>
                <a:latin typeface="Arial"/>
              </a:rPr>
              <a:t>Маршал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Жуков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Георгий Константинови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Картинка 4 из 64601"/>
          <p:cNvPicPr/>
          <p:nvPr/>
        </p:nvPicPr>
        <p:blipFill>
          <a:blip r:embed="rId1"/>
          <a:stretch/>
        </p:blipFill>
        <p:spPr>
          <a:xfrm>
            <a:off x="0" y="0"/>
            <a:ext cx="4408560" cy="5445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Картинка 61 из 64600"/>
          <p:cNvPicPr/>
          <p:nvPr/>
        </p:nvPicPr>
        <p:blipFill>
          <a:blip r:embed="rId2"/>
          <a:stretch/>
        </p:blipFill>
        <p:spPr>
          <a:xfrm>
            <a:off x="4500720" y="3543480"/>
            <a:ext cx="4419360" cy="3314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95280" y="190440"/>
            <a:ext cx="475308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be958"/>
                </a:solidFill>
                <a:latin typeface="Arial"/>
              </a:rPr>
              <a:t>Маршал </a:t>
            </a:r>
            <a:br>
              <a:rPr sz="5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окоссовский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онстантин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онстантинови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Картинка 7 из 4916"/>
          <p:cNvPicPr/>
          <p:nvPr/>
        </p:nvPicPr>
        <p:blipFill>
          <a:blip r:embed="rId1"/>
          <a:stretch/>
        </p:blipFill>
        <p:spPr>
          <a:xfrm>
            <a:off x="0" y="0"/>
            <a:ext cx="3965400" cy="4941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Картинка 56 из 4915"/>
          <p:cNvPicPr/>
          <p:nvPr/>
        </p:nvPicPr>
        <p:blipFill>
          <a:blip r:embed="rId2"/>
          <a:stretch/>
        </p:blipFill>
        <p:spPr>
          <a:xfrm>
            <a:off x="4248000" y="3598920"/>
            <a:ext cx="489600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859280" y="190080"/>
            <a:ext cx="4284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Arial"/>
              </a:rPr>
              <a:t>Александр Фирсов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Картинка 4 из 4598"/>
          <p:cNvPicPr/>
          <p:nvPr/>
        </p:nvPicPr>
        <p:blipFill>
          <a:blip r:embed="rId1"/>
          <a:stretch/>
        </p:blipFill>
        <p:spPr>
          <a:xfrm>
            <a:off x="0" y="0"/>
            <a:ext cx="483408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98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03280" y="190440"/>
            <a:ext cx="41403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Arial"/>
              </a:rPr>
              <a:t>Александр</a:t>
            </a:r>
            <a:br>
              <a:rPr sz="6200"/>
            </a:br>
            <a:r>
              <a:rPr b="0" lang="en-US" sz="6200" spc="-1" strike="noStrike">
                <a:solidFill>
                  <a:srgbClr val="ffffff"/>
                </a:solidFill>
                <a:latin typeface="Arial"/>
              </a:rPr>
              <a:t>Матросов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Картинка 1 из 4410"/>
          <p:cNvPicPr/>
          <p:nvPr/>
        </p:nvPicPr>
        <p:blipFill>
          <a:blip r:embed="rId1"/>
          <a:stretch/>
        </p:blipFill>
        <p:spPr>
          <a:xfrm>
            <a:off x="0" y="0"/>
            <a:ext cx="487368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32000" y="190080"/>
            <a:ext cx="421164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Алексей Каширин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Картинка 2 из 875"/>
          <p:cNvPicPr/>
          <p:nvPr/>
        </p:nvPicPr>
        <p:blipFill>
          <a:blip r:embed="rId1"/>
          <a:stretch/>
        </p:blipFill>
        <p:spPr>
          <a:xfrm>
            <a:off x="0" y="0"/>
            <a:ext cx="490536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Картинка 23 из 213051"/>
          <p:cNvPicPr/>
          <p:nvPr/>
        </p:nvPicPr>
        <p:blipFill>
          <a:blip r:embed="rId1"/>
          <a:stretch/>
        </p:blipFill>
        <p:spPr>
          <a:xfrm>
            <a:off x="341964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219280" y="190440"/>
            <a:ext cx="39243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ffffff"/>
                </a:solidFill>
                <a:latin typeface="Arial"/>
              </a:rPr>
              <a:t>Леонид Рытиков</a:t>
            </a:r>
            <a:endParaRPr b="0" lang="en-US" sz="7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Картинка 1 из 1094"/>
          <p:cNvPicPr/>
          <p:nvPr/>
        </p:nvPicPr>
        <p:blipFill>
          <a:blip r:embed="rId1"/>
          <a:stretch/>
        </p:blipFill>
        <p:spPr>
          <a:xfrm>
            <a:off x="0" y="-243000"/>
            <a:ext cx="5210280" cy="7101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64000" y="190440"/>
            <a:ext cx="3780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Александр Типанов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Картинка 16 из 10720"/>
          <p:cNvPicPr/>
          <p:nvPr/>
        </p:nvPicPr>
        <p:blipFill>
          <a:blip r:embed="rId1"/>
          <a:stretch/>
        </p:blipFill>
        <p:spPr>
          <a:xfrm>
            <a:off x="0" y="0"/>
            <a:ext cx="539424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9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77888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0600" spc="-1" strike="noStrike">
                <a:solidFill>
                  <a:srgbClr val="ff0000"/>
                </a:solidFill>
                <a:latin typeface="Times New Roman"/>
              </a:rPr>
              <a:t>Ты всё смогла, моя Россия!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987640" y="692280"/>
            <a:ext cx="511344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СССР</a:t>
            </a:r>
            <a:endParaRPr b="0" lang="en-US" sz="88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3716280"/>
            <a:ext cx="4824360" cy="2498760"/>
          </a:xfrm>
          <a:prstGeom prst="rect">
            <a:avLst/>
          </a:prstGeom>
          <a:solidFill>
            <a:srgbClr val="33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Германия</a:t>
            </a:r>
            <a:endParaRPr b="0" lang="en-US" sz="60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39880" y="406440"/>
            <a:ext cx="70102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9999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23880" y="691920"/>
            <a:ext cx="70106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Вторая Мировая война началась 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1 сентября 1939 года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692000" y="4941360"/>
            <a:ext cx="7010280" cy="14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Вступление немецких войск в Польшу 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го 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сентября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939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года в 6 часов утра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Картинка 8 из 23750"/>
          <p:cNvPicPr/>
          <p:nvPr/>
        </p:nvPicPr>
        <p:blipFill>
          <a:blip r:embed="rId1"/>
          <a:stretch/>
        </p:blipFill>
        <p:spPr>
          <a:xfrm>
            <a:off x="0" y="0"/>
            <a:ext cx="6657840" cy="4857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40360" y="190080"/>
            <a:ext cx="439416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Рихард Зорге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Картинка 10 из 7473"/>
          <p:cNvPicPr/>
          <p:nvPr/>
        </p:nvPicPr>
        <p:blipFill>
          <a:blip r:embed="rId1"/>
          <a:stretch/>
        </p:blipFill>
        <p:spPr>
          <a:xfrm>
            <a:off x="0" y="404640"/>
            <a:ext cx="4029120" cy="6193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Картинка 22 из 7473"/>
          <p:cNvPicPr/>
          <p:nvPr/>
        </p:nvPicPr>
        <p:blipFill>
          <a:blip r:embed="rId2"/>
          <a:stretch/>
        </p:blipFill>
        <p:spPr>
          <a:xfrm>
            <a:off x="4356000" y="3213000"/>
            <a:ext cx="4788000" cy="2992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800" spc="-1" strike="noStrike">
                <a:solidFill>
                  <a:srgbClr val="ff0000"/>
                </a:solidFill>
                <a:latin typeface="Arial"/>
              </a:rPr>
              <a:t>22 июня 1941</a:t>
            </a: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Картинка 9 из 25182"/>
          <p:cNvPicPr/>
          <p:nvPr/>
        </p:nvPicPr>
        <p:blipFill>
          <a:blip r:embed="rId1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be958"/>
                </a:solidFill>
                <a:latin typeface="Arial"/>
              </a:rPr>
              <a:t>События Великой Отечественной войн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итва под Москвой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талинградская битва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урская битва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ерлинская операция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859280" y="190440"/>
            <a:ext cx="42847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Зоя Космодемьянска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4861080" cy="6237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Картинка 85 из 11371"/>
          <p:cNvPicPr/>
          <p:nvPr/>
        </p:nvPicPr>
        <p:blipFill>
          <a:blip r:embed="rId2"/>
          <a:stretch/>
        </p:blipFill>
        <p:spPr>
          <a:xfrm>
            <a:off x="5003640" y="2060640"/>
            <a:ext cx="3886200" cy="479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8T08:42:53Z</dcterms:created>
  <dc:creator>Алёна</dc:creator>
  <dc:description/>
  <dc:language>en-US</dc:language>
  <cp:lastModifiedBy>Tatyana</cp:lastModifiedBy>
  <dcterms:modified xsi:type="dcterms:W3CDTF">2012-06-17T11:22:55Z</dcterms:modified>
  <cp:revision>49</cp:revision>
  <dc:subject/>
  <dc:title>Анализ и синтез в обогащение словарного запаса младших школьников и детей старшего дошкольного возраста на уроках русского языка</dc:title>
</cp:coreProperties>
</file>