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5CB-2DB4-427E-B424-31B319AD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917F-793D-46B5-9740-039E041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3990-7DDF-42F4-B744-3A83F437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F9E-4116-4156-A8E1-058755D3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891A-1064-4CC3-8AF3-DAE2750F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960C-50B1-417B-A96E-7F1917A8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17DA-D0BE-436E-B7B4-C6EB4A33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7434-A4B3-4EFA-A8F7-BF2F784F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67E5-C78E-4BB4-AAA8-382137EB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B486-4958-4A72-A934-95C9316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8954-0675-4A68-862B-AF500D06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E8C-667A-4D11-BD74-6E97CB75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7358-0990-436F-BF8E-AF995EF3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5E6F-E756-4080-BEC6-1612D3C6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8B71-96FE-41DF-BAAC-8E8FBCF7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2BC0-5984-435B-A0EE-7F5623E7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53B1-F3BD-472D-87BE-A9F3B8A8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B72-A98A-42D6-AB28-4350466A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A7A-5A9C-48E0-A355-00EDDCAD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E6F-C326-4D52-8A72-4232293A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58D-D7DA-495C-8498-860B775D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E7A-A734-4912-A65D-FAD03D1D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E5E-AEC7-4D80-A445-59BC48C7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96D-6F6D-4717-B0B6-D96AA18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7244-83D7-4E27-B350-00E0D4009528}" type="slidenum">
              <a:rPr b="0" lang="en-US" sz="14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AEC4-BA01-4CBC-A687-5AD8C5CFE325}" type="slidenum">
              <a:rPr b="0" lang="en-US" sz="1400" spc="-1" strike="noStrike">
                <a:solidFill>
                  <a:srgbClr val="9999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81532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ff0066"/>
                </a:solidFill>
                <a:latin typeface="Arial"/>
              </a:rPr>
              <a:t>2 сентября – новая памятная дата в истории России.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7 из 11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Картинка 9 из 11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Картинка 11 из 11371"/>
          <p:cNvPicPr/>
          <p:nvPr/>
        </p:nvPicPr>
        <p:blipFill>
          <a:blip r:embed="rId1"/>
          <a:stretch/>
        </p:blipFill>
        <p:spPr>
          <a:xfrm>
            <a:off x="0" y="0"/>
            <a:ext cx="651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Картинка 108 из 11371"/>
          <p:cNvPicPr/>
          <p:nvPr/>
        </p:nvPicPr>
        <p:blipFill>
          <a:blip r:embed="rId1"/>
          <a:stretch/>
        </p:blipFill>
        <p:spPr>
          <a:xfrm>
            <a:off x="0" y="0"/>
            <a:ext cx="45943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16 из 101945"/>
          <p:cNvPicPr/>
          <p:nvPr/>
        </p:nvPicPr>
        <p:blipFill>
          <a:blip r:embed="rId2"/>
          <a:stretch/>
        </p:blipFill>
        <p:spPr>
          <a:xfrm>
            <a:off x="5940360" y="2924280"/>
            <a:ext cx="2149560" cy="3573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8000" y="190440"/>
            <a:ext cx="399564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рой Советского Союз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4720" y="190440"/>
            <a:ext cx="485928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e958"/>
                </a:solidFill>
                <a:latin typeface="Arial"/>
              </a:rPr>
              <a:t>Маршал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Жуков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Георгий Константинови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Картинка 4 из 64601"/>
          <p:cNvPicPr/>
          <p:nvPr/>
        </p:nvPicPr>
        <p:blipFill>
          <a:blip r:embed="rId1"/>
          <a:stretch/>
        </p:blipFill>
        <p:spPr>
          <a:xfrm>
            <a:off x="0" y="0"/>
            <a:ext cx="4408560" cy="544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61 из 64600"/>
          <p:cNvPicPr/>
          <p:nvPr/>
        </p:nvPicPr>
        <p:blipFill>
          <a:blip r:embed="rId2"/>
          <a:stretch/>
        </p:blipFill>
        <p:spPr>
          <a:xfrm>
            <a:off x="4500720" y="354348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5280" y="190440"/>
            <a:ext cx="475308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be958"/>
                </a:solidFill>
                <a:latin typeface="Arial"/>
              </a:rPr>
              <a:t>Маршал </a:t>
            </a:r>
            <a:br>
              <a:rPr sz="5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окоссовский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стантин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нстантинови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Картинка 7 из 4916"/>
          <p:cNvPicPr/>
          <p:nvPr/>
        </p:nvPicPr>
        <p:blipFill>
          <a:blip r:embed="rId1"/>
          <a:stretch/>
        </p:blipFill>
        <p:spPr>
          <a:xfrm>
            <a:off x="0" y="0"/>
            <a:ext cx="3965400" cy="4941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56 из 4915"/>
          <p:cNvPicPr/>
          <p:nvPr/>
        </p:nvPicPr>
        <p:blipFill>
          <a:blip r:embed="rId2"/>
          <a:stretch/>
        </p:blipFill>
        <p:spPr>
          <a:xfrm>
            <a:off x="4248000" y="3598920"/>
            <a:ext cx="48960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59280" y="190080"/>
            <a:ext cx="4284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Александр Фирсов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Картинка 4 из 4598"/>
          <p:cNvPicPr/>
          <p:nvPr/>
        </p:nvPicPr>
        <p:blipFill>
          <a:blip r:embed="rId1"/>
          <a:stretch/>
        </p:blipFill>
        <p:spPr>
          <a:xfrm>
            <a:off x="0" y="0"/>
            <a:ext cx="4834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3280" y="190440"/>
            <a:ext cx="4140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Александр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Матросов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Картинка 1 из 4410"/>
          <p:cNvPicPr/>
          <p:nvPr/>
        </p:nvPicPr>
        <p:blipFill>
          <a:blip r:embed="rId1"/>
          <a:stretch/>
        </p:blipFill>
        <p:spPr>
          <a:xfrm>
            <a:off x="0" y="0"/>
            <a:ext cx="48736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0" y="190080"/>
            <a:ext cx="4211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Алексей Кашири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Картинка 2 из 875"/>
          <p:cNvPicPr/>
          <p:nvPr/>
        </p:nvPicPr>
        <p:blipFill>
          <a:blip r:embed="rId1"/>
          <a:stretch/>
        </p:blipFill>
        <p:spPr>
          <a:xfrm>
            <a:off x="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Картинка 23 из 213051"/>
          <p:cNvPicPr/>
          <p:nvPr/>
        </p:nvPicPr>
        <p:blipFill>
          <a:blip r:embed="rId1"/>
          <a:stretch/>
        </p:blipFill>
        <p:spPr>
          <a:xfrm>
            <a:off x="341964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19280" y="19044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Arial"/>
              </a:rPr>
              <a:t>Леонид Рытиков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Картинка 1 из 1094"/>
          <p:cNvPicPr/>
          <p:nvPr/>
        </p:nvPicPr>
        <p:blipFill>
          <a:blip r:embed="rId1"/>
          <a:stretch/>
        </p:blipFill>
        <p:spPr>
          <a:xfrm>
            <a:off x="0" y="-243000"/>
            <a:ext cx="5210280" cy="710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64000" y="190440"/>
            <a:ext cx="378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Александр Типанов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артинка 16 из 10720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7788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600" spc="-1" strike="noStrike">
                <a:solidFill>
                  <a:srgbClr val="ff0000"/>
                </a:solidFill>
                <a:latin typeface="Times New Roman"/>
              </a:rPr>
              <a:t>Ты всё смогла, моя Россия!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987640" y="692280"/>
            <a:ext cx="5113440" cy="21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СССР</a:t>
            </a:r>
            <a:endParaRPr b="0" lang="en-US" sz="88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716280"/>
            <a:ext cx="4824360" cy="2498760"/>
          </a:xfrm>
          <a:prstGeom prst="rect">
            <a:avLst/>
          </a:prstGeom>
          <a:solidFill>
            <a:srgbClr val="3366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6000" spc="-1" strike="noStrike">
              <a:solidFill>
                <a:srgbClr val="9999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39880" y="406440"/>
            <a:ext cx="70102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9999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3880" y="691920"/>
            <a:ext cx="7010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Вторая Мировая война началась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1 сентября 1939 года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692000" y="4941360"/>
            <a:ext cx="7010280" cy="14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ступление немецких войск в Польшу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го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сентябр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939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 года в 6 часов утра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Картинка 8 из 23750"/>
          <p:cNvPicPr/>
          <p:nvPr/>
        </p:nvPicPr>
        <p:blipFill>
          <a:blip r:embed="rId1"/>
          <a:stretch/>
        </p:blipFill>
        <p:spPr>
          <a:xfrm>
            <a:off x="0" y="0"/>
            <a:ext cx="6657840" cy="4857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40360" y="190080"/>
            <a:ext cx="43941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Рихард Зорг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Картинка 10 из 7473"/>
          <p:cNvPicPr/>
          <p:nvPr/>
        </p:nvPicPr>
        <p:blipFill>
          <a:blip r:embed="rId1"/>
          <a:stretch/>
        </p:blipFill>
        <p:spPr>
          <a:xfrm>
            <a:off x="0" y="404640"/>
            <a:ext cx="4029120" cy="6193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22 из 7473"/>
          <p:cNvPicPr/>
          <p:nvPr/>
        </p:nvPicPr>
        <p:blipFill>
          <a:blip r:embed="rId2"/>
          <a:stretch/>
        </p:blipFill>
        <p:spPr>
          <a:xfrm>
            <a:off x="4356000" y="3213000"/>
            <a:ext cx="4788000" cy="299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800" spc="-1" strike="noStrike">
                <a:solidFill>
                  <a:srgbClr val="ff0000"/>
                </a:solidFill>
                <a:latin typeface="Arial"/>
              </a:rPr>
              <a:t>22 июня 1941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ртинка 9 из 25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e958"/>
                </a:solidFill>
                <a:latin typeface="Arial"/>
              </a:rPr>
              <a:t>События Великой Отечественной войн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итва под Москво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талинградская битв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урская битва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99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рлинская операци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9280" y="190440"/>
            <a:ext cx="4284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оя Космодемьянска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861080" cy="623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85 из 11371"/>
          <p:cNvPicPr/>
          <p:nvPr/>
        </p:nvPicPr>
        <p:blipFill>
          <a:blip r:embed="rId2"/>
          <a:stretch/>
        </p:blipFill>
        <p:spPr>
          <a:xfrm>
            <a:off x="5003640" y="2060640"/>
            <a:ext cx="3886200" cy="47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08:42:53Z</dcterms:created>
  <dc:creator>Алёна</dc:creator>
  <dc:description/>
  <dc:language>en-US</dc:language>
  <cp:lastModifiedBy>Tatyana</cp:lastModifiedBy>
  <dcterms:modified xsi:type="dcterms:W3CDTF">2012-06-17T11:22:55Z</dcterms:modified>
  <cp:revision>49</cp:revision>
  <dc:subject/>
  <dc:title>Анализ и синтез в обогащение словарного запаса младших школьников и детей старшего дошкольного возраста на уроках русского языка</dc:title>
</cp:coreProperties>
</file>