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type.wav" ContentType="audio/x-wav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11.png" ContentType="image/png"/>
  <Override PartName="/ppt/media/tada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1A8-D3B6-4999-B072-0F34DF83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1D7-AED8-4CE2-ACD8-1845B455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476-305D-4994-AF44-9DF402B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63C-7697-4D67-85EB-53FEEE3E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9652-4047-4FAD-9D6B-F83AE397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5D33-88CB-4EBF-82CB-9164D82C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1EC3-F431-4C43-8BDF-196FE51C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40AE-87B4-4B7B-A9F2-F1384FF9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903-EBCD-4668-AD5B-3506186E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517C-E70D-4E28-B61C-D59B9A5E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C003-3B5F-47EE-B10C-BD2AB90E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CE0-476A-44A8-9112-2A7D9A15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A96A-C4D6-4A6E-A116-76EE443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0039-EAF1-412A-8901-FF93C567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C383-4ED1-4EA9-A232-A94AD8DF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A500-550F-4BE1-A219-DBCA90D3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D4BA-E8C2-49F7-8939-9DF1985A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A55D-B163-4D2C-928F-621878C4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54E50-BE90-4F03-91B9-EB7C4EEF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033E-E2FC-4AE7-BD67-CA8396C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0D4EC-89D3-4572-8AF6-328A8DD9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AC99D-D330-4BAC-A954-0DF04BF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71F-FF0D-4ADB-A497-238477F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A5FD-E15B-4091-918B-E1B744C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63D9-C903-483E-AA7F-50CD125E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DBFE4-4117-41D1-8088-196D0AF8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67C6C-3D65-41B4-821D-3FB3A13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7A8D-6028-459B-A61F-F2FB165E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8BF34-AD32-466A-9154-BD2338D6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ABE7D-2CEA-48A8-B4CB-D64F5F50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235-8761-4C1B-BC56-151DED15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F7D-1319-435F-8A27-B07A1F81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B1B-316B-4D18-AAC9-0506ADD2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F2C-0F95-4782-88BA-8444779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744C-B628-4C76-83AC-EEBF147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B7B-5748-4DD7-96B2-39B7B79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6626-78E5-43BE-8E46-9B0E4053604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BBC2-BB94-4D20-8A6B-5FE7CF9C03B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6ab94"/>
            </a:gs>
          </a:gsLst>
          <a:lin ang="10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23B-8DD2-40DE-8C16-58C1B154E10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ada.wav" TargetMode="External"/><Relationship Id="rId2" Type="http://schemas.microsoft.com/office/2007/relationships/media" Target="file:///tmp/home/.config/libreoffice/4/user/gallery/tada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Documents and Settings\Учитель\Мои документы\солнышко.gif"/>
          <p:cNvPicPr/>
          <p:nvPr/>
        </p:nvPicPr>
        <p:blipFill>
          <a:blip r:embed="rId2"/>
          <a:stretch/>
        </p:blipFill>
        <p:spPr>
          <a:xfrm>
            <a:off x="1403280" y="404640"/>
            <a:ext cx="6121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/>
          <p:cNvSpPr/>
          <p:nvPr/>
        </p:nvSpPr>
        <p:spPr>
          <a:xfrm>
            <a:off x="5500800" y="7142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4643280" y="12859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2928960" y="242892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214280" y="35002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2071800" y="2928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3786120" y="1785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28760" y="34290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1214280" y="292896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2071800" y="23572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2928960" y="18572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3500280" y="12142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4357800" y="7142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500880" y="19288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4786200" y="307188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071880" y="41432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643720" y="250020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0"/>
          <p:cNvSpPr/>
          <p:nvPr/>
        </p:nvSpPr>
        <p:spPr>
          <a:xfrm>
            <a:off x="2214720" y="4714920"/>
            <a:ext cx="86328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3929040" y="364320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4"/>
          <p:cNvSpPr/>
          <p:nvPr/>
        </p:nvSpPr>
        <p:spPr>
          <a:xfrm>
            <a:off x="5214960" y="37861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5"/>
          <p:cNvSpPr/>
          <p:nvPr/>
        </p:nvSpPr>
        <p:spPr>
          <a:xfrm>
            <a:off x="3500280" y="47862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26"/>
          <p:cNvSpPr/>
          <p:nvPr/>
        </p:nvSpPr>
        <p:spPr>
          <a:xfrm>
            <a:off x="4357800" y="435780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7"/>
          <p:cNvSpPr/>
          <p:nvPr/>
        </p:nvSpPr>
        <p:spPr>
          <a:xfrm>
            <a:off x="2428920" y="542916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8"/>
          <p:cNvSpPr/>
          <p:nvPr/>
        </p:nvSpPr>
        <p:spPr>
          <a:xfrm>
            <a:off x="6143760" y="314316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9"/>
          <p:cNvSpPr/>
          <p:nvPr/>
        </p:nvSpPr>
        <p:spPr>
          <a:xfrm>
            <a:off x="6786720" y="2571840"/>
            <a:ext cx="9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7358040" y="142884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1"/>
          <p:cNvSpPr/>
          <p:nvPr/>
        </p:nvSpPr>
        <p:spPr>
          <a:xfrm>
            <a:off x="7500960" y="207180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357120" y="4071960"/>
            <a:ext cx="863640" cy="7207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4"/>
          <p:cNvSpPr/>
          <p:nvPr/>
        </p:nvSpPr>
        <p:spPr>
          <a:xfrm>
            <a:off x="5214960" y="2142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"/>
          <p:cNvSpPr/>
          <p:nvPr/>
        </p:nvSpPr>
        <p:spPr>
          <a:xfrm>
            <a:off x="0" y="0"/>
            <a:ext cx="3071880" cy="302904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3466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59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0" dur="500" autoRev="1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4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2214360" cy="2843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642960" y="428760"/>
            <a:ext cx="2214720" cy="2842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1000080" y="714240"/>
            <a:ext cx="2158920" cy="2772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4"/>
          <a:stretch/>
        </p:blipFill>
        <p:spPr>
          <a:xfrm>
            <a:off x="3500280" y="214200"/>
            <a:ext cx="2214720" cy="2843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5"/>
          <a:stretch/>
        </p:blipFill>
        <p:spPr>
          <a:xfrm rot="21163800">
            <a:off x="171360" y="3871440"/>
            <a:ext cx="2225880" cy="2857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6"/>
          <a:stretch/>
        </p:blipFill>
        <p:spPr>
          <a:xfrm>
            <a:off x="1143000" y="3929040"/>
            <a:ext cx="2114640" cy="2714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7"/>
          <a:stretch/>
        </p:blipFill>
        <p:spPr>
          <a:xfrm>
            <a:off x="500040" y="3714840"/>
            <a:ext cx="2170080" cy="2786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8"/>
          <a:stretch/>
        </p:blipFill>
        <p:spPr>
          <a:xfrm rot="671400">
            <a:off x="6488280" y="201600"/>
            <a:ext cx="2381040" cy="30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9"/>
          <a:stretch/>
        </p:blipFill>
        <p:spPr>
          <a:xfrm>
            <a:off x="6572160" y="1643040"/>
            <a:ext cx="2381400" cy="30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10"/>
          <a:stretch/>
        </p:blipFill>
        <p:spPr>
          <a:xfrm rot="504000">
            <a:off x="6551640" y="2014200"/>
            <a:ext cx="2381400" cy="30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11"/>
          <a:stretch/>
        </p:blipFill>
        <p:spPr>
          <a:xfrm>
            <a:off x="3714840" y="357120"/>
            <a:ext cx="2103480" cy="27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12"/>
          <a:stretch/>
        </p:blipFill>
        <p:spPr>
          <a:xfrm>
            <a:off x="4071960" y="571680"/>
            <a:ext cx="2103480" cy="270000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8"/>
          <p:cNvSpPr/>
          <p:nvPr/>
        </p:nvSpPr>
        <p:spPr>
          <a:xfrm>
            <a:off x="3857760" y="457200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30"/>
          <p:cNvSpPr/>
          <p:nvPr/>
        </p:nvSpPr>
        <p:spPr>
          <a:xfrm>
            <a:off x="4929120" y="5143680"/>
            <a:ext cx="285840" cy="2854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657216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3"/>
          <a:stretch/>
        </p:blipFill>
        <p:spPr>
          <a:xfrm>
            <a:off x="2214720" y="214200"/>
            <a:ext cx="1831680" cy="128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4"/>
          <a:stretch/>
        </p:blipFill>
        <p:spPr>
          <a:xfrm>
            <a:off x="4357800" y="21420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5"/>
          <a:stretch/>
        </p:blipFill>
        <p:spPr>
          <a:xfrm>
            <a:off x="21420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6"/>
          <a:stretch/>
        </p:blipFill>
        <p:spPr>
          <a:xfrm>
            <a:off x="2142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7"/>
          <a:stretch/>
        </p:blipFill>
        <p:spPr>
          <a:xfrm>
            <a:off x="2214720" y="1643040"/>
            <a:ext cx="1831680" cy="128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8"/>
          <a:stretch/>
        </p:blipFill>
        <p:spPr>
          <a:xfrm>
            <a:off x="428616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9"/>
          <a:stretch/>
        </p:blipFill>
        <p:spPr>
          <a:xfrm>
            <a:off x="6572160" y="164304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10"/>
          <a:stretch/>
        </p:blipFill>
        <p:spPr>
          <a:xfrm>
            <a:off x="22860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11"/>
          <a:stretch/>
        </p:blipFill>
        <p:spPr>
          <a:xfrm>
            <a:off x="4357800" y="3071880"/>
            <a:ext cx="1832040" cy="1285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12"/>
          <a:stretch/>
        </p:blipFill>
        <p:spPr>
          <a:xfrm>
            <a:off x="6572160" y="3143160"/>
            <a:ext cx="1832040" cy="12859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21"/>
          <p:cNvSpPr/>
          <p:nvPr/>
        </p:nvSpPr>
        <p:spPr>
          <a:xfrm>
            <a:off x="3228480" y="478620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30"/>
          <p:cNvSpPr/>
          <p:nvPr/>
        </p:nvSpPr>
        <p:spPr>
          <a:xfrm>
            <a:off x="4357800" y="5429160"/>
            <a:ext cx="28548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8" descr="Копия PEN"/>
          <p:cNvPicPr/>
          <p:nvPr/>
        </p:nvPicPr>
        <p:blipFill>
          <a:blip r:embed="rId1"/>
          <a:stretch/>
        </p:blipFill>
        <p:spPr>
          <a:xfrm rot="721200">
            <a:off x="498240" y="-82440"/>
            <a:ext cx="156996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2143080" y="21420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8" descr="Копия PEN"/>
          <p:cNvPicPr/>
          <p:nvPr/>
        </p:nvPicPr>
        <p:blipFill>
          <a:blip r:embed="rId2"/>
          <a:stretch/>
        </p:blipFill>
        <p:spPr>
          <a:xfrm rot="721200">
            <a:off x="4070160" y="3830400"/>
            <a:ext cx="1569960" cy="2895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Копия PEN"/>
          <p:cNvPicPr/>
          <p:nvPr/>
        </p:nvPicPr>
        <p:blipFill>
          <a:blip r:embed="rId3"/>
          <a:stretch/>
        </p:blipFill>
        <p:spPr>
          <a:xfrm rot="721200">
            <a:off x="498240" y="4060440"/>
            <a:ext cx="1569960" cy="2895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283680" y="2131920"/>
            <a:ext cx="1570320" cy="2895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7"/>
          <p:cNvSpPr/>
          <p:nvPr/>
        </p:nvSpPr>
        <p:spPr>
          <a:xfrm>
            <a:off x="1785960" y="271476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8"/>
          <p:cNvSpPr/>
          <p:nvPr/>
        </p:nvSpPr>
        <p:spPr>
          <a:xfrm>
            <a:off x="1571760" y="492912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9"/>
          <p:cNvSpPr/>
          <p:nvPr/>
        </p:nvSpPr>
        <p:spPr>
          <a:xfrm>
            <a:off x="4786200" y="5214960"/>
            <a:ext cx="242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3 р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5014440" y="1500120"/>
            <a:ext cx="26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Times New Roman"/>
              </a:rPr>
              <a:t>3    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Oval 30"/>
          <p:cNvSpPr/>
          <p:nvPr/>
        </p:nvSpPr>
        <p:spPr>
          <a:xfrm>
            <a:off x="6143760" y="2214720"/>
            <a:ext cx="285480" cy="2854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0" y="1000080"/>
            <a:ext cx="3672000" cy="3600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1214280" y="285840"/>
            <a:ext cx="70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Солнышкино зад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4929120" y="1571760"/>
            <a:ext cx="307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4    3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6    4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13   4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6215040" y="2143080"/>
            <a:ext cx="28584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Oval 30"/>
          <p:cNvSpPr/>
          <p:nvPr/>
        </p:nvSpPr>
        <p:spPr>
          <a:xfrm>
            <a:off x="6286680" y="3571920"/>
            <a:ext cx="28548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30"/>
          <p:cNvSpPr/>
          <p:nvPr/>
        </p:nvSpPr>
        <p:spPr>
          <a:xfrm>
            <a:off x="6357960" y="4857840"/>
            <a:ext cx="285840" cy="2858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2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3" dur="500" autoRev="1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3"/>
          <p:cNvGrpSpPr/>
          <p:nvPr/>
        </p:nvGrpSpPr>
        <p:grpSpPr>
          <a:xfrm>
            <a:off x="3286080" y="3710160"/>
            <a:ext cx="3571920" cy="3147840"/>
            <a:chOff x="3286080" y="3710160"/>
            <a:chExt cx="3571920" cy="3147840"/>
          </a:xfrm>
        </p:grpSpPr>
        <p:sp>
          <p:nvSpPr>
            <p:cNvPr id="289" name="AutoShape 4"/>
            <p:cNvSpPr/>
            <p:nvPr/>
          </p:nvSpPr>
          <p:spPr>
            <a:xfrm>
              <a:off x="3286080" y="3710160"/>
              <a:ext cx="3571920" cy="31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Group 5"/>
            <p:cNvGrpSpPr/>
            <p:nvPr/>
          </p:nvGrpSpPr>
          <p:grpSpPr>
            <a:xfrm>
              <a:off x="4967640" y="4012200"/>
              <a:ext cx="1889640" cy="2844000"/>
              <a:chOff x="4967640" y="4012200"/>
              <a:chExt cx="1889640" cy="2844000"/>
            </a:xfrm>
          </p:grpSpPr>
          <p:sp>
            <p:nvSpPr>
              <p:cNvPr id="291" name="Freeform 6"/>
              <p:cNvSpPr/>
              <p:nvPr/>
            </p:nvSpPr>
            <p:spPr>
              <a:xfrm>
                <a:off x="5667120" y="4389840"/>
                <a:ext cx="644760" cy="490320"/>
              </a:xfrm>
              <a:custGeom>
                <a:avLst/>
                <a:gdLst>
                  <a:gd name="textAreaLeft" fmla="*/ 0 w 644760"/>
                  <a:gd name="textAreaRight" fmla="*/ 645120 w 64476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854" h="688">
                    <a:moveTo>
                      <a:pt x="296" y="166"/>
                    </a:moveTo>
                    <a:lnTo>
                      <a:pt x="340" y="73"/>
                    </a:lnTo>
                    <a:lnTo>
                      <a:pt x="460" y="13"/>
                    </a:lnTo>
                    <a:lnTo>
                      <a:pt x="543" y="0"/>
                    </a:lnTo>
                    <a:lnTo>
                      <a:pt x="633" y="0"/>
                    </a:lnTo>
                    <a:lnTo>
                      <a:pt x="786" y="52"/>
                    </a:lnTo>
                    <a:lnTo>
                      <a:pt x="854" y="187"/>
                    </a:lnTo>
                    <a:lnTo>
                      <a:pt x="821" y="366"/>
                    </a:lnTo>
                    <a:lnTo>
                      <a:pt x="713" y="521"/>
                    </a:lnTo>
                    <a:lnTo>
                      <a:pt x="601" y="628"/>
                    </a:lnTo>
                    <a:lnTo>
                      <a:pt x="481" y="674"/>
                    </a:lnTo>
                    <a:lnTo>
                      <a:pt x="390" y="688"/>
                    </a:lnTo>
                    <a:lnTo>
                      <a:pt x="296" y="661"/>
                    </a:lnTo>
                    <a:lnTo>
                      <a:pt x="222" y="588"/>
                    </a:lnTo>
                    <a:lnTo>
                      <a:pt x="187" y="496"/>
                    </a:lnTo>
                    <a:lnTo>
                      <a:pt x="193" y="397"/>
                    </a:lnTo>
                    <a:lnTo>
                      <a:pt x="228" y="278"/>
                    </a:lnTo>
                    <a:lnTo>
                      <a:pt x="243" y="256"/>
                    </a:lnTo>
                    <a:lnTo>
                      <a:pt x="23" y="128"/>
                    </a:lnTo>
                    <a:lnTo>
                      <a:pt x="0" y="98"/>
                    </a:lnTo>
                    <a:lnTo>
                      <a:pt x="0" y="59"/>
                    </a:lnTo>
                    <a:lnTo>
                      <a:pt x="52" y="38"/>
                    </a:lnTo>
                    <a:lnTo>
                      <a:pt x="296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>
                <a:off x="6090120" y="5042520"/>
                <a:ext cx="767160" cy="93780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937800"/>
                  <a:gd name="textAreaBottom" fmla="*/ 938160 h 937800"/>
                </a:gdLst>
                <a:ahLst/>
                <a:rect l="textAreaLeft" t="textAreaTop" r="textAreaRight" b="textAreaBottom"/>
                <a:pathLst>
                  <a:path w="1016" h="1317">
                    <a:moveTo>
                      <a:pt x="124" y="22"/>
                    </a:moveTo>
                    <a:lnTo>
                      <a:pt x="359" y="77"/>
                    </a:lnTo>
                    <a:lnTo>
                      <a:pt x="612" y="214"/>
                    </a:lnTo>
                    <a:lnTo>
                      <a:pt x="759" y="333"/>
                    </a:lnTo>
                    <a:lnTo>
                      <a:pt x="910" y="475"/>
                    </a:lnTo>
                    <a:lnTo>
                      <a:pt x="983" y="576"/>
                    </a:lnTo>
                    <a:lnTo>
                      <a:pt x="1016" y="713"/>
                    </a:lnTo>
                    <a:lnTo>
                      <a:pt x="995" y="770"/>
                    </a:lnTo>
                    <a:lnTo>
                      <a:pt x="916" y="841"/>
                    </a:lnTo>
                    <a:lnTo>
                      <a:pt x="724" y="885"/>
                    </a:lnTo>
                    <a:lnTo>
                      <a:pt x="524" y="910"/>
                    </a:lnTo>
                    <a:lnTo>
                      <a:pt x="411" y="919"/>
                    </a:lnTo>
                    <a:lnTo>
                      <a:pt x="444" y="983"/>
                    </a:lnTo>
                    <a:lnTo>
                      <a:pt x="562" y="1090"/>
                    </a:lnTo>
                    <a:lnTo>
                      <a:pt x="663" y="1154"/>
                    </a:lnTo>
                    <a:lnTo>
                      <a:pt x="775" y="1218"/>
                    </a:lnTo>
                    <a:lnTo>
                      <a:pt x="792" y="1278"/>
                    </a:lnTo>
                    <a:lnTo>
                      <a:pt x="742" y="1317"/>
                    </a:lnTo>
                    <a:lnTo>
                      <a:pt x="657" y="1291"/>
                    </a:lnTo>
                    <a:lnTo>
                      <a:pt x="477" y="1136"/>
                    </a:lnTo>
                    <a:lnTo>
                      <a:pt x="388" y="1051"/>
                    </a:lnTo>
                    <a:lnTo>
                      <a:pt x="327" y="919"/>
                    </a:lnTo>
                    <a:lnTo>
                      <a:pt x="344" y="871"/>
                    </a:lnTo>
                    <a:lnTo>
                      <a:pt x="439" y="855"/>
                    </a:lnTo>
                    <a:lnTo>
                      <a:pt x="607" y="846"/>
                    </a:lnTo>
                    <a:lnTo>
                      <a:pt x="765" y="816"/>
                    </a:lnTo>
                    <a:lnTo>
                      <a:pt x="848" y="777"/>
                    </a:lnTo>
                    <a:lnTo>
                      <a:pt x="910" y="718"/>
                    </a:lnTo>
                    <a:lnTo>
                      <a:pt x="910" y="662"/>
                    </a:lnTo>
                    <a:lnTo>
                      <a:pt x="883" y="564"/>
                    </a:lnTo>
                    <a:lnTo>
                      <a:pt x="815" y="500"/>
                    </a:lnTo>
                    <a:lnTo>
                      <a:pt x="759" y="431"/>
                    </a:lnTo>
                    <a:lnTo>
                      <a:pt x="674" y="381"/>
                    </a:lnTo>
                    <a:lnTo>
                      <a:pt x="562" y="295"/>
                    </a:lnTo>
                    <a:lnTo>
                      <a:pt x="427" y="230"/>
                    </a:lnTo>
                    <a:lnTo>
                      <a:pt x="303" y="201"/>
                    </a:lnTo>
                    <a:lnTo>
                      <a:pt x="153" y="180"/>
                    </a:lnTo>
                    <a:lnTo>
                      <a:pt x="58" y="150"/>
                    </a:lnTo>
                    <a:lnTo>
                      <a:pt x="0" y="98"/>
                    </a:lnTo>
                    <a:lnTo>
                      <a:pt x="0" y="25"/>
                    </a:lnTo>
                    <a:lnTo>
                      <a:pt x="58" y="0"/>
                    </a:lnTo>
                    <a:lnTo>
                      <a:pt x="170" y="22"/>
                    </a:lnTo>
                    <a:lnTo>
                      <a:pt x="186" y="25"/>
                    </a:lnTo>
                    <a:lnTo>
                      <a:pt x="12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>
                <a:off x="4967640" y="4012200"/>
                <a:ext cx="891360" cy="1064520"/>
              </a:xfrm>
              <a:custGeom>
                <a:avLst/>
                <a:gdLst>
                  <a:gd name="textAreaLeft" fmla="*/ 0 w 891360"/>
                  <a:gd name="textAreaRight" fmla="*/ 891720 w 891360"/>
                  <a:gd name="textAreaTop" fmla="*/ 0 h 1064520"/>
                  <a:gd name="textAreaBottom" fmla="*/ 1064880 h 1064520"/>
                </a:gdLst>
                <a:ahLst/>
                <a:rect l="textAreaLeft" t="textAreaTop" r="textAreaRight" b="textAreaBottom"/>
                <a:pathLst>
                  <a:path w="1178" h="1492">
                    <a:moveTo>
                      <a:pt x="1078" y="1283"/>
                    </a:moveTo>
                    <a:lnTo>
                      <a:pt x="1166" y="1350"/>
                    </a:lnTo>
                    <a:lnTo>
                      <a:pt x="1178" y="1416"/>
                    </a:lnTo>
                    <a:lnTo>
                      <a:pt x="1145" y="1480"/>
                    </a:lnTo>
                    <a:lnTo>
                      <a:pt x="1049" y="1492"/>
                    </a:lnTo>
                    <a:lnTo>
                      <a:pt x="925" y="1365"/>
                    </a:lnTo>
                    <a:lnTo>
                      <a:pt x="875" y="1256"/>
                    </a:lnTo>
                    <a:lnTo>
                      <a:pt x="780" y="1119"/>
                    </a:lnTo>
                    <a:lnTo>
                      <a:pt x="689" y="965"/>
                    </a:lnTo>
                    <a:lnTo>
                      <a:pt x="606" y="837"/>
                    </a:lnTo>
                    <a:lnTo>
                      <a:pt x="489" y="677"/>
                    </a:lnTo>
                    <a:lnTo>
                      <a:pt x="342" y="528"/>
                    </a:lnTo>
                    <a:lnTo>
                      <a:pt x="224" y="398"/>
                    </a:lnTo>
                    <a:lnTo>
                      <a:pt x="168" y="360"/>
                    </a:lnTo>
                    <a:lnTo>
                      <a:pt x="118" y="360"/>
                    </a:lnTo>
                    <a:lnTo>
                      <a:pt x="39" y="334"/>
                    </a:lnTo>
                    <a:lnTo>
                      <a:pt x="17" y="279"/>
                    </a:lnTo>
                    <a:lnTo>
                      <a:pt x="0" y="179"/>
                    </a:lnTo>
                    <a:lnTo>
                      <a:pt x="17" y="85"/>
                    </a:lnTo>
                    <a:lnTo>
                      <a:pt x="56" y="25"/>
                    </a:lnTo>
                    <a:lnTo>
                      <a:pt x="106" y="0"/>
                    </a:lnTo>
                    <a:lnTo>
                      <a:pt x="174" y="33"/>
                    </a:lnTo>
                    <a:lnTo>
                      <a:pt x="207" y="12"/>
                    </a:lnTo>
                    <a:lnTo>
                      <a:pt x="236" y="60"/>
                    </a:lnTo>
                    <a:lnTo>
                      <a:pt x="259" y="179"/>
                    </a:lnTo>
                    <a:lnTo>
                      <a:pt x="241" y="240"/>
                    </a:lnTo>
                    <a:lnTo>
                      <a:pt x="253" y="334"/>
                    </a:lnTo>
                    <a:lnTo>
                      <a:pt x="309" y="398"/>
                    </a:lnTo>
                    <a:lnTo>
                      <a:pt x="442" y="536"/>
                    </a:lnTo>
                    <a:lnTo>
                      <a:pt x="545" y="631"/>
                    </a:lnTo>
                    <a:lnTo>
                      <a:pt x="645" y="746"/>
                    </a:lnTo>
                    <a:lnTo>
                      <a:pt x="707" y="822"/>
                    </a:lnTo>
                    <a:lnTo>
                      <a:pt x="830" y="947"/>
                    </a:lnTo>
                    <a:lnTo>
                      <a:pt x="925" y="1094"/>
                    </a:lnTo>
                    <a:lnTo>
                      <a:pt x="1016" y="1261"/>
                    </a:lnTo>
                    <a:lnTo>
                      <a:pt x="1078" y="12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>
                <a:off x="5643000" y="4920120"/>
                <a:ext cx="546480" cy="972360"/>
              </a:xfrm>
              <a:custGeom>
                <a:avLst/>
                <a:gdLst>
                  <a:gd name="textAreaLeft" fmla="*/ 0 w 546480"/>
                  <a:gd name="textAreaRight" fmla="*/ 546840 w 546480"/>
                  <a:gd name="textAreaTop" fmla="*/ 0 h 972360"/>
                  <a:gd name="textAreaBottom" fmla="*/ 972720 h 972360"/>
                </a:gdLst>
                <a:ahLst/>
                <a:rect l="textAreaLeft" t="textAreaTop" r="textAreaRight" b="textAreaBottom"/>
                <a:pathLst>
                  <a:path w="724" h="1365">
                    <a:moveTo>
                      <a:pt x="23" y="359"/>
                    </a:moveTo>
                    <a:lnTo>
                      <a:pt x="101" y="180"/>
                    </a:lnTo>
                    <a:lnTo>
                      <a:pt x="168" y="94"/>
                    </a:lnTo>
                    <a:lnTo>
                      <a:pt x="286" y="5"/>
                    </a:lnTo>
                    <a:lnTo>
                      <a:pt x="388" y="0"/>
                    </a:lnTo>
                    <a:lnTo>
                      <a:pt x="495" y="27"/>
                    </a:lnTo>
                    <a:lnTo>
                      <a:pt x="589" y="91"/>
                    </a:lnTo>
                    <a:lnTo>
                      <a:pt x="589" y="210"/>
                    </a:lnTo>
                    <a:lnTo>
                      <a:pt x="545" y="313"/>
                    </a:lnTo>
                    <a:lnTo>
                      <a:pt x="545" y="501"/>
                    </a:lnTo>
                    <a:lnTo>
                      <a:pt x="562" y="787"/>
                    </a:lnTo>
                    <a:lnTo>
                      <a:pt x="645" y="963"/>
                    </a:lnTo>
                    <a:lnTo>
                      <a:pt x="724" y="1104"/>
                    </a:lnTo>
                    <a:lnTo>
                      <a:pt x="724" y="1212"/>
                    </a:lnTo>
                    <a:lnTo>
                      <a:pt x="639" y="1313"/>
                    </a:lnTo>
                    <a:lnTo>
                      <a:pt x="572" y="1361"/>
                    </a:lnTo>
                    <a:lnTo>
                      <a:pt x="471" y="1365"/>
                    </a:lnTo>
                    <a:lnTo>
                      <a:pt x="354" y="1365"/>
                    </a:lnTo>
                    <a:lnTo>
                      <a:pt x="224" y="1335"/>
                    </a:lnTo>
                    <a:lnTo>
                      <a:pt x="101" y="1155"/>
                    </a:lnTo>
                    <a:lnTo>
                      <a:pt x="33" y="942"/>
                    </a:lnTo>
                    <a:lnTo>
                      <a:pt x="0" y="775"/>
                    </a:lnTo>
                    <a:lnTo>
                      <a:pt x="0" y="578"/>
                    </a:lnTo>
                    <a:lnTo>
                      <a:pt x="23" y="3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>
                <a:off x="5850000" y="5748120"/>
                <a:ext cx="461880" cy="1019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1019160"/>
                  <a:gd name="textAreaBottom" fmla="*/ 1019520 h 1019160"/>
                </a:gdLst>
                <a:ahLst/>
                <a:rect l="textAreaLeft" t="textAreaTop" r="textAreaRight" b="textAreaBottom"/>
                <a:pathLst>
                  <a:path w="613" h="1431">
                    <a:moveTo>
                      <a:pt x="336" y="25"/>
                    </a:moveTo>
                    <a:lnTo>
                      <a:pt x="259" y="0"/>
                    </a:lnTo>
                    <a:lnTo>
                      <a:pt x="186" y="34"/>
                    </a:lnTo>
                    <a:lnTo>
                      <a:pt x="141" y="155"/>
                    </a:lnTo>
                    <a:lnTo>
                      <a:pt x="186" y="349"/>
                    </a:lnTo>
                    <a:lnTo>
                      <a:pt x="259" y="452"/>
                    </a:lnTo>
                    <a:lnTo>
                      <a:pt x="336" y="631"/>
                    </a:lnTo>
                    <a:lnTo>
                      <a:pt x="377" y="722"/>
                    </a:lnTo>
                    <a:lnTo>
                      <a:pt x="377" y="837"/>
                    </a:lnTo>
                    <a:lnTo>
                      <a:pt x="275" y="953"/>
                    </a:lnTo>
                    <a:lnTo>
                      <a:pt x="136" y="1077"/>
                    </a:lnTo>
                    <a:lnTo>
                      <a:pt x="51" y="1143"/>
                    </a:lnTo>
                    <a:lnTo>
                      <a:pt x="0" y="1194"/>
                    </a:lnTo>
                    <a:lnTo>
                      <a:pt x="0" y="1250"/>
                    </a:lnTo>
                    <a:lnTo>
                      <a:pt x="56" y="1258"/>
                    </a:lnTo>
                    <a:lnTo>
                      <a:pt x="192" y="1285"/>
                    </a:lnTo>
                    <a:lnTo>
                      <a:pt x="389" y="1362"/>
                    </a:lnTo>
                    <a:lnTo>
                      <a:pt x="445" y="1417"/>
                    </a:lnTo>
                    <a:lnTo>
                      <a:pt x="522" y="1431"/>
                    </a:lnTo>
                    <a:lnTo>
                      <a:pt x="613" y="1365"/>
                    </a:lnTo>
                    <a:lnTo>
                      <a:pt x="557" y="1337"/>
                    </a:lnTo>
                    <a:lnTo>
                      <a:pt x="342" y="1276"/>
                    </a:lnTo>
                    <a:lnTo>
                      <a:pt x="203" y="1246"/>
                    </a:lnTo>
                    <a:lnTo>
                      <a:pt x="101" y="1210"/>
                    </a:lnTo>
                    <a:lnTo>
                      <a:pt x="101" y="1198"/>
                    </a:lnTo>
                    <a:lnTo>
                      <a:pt x="118" y="1168"/>
                    </a:lnTo>
                    <a:lnTo>
                      <a:pt x="186" y="1107"/>
                    </a:lnTo>
                    <a:lnTo>
                      <a:pt x="377" y="979"/>
                    </a:lnTo>
                    <a:lnTo>
                      <a:pt x="489" y="871"/>
                    </a:lnTo>
                    <a:lnTo>
                      <a:pt x="512" y="795"/>
                    </a:lnTo>
                    <a:lnTo>
                      <a:pt x="495" y="683"/>
                    </a:lnTo>
                    <a:lnTo>
                      <a:pt x="445" y="592"/>
                    </a:lnTo>
                    <a:lnTo>
                      <a:pt x="377" y="464"/>
                    </a:lnTo>
                    <a:lnTo>
                      <a:pt x="354" y="331"/>
                    </a:lnTo>
                    <a:lnTo>
                      <a:pt x="354" y="201"/>
                    </a:lnTo>
                    <a:lnTo>
                      <a:pt x="354" y="86"/>
                    </a:lnTo>
                    <a:lnTo>
                      <a:pt x="33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1"/>
              <p:cNvSpPr/>
              <p:nvPr/>
            </p:nvSpPr>
            <p:spPr>
              <a:xfrm>
                <a:off x="5567400" y="5754240"/>
                <a:ext cx="377280" cy="11019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1101960"/>
                  <a:gd name="textAreaBottom" fmla="*/ 1102320 h 1101960"/>
                </a:gdLst>
                <a:ahLst/>
                <a:rect l="textAreaLeft" t="textAreaTop" r="textAreaRight" b="textAreaBottom"/>
                <a:pathLst>
                  <a:path w="500" h="1546">
                    <a:moveTo>
                      <a:pt x="255" y="240"/>
                    </a:moveTo>
                    <a:lnTo>
                      <a:pt x="316" y="78"/>
                    </a:lnTo>
                    <a:lnTo>
                      <a:pt x="388" y="0"/>
                    </a:lnTo>
                    <a:lnTo>
                      <a:pt x="438" y="0"/>
                    </a:lnTo>
                    <a:lnTo>
                      <a:pt x="500" y="39"/>
                    </a:lnTo>
                    <a:lnTo>
                      <a:pt x="483" y="176"/>
                    </a:lnTo>
                    <a:lnTo>
                      <a:pt x="432" y="292"/>
                    </a:lnTo>
                    <a:lnTo>
                      <a:pt x="320" y="412"/>
                    </a:lnTo>
                    <a:lnTo>
                      <a:pt x="222" y="606"/>
                    </a:lnTo>
                    <a:lnTo>
                      <a:pt x="166" y="718"/>
                    </a:lnTo>
                    <a:lnTo>
                      <a:pt x="137" y="825"/>
                    </a:lnTo>
                    <a:lnTo>
                      <a:pt x="154" y="937"/>
                    </a:lnTo>
                    <a:lnTo>
                      <a:pt x="199" y="1070"/>
                    </a:lnTo>
                    <a:lnTo>
                      <a:pt x="237" y="1143"/>
                    </a:lnTo>
                    <a:lnTo>
                      <a:pt x="272" y="1246"/>
                    </a:lnTo>
                    <a:lnTo>
                      <a:pt x="266" y="1289"/>
                    </a:lnTo>
                    <a:lnTo>
                      <a:pt x="187" y="1452"/>
                    </a:lnTo>
                    <a:lnTo>
                      <a:pt x="166" y="1543"/>
                    </a:lnTo>
                    <a:lnTo>
                      <a:pt x="98" y="1546"/>
                    </a:lnTo>
                    <a:lnTo>
                      <a:pt x="15" y="1504"/>
                    </a:lnTo>
                    <a:lnTo>
                      <a:pt x="4" y="1464"/>
                    </a:lnTo>
                    <a:lnTo>
                      <a:pt x="38" y="1418"/>
                    </a:lnTo>
                    <a:lnTo>
                      <a:pt x="133" y="1328"/>
                    </a:lnTo>
                    <a:lnTo>
                      <a:pt x="187" y="1276"/>
                    </a:lnTo>
                    <a:lnTo>
                      <a:pt x="199" y="1233"/>
                    </a:lnTo>
                    <a:lnTo>
                      <a:pt x="166" y="1155"/>
                    </a:lnTo>
                    <a:lnTo>
                      <a:pt x="104" y="1058"/>
                    </a:lnTo>
                    <a:lnTo>
                      <a:pt x="48" y="940"/>
                    </a:lnTo>
                    <a:lnTo>
                      <a:pt x="15" y="858"/>
                    </a:lnTo>
                    <a:lnTo>
                      <a:pt x="0" y="761"/>
                    </a:lnTo>
                    <a:lnTo>
                      <a:pt x="48" y="658"/>
                    </a:lnTo>
                    <a:lnTo>
                      <a:pt x="121" y="516"/>
                    </a:lnTo>
                    <a:lnTo>
                      <a:pt x="222" y="357"/>
                    </a:lnTo>
                    <a:lnTo>
                      <a:pt x="255" y="2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2"/>
            <p:cNvGrpSpPr/>
            <p:nvPr/>
          </p:nvGrpSpPr>
          <p:grpSpPr>
            <a:xfrm>
              <a:off x="3286080" y="3724200"/>
              <a:ext cx="2066400" cy="3133440"/>
              <a:chOff x="3286080" y="3724200"/>
              <a:chExt cx="2066400" cy="3133440"/>
            </a:xfrm>
          </p:grpSpPr>
          <p:sp>
            <p:nvSpPr>
              <p:cNvPr id="298" name="Freeform 13"/>
              <p:cNvSpPr/>
              <p:nvPr/>
            </p:nvSpPr>
            <p:spPr>
              <a:xfrm>
                <a:off x="4281480" y="4449600"/>
                <a:ext cx="412200" cy="51156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511560"/>
                  <a:gd name="textAreaBottom" fmla="*/ 511920 h 511560"/>
                </a:gdLst>
                <a:ahLst/>
                <a:rect l="textAreaLeft" t="textAreaTop" r="textAreaRight" b="textAreaBottom"/>
                <a:pathLst>
                  <a:path w="547" h="718">
                    <a:moveTo>
                      <a:pt x="6" y="368"/>
                    </a:moveTo>
                    <a:lnTo>
                      <a:pt x="23" y="288"/>
                    </a:lnTo>
                    <a:lnTo>
                      <a:pt x="74" y="217"/>
                    </a:lnTo>
                    <a:lnTo>
                      <a:pt x="141" y="180"/>
                    </a:lnTo>
                    <a:lnTo>
                      <a:pt x="209" y="149"/>
                    </a:lnTo>
                    <a:lnTo>
                      <a:pt x="226" y="0"/>
                    </a:lnTo>
                    <a:lnTo>
                      <a:pt x="288" y="16"/>
                    </a:lnTo>
                    <a:lnTo>
                      <a:pt x="276" y="156"/>
                    </a:lnTo>
                    <a:lnTo>
                      <a:pt x="344" y="167"/>
                    </a:lnTo>
                    <a:lnTo>
                      <a:pt x="444" y="210"/>
                    </a:lnTo>
                    <a:lnTo>
                      <a:pt x="524" y="311"/>
                    </a:lnTo>
                    <a:lnTo>
                      <a:pt x="547" y="418"/>
                    </a:lnTo>
                    <a:lnTo>
                      <a:pt x="529" y="537"/>
                    </a:lnTo>
                    <a:lnTo>
                      <a:pt x="491" y="642"/>
                    </a:lnTo>
                    <a:lnTo>
                      <a:pt x="394" y="698"/>
                    </a:lnTo>
                    <a:lnTo>
                      <a:pt x="294" y="718"/>
                    </a:lnTo>
                    <a:lnTo>
                      <a:pt x="159" y="718"/>
                    </a:lnTo>
                    <a:lnTo>
                      <a:pt x="74" y="650"/>
                    </a:lnTo>
                    <a:lnTo>
                      <a:pt x="6" y="547"/>
                    </a:lnTo>
                    <a:lnTo>
                      <a:pt x="0" y="471"/>
                    </a:lnTo>
                    <a:lnTo>
                      <a:pt x="0" y="418"/>
                    </a:lnTo>
                    <a:lnTo>
                      <a:pt x="6" y="3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4"/>
              <p:cNvSpPr/>
              <p:nvPr/>
            </p:nvSpPr>
            <p:spPr>
              <a:xfrm>
                <a:off x="4231800" y="4989960"/>
                <a:ext cx="520920" cy="934920"/>
              </a:xfrm>
              <a:custGeom>
                <a:avLst/>
                <a:gdLst>
                  <a:gd name="textAreaLeft" fmla="*/ 0 w 520920"/>
                  <a:gd name="textAreaRight" fmla="*/ 520920 w 52092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689" h="1311">
                    <a:moveTo>
                      <a:pt x="256" y="21"/>
                    </a:moveTo>
                    <a:lnTo>
                      <a:pt x="336" y="0"/>
                    </a:lnTo>
                    <a:lnTo>
                      <a:pt x="426" y="12"/>
                    </a:lnTo>
                    <a:lnTo>
                      <a:pt x="538" y="85"/>
                    </a:lnTo>
                    <a:lnTo>
                      <a:pt x="627" y="231"/>
                    </a:lnTo>
                    <a:lnTo>
                      <a:pt x="672" y="373"/>
                    </a:lnTo>
                    <a:lnTo>
                      <a:pt x="689" y="540"/>
                    </a:lnTo>
                    <a:lnTo>
                      <a:pt x="672" y="720"/>
                    </a:lnTo>
                    <a:lnTo>
                      <a:pt x="589" y="951"/>
                    </a:lnTo>
                    <a:lnTo>
                      <a:pt x="560" y="965"/>
                    </a:lnTo>
                    <a:lnTo>
                      <a:pt x="436" y="1157"/>
                    </a:lnTo>
                    <a:lnTo>
                      <a:pt x="374" y="1269"/>
                    </a:lnTo>
                    <a:lnTo>
                      <a:pt x="274" y="1308"/>
                    </a:lnTo>
                    <a:lnTo>
                      <a:pt x="123" y="1311"/>
                    </a:lnTo>
                    <a:lnTo>
                      <a:pt x="5" y="1269"/>
                    </a:lnTo>
                    <a:lnTo>
                      <a:pt x="0" y="1183"/>
                    </a:lnTo>
                    <a:lnTo>
                      <a:pt x="50" y="1068"/>
                    </a:lnTo>
                    <a:lnTo>
                      <a:pt x="83" y="999"/>
                    </a:lnTo>
                    <a:lnTo>
                      <a:pt x="135" y="922"/>
                    </a:lnTo>
                    <a:lnTo>
                      <a:pt x="168" y="844"/>
                    </a:lnTo>
                    <a:lnTo>
                      <a:pt x="185" y="720"/>
                    </a:lnTo>
                    <a:lnTo>
                      <a:pt x="150" y="579"/>
                    </a:lnTo>
                    <a:lnTo>
                      <a:pt x="117" y="462"/>
                    </a:lnTo>
                    <a:lnTo>
                      <a:pt x="88" y="373"/>
                    </a:lnTo>
                    <a:lnTo>
                      <a:pt x="88" y="227"/>
                    </a:lnTo>
                    <a:lnTo>
                      <a:pt x="106" y="163"/>
                    </a:lnTo>
                    <a:lnTo>
                      <a:pt x="150" y="76"/>
                    </a:lnTo>
                    <a:lnTo>
                      <a:pt x="253" y="21"/>
                    </a:lnTo>
                    <a:lnTo>
                      <a:pt x="253" y="25"/>
                    </a:lnTo>
                    <a:lnTo>
                      <a:pt x="25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5"/>
              <p:cNvSpPr/>
              <p:nvPr/>
            </p:nvSpPr>
            <p:spPr>
              <a:xfrm>
                <a:off x="3286080" y="4106160"/>
                <a:ext cx="1051560" cy="1118880"/>
              </a:xfrm>
              <a:custGeom>
                <a:avLst/>
                <a:gdLst>
                  <a:gd name="textAreaLeft" fmla="*/ 0 w 1051560"/>
                  <a:gd name="textAreaRight" fmla="*/ 1051920 w 105156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1393" h="1570">
                    <a:moveTo>
                      <a:pt x="1240" y="1328"/>
                    </a:moveTo>
                    <a:lnTo>
                      <a:pt x="1340" y="1379"/>
                    </a:lnTo>
                    <a:lnTo>
                      <a:pt x="1393" y="1445"/>
                    </a:lnTo>
                    <a:lnTo>
                      <a:pt x="1381" y="1518"/>
                    </a:lnTo>
                    <a:lnTo>
                      <a:pt x="1325" y="1570"/>
                    </a:lnTo>
                    <a:lnTo>
                      <a:pt x="1263" y="1561"/>
                    </a:lnTo>
                    <a:lnTo>
                      <a:pt x="1128" y="1470"/>
                    </a:lnTo>
                    <a:lnTo>
                      <a:pt x="919" y="1285"/>
                    </a:lnTo>
                    <a:lnTo>
                      <a:pt x="734" y="1097"/>
                    </a:lnTo>
                    <a:lnTo>
                      <a:pt x="589" y="917"/>
                    </a:lnTo>
                    <a:lnTo>
                      <a:pt x="471" y="745"/>
                    </a:lnTo>
                    <a:lnTo>
                      <a:pt x="386" y="569"/>
                    </a:lnTo>
                    <a:lnTo>
                      <a:pt x="330" y="402"/>
                    </a:lnTo>
                    <a:lnTo>
                      <a:pt x="313" y="326"/>
                    </a:lnTo>
                    <a:lnTo>
                      <a:pt x="168" y="269"/>
                    </a:lnTo>
                    <a:lnTo>
                      <a:pt x="0" y="247"/>
                    </a:lnTo>
                    <a:lnTo>
                      <a:pt x="10" y="219"/>
                    </a:lnTo>
                    <a:lnTo>
                      <a:pt x="168" y="223"/>
                    </a:lnTo>
                    <a:lnTo>
                      <a:pt x="236" y="223"/>
                    </a:lnTo>
                    <a:lnTo>
                      <a:pt x="168" y="171"/>
                    </a:lnTo>
                    <a:lnTo>
                      <a:pt x="95" y="120"/>
                    </a:lnTo>
                    <a:lnTo>
                      <a:pt x="50" y="102"/>
                    </a:lnTo>
                    <a:lnTo>
                      <a:pt x="83" y="68"/>
                    </a:lnTo>
                    <a:lnTo>
                      <a:pt x="145" y="120"/>
                    </a:lnTo>
                    <a:lnTo>
                      <a:pt x="280" y="159"/>
                    </a:lnTo>
                    <a:lnTo>
                      <a:pt x="280" y="89"/>
                    </a:lnTo>
                    <a:lnTo>
                      <a:pt x="245" y="25"/>
                    </a:lnTo>
                    <a:lnTo>
                      <a:pt x="245" y="0"/>
                    </a:lnTo>
                    <a:lnTo>
                      <a:pt x="280" y="0"/>
                    </a:lnTo>
                    <a:lnTo>
                      <a:pt x="336" y="89"/>
                    </a:lnTo>
                    <a:lnTo>
                      <a:pt x="386" y="159"/>
                    </a:lnTo>
                    <a:lnTo>
                      <a:pt x="436" y="89"/>
                    </a:lnTo>
                    <a:lnTo>
                      <a:pt x="448" y="4"/>
                    </a:lnTo>
                    <a:lnTo>
                      <a:pt x="498" y="4"/>
                    </a:lnTo>
                    <a:lnTo>
                      <a:pt x="483" y="159"/>
                    </a:lnTo>
                    <a:lnTo>
                      <a:pt x="386" y="283"/>
                    </a:lnTo>
                    <a:lnTo>
                      <a:pt x="404" y="441"/>
                    </a:lnTo>
                    <a:lnTo>
                      <a:pt x="487" y="617"/>
                    </a:lnTo>
                    <a:lnTo>
                      <a:pt x="616" y="788"/>
                    </a:lnTo>
                    <a:lnTo>
                      <a:pt x="786" y="990"/>
                    </a:lnTo>
                    <a:lnTo>
                      <a:pt x="943" y="1145"/>
                    </a:lnTo>
                    <a:lnTo>
                      <a:pt x="1122" y="1273"/>
                    </a:lnTo>
                    <a:lnTo>
                      <a:pt x="1240" y="13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6"/>
              <p:cNvSpPr/>
              <p:nvPr/>
            </p:nvSpPr>
            <p:spPr>
              <a:xfrm>
                <a:off x="4575960" y="3724200"/>
                <a:ext cx="776520" cy="1446840"/>
              </a:xfrm>
              <a:custGeom>
                <a:avLst/>
                <a:gdLst>
                  <a:gd name="textAreaLeft" fmla="*/ 0 w 776520"/>
                  <a:gd name="textAreaRight" fmla="*/ 776880 w 776520"/>
                  <a:gd name="textAreaTop" fmla="*/ 0 h 1446840"/>
                  <a:gd name="textAreaBottom" fmla="*/ 1447200 h 1446840"/>
                </a:gdLst>
                <a:ahLst/>
                <a:rect l="textAreaLeft" t="textAreaTop" r="textAreaRight" b="textAreaBottom"/>
                <a:pathLst>
                  <a:path w="1030" h="2031">
                    <a:moveTo>
                      <a:pt x="51" y="1880"/>
                    </a:moveTo>
                    <a:lnTo>
                      <a:pt x="153" y="1759"/>
                    </a:lnTo>
                    <a:lnTo>
                      <a:pt x="315" y="1567"/>
                    </a:lnTo>
                    <a:lnTo>
                      <a:pt x="389" y="1386"/>
                    </a:lnTo>
                    <a:lnTo>
                      <a:pt x="483" y="1089"/>
                    </a:lnTo>
                    <a:lnTo>
                      <a:pt x="568" y="833"/>
                    </a:lnTo>
                    <a:lnTo>
                      <a:pt x="603" y="613"/>
                    </a:lnTo>
                    <a:lnTo>
                      <a:pt x="659" y="361"/>
                    </a:lnTo>
                    <a:lnTo>
                      <a:pt x="642" y="257"/>
                    </a:lnTo>
                    <a:lnTo>
                      <a:pt x="541" y="176"/>
                    </a:lnTo>
                    <a:lnTo>
                      <a:pt x="483" y="89"/>
                    </a:lnTo>
                    <a:lnTo>
                      <a:pt x="524" y="51"/>
                    </a:lnTo>
                    <a:lnTo>
                      <a:pt x="568" y="124"/>
                    </a:lnTo>
                    <a:lnTo>
                      <a:pt x="642" y="163"/>
                    </a:lnTo>
                    <a:lnTo>
                      <a:pt x="642" y="103"/>
                    </a:lnTo>
                    <a:lnTo>
                      <a:pt x="642" y="0"/>
                    </a:lnTo>
                    <a:lnTo>
                      <a:pt x="674" y="0"/>
                    </a:lnTo>
                    <a:lnTo>
                      <a:pt x="703" y="103"/>
                    </a:lnTo>
                    <a:lnTo>
                      <a:pt x="727" y="154"/>
                    </a:lnTo>
                    <a:lnTo>
                      <a:pt x="810" y="76"/>
                    </a:lnTo>
                    <a:lnTo>
                      <a:pt x="844" y="0"/>
                    </a:lnTo>
                    <a:lnTo>
                      <a:pt x="895" y="34"/>
                    </a:lnTo>
                    <a:lnTo>
                      <a:pt x="844" y="115"/>
                    </a:lnTo>
                    <a:lnTo>
                      <a:pt x="794" y="192"/>
                    </a:lnTo>
                    <a:lnTo>
                      <a:pt x="939" y="167"/>
                    </a:lnTo>
                    <a:lnTo>
                      <a:pt x="1012" y="128"/>
                    </a:lnTo>
                    <a:lnTo>
                      <a:pt x="1030" y="154"/>
                    </a:lnTo>
                    <a:lnTo>
                      <a:pt x="956" y="201"/>
                    </a:lnTo>
                    <a:lnTo>
                      <a:pt x="871" y="227"/>
                    </a:lnTo>
                    <a:lnTo>
                      <a:pt x="788" y="282"/>
                    </a:lnTo>
                    <a:lnTo>
                      <a:pt x="738" y="382"/>
                    </a:lnTo>
                    <a:lnTo>
                      <a:pt x="686" y="552"/>
                    </a:lnTo>
                    <a:lnTo>
                      <a:pt x="636" y="824"/>
                    </a:lnTo>
                    <a:lnTo>
                      <a:pt x="586" y="1043"/>
                    </a:lnTo>
                    <a:lnTo>
                      <a:pt x="524" y="1249"/>
                    </a:lnTo>
                    <a:lnTo>
                      <a:pt x="450" y="1477"/>
                    </a:lnTo>
                    <a:lnTo>
                      <a:pt x="365" y="1683"/>
                    </a:lnTo>
                    <a:lnTo>
                      <a:pt x="248" y="1855"/>
                    </a:lnTo>
                    <a:lnTo>
                      <a:pt x="130" y="1979"/>
                    </a:lnTo>
                    <a:lnTo>
                      <a:pt x="45" y="2031"/>
                    </a:lnTo>
                    <a:lnTo>
                      <a:pt x="12" y="2004"/>
                    </a:lnTo>
                    <a:lnTo>
                      <a:pt x="0" y="1953"/>
                    </a:lnTo>
                    <a:lnTo>
                      <a:pt x="51" y="18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7"/>
              <p:cNvSpPr/>
              <p:nvPr/>
            </p:nvSpPr>
            <p:spPr>
              <a:xfrm>
                <a:off x="3748320" y="5798520"/>
                <a:ext cx="620640" cy="1059120"/>
              </a:xfrm>
              <a:custGeom>
                <a:avLst/>
                <a:gdLst>
                  <a:gd name="textAreaLeft" fmla="*/ 0 w 620640"/>
                  <a:gd name="textAreaRight" fmla="*/ 620640 w 620640"/>
                  <a:gd name="textAreaTop" fmla="*/ 0 h 1059120"/>
                  <a:gd name="textAreaBottom" fmla="*/ 1059480 h 1059120"/>
                </a:gdLst>
                <a:ahLst/>
                <a:rect l="textAreaLeft" t="textAreaTop" r="textAreaRight" b="textAreaBottom"/>
                <a:pathLst>
                  <a:path w="821" h="1485">
                    <a:moveTo>
                      <a:pt x="516" y="215"/>
                    </a:moveTo>
                    <a:lnTo>
                      <a:pt x="589" y="124"/>
                    </a:lnTo>
                    <a:lnTo>
                      <a:pt x="701" y="0"/>
                    </a:lnTo>
                    <a:lnTo>
                      <a:pt x="809" y="12"/>
                    </a:lnTo>
                    <a:lnTo>
                      <a:pt x="821" y="112"/>
                    </a:lnTo>
                    <a:lnTo>
                      <a:pt x="786" y="167"/>
                    </a:lnTo>
                    <a:lnTo>
                      <a:pt x="719" y="231"/>
                    </a:lnTo>
                    <a:lnTo>
                      <a:pt x="584" y="321"/>
                    </a:lnTo>
                    <a:lnTo>
                      <a:pt x="483" y="410"/>
                    </a:lnTo>
                    <a:lnTo>
                      <a:pt x="433" y="488"/>
                    </a:lnTo>
                    <a:lnTo>
                      <a:pt x="381" y="586"/>
                    </a:lnTo>
                    <a:lnTo>
                      <a:pt x="398" y="716"/>
                    </a:lnTo>
                    <a:lnTo>
                      <a:pt x="489" y="796"/>
                    </a:lnTo>
                    <a:lnTo>
                      <a:pt x="556" y="920"/>
                    </a:lnTo>
                    <a:lnTo>
                      <a:pt x="584" y="1053"/>
                    </a:lnTo>
                    <a:lnTo>
                      <a:pt x="601" y="1215"/>
                    </a:lnTo>
                    <a:lnTo>
                      <a:pt x="572" y="1370"/>
                    </a:lnTo>
                    <a:lnTo>
                      <a:pt x="489" y="1409"/>
                    </a:lnTo>
                    <a:lnTo>
                      <a:pt x="398" y="1396"/>
                    </a:lnTo>
                    <a:lnTo>
                      <a:pt x="263" y="1421"/>
                    </a:lnTo>
                    <a:lnTo>
                      <a:pt x="128" y="1485"/>
                    </a:lnTo>
                    <a:lnTo>
                      <a:pt x="62" y="1473"/>
                    </a:lnTo>
                    <a:lnTo>
                      <a:pt x="0" y="1421"/>
                    </a:lnTo>
                    <a:lnTo>
                      <a:pt x="27" y="1396"/>
                    </a:lnTo>
                    <a:lnTo>
                      <a:pt x="101" y="1375"/>
                    </a:lnTo>
                    <a:lnTo>
                      <a:pt x="269" y="1345"/>
                    </a:lnTo>
                    <a:lnTo>
                      <a:pt x="421" y="1345"/>
                    </a:lnTo>
                    <a:lnTo>
                      <a:pt x="472" y="1345"/>
                    </a:lnTo>
                    <a:lnTo>
                      <a:pt x="504" y="1306"/>
                    </a:lnTo>
                    <a:lnTo>
                      <a:pt x="522" y="1229"/>
                    </a:lnTo>
                    <a:lnTo>
                      <a:pt x="500" y="1075"/>
                    </a:lnTo>
                    <a:lnTo>
                      <a:pt x="448" y="925"/>
                    </a:lnTo>
                    <a:lnTo>
                      <a:pt x="371" y="844"/>
                    </a:lnTo>
                    <a:lnTo>
                      <a:pt x="298" y="766"/>
                    </a:lnTo>
                    <a:lnTo>
                      <a:pt x="251" y="655"/>
                    </a:lnTo>
                    <a:lnTo>
                      <a:pt x="263" y="540"/>
                    </a:lnTo>
                    <a:lnTo>
                      <a:pt x="319" y="424"/>
                    </a:lnTo>
                    <a:lnTo>
                      <a:pt x="415" y="321"/>
                    </a:lnTo>
                    <a:lnTo>
                      <a:pt x="516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8"/>
              <p:cNvSpPr/>
              <p:nvPr/>
            </p:nvSpPr>
            <p:spPr>
              <a:xfrm>
                <a:off x="4349520" y="5822640"/>
                <a:ext cx="530280" cy="10335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1033560"/>
                  <a:gd name="textAreaBottom" fmla="*/ 1033920 h 1033560"/>
                </a:gdLst>
                <a:ahLst/>
                <a:rect l="textAreaLeft" t="textAreaTop" r="textAreaRight" b="textAreaBottom"/>
                <a:pathLst>
                  <a:path w="703" h="1450">
                    <a:moveTo>
                      <a:pt x="288" y="231"/>
                    </a:moveTo>
                    <a:lnTo>
                      <a:pt x="129" y="176"/>
                    </a:lnTo>
                    <a:lnTo>
                      <a:pt x="35" y="128"/>
                    </a:lnTo>
                    <a:lnTo>
                      <a:pt x="0" y="61"/>
                    </a:lnTo>
                    <a:lnTo>
                      <a:pt x="52" y="13"/>
                    </a:lnTo>
                    <a:lnTo>
                      <a:pt x="164" y="0"/>
                    </a:lnTo>
                    <a:lnTo>
                      <a:pt x="249" y="22"/>
                    </a:lnTo>
                    <a:lnTo>
                      <a:pt x="417" y="150"/>
                    </a:lnTo>
                    <a:lnTo>
                      <a:pt x="570" y="253"/>
                    </a:lnTo>
                    <a:lnTo>
                      <a:pt x="653" y="370"/>
                    </a:lnTo>
                    <a:lnTo>
                      <a:pt x="676" y="459"/>
                    </a:lnTo>
                    <a:lnTo>
                      <a:pt x="703" y="567"/>
                    </a:lnTo>
                    <a:lnTo>
                      <a:pt x="688" y="692"/>
                    </a:lnTo>
                    <a:lnTo>
                      <a:pt x="570" y="837"/>
                    </a:lnTo>
                    <a:lnTo>
                      <a:pt x="467" y="940"/>
                    </a:lnTo>
                    <a:lnTo>
                      <a:pt x="373" y="1065"/>
                    </a:lnTo>
                    <a:lnTo>
                      <a:pt x="299" y="1129"/>
                    </a:lnTo>
                    <a:lnTo>
                      <a:pt x="238" y="1193"/>
                    </a:lnTo>
                    <a:lnTo>
                      <a:pt x="238" y="1232"/>
                    </a:lnTo>
                    <a:lnTo>
                      <a:pt x="299" y="1244"/>
                    </a:lnTo>
                    <a:lnTo>
                      <a:pt x="423" y="1262"/>
                    </a:lnTo>
                    <a:lnTo>
                      <a:pt x="552" y="1301"/>
                    </a:lnTo>
                    <a:lnTo>
                      <a:pt x="659" y="1374"/>
                    </a:lnTo>
                    <a:lnTo>
                      <a:pt x="637" y="1417"/>
                    </a:lnTo>
                    <a:lnTo>
                      <a:pt x="541" y="1450"/>
                    </a:lnTo>
                    <a:lnTo>
                      <a:pt x="467" y="1417"/>
                    </a:lnTo>
                    <a:lnTo>
                      <a:pt x="388" y="1351"/>
                    </a:lnTo>
                    <a:lnTo>
                      <a:pt x="299" y="1314"/>
                    </a:lnTo>
                    <a:lnTo>
                      <a:pt x="220" y="1296"/>
                    </a:lnTo>
                    <a:lnTo>
                      <a:pt x="153" y="1287"/>
                    </a:lnTo>
                    <a:lnTo>
                      <a:pt x="97" y="1275"/>
                    </a:lnTo>
                    <a:lnTo>
                      <a:pt x="79" y="1257"/>
                    </a:lnTo>
                    <a:lnTo>
                      <a:pt x="85" y="1219"/>
                    </a:lnTo>
                    <a:lnTo>
                      <a:pt x="187" y="1141"/>
                    </a:lnTo>
                    <a:lnTo>
                      <a:pt x="355" y="1001"/>
                    </a:lnTo>
                    <a:lnTo>
                      <a:pt x="502" y="811"/>
                    </a:lnTo>
                    <a:lnTo>
                      <a:pt x="558" y="717"/>
                    </a:lnTo>
                    <a:lnTo>
                      <a:pt x="591" y="613"/>
                    </a:lnTo>
                    <a:lnTo>
                      <a:pt x="585" y="486"/>
                    </a:lnTo>
                    <a:lnTo>
                      <a:pt x="523" y="382"/>
                    </a:lnTo>
                    <a:lnTo>
                      <a:pt x="435" y="297"/>
                    </a:lnTo>
                    <a:lnTo>
                      <a:pt x="288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9"/>
            <p:cNvGrpSpPr/>
            <p:nvPr/>
          </p:nvGrpSpPr>
          <p:grpSpPr>
            <a:xfrm>
              <a:off x="5410080" y="4554000"/>
              <a:ext cx="1214640" cy="1365480"/>
              <a:chOff x="5410080" y="4554000"/>
              <a:chExt cx="1214640" cy="1365480"/>
            </a:xfrm>
          </p:grpSpPr>
          <p:sp>
            <p:nvSpPr>
              <p:cNvPr id="305" name="Freeform 20"/>
              <p:cNvSpPr/>
              <p:nvPr/>
            </p:nvSpPr>
            <p:spPr>
              <a:xfrm>
                <a:off x="5410080" y="4554000"/>
                <a:ext cx="1214640" cy="1365480"/>
              </a:xfrm>
              <a:custGeom>
                <a:avLst/>
                <a:gdLst>
                  <a:gd name="textAreaLeft" fmla="*/ 0 w 1214640"/>
                  <a:gd name="textAreaRight" fmla="*/ 1215000 w 1214640"/>
                  <a:gd name="textAreaTop" fmla="*/ 0 h 1365480"/>
                  <a:gd name="textAreaBottom" fmla="*/ 1365840 h 1365480"/>
                </a:gdLst>
                <a:ahLst/>
                <a:rect l="textAreaLeft" t="textAreaTop" r="textAreaRight" b="textAreaBottom"/>
                <a:pathLst>
                  <a:path w="1609" h="1918">
                    <a:moveTo>
                      <a:pt x="235" y="0"/>
                    </a:moveTo>
                    <a:lnTo>
                      <a:pt x="139" y="146"/>
                    </a:lnTo>
                    <a:lnTo>
                      <a:pt x="83" y="271"/>
                    </a:lnTo>
                    <a:lnTo>
                      <a:pt x="33" y="404"/>
                    </a:lnTo>
                    <a:lnTo>
                      <a:pt x="0" y="507"/>
                    </a:lnTo>
                    <a:lnTo>
                      <a:pt x="38" y="656"/>
                    </a:lnTo>
                    <a:lnTo>
                      <a:pt x="156" y="747"/>
                    </a:lnTo>
                    <a:lnTo>
                      <a:pt x="253" y="836"/>
                    </a:lnTo>
                    <a:lnTo>
                      <a:pt x="218" y="1072"/>
                    </a:lnTo>
                    <a:lnTo>
                      <a:pt x="168" y="1394"/>
                    </a:lnTo>
                    <a:lnTo>
                      <a:pt x="206" y="1737"/>
                    </a:lnTo>
                    <a:lnTo>
                      <a:pt x="257" y="1891"/>
                    </a:lnTo>
                    <a:lnTo>
                      <a:pt x="477" y="1840"/>
                    </a:lnTo>
                    <a:lnTo>
                      <a:pt x="629" y="1831"/>
                    </a:lnTo>
                    <a:lnTo>
                      <a:pt x="859" y="1840"/>
                    </a:lnTo>
                    <a:lnTo>
                      <a:pt x="1062" y="1897"/>
                    </a:lnTo>
                    <a:lnTo>
                      <a:pt x="1180" y="1918"/>
                    </a:lnTo>
                    <a:lnTo>
                      <a:pt x="1180" y="1788"/>
                    </a:lnTo>
                    <a:lnTo>
                      <a:pt x="1153" y="1545"/>
                    </a:lnTo>
                    <a:lnTo>
                      <a:pt x="1101" y="1305"/>
                    </a:lnTo>
                    <a:lnTo>
                      <a:pt x="1062" y="1069"/>
                    </a:lnTo>
                    <a:lnTo>
                      <a:pt x="1045" y="981"/>
                    </a:lnTo>
                    <a:lnTo>
                      <a:pt x="1112" y="944"/>
                    </a:lnTo>
                    <a:lnTo>
                      <a:pt x="1298" y="990"/>
                    </a:lnTo>
                    <a:lnTo>
                      <a:pt x="1468" y="1033"/>
                    </a:lnTo>
                    <a:lnTo>
                      <a:pt x="1551" y="1099"/>
                    </a:lnTo>
                    <a:lnTo>
                      <a:pt x="1556" y="969"/>
                    </a:lnTo>
                    <a:lnTo>
                      <a:pt x="1609" y="811"/>
                    </a:lnTo>
                    <a:lnTo>
                      <a:pt x="1400" y="699"/>
                    </a:lnTo>
                    <a:lnTo>
                      <a:pt x="1230" y="617"/>
                    </a:lnTo>
                    <a:lnTo>
                      <a:pt x="1079" y="571"/>
                    </a:lnTo>
                    <a:lnTo>
                      <a:pt x="962" y="541"/>
                    </a:lnTo>
                    <a:lnTo>
                      <a:pt x="848" y="541"/>
                    </a:lnTo>
                    <a:lnTo>
                      <a:pt x="765" y="553"/>
                    </a:lnTo>
                    <a:lnTo>
                      <a:pt x="656" y="541"/>
                    </a:lnTo>
                    <a:lnTo>
                      <a:pt x="562" y="477"/>
                    </a:lnTo>
                    <a:lnTo>
                      <a:pt x="477" y="374"/>
                    </a:lnTo>
                    <a:lnTo>
                      <a:pt x="403" y="283"/>
                    </a:lnTo>
                    <a:lnTo>
                      <a:pt x="324" y="120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ffcc00"/>
              </a:solidFill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6" name="Group 21"/>
              <p:cNvGrpSpPr/>
              <p:nvPr/>
            </p:nvGrpSpPr>
            <p:grpSpPr>
              <a:xfrm>
                <a:off x="5479560" y="4635000"/>
                <a:ext cx="1081080" cy="1243800"/>
                <a:chOff x="5479560" y="4635000"/>
                <a:chExt cx="1081080" cy="1243800"/>
              </a:xfrm>
            </p:grpSpPr>
            <p:sp>
              <p:nvSpPr>
                <p:cNvPr id="307" name="Freeform 22"/>
                <p:cNvSpPr/>
                <p:nvPr/>
              </p:nvSpPr>
              <p:spPr>
                <a:xfrm>
                  <a:off x="5479560" y="4635000"/>
                  <a:ext cx="200520" cy="413280"/>
                </a:xfrm>
                <a:custGeom>
                  <a:avLst/>
                  <a:gdLst>
                    <a:gd name="textAreaLeft" fmla="*/ 0 w 200520"/>
                    <a:gd name="textAreaRight" fmla="*/ 200880 w 200520"/>
                    <a:gd name="textAreaTop" fmla="*/ 0 h 413280"/>
                    <a:gd name="textAreaBottom" fmla="*/ 413640 h 413280"/>
                  </a:gdLst>
                  <a:ahLst/>
                  <a:rect l="textAreaLeft" t="textAreaTop" r="textAreaRight" b="textAreaBottom"/>
                  <a:pathLst>
                    <a:path w="267" h="581">
                      <a:moveTo>
                        <a:pt x="0" y="516"/>
                      </a:moveTo>
                      <a:lnTo>
                        <a:pt x="18" y="388"/>
                      </a:lnTo>
                      <a:lnTo>
                        <a:pt x="78" y="249"/>
                      </a:lnTo>
                      <a:lnTo>
                        <a:pt x="128" y="134"/>
                      </a:lnTo>
                      <a:lnTo>
                        <a:pt x="167" y="43"/>
                      </a:lnTo>
                      <a:lnTo>
                        <a:pt x="217" y="0"/>
                      </a:lnTo>
                      <a:lnTo>
                        <a:pt x="267" y="25"/>
                      </a:lnTo>
                      <a:lnTo>
                        <a:pt x="196" y="158"/>
                      </a:lnTo>
                      <a:lnTo>
                        <a:pt x="112" y="336"/>
                      </a:lnTo>
                      <a:lnTo>
                        <a:pt x="62" y="494"/>
                      </a:lnTo>
                      <a:lnTo>
                        <a:pt x="62" y="581"/>
                      </a:lnTo>
                      <a:lnTo>
                        <a:pt x="0" y="581"/>
                      </a:lnTo>
                      <a:lnTo>
                        <a:pt x="0" y="478"/>
                      </a:lnTo>
                      <a:lnTo>
                        <a:pt x="0" y="5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3"/>
                <p:cNvSpPr/>
                <p:nvPr/>
              </p:nvSpPr>
              <p:spPr>
                <a:xfrm>
                  <a:off x="5572800" y="4780080"/>
                  <a:ext cx="187200" cy="349200"/>
                </a:xfrm>
                <a:custGeom>
                  <a:avLst/>
                  <a:gdLst>
                    <a:gd name="textAreaLeft" fmla="*/ 0 w 187200"/>
                    <a:gd name="textAreaRight" fmla="*/ 187560 w 187200"/>
                    <a:gd name="textAreaTop" fmla="*/ 0 h 349200"/>
                    <a:gd name="textAreaBottom" fmla="*/ 349560 h 349200"/>
                  </a:gdLst>
                  <a:ahLst/>
                  <a:rect l="textAreaLeft" t="textAreaTop" r="textAreaRight" b="textAreaBottom"/>
                  <a:pathLst>
                    <a:path w="247" h="490">
                      <a:moveTo>
                        <a:pt x="0" y="435"/>
                      </a:moveTo>
                      <a:lnTo>
                        <a:pt x="15" y="327"/>
                      </a:lnTo>
                      <a:lnTo>
                        <a:pt x="72" y="211"/>
                      </a:lnTo>
                      <a:lnTo>
                        <a:pt x="118" y="112"/>
                      </a:lnTo>
                      <a:lnTo>
                        <a:pt x="155" y="35"/>
                      </a:lnTo>
                      <a:lnTo>
                        <a:pt x="201" y="0"/>
                      </a:lnTo>
                      <a:lnTo>
                        <a:pt x="247" y="21"/>
                      </a:lnTo>
                      <a:lnTo>
                        <a:pt x="180" y="135"/>
                      </a:lnTo>
                      <a:lnTo>
                        <a:pt x="102" y="282"/>
                      </a:lnTo>
                      <a:lnTo>
                        <a:pt x="56" y="417"/>
                      </a:lnTo>
                      <a:lnTo>
                        <a:pt x="56" y="490"/>
                      </a:lnTo>
                      <a:lnTo>
                        <a:pt x="0" y="490"/>
                      </a:lnTo>
                      <a:lnTo>
                        <a:pt x="0" y="403"/>
                      </a:lnTo>
                      <a:lnTo>
                        <a:pt x="0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"/>
                <p:cNvSpPr/>
                <p:nvPr/>
              </p:nvSpPr>
              <p:spPr>
                <a:xfrm>
                  <a:off x="5651640" y="4864320"/>
                  <a:ext cx="196200" cy="100332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1003320"/>
                    <a:gd name="textAreaBottom" fmla="*/ 1003680 h 1003320"/>
                  </a:gdLst>
                  <a:ahLst/>
                  <a:rect l="textAreaLeft" t="textAreaTop" r="textAreaRight" b="textAreaBottom"/>
                  <a:pathLst>
                    <a:path w="259" h="1407">
                      <a:moveTo>
                        <a:pt x="51" y="1368"/>
                      </a:moveTo>
                      <a:lnTo>
                        <a:pt x="24" y="1210"/>
                      </a:lnTo>
                      <a:lnTo>
                        <a:pt x="0" y="995"/>
                      </a:lnTo>
                      <a:lnTo>
                        <a:pt x="6" y="732"/>
                      </a:lnTo>
                      <a:lnTo>
                        <a:pt x="24" y="478"/>
                      </a:lnTo>
                      <a:lnTo>
                        <a:pt x="68" y="280"/>
                      </a:lnTo>
                      <a:lnTo>
                        <a:pt x="124" y="124"/>
                      </a:lnTo>
                      <a:lnTo>
                        <a:pt x="192" y="0"/>
                      </a:lnTo>
                      <a:lnTo>
                        <a:pt x="259" y="78"/>
                      </a:lnTo>
                      <a:lnTo>
                        <a:pt x="192" y="202"/>
                      </a:lnTo>
                      <a:lnTo>
                        <a:pt x="159" y="311"/>
                      </a:lnTo>
                      <a:lnTo>
                        <a:pt x="118" y="504"/>
                      </a:lnTo>
                      <a:lnTo>
                        <a:pt x="91" y="783"/>
                      </a:lnTo>
                      <a:lnTo>
                        <a:pt x="91" y="1004"/>
                      </a:lnTo>
                      <a:lnTo>
                        <a:pt x="107" y="1174"/>
                      </a:lnTo>
                      <a:lnTo>
                        <a:pt x="136" y="1286"/>
                      </a:lnTo>
                      <a:lnTo>
                        <a:pt x="159" y="1377"/>
                      </a:lnTo>
                      <a:lnTo>
                        <a:pt x="56" y="1407"/>
                      </a:lnTo>
                      <a:lnTo>
                        <a:pt x="51" y="136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5"/>
                <p:cNvSpPr/>
                <p:nvPr/>
              </p:nvSpPr>
              <p:spPr>
                <a:xfrm>
                  <a:off x="5828400" y="4953960"/>
                  <a:ext cx="147960" cy="890640"/>
                </a:xfrm>
                <a:custGeom>
                  <a:avLst/>
                  <a:gdLst>
                    <a:gd name="textAreaLeft" fmla="*/ 0 w 147960"/>
                    <a:gd name="textAreaRight" fmla="*/ 148320 w 147960"/>
                    <a:gd name="textAreaTop" fmla="*/ 0 h 890640"/>
                    <a:gd name="textAreaBottom" fmla="*/ 891000 h 890640"/>
                  </a:gdLst>
                  <a:ahLst/>
                  <a:rect l="textAreaLeft" t="textAreaTop" r="textAreaRight" b="textAreaBottom"/>
                  <a:pathLst>
                    <a:path w="195" h="1251">
                      <a:moveTo>
                        <a:pt x="56" y="1239"/>
                      </a:moveTo>
                      <a:lnTo>
                        <a:pt x="15" y="1033"/>
                      </a:lnTo>
                      <a:lnTo>
                        <a:pt x="0" y="810"/>
                      </a:lnTo>
                      <a:lnTo>
                        <a:pt x="0" y="595"/>
                      </a:lnTo>
                      <a:lnTo>
                        <a:pt x="15" y="411"/>
                      </a:lnTo>
                      <a:lnTo>
                        <a:pt x="33" y="219"/>
                      </a:lnTo>
                      <a:lnTo>
                        <a:pt x="91" y="69"/>
                      </a:lnTo>
                      <a:lnTo>
                        <a:pt x="126" y="0"/>
                      </a:lnTo>
                      <a:lnTo>
                        <a:pt x="195" y="0"/>
                      </a:lnTo>
                      <a:lnTo>
                        <a:pt x="143" y="206"/>
                      </a:lnTo>
                      <a:lnTo>
                        <a:pt x="126" y="377"/>
                      </a:lnTo>
                      <a:lnTo>
                        <a:pt x="120" y="592"/>
                      </a:lnTo>
                      <a:lnTo>
                        <a:pt x="120" y="810"/>
                      </a:lnTo>
                      <a:lnTo>
                        <a:pt x="126" y="1059"/>
                      </a:lnTo>
                      <a:lnTo>
                        <a:pt x="143" y="1200"/>
                      </a:lnTo>
                      <a:lnTo>
                        <a:pt x="160" y="1251"/>
                      </a:lnTo>
                      <a:lnTo>
                        <a:pt x="56" y="12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6"/>
                <p:cNvSpPr/>
                <p:nvPr/>
              </p:nvSpPr>
              <p:spPr>
                <a:xfrm>
                  <a:off x="6004800" y="4939920"/>
                  <a:ext cx="146520" cy="938880"/>
                </a:xfrm>
                <a:custGeom>
                  <a:avLst/>
                  <a:gdLst>
                    <a:gd name="textAreaLeft" fmla="*/ 0 w 146520"/>
                    <a:gd name="textAreaRight" fmla="*/ 146880 w 146520"/>
                    <a:gd name="textAreaTop" fmla="*/ 0 h 938880"/>
                    <a:gd name="textAreaBottom" fmla="*/ 939240 h 938880"/>
                  </a:gdLst>
                  <a:ahLst/>
                  <a:rect l="textAreaLeft" t="textAreaTop" r="textAreaRight" b="textAreaBottom"/>
                  <a:pathLst>
                    <a:path w="195" h="1318">
                      <a:moveTo>
                        <a:pt x="67" y="1258"/>
                      </a:moveTo>
                      <a:lnTo>
                        <a:pt x="21" y="1027"/>
                      </a:lnTo>
                      <a:lnTo>
                        <a:pt x="4" y="805"/>
                      </a:lnTo>
                      <a:lnTo>
                        <a:pt x="0" y="577"/>
                      </a:lnTo>
                      <a:lnTo>
                        <a:pt x="0" y="318"/>
                      </a:lnTo>
                      <a:lnTo>
                        <a:pt x="33" y="136"/>
                      </a:lnTo>
                      <a:lnTo>
                        <a:pt x="50" y="8"/>
                      </a:lnTo>
                      <a:lnTo>
                        <a:pt x="137" y="0"/>
                      </a:lnTo>
                      <a:lnTo>
                        <a:pt x="119" y="124"/>
                      </a:lnTo>
                      <a:lnTo>
                        <a:pt x="85" y="334"/>
                      </a:lnTo>
                      <a:lnTo>
                        <a:pt x="91" y="534"/>
                      </a:lnTo>
                      <a:lnTo>
                        <a:pt x="119" y="805"/>
                      </a:lnTo>
                      <a:lnTo>
                        <a:pt x="143" y="1036"/>
                      </a:lnTo>
                      <a:lnTo>
                        <a:pt x="172" y="1163"/>
                      </a:lnTo>
                      <a:lnTo>
                        <a:pt x="195" y="1318"/>
                      </a:lnTo>
                      <a:lnTo>
                        <a:pt x="67" y="1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27"/>
                <p:cNvSpPr/>
                <p:nvPr/>
              </p:nvSpPr>
              <p:spPr>
                <a:xfrm>
                  <a:off x="6153120" y="4964040"/>
                  <a:ext cx="99360" cy="29772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97720"/>
                    <a:gd name="textAreaBottom" fmla="*/ 298080 h 297720"/>
                  </a:gdLst>
                  <a:ahLst/>
                  <a:rect l="textAreaLeft" t="textAreaTop" r="textAreaRight" b="textAreaBottom"/>
                  <a:pathLst>
                    <a:path w="131" h="420">
                      <a:moveTo>
                        <a:pt x="34" y="0"/>
                      </a:moveTo>
                      <a:lnTo>
                        <a:pt x="0" y="121"/>
                      </a:lnTo>
                      <a:lnTo>
                        <a:pt x="0" y="238"/>
                      </a:lnTo>
                      <a:lnTo>
                        <a:pt x="17" y="377"/>
                      </a:lnTo>
                      <a:lnTo>
                        <a:pt x="34" y="420"/>
                      </a:lnTo>
                      <a:lnTo>
                        <a:pt x="121" y="338"/>
                      </a:lnTo>
                      <a:lnTo>
                        <a:pt x="87" y="208"/>
                      </a:lnTo>
                      <a:lnTo>
                        <a:pt x="98" y="78"/>
                      </a:lnTo>
                      <a:lnTo>
                        <a:pt x="131" y="18"/>
                      </a:lnTo>
                      <a:lnTo>
                        <a:pt x="3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8"/>
                <p:cNvSpPr/>
                <p:nvPr/>
              </p:nvSpPr>
              <p:spPr>
                <a:xfrm>
                  <a:off x="6316200" y="5011200"/>
                  <a:ext cx="100800" cy="22896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228960"/>
                    <a:gd name="textAreaBottom" fmla="*/ 229320 h 228960"/>
                  </a:gdLst>
                  <a:ahLst/>
                  <a:rect l="textAreaLeft" t="textAreaTop" r="textAreaRight" b="textAreaBottom"/>
                  <a:pathLst>
                    <a:path w="135" h="323">
                      <a:moveTo>
                        <a:pt x="35" y="0"/>
                      </a:moveTo>
                      <a:lnTo>
                        <a:pt x="0" y="108"/>
                      </a:lnTo>
                      <a:lnTo>
                        <a:pt x="0" y="220"/>
                      </a:lnTo>
                      <a:lnTo>
                        <a:pt x="35" y="302"/>
                      </a:lnTo>
                      <a:lnTo>
                        <a:pt x="135" y="323"/>
                      </a:lnTo>
                      <a:lnTo>
                        <a:pt x="97" y="247"/>
                      </a:lnTo>
                      <a:lnTo>
                        <a:pt x="102" y="130"/>
                      </a:lnTo>
                      <a:lnTo>
                        <a:pt x="135" y="4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9"/>
                <p:cNvSpPr/>
                <p:nvPr/>
              </p:nvSpPr>
              <p:spPr>
                <a:xfrm>
                  <a:off x="6482520" y="5086440"/>
                  <a:ext cx="78120" cy="20088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200880"/>
                    <a:gd name="textAreaBottom" fmla="*/ 201240 h 200880"/>
                  </a:gdLst>
                  <a:ahLst/>
                  <a:rect l="textAreaLeft" t="textAreaTop" r="textAreaRight" b="textAreaBottom"/>
                  <a:pathLst>
                    <a:path w="105" h="282">
                      <a:moveTo>
                        <a:pt x="23" y="0"/>
                      </a:moveTo>
                      <a:lnTo>
                        <a:pt x="0" y="60"/>
                      </a:lnTo>
                      <a:lnTo>
                        <a:pt x="0" y="168"/>
                      </a:lnTo>
                      <a:lnTo>
                        <a:pt x="16" y="256"/>
                      </a:lnTo>
                      <a:lnTo>
                        <a:pt x="105" y="282"/>
                      </a:lnTo>
                      <a:lnTo>
                        <a:pt x="68" y="195"/>
                      </a:lnTo>
                      <a:lnTo>
                        <a:pt x="68" y="103"/>
                      </a:lnTo>
                      <a:lnTo>
                        <a:pt x="89" y="21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Text Box 30"/>
          <p:cNvSpPr/>
          <p:nvPr/>
        </p:nvSpPr>
        <p:spPr>
          <a:xfrm>
            <a:off x="1547640" y="981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УРА!  Мы сделали открытие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31"/>
          <p:cNvSpPr/>
          <p:nvPr/>
        </p:nvSpPr>
        <p:spPr>
          <a:xfrm>
            <a:off x="250920" y="0"/>
            <a:ext cx="88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Числа, из которых состоит произведение, называются множителям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ервое число в произведении –   это первый множитель, второе число – это второй множитель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75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5214960" y="0"/>
            <a:ext cx="3672000" cy="360036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Группа 40"/>
          <p:cNvGrpSpPr/>
          <p:nvPr/>
        </p:nvGrpSpPr>
        <p:grpSpPr>
          <a:xfrm>
            <a:off x="6315120" y="1214280"/>
            <a:ext cx="1503360" cy="1216080"/>
            <a:chOff x="6315120" y="1214280"/>
            <a:chExt cx="1503360" cy="1216080"/>
          </a:xfrm>
        </p:grpSpPr>
        <p:sp>
          <p:nvSpPr>
            <p:cNvPr id="319" name="Oval 21"/>
            <p:cNvSpPr/>
            <p:nvPr/>
          </p:nvSpPr>
          <p:spPr>
            <a:xfrm>
              <a:off x="6958080" y="1857240"/>
              <a:ext cx="214200" cy="1378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7"/>
            <p:cNvSpPr/>
            <p:nvPr/>
          </p:nvSpPr>
          <p:spPr>
            <a:xfrm>
              <a:off x="6315120" y="1785960"/>
              <a:ext cx="360360" cy="504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6"/>
            <p:cNvSpPr/>
            <p:nvPr/>
          </p:nvSpPr>
          <p:spPr>
            <a:xfrm>
              <a:off x="6600600" y="1428480"/>
              <a:ext cx="215640" cy="288720"/>
            </a:xfrm>
            <a:prstGeom prst="ellipse">
              <a:avLst/>
            </a:prstGeom>
            <a:solidFill>
              <a:srgbClr val="c4e0e9"/>
            </a:solidFill>
            <a:ln w="9360">
              <a:solidFill>
                <a:srgbClr val="a6d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37"/>
            <p:cNvSpPr/>
            <p:nvPr/>
          </p:nvSpPr>
          <p:spPr>
            <a:xfrm>
              <a:off x="7458120" y="1785960"/>
              <a:ext cx="360360" cy="5047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a3a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30"/>
            <p:cNvSpPr/>
            <p:nvPr/>
          </p:nvSpPr>
          <p:spPr>
            <a:xfrm flipV="1">
              <a:off x="6672240" y="1571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16"/>
            <p:cNvSpPr/>
            <p:nvPr/>
          </p:nvSpPr>
          <p:spPr>
            <a:xfrm>
              <a:off x="7315200" y="1428480"/>
              <a:ext cx="215640" cy="288720"/>
            </a:xfrm>
            <a:prstGeom prst="ellipse">
              <a:avLst/>
            </a:prstGeom>
            <a:solidFill>
              <a:srgbClr val="c4e0e9"/>
            </a:solidFill>
            <a:ln w="9360">
              <a:solidFill>
                <a:srgbClr val="a6d0d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7386840" y="15714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28"/>
            <p:cNvSpPr/>
            <p:nvPr/>
          </p:nvSpPr>
          <p:spPr>
            <a:xfrm>
              <a:off x="6886440" y="2286000"/>
              <a:ext cx="433440" cy="14436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363" h="1">
                  <a:moveTo>
                    <a:pt x="0" y="0"/>
                  </a:moveTo>
                  <a:cubicBezTo>
                    <a:pt x="151" y="0"/>
                    <a:pt x="303" y="0"/>
                    <a:pt x="363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43"/>
            <p:cNvSpPr/>
            <p:nvPr/>
          </p:nvSpPr>
          <p:spPr>
            <a:xfrm>
              <a:off x="6457680" y="1214280"/>
              <a:ext cx="428400" cy="1429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2" h="46">
                  <a:moveTo>
                    <a:pt x="0" y="46"/>
                  </a:moveTo>
                  <a:cubicBezTo>
                    <a:pt x="68" y="23"/>
                    <a:pt x="136" y="0"/>
                    <a:pt x="181" y="0"/>
                  </a:cubicBezTo>
                  <a:cubicBezTo>
                    <a:pt x="226" y="0"/>
                    <a:pt x="249" y="23"/>
                    <a:pt x="272" y="4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44"/>
            <p:cNvSpPr/>
            <p:nvPr/>
          </p:nvSpPr>
          <p:spPr>
            <a:xfrm flipH="1">
              <a:off x="7243200" y="1214280"/>
              <a:ext cx="431640" cy="142920"/>
            </a:xfrm>
            <a:custGeom>
              <a:avLst/>
              <a:gdLst>
                <a:gd name="textAreaLeft" fmla="*/ -360 w 431640"/>
                <a:gd name="textAreaRight" fmla="*/ 431640 w 431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72" h="46">
                  <a:moveTo>
                    <a:pt x="0" y="46"/>
                  </a:moveTo>
                  <a:cubicBezTo>
                    <a:pt x="68" y="23"/>
                    <a:pt x="136" y="0"/>
                    <a:pt x="181" y="0"/>
                  </a:cubicBezTo>
                  <a:cubicBezTo>
                    <a:pt x="226" y="0"/>
                    <a:pt x="249" y="23"/>
                    <a:pt x="272" y="4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9" name="Picture 37" descr="C:\Documents and Settings\Учитель\Мои документы\грусть.gif"/>
          <p:cNvPicPr/>
          <p:nvPr/>
        </p:nvPicPr>
        <p:blipFill>
          <a:blip r:embed="rId1"/>
          <a:stretch/>
        </p:blipFill>
        <p:spPr>
          <a:xfrm>
            <a:off x="3203640" y="3716280"/>
            <a:ext cx="3672000" cy="2881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8" descr="C:\Documents and Settings\Учитель\Мои документы\радость.gif"/>
          <p:cNvPicPr/>
          <p:nvPr/>
        </p:nvPicPr>
        <p:blipFill>
          <a:blip r:embed="rId2"/>
          <a:stretch/>
        </p:blipFill>
        <p:spPr>
          <a:xfrm>
            <a:off x="826920" y="692280"/>
            <a:ext cx="324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27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928800" y="57168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cc"/>
                </a:solidFill>
                <a:latin typeface="Times New Roman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642960" y="228600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Учебник,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тр. 94, № 6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K17-1024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1974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4"/>
          <p:cNvSpPr/>
          <p:nvPr/>
        </p:nvSpPr>
        <p:spPr>
          <a:xfrm>
            <a:off x="357120" y="54291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Times New Roman"/>
              </a:rPr>
              <a:t>Спасибо за работу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STENOPAD"/>
          <p:cNvPicPr/>
          <p:nvPr/>
        </p:nvPicPr>
        <p:blipFill>
          <a:blip r:embed="rId3"/>
          <a:stretch/>
        </p:blipFill>
        <p:spPr>
          <a:xfrm>
            <a:off x="200016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928960" y="1571760"/>
            <a:ext cx="371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15 нояб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Классная рабо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000080" y="2857680"/>
            <a:ext cx="3929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3     5                          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64 + 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40 - 1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000760" y="428760"/>
            <a:ext cx="39290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82 +10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     9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5 - 5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 flipV="1">
            <a:off x="7000920" y="228528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30"/>
          <p:cNvSpPr/>
          <p:nvPr/>
        </p:nvSpPr>
        <p:spPr>
          <a:xfrm flipV="1">
            <a:off x="2286000" y="349956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785880" y="0"/>
            <a:ext cx="2714400" cy="2671920"/>
          </a:xfrm>
          <a:prstGeom prst="su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2357280" y="3786120"/>
            <a:ext cx="3857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    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3     5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30"/>
          <p:cNvSpPr/>
          <p:nvPr/>
        </p:nvSpPr>
        <p:spPr>
          <a:xfrm flipH="1" flipV="1">
            <a:off x="4428360" y="5643720"/>
            <a:ext cx="142920" cy="188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30"/>
          <p:cNvSpPr/>
          <p:nvPr/>
        </p:nvSpPr>
        <p:spPr>
          <a:xfrm flipV="1">
            <a:off x="4357800" y="4357800"/>
            <a:ext cx="142920" cy="188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214200" y="357120"/>
            <a:ext cx="37148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25 – 5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40 – 18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4643280" y="285840"/>
            <a:ext cx="407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cc"/>
              </a:buClr>
              <a:buFont typeface="Times New Roman"/>
              <a:buAutoNum type="arabicPlain" startAt="8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+ 10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64 + 1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STENOPAD"/>
          <p:cNvPicPr/>
          <p:nvPr/>
        </p:nvPicPr>
        <p:blipFill>
          <a:blip r:embed="rId3"/>
          <a:stretch/>
        </p:blipFill>
        <p:spPr>
          <a:xfrm>
            <a:off x="185724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3571920" y="1071720"/>
            <a:ext cx="207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4670280" y="3897360"/>
            <a:ext cx="1332000" cy="2455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8"/>
          <p:cNvSpPr/>
          <p:nvPr/>
        </p:nvSpPr>
        <p:spPr>
          <a:xfrm>
            <a:off x="2928960" y="1857240"/>
            <a:ext cx="35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е и множител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30" descr="27"/>
          <p:cNvPicPr/>
          <p:nvPr/>
        </p:nvPicPr>
        <p:blipFill>
          <a:blip r:embed="rId1"/>
          <a:stretch/>
        </p:blipFill>
        <p:spPr>
          <a:xfrm>
            <a:off x="214200" y="214200"/>
            <a:ext cx="2357640" cy="3005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2214720" y="21420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з данных выражений выбери и запиши только произвед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2928960" y="2143080"/>
            <a:ext cx="242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3   4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Oval 30" descr=""/>
          <p:cNvPicPr/>
          <p:nvPr/>
        </p:nvPicPr>
        <p:blipFill>
          <a:blip r:embed="rId2"/>
          <a:stretch/>
        </p:blipFill>
        <p:spPr>
          <a:xfrm>
            <a:off x="3633840" y="2633760"/>
            <a:ext cx="163440" cy="139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0"/>
          <p:cNvSpPr/>
          <p:nvPr/>
        </p:nvSpPr>
        <p:spPr>
          <a:xfrm>
            <a:off x="4143240" y="342900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2 + 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643800" y="2286000"/>
            <a:ext cx="192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7 – 5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500040" y="385776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10 + 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214720" y="5286240"/>
            <a:ext cx="32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12 – 2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6215040" y="47149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cc"/>
                </a:solidFill>
                <a:latin typeface="Times New Roman"/>
              </a:rPr>
              <a:t>8   3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 flipV="1">
            <a:off x="6929280" y="5143680"/>
            <a:ext cx="142920" cy="117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NOTEBOK2"/>
          <p:cNvPicPr/>
          <p:nvPr/>
        </p:nvPicPr>
        <p:blipFill>
          <a:blip r:embed="rId1"/>
          <a:stretch/>
        </p:blipFill>
        <p:spPr>
          <a:xfrm>
            <a:off x="-214200" y="411120"/>
            <a:ext cx="6143400" cy="644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GEOMETRY"/>
          <p:cNvPicPr/>
          <p:nvPr/>
        </p:nvPicPr>
        <p:blipFill>
          <a:blip r:embed="rId2"/>
          <a:stretch/>
        </p:blipFill>
        <p:spPr>
          <a:xfrm>
            <a:off x="6786720" y="260280"/>
            <a:ext cx="2176200" cy="590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STENOPAD"/>
          <p:cNvPicPr/>
          <p:nvPr/>
        </p:nvPicPr>
        <p:blipFill>
          <a:blip r:embed="rId3"/>
          <a:stretch/>
        </p:blipFill>
        <p:spPr>
          <a:xfrm>
            <a:off x="1857240" y="357120"/>
            <a:ext cx="4808520" cy="59770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3571920" y="1071720"/>
            <a:ext cx="20718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Monotype Corsiva"/>
              </a:rPr>
              <a:t>Тем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Копия PEN"/>
          <p:cNvPicPr/>
          <p:nvPr/>
        </p:nvPicPr>
        <p:blipFill>
          <a:blip r:embed="rId4"/>
          <a:stretch/>
        </p:blipFill>
        <p:spPr>
          <a:xfrm rot="721200">
            <a:off x="4670280" y="3897360"/>
            <a:ext cx="1332000" cy="24559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2928960" y="1857240"/>
            <a:ext cx="350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е и множители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62120" y="20574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BOOKS2"/>
          <p:cNvPicPr/>
          <p:nvPr/>
        </p:nvPicPr>
        <p:blipFill>
          <a:blip r:embed="rId1"/>
          <a:stretch/>
        </p:blipFill>
        <p:spPr>
          <a:xfrm>
            <a:off x="7023240" y="4429080"/>
            <a:ext cx="2120760" cy="11556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4"/>
          <p:cNvSpPr txBox="1"/>
          <p:nvPr/>
        </p:nvSpPr>
        <p:spPr>
          <a:xfrm>
            <a:off x="2000160" y="285840"/>
            <a:ext cx="10796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WordArt 15"/>
          <p:cNvSpPr txBox="1"/>
          <p:nvPr/>
        </p:nvSpPr>
        <p:spPr>
          <a:xfrm>
            <a:off x="3132000" y="69228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c2d1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9c2d1"/>
              </a:solidFill>
              <a:latin typeface="Arial"/>
              <a:ea typeface="Arial"/>
            </a:endParaRPr>
          </a:p>
        </p:txBody>
      </p:sp>
      <p:sp>
        <p:nvSpPr>
          <p:cNvPr id="167" name="WordArt 17"/>
          <p:cNvSpPr txBox="1"/>
          <p:nvPr/>
        </p:nvSpPr>
        <p:spPr>
          <a:xfrm>
            <a:off x="5857920" y="928800"/>
            <a:ext cx="100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7740720" y="404640"/>
            <a:ext cx="9349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9" name="WordArt 19"/>
          <p:cNvSpPr txBox="1"/>
          <p:nvPr/>
        </p:nvSpPr>
        <p:spPr>
          <a:xfrm>
            <a:off x="1071720" y="2071800"/>
            <a:ext cx="2981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21"/>
          <p:cNvSpPr txBox="1"/>
          <p:nvPr/>
        </p:nvSpPr>
        <p:spPr>
          <a:xfrm>
            <a:off x="2987640" y="3573360"/>
            <a:ext cx="64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9c2d1"/>
                </a:solidFill>
                <a:latin typeface="Arial"/>
              </a:rPr>
              <a:t>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9c2d1"/>
              </a:solidFill>
              <a:latin typeface="Arial"/>
              <a:ea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0" y="150012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ервый множите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1643040" y="0"/>
            <a:ext cx="157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28"/>
          <p:cNvSpPr/>
          <p:nvPr/>
        </p:nvSpPr>
        <p:spPr>
          <a:xfrm>
            <a:off x="6072120" y="0"/>
            <a:ext cx="192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29"/>
          <p:cNvSpPr/>
          <p:nvPr/>
        </p:nvSpPr>
        <p:spPr>
          <a:xfrm>
            <a:off x="4796280" y="1500120"/>
            <a:ext cx="366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торо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ожите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4286160" y="857160"/>
            <a:ext cx="428760" cy="4287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BOOKS2"/>
          <p:cNvPicPr/>
          <p:nvPr/>
        </p:nvPicPr>
        <p:blipFill>
          <a:blip r:embed="rId2"/>
          <a:stretch/>
        </p:blipFill>
        <p:spPr>
          <a:xfrm>
            <a:off x="0" y="4143240"/>
            <a:ext cx="2120760" cy="1155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OOKS2"/>
          <p:cNvPicPr/>
          <p:nvPr/>
        </p:nvPicPr>
        <p:blipFill>
          <a:blip r:embed="rId3"/>
          <a:stretch/>
        </p:blipFill>
        <p:spPr>
          <a:xfrm>
            <a:off x="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BOOKS2"/>
          <p:cNvPicPr/>
          <p:nvPr/>
        </p:nvPicPr>
        <p:blipFill>
          <a:blip r:embed="rId4"/>
          <a:stretch/>
        </p:blipFill>
        <p:spPr>
          <a:xfrm>
            <a:off x="1857240" y="3357720"/>
            <a:ext cx="212112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BOOKS2"/>
          <p:cNvPicPr/>
          <p:nvPr/>
        </p:nvPicPr>
        <p:blipFill>
          <a:blip r:embed="rId5"/>
          <a:stretch/>
        </p:blipFill>
        <p:spPr>
          <a:xfrm>
            <a:off x="2286000" y="55008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BOOKS2"/>
          <p:cNvPicPr/>
          <p:nvPr/>
        </p:nvPicPr>
        <p:blipFill>
          <a:blip r:embed="rId6"/>
          <a:stretch/>
        </p:blipFill>
        <p:spPr>
          <a:xfrm>
            <a:off x="450072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OOKS2"/>
          <p:cNvPicPr/>
          <p:nvPr/>
        </p:nvPicPr>
        <p:blipFill>
          <a:blip r:embed="rId7"/>
          <a:stretch/>
        </p:blipFill>
        <p:spPr>
          <a:xfrm>
            <a:off x="3857760" y="442908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OOKS2"/>
          <p:cNvPicPr/>
          <p:nvPr/>
        </p:nvPicPr>
        <p:blipFill>
          <a:blip r:embed="rId8"/>
          <a:stretch/>
        </p:blipFill>
        <p:spPr>
          <a:xfrm>
            <a:off x="6786720" y="5702400"/>
            <a:ext cx="2120760" cy="1155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BOOKS2"/>
          <p:cNvPicPr/>
          <p:nvPr/>
        </p:nvPicPr>
        <p:blipFill>
          <a:blip r:embed="rId9"/>
          <a:stretch/>
        </p:blipFill>
        <p:spPr>
          <a:xfrm>
            <a:off x="5072040" y="3357720"/>
            <a:ext cx="2120760" cy="115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3"/>
          <p:cNvGrpSpPr/>
          <p:nvPr/>
        </p:nvGrpSpPr>
        <p:grpSpPr>
          <a:xfrm>
            <a:off x="357120" y="4724280"/>
            <a:ext cx="2667240" cy="2133360"/>
            <a:chOff x="357120" y="4724280"/>
            <a:chExt cx="2667240" cy="2133360"/>
          </a:xfrm>
        </p:grpSpPr>
        <p:pic>
          <p:nvPicPr>
            <p:cNvPr id="185" name="Picture 4" descr="BOOK3"/>
            <p:cNvPicPr/>
            <p:nvPr/>
          </p:nvPicPr>
          <p:blipFill>
            <a:blip r:embed="rId1"/>
            <a:stretch/>
          </p:blipFill>
          <p:spPr>
            <a:xfrm>
              <a:off x="357120" y="540900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5" descr="BOOK3"/>
            <p:cNvPicPr/>
            <p:nvPr/>
          </p:nvPicPr>
          <p:blipFill>
            <a:blip r:embed="rId2"/>
            <a:stretch/>
          </p:blipFill>
          <p:spPr>
            <a:xfrm>
              <a:off x="891000" y="504036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6" descr="BOOK3"/>
            <p:cNvPicPr/>
            <p:nvPr/>
          </p:nvPicPr>
          <p:blipFill>
            <a:blip r:embed="rId3"/>
            <a:stretch/>
          </p:blipFill>
          <p:spPr>
            <a:xfrm>
              <a:off x="1272960" y="472428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"/>
          <p:cNvGrpSpPr/>
          <p:nvPr/>
        </p:nvGrpSpPr>
        <p:grpSpPr>
          <a:xfrm>
            <a:off x="214200" y="0"/>
            <a:ext cx="2667240" cy="2133360"/>
            <a:chOff x="214200" y="0"/>
            <a:chExt cx="2667240" cy="2133360"/>
          </a:xfrm>
        </p:grpSpPr>
        <p:pic>
          <p:nvPicPr>
            <p:cNvPr id="189" name="Picture 4" descr="BOOK3"/>
            <p:cNvPicPr/>
            <p:nvPr/>
          </p:nvPicPr>
          <p:blipFill>
            <a:blip r:embed="rId4"/>
            <a:stretch/>
          </p:blipFill>
          <p:spPr>
            <a:xfrm>
              <a:off x="214200" y="68472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5" descr="BOOK3"/>
            <p:cNvPicPr/>
            <p:nvPr/>
          </p:nvPicPr>
          <p:blipFill>
            <a:blip r:embed="rId5"/>
            <a:stretch/>
          </p:blipFill>
          <p:spPr>
            <a:xfrm>
              <a:off x="748080" y="31608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6" descr="BOOK3"/>
            <p:cNvPicPr/>
            <p:nvPr/>
          </p:nvPicPr>
          <p:blipFill>
            <a:blip r:embed="rId6"/>
            <a:stretch/>
          </p:blipFill>
          <p:spPr>
            <a:xfrm>
              <a:off x="1130040" y="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3"/>
          <p:cNvGrpSpPr/>
          <p:nvPr/>
        </p:nvGrpSpPr>
        <p:grpSpPr>
          <a:xfrm>
            <a:off x="2857680" y="4724280"/>
            <a:ext cx="2666520" cy="2133360"/>
            <a:chOff x="2857680" y="4724280"/>
            <a:chExt cx="2666520" cy="2133360"/>
          </a:xfrm>
        </p:grpSpPr>
        <p:pic>
          <p:nvPicPr>
            <p:cNvPr id="193" name="Picture 4" descr="BOOK3"/>
            <p:cNvPicPr/>
            <p:nvPr/>
          </p:nvPicPr>
          <p:blipFill>
            <a:blip r:embed="rId7"/>
            <a:stretch/>
          </p:blipFill>
          <p:spPr>
            <a:xfrm>
              <a:off x="2857680" y="540900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BOOK3"/>
            <p:cNvPicPr/>
            <p:nvPr/>
          </p:nvPicPr>
          <p:blipFill>
            <a:blip r:embed="rId8"/>
            <a:stretch/>
          </p:blipFill>
          <p:spPr>
            <a:xfrm>
              <a:off x="3391560" y="504036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6" descr="BOOK3"/>
            <p:cNvPicPr/>
            <p:nvPr/>
          </p:nvPicPr>
          <p:blipFill>
            <a:blip r:embed="rId9"/>
            <a:stretch/>
          </p:blipFill>
          <p:spPr>
            <a:xfrm>
              <a:off x="3773160" y="472428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3"/>
          <p:cNvGrpSpPr/>
          <p:nvPr/>
        </p:nvGrpSpPr>
        <p:grpSpPr>
          <a:xfrm>
            <a:off x="2714760" y="0"/>
            <a:ext cx="2666520" cy="2133360"/>
            <a:chOff x="2714760" y="0"/>
            <a:chExt cx="2666520" cy="2133360"/>
          </a:xfrm>
        </p:grpSpPr>
        <p:pic>
          <p:nvPicPr>
            <p:cNvPr id="197" name="Picture 4" descr="BOOK3"/>
            <p:cNvPicPr/>
            <p:nvPr/>
          </p:nvPicPr>
          <p:blipFill>
            <a:blip r:embed="rId10"/>
            <a:stretch/>
          </p:blipFill>
          <p:spPr>
            <a:xfrm>
              <a:off x="2714760" y="68472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BOOK3"/>
            <p:cNvPicPr/>
            <p:nvPr/>
          </p:nvPicPr>
          <p:blipFill>
            <a:blip r:embed="rId11"/>
            <a:stretch/>
          </p:blipFill>
          <p:spPr>
            <a:xfrm>
              <a:off x="3248640" y="31608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6" descr="BOOK3"/>
            <p:cNvPicPr/>
            <p:nvPr/>
          </p:nvPicPr>
          <p:blipFill>
            <a:blip r:embed="rId12"/>
            <a:stretch/>
          </p:blipFill>
          <p:spPr>
            <a:xfrm>
              <a:off x="3630240" y="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3"/>
          <p:cNvGrpSpPr/>
          <p:nvPr/>
        </p:nvGrpSpPr>
        <p:grpSpPr>
          <a:xfrm>
            <a:off x="5929200" y="0"/>
            <a:ext cx="2667240" cy="2133360"/>
            <a:chOff x="5929200" y="0"/>
            <a:chExt cx="2667240" cy="2133360"/>
          </a:xfrm>
        </p:grpSpPr>
        <p:pic>
          <p:nvPicPr>
            <p:cNvPr id="201" name="Picture 4" descr="BOOK3"/>
            <p:cNvPicPr/>
            <p:nvPr/>
          </p:nvPicPr>
          <p:blipFill>
            <a:blip r:embed="rId13"/>
            <a:stretch/>
          </p:blipFill>
          <p:spPr>
            <a:xfrm>
              <a:off x="5929200" y="68472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5" descr="BOOK3"/>
            <p:cNvPicPr/>
            <p:nvPr/>
          </p:nvPicPr>
          <p:blipFill>
            <a:blip r:embed="rId14"/>
            <a:stretch/>
          </p:blipFill>
          <p:spPr>
            <a:xfrm>
              <a:off x="6463080" y="316080"/>
              <a:ext cx="175140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6" descr="BOOK3"/>
            <p:cNvPicPr/>
            <p:nvPr/>
          </p:nvPicPr>
          <p:blipFill>
            <a:blip r:embed="rId15"/>
            <a:stretch/>
          </p:blipFill>
          <p:spPr>
            <a:xfrm>
              <a:off x="6845040" y="0"/>
              <a:ext cx="175140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4" name="Group 3"/>
          <p:cNvGrpSpPr/>
          <p:nvPr/>
        </p:nvGrpSpPr>
        <p:grpSpPr>
          <a:xfrm>
            <a:off x="6000840" y="4286160"/>
            <a:ext cx="2666520" cy="2133360"/>
            <a:chOff x="6000840" y="4286160"/>
            <a:chExt cx="2666520" cy="2133360"/>
          </a:xfrm>
        </p:grpSpPr>
        <p:pic>
          <p:nvPicPr>
            <p:cNvPr id="205" name="Picture 4" descr="BOOK3"/>
            <p:cNvPicPr/>
            <p:nvPr/>
          </p:nvPicPr>
          <p:blipFill>
            <a:blip r:embed="rId16"/>
            <a:stretch/>
          </p:blipFill>
          <p:spPr>
            <a:xfrm>
              <a:off x="6000840" y="497088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5" descr="BOOK3"/>
            <p:cNvPicPr/>
            <p:nvPr/>
          </p:nvPicPr>
          <p:blipFill>
            <a:blip r:embed="rId17"/>
            <a:stretch/>
          </p:blipFill>
          <p:spPr>
            <a:xfrm>
              <a:off x="6534720" y="4602240"/>
              <a:ext cx="1751040" cy="14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BOOK3"/>
            <p:cNvPicPr/>
            <p:nvPr/>
          </p:nvPicPr>
          <p:blipFill>
            <a:blip r:embed="rId18"/>
            <a:stretch/>
          </p:blipFill>
          <p:spPr>
            <a:xfrm>
              <a:off x="6916320" y="4286160"/>
              <a:ext cx="1751040" cy="14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"/>
          <p:cNvGrpSpPr/>
          <p:nvPr/>
        </p:nvGrpSpPr>
        <p:grpSpPr>
          <a:xfrm>
            <a:off x="6477120" y="2071800"/>
            <a:ext cx="2666520" cy="2133000"/>
            <a:chOff x="6477120" y="2071800"/>
            <a:chExt cx="2666520" cy="2133000"/>
          </a:xfrm>
        </p:grpSpPr>
        <p:pic>
          <p:nvPicPr>
            <p:cNvPr id="209" name="Picture 4" descr="BOOK3"/>
            <p:cNvPicPr/>
            <p:nvPr/>
          </p:nvPicPr>
          <p:blipFill>
            <a:blip r:embed="rId19"/>
            <a:stretch/>
          </p:blipFill>
          <p:spPr>
            <a:xfrm>
              <a:off x="6477120" y="2756520"/>
              <a:ext cx="175104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BOOK3"/>
            <p:cNvPicPr/>
            <p:nvPr/>
          </p:nvPicPr>
          <p:blipFill>
            <a:blip r:embed="rId20"/>
            <a:stretch/>
          </p:blipFill>
          <p:spPr>
            <a:xfrm>
              <a:off x="7011000" y="2387520"/>
              <a:ext cx="1751040" cy="144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BOOK3"/>
            <p:cNvPicPr/>
            <p:nvPr/>
          </p:nvPicPr>
          <p:blipFill>
            <a:blip r:embed="rId21"/>
            <a:stretch/>
          </p:blipFill>
          <p:spPr>
            <a:xfrm>
              <a:off x="7392600" y="2071800"/>
              <a:ext cx="175104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35"/>
          <p:cNvSpPr/>
          <p:nvPr/>
        </p:nvSpPr>
        <p:spPr>
          <a:xfrm>
            <a:off x="0" y="1857240"/>
            <a:ext cx="657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12000" spc="-1" strike="noStrike">
                <a:solidFill>
                  <a:srgbClr val="0000cc"/>
                </a:solidFill>
                <a:latin typeface="Times New Roman"/>
              </a:rPr>
              <a:t>3       7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Times New Roman"/>
              </a:rPr>
              <a:t>произведе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3143160" y="2714760"/>
            <a:ext cx="428760" cy="428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18:50Z</dcterms:created>
  <dc:creator>Лёха</dc:creator>
  <dc:description/>
  <dc:language>en-US</dc:language>
  <cp:lastModifiedBy>Учитель</cp:lastModifiedBy>
  <dcterms:modified xsi:type="dcterms:W3CDTF">2012-03-20T08:26:26Z</dcterms:modified>
  <cp:revision>61</cp:revision>
  <dc:subject/>
  <dc:title>Слайд 1</dc:title>
</cp:coreProperties>
</file>