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C113-4C97-4E8D-8742-FE3DB6C9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E124-E8A5-4E59-8117-CAE0EDD6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C435-C016-47E2-AAC6-1A45C89D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09C2-56CD-450B-849A-DFB913E7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FEA8-0F27-41CE-B28D-D40EF082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AD2A-964B-478B-A74F-A1927F4A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3F21-0094-4618-95E9-8D5C7874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F2F6-AE7A-433F-AF22-F1DE3311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74FB-714B-4BFB-8B13-C777612E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02C9-9CDB-4CE6-B8D5-1483C798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DBE9-C46D-4D2A-A3F7-7D6FA52D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2E06-84F0-403A-9B08-AD25F060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1911-DD6C-45AB-93CC-C2F01B5B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6449-968C-4956-A4E4-1DC06107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6029-E9BF-4A0A-BFE6-9B5025F7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053D-0D0E-4319-875F-FDC9911F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B84C-48F6-41C8-B7F3-3E4B15FF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C005-9401-45A5-95C9-BF62EC13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EA51-D88D-49B6-97D7-31FFDF06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A711-9A5F-4061-A4A7-B45E3AEC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C0A6-9156-45EA-A6D7-55F7D926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D10E-1C02-40AF-AAE5-D2B696C4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489F-77AE-475F-925C-E6B11FEB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145-BF9A-41D3-865B-95290EEB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37E8-9DCF-4671-A528-5C6A93C8BB4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660D-0084-492A-8EF7-64A6571BFCD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8920" y="620640"/>
            <a:ext cx="47530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Развитие творческих способностей детей</a:t>
            </a: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раннего возраста в продуктивной</a:t>
            </a: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(конструктивной) деятельности»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76720" y="2133720"/>
            <a:ext cx="3240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рдобовска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алина Николаевн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спитател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БДОУ Црр –д/с «Капелька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Светогорс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0b772a44-4206-11df-88ba-0016e67b2a52_0b772a47-4206-11df-88ba-0016e67b2a52"/>
          <p:cNvPicPr/>
          <p:nvPr/>
        </p:nvPicPr>
        <p:blipFill>
          <a:blip r:embed="rId1"/>
          <a:stretch/>
        </p:blipFill>
        <p:spPr>
          <a:xfrm>
            <a:off x="1403280" y="2060640"/>
            <a:ext cx="1944720" cy="1512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35272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еатральная деятельность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Picture 7" descr="P5130023"/>
          <p:cNvPicPr/>
          <p:nvPr/>
        </p:nvPicPr>
        <p:blipFill>
          <a:blip r:embed="rId1"/>
          <a:stretch/>
        </p:blipFill>
        <p:spPr>
          <a:xfrm>
            <a:off x="1042920" y="2492280"/>
            <a:ext cx="2016360" cy="1513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P3231273"/>
          <p:cNvPicPr/>
          <p:nvPr/>
        </p:nvPicPr>
        <p:blipFill>
          <a:blip r:embed="rId2"/>
          <a:stretch/>
        </p:blipFill>
        <p:spPr>
          <a:xfrm>
            <a:off x="3348000" y="2492280"/>
            <a:ext cx="2016000" cy="15130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4"/>
          <p:cNvSpPr/>
          <p:nvPr/>
        </p:nvSpPr>
        <p:spPr>
          <a:xfrm>
            <a:off x="971640" y="422100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матизация сказк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еремок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3492360" y="414972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ство теремк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02920" y="1125000"/>
            <a:ext cx="3024360" cy="55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орское путешествие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Picture 4" descr="P6211867"/>
          <p:cNvPicPr/>
          <p:nvPr/>
        </p:nvPicPr>
        <p:blipFill>
          <a:blip r:embed="rId1"/>
          <a:stretch/>
        </p:blipFill>
        <p:spPr>
          <a:xfrm>
            <a:off x="971640" y="2205000"/>
            <a:ext cx="1584360" cy="1295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P4050239"/>
          <p:cNvPicPr/>
          <p:nvPr/>
        </p:nvPicPr>
        <p:blipFill>
          <a:blip r:embed="rId2"/>
          <a:stretch/>
        </p:blipFill>
        <p:spPr>
          <a:xfrm>
            <a:off x="971640" y="4149720"/>
            <a:ext cx="1800000" cy="1368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P7111972"/>
          <p:cNvPicPr/>
          <p:nvPr/>
        </p:nvPicPr>
        <p:blipFill>
          <a:blip r:embed="rId3"/>
          <a:stretch/>
        </p:blipFill>
        <p:spPr>
          <a:xfrm>
            <a:off x="2987640" y="3213000"/>
            <a:ext cx="2089080" cy="15130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4"/>
          <p:cNvSpPr/>
          <p:nvPr/>
        </p:nvSpPr>
        <p:spPr>
          <a:xfrm>
            <a:off x="611280" y="357336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корабли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рех част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987640" y="47242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рям, по волнам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611280" y="5805360"/>
            <a:ext cx="208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ирова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блика из бумаг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20" descr="47320997575297"/>
          <p:cNvPicPr/>
          <p:nvPr/>
        </p:nvPicPr>
        <p:blipFill>
          <a:blip r:embed="rId4"/>
          <a:stretch/>
        </p:blipFill>
        <p:spPr>
          <a:xfrm>
            <a:off x="3059280" y="5157720"/>
            <a:ext cx="1295280" cy="1008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1640" y="1125000"/>
            <a:ext cx="280836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утешествие на поезде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Picture 8" descr="P8042053"/>
          <p:cNvPicPr/>
          <p:nvPr/>
        </p:nvPicPr>
        <p:blipFill>
          <a:blip r:embed="rId1"/>
          <a:stretch/>
        </p:blipFill>
        <p:spPr>
          <a:xfrm>
            <a:off x="1258920" y="2205000"/>
            <a:ext cx="2017800" cy="1368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1296472502_parovozik2"/>
          <p:cNvPicPr/>
          <p:nvPr/>
        </p:nvPicPr>
        <p:blipFill>
          <a:blip r:embed="rId2"/>
          <a:stretch/>
        </p:blipFill>
        <p:spPr>
          <a:xfrm rot="705600">
            <a:off x="3960360" y="2333520"/>
            <a:ext cx="2021040" cy="5698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6"/>
          <p:cNvSpPr/>
          <p:nvPr/>
        </p:nvSpPr>
        <p:spPr>
          <a:xfrm>
            <a:off x="1042920" y="3716280"/>
            <a:ext cx="208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овоз, паровоз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енький, блестящий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19" descr="P6090061"/>
          <p:cNvPicPr/>
          <p:nvPr/>
        </p:nvPicPr>
        <p:blipFill>
          <a:blip r:embed="rId3"/>
          <a:stretch/>
        </p:blipFill>
        <p:spPr>
          <a:xfrm>
            <a:off x="3492360" y="3357720"/>
            <a:ext cx="1871640" cy="1366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360" y="1052640"/>
            <a:ext cx="44640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ворческая продуктивная деятельность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детей на прогулке летом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Picture 4" descr="P7071928"/>
          <p:cNvPicPr/>
          <p:nvPr/>
        </p:nvPicPr>
        <p:blipFill>
          <a:blip r:embed="rId1"/>
          <a:stretch/>
        </p:blipFill>
        <p:spPr>
          <a:xfrm>
            <a:off x="4284720" y="4005360"/>
            <a:ext cx="1727280" cy="1439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P7280502"/>
          <p:cNvPicPr/>
          <p:nvPr/>
        </p:nvPicPr>
        <p:blipFill>
          <a:blip r:embed="rId2"/>
          <a:stretch/>
        </p:blipFill>
        <p:spPr>
          <a:xfrm>
            <a:off x="4284720" y="2060640"/>
            <a:ext cx="1727280" cy="1439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P6110071"/>
          <p:cNvPicPr/>
          <p:nvPr/>
        </p:nvPicPr>
        <p:blipFill>
          <a:blip r:embed="rId3"/>
          <a:stretch/>
        </p:blipFill>
        <p:spPr>
          <a:xfrm>
            <a:off x="1332000" y="2565360"/>
            <a:ext cx="1871640" cy="15843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2"/>
          <p:cNvSpPr/>
          <p:nvPr/>
        </p:nvSpPr>
        <p:spPr>
          <a:xfrm>
            <a:off x="1258920" y="4149720"/>
            <a:ext cx="25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еку, пеку, пеку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кам всем по пирожку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4284720" y="357336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высокий дом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4284720" y="5516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шня из песк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836280"/>
            <a:ext cx="4392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ворческая продуктивная деятельность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детей на прогулке зимой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Picture 4" descr="P3141186"/>
          <p:cNvPicPr/>
          <p:nvPr/>
        </p:nvPicPr>
        <p:blipFill>
          <a:blip r:embed="rId1"/>
          <a:stretch/>
        </p:blipFill>
        <p:spPr>
          <a:xfrm>
            <a:off x="1476360" y="2349360"/>
            <a:ext cx="2016000" cy="1584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P3141189"/>
          <p:cNvPicPr/>
          <p:nvPr/>
        </p:nvPicPr>
        <p:blipFill>
          <a:blip r:embed="rId2"/>
          <a:stretch/>
        </p:blipFill>
        <p:spPr>
          <a:xfrm>
            <a:off x="3995640" y="2349360"/>
            <a:ext cx="2016360" cy="1584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0"/>
          <p:cNvSpPr/>
          <p:nvPr/>
        </p:nvSpPr>
        <p:spPr>
          <a:xfrm>
            <a:off x="1166760" y="4076640"/>
            <a:ext cx="24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ы скатаем снежный ком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4067280" y="4076640"/>
            <a:ext cx="223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 нашего кот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бка очень хороша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273528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бота с родителями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8" name="Picture 7" descr="P3231306"/>
          <p:cNvPicPr/>
          <p:nvPr/>
        </p:nvPicPr>
        <p:blipFill>
          <a:blip r:embed="rId1"/>
          <a:stretch/>
        </p:blipFill>
        <p:spPr>
          <a:xfrm>
            <a:off x="3851280" y="2421000"/>
            <a:ext cx="1800360" cy="1260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1"/>
          <p:cNvPicPr/>
          <p:nvPr/>
        </p:nvPicPr>
        <p:blipFill>
          <a:blip r:embed="rId2"/>
          <a:stretch/>
        </p:blipFill>
        <p:spPr>
          <a:xfrm>
            <a:off x="3059280" y="4292640"/>
            <a:ext cx="1800000" cy="1368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6" descr="P7290509"/>
          <p:cNvPicPr/>
          <p:nvPr/>
        </p:nvPicPr>
        <p:blipFill>
          <a:blip r:embed="rId3"/>
          <a:stretch/>
        </p:blipFill>
        <p:spPr>
          <a:xfrm>
            <a:off x="1042920" y="2205000"/>
            <a:ext cx="1873440" cy="1368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8"/>
          <p:cNvSpPr/>
          <p:nvPr/>
        </p:nvSpPr>
        <p:spPr>
          <a:xfrm>
            <a:off x="1187280" y="3716280"/>
            <a:ext cx="18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ж для машины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3851280" y="371628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ые вкладыш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3059280" y="5732640"/>
            <a:ext cx="21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 целое из част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237492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омашнее задание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5" name="Picture 4" descr="100_3965"/>
          <p:cNvPicPr/>
          <p:nvPr/>
        </p:nvPicPr>
        <p:blipFill>
          <a:blip r:embed="rId1"/>
          <a:stretch/>
        </p:blipFill>
        <p:spPr>
          <a:xfrm>
            <a:off x="1547640" y="2349360"/>
            <a:ext cx="2016360" cy="1368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100_3967"/>
          <p:cNvPicPr/>
          <p:nvPr/>
        </p:nvPicPr>
        <p:blipFill>
          <a:blip r:embed="rId2"/>
          <a:stretch/>
        </p:blipFill>
        <p:spPr>
          <a:xfrm>
            <a:off x="3995640" y="2349360"/>
            <a:ext cx="2089080" cy="1440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0"/>
          <p:cNvSpPr/>
          <p:nvPr/>
        </p:nvSpPr>
        <p:spPr>
          <a:xfrm>
            <a:off x="2340000" y="3933720"/>
            <a:ext cx="283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наборами блоков Дьенеш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1640" y="907920"/>
            <a:ext cx="3887640" cy="64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ыставка из природного материала 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«Краски осени»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Picture 9" descr="Картинка 61 из 7702"/>
          <p:cNvPicPr/>
          <p:nvPr/>
        </p:nvPicPr>
        <p:blipFill>
          <a:blip r:embed="rId1"/>
          <a:stretch/>
        </p:blipFill>
        <p:spPr>
          <a:xfrm>
            <a:off x="4140360" y="3933720"/>
            <a:ext cx="1871640" cy="1582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prirodMat"/>
          <p:cNvPicPr/>
          <p:nvPr/>
        </p:nvPicPr>
        <p:blipFill>
          <a:blip r:embed="rId2"/>
          <a:stretch/>
        </p:blipFill>
        <p:spPr>
          <a:xfrm>
            <a:off x="1763640" y="2421000"/>
            <a:ext cx="1944720" cy="1584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6" descr="2927926"/>
          <p:cNvPicPr/>
          <p:nvPr/>
        </p:nvPicPr>
        <p:blipFill>
          <a:blip r:embed="rId3"/>
          <a:stretch/>
        </p:blipFill>
        <p:spPr>
          <a:xfrm>
            <a:off x="4140360" y="2276640"/>
            <a:ext cx="1800000" cy="1439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5" descr="8"/>
          <p:cNvPicPr/>
          <p:nvPr/>
        </p:nvPicPr>
        <p:blipFill>
          <a:blip r:embed="rId4"/>
          <a:stretch/>
        </p:blipFill>
        <p:spPr>
          <a:xfrm>
            <a:off x="1908000" y="4076640"/>
            <a:ext cx="1440000" cy="12254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76000" y="836640"/>
            <a:ext cx="31669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ыставка поделок 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«Игрушки своими руками»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4" name="Picture 4" descr="P3281379"/>
          <p:cNvPicPr/>
          <p:nvPr/>
        </p:nvPicPr>
        <p:blipFill>
          <a:blip r:embed="rId1"/>
          <a:stretch/>
        </p:blipFill>
        <p:spPr>
          <a:xfrm>
            <a:off x="1258920" y="2421000"/>
            <a:ext cx="2233440" cy="1655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P4131419"/>
          <p:cNvPicPr/>
          <p:nvPr/>
        </p:nvPicPr>
        <p:blipFill>
          <a:blip r:embed="rId2"/>
          <a:stretch/>
        </p:blipFill>
        <p:spPr>
          <a:xfrm>
            <a:off x="3708360" y="2421000"/>
            <a:ext cx="2158920" cy="1655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47280" y="1268280"/>
            <a:ext cx="158436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зультат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648504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взрослого сооружает разнообразные постройки, используя большинство фор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ет основные формы деталей строительного материал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рачивает игру вокруг собственной постройк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кончанию игры убирает игрушки и строительный материал на место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2920" y="620640"/>
            <a:ext cx="48243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Цель: развивать творческие способности детей раннего возраста в продуктивной </a:t>
            </a:r>
            <a:br>
              <a:rPr sz="1600"/>
            </a:br>
            <a:r>
              <a:rPr b="1" lang="ru-RU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конструктивной) деятельности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9912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ть желание детей строить самостоятельно и совместно со взрослым, развивая творческие способност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ить детей с деталями строительного материала, с вариантами расположения строительных форм на плоскост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е детей сооружать элементарные постройки по образцу, поддерживать желание строить что-то самостоятельно. внося творческие изменения в постройк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пониманию пространственных соотношени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ить детей с простейшими пластмассовыми конструкторам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ть использовать детям дополнительные сюжетные игрушки для обыгрывания построе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кончании игры приучать убирать игрушки на место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творческим строительным играм с использованием природного материала (снег, песок, вода, камешки, плоды растений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273708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9" name="Picture 4" descr="P6280226"/>
          <p:cNvPicPr/>
          <p:nvPr/>
        </p:nvPicPr>
        <p:blipFill>
          <a:blip r:embed="rId1"/>
          <a:stretch/>
        </p:blipFill>
        <p:spPr>
          <a:xfrm>
            <a:off x="1476360" y="1989000"/>
            <a:ext cx="2374920" cy="1727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4248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звивающая среда для продуктивной (конструктивной ) деятельности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Picture 5" descr="PA252350"/>
          <p:cNvPicPr/>
          <p:nvPr/>
        </p:nvPicPr>
        <p:blipFill>
          <a:blip r:embed="rId1"/>
          <a:stretch/>
        </p:blipFill>
        <p:spPr>
          <a:xfrm rot="925800">
            <a:off x="3930120" y="2363400"/>
            <a:ext cx="1960560" cy="1554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PA312385"/>
          <p:cNvPicPr/>
          <p:nvPr/>
        </p:nvPicPr>
        <p:blipFill>
          <a:blip r:embed="rId2"/>
          <a:stretch/>
        </p:blipFill>
        <p:spPr>
          <a:xfrm rot="20983200">
            <a:off x="1009800" y="2320560"/>
            <a:ext cx="1692000" cy="1827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PA312389"/>
          <p:cNvPicPr/>
          <p:nvPr/>
        </p:nvPicPr>
        <p:blipFill>
          <a:blip r:embed="rId3"/>
          <a:stretch/>
        </p:blipFill>
        <p:spPr>
          <a:xfrm rot="314400">
            <a:off x="2728800" y="3743280"/>
            <a:ext cx="2210040" cy="1703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1640" y="764640"/>
            <a:ext cx="5832360" cy="7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епосредственно образовательная деятельность </a:t>
            </a:r>
            <a:r>
              <a:rPr b="0" lang="ru-RU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конструирование с использованием мелкого строительного материала)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4" descr="P2251089"/>
          <p:cNvPicPr/>
          <p:nvPr/>
        </p:nvPicPr>
        <p:blipFill>
          <a:blip r:embed="rId1"/>
          <a:stretch/>
        </p:blipFill>
        <p:spPr>
          <a:xfrm>
            <a:off x="1258920" y="2421000"/>
            <a:ext cx="2017800" cy="1584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P4141429"/>
          <p:cNvPicPr/>
          <p:nvPr/>
        </p:nvPicPr>
        <p:blipFill>
          <a:blip r:embed="rId2"/>
          <a:stretch/>
        </p:blipFill>
        <p:spPr>
          <a:xfrm>
            <a:off x="3995640" y="2421000"/>
            <a:ext cx="2089080" cy="1655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5"/>
          <p:cNvSpPr/>
          <p:nvPr/>
        </p:nvSpPr>
        <p:spPr>
          <a:xfrm>
            <a:off x="4356000" y="4292640"/>
            <a:ext cx="126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до-городо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1116000" y="4221000"/>
            <a:ext cx="2232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о шинами шурша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ы едут не спеш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3960720" cy="43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онструирование из счетных палочек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Picture 4" descr="P5271654"/>
          <p:cNvPicPr/>
          <p:nvPr/>
        </p:nvPicPr>
        <p:blipFill>
          <a:blip r:embed="rId1"/>
          <a:stretch/>
        </p:blipFill>
        <p:spPr>
          <a:xfrm>
            <a:off x="1476360" y="220500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P5271655"/>
          <p:cNvPicPr/>
          <p:nvPr/>
        </p:nvPicPr>
        <p:blipFill>
          <a:blip r:embed="rId2"/>
          <a:stretch/>
        </p:blipFill>
        <p:spPr>
          <a:xfrm>
            <a:off x="1403280" y="400536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P5271660"/>
          <p:cNvPicPr/>
          <p:nvPr/>
        </p:nvPicPr>
        <p:blipFill>
          <a:blip r:embed="rId3"/>
          <a:stretch/>
        </p:blipFill>
        <p:spPr>
          <a:xfrm>
            <a:off x="3780000" y="2205000"/>
            <a:ext cx="1655640" cy="1224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P5271663"/>
          <p:cNvPicPr/>
          <p:nvPr/>
        </p:nvPicPr>
        <p:blipFill>
          <a:blip r:embed="rId4"/>
          <a:stretch/>
        </p:blipFill>
        <p:spPr>
          <a:xfrm>
            <a:off x="3780000" y="4005360"/>
            <a:ext cx="1800000" cy="1512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6"/>
          <p:cNvSpPr/>
          <p:nvPr/>
        </p:nvSpPr>
        <p:spPr>
          <a:xfrm>
            <a:off x="1619280" y="36450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очк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3995640" y="364500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к с забор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47280" y="692280"/>
            <a:ext cx="431964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одуктивная деятельность </a:t>
            </a:r>
            <a:br>
              <a:rPr sz="1600"/>
            </a:b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игрушки из конструктора «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EGO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»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11" descr="P3211230"/>
          <p:cNvPicPr/>
          <p:nvPr/>
        </p:nvPicPr>
        <p:blipFill>
          <a:blip r:embed="rId1"/>
          <a:stretch/>
        </p:blipFill>
        <p:spPr>
          <a:xfrm>
            <a:off x="3780000" y="2205000"/>
            <a:ext cx="1871640" cy="1657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P2211079"/>
          <p:cNvPicPr/>
          <p:nvPr/>
        </p:nvPicPr>
        <p:blipFill>
          <a:blip r:embed="rId2"/>
          <a:stretch/>
        </p:blipFill>
        <p:spPr>
          <a:xfrm>
            <a:off x="1332000" y="2781360"/>
            <a:ext cx="2014560" cy="1728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P5191647"/>
          <p:cNvPicPr/>
          <p:nvPr/>
        </p:nvPicPr>
        <p:blipFill>
          <a:blip r:embed="rId3"/>
          <a:stretch/>
        </p:blipFill>
        <p:spPr>
          <a:xfrm rot="20871600">
            <a:off x="3209400" y="4409640"/>
            <a:ext cx="1973520" cy="1643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6"/>
          <p:cNvSpPr/>
          <p:nvPr/>
        </p:nvSpPr>
        <p:spPr>
          <a:xfrm>
            <a:off x="1042920" y="450864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лет построим сами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4643280" y="191628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о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8"/>
          <p:cNvSpPr/>
          <p:nvPr/>
        </p:nvSpPr>
        <p:spPr>
          <a:xfrm rot="20972400">
            <a:off x="3347640" y="60372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ж для маши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25927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идактические игры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Picture 4" descr="P1190989"/>
          <p:cNvPicPr/>
          <p:nvPr/>
        </p:nvPicPr>
        <p:blipFill>
          <a:blip r:embed="rId1"/>
          <a:stretch/>
        </p:blipFill>
        <p:spPr>
          <a:xfrm>
            <a:off x="1403280" y="2133720"/>
            <a:ext cx="1873440" cy="1338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P3220212"/>
          <p:cNvPicPr/>
          <p:nvPr/>
        </p:nvPicPr>
        <p:blipFill>
          <a:blip r:embed="rId2"/>
          <a:stretch/>
        </p:blipFill>
        <p:spPr>
          <a:xfrm>
            <a:off x="3564000" y="2133720"/>
            <a:ext cx="2016000" cy="1366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PA112204"/>
          <p:cNvPicPr/>
          <p:nvPr/>
        </p:nvPicPr>
        <p:blipFill>
          <a:blip r:embed="rId3"/>
          <a:stretch/>
        </p:blipFill>
        <p:spPr>
          <a:xfrm>
            <a:off x="1332000" y="4149720"/>
            <a:ext cx="1944720" cy="1476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PA192278"/>
          <p:cNvPicPr/>
          <p:nvPr/>
        </p:nvPicPr>
        <p:blipFill>
          <a:blip r:embed="rId4"/>
          <a:stretch/>
        </p:blipFill>
        <p:spPr>
          <a:xfrm>
            <a:off x="3564000" y="4149720"/>
            <a:ext cx="2016000" cy="1511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4"/>
          <p:cNvSpPr/>
          <p:nvPr/>
        </p:nvSpPr>
        <p:spPr>
          <a:xfrm>
            <a:off x="1187280" y="3645000"/>
            <a:ext cx="21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ри целое из част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4140360" y="3573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аик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1187280" y="566100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ые вкладыш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3635280" y="5732640"/>
            <a:ext cx="186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ики с картинк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47640" y="1125000"/>
            <a:ext cx="26640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гра-ситуация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Picture 8" descr="P3241310"/>
          <p:cNvPicPr/>
          <p:nvPr/>
        </p:nvPicPr>
        <p:blipFill>
          <a:blip r:embed="rId1"/>
          <a:stretch/>
        </p:blipFill>
        <p:spPr>
          <a:xfrm>
            <a:off x="1116000" y="2349360"/>
            <a:ext cx="2016000" cy="1511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P3241317"/>
          <p:cNvPicPr/>
          <p:nvPr/>
        </p:nvPicPr>
        <p:blipFill>
          <a:blip r:embed="rId2"/>
          <a:stretch/>
        </p:blipFill>
        <p:spPr>
          <a:xfrm>
            <a:off x="3419640" y="2349360"/>
            <a:ext cx="2089080" cy="1511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6"/>
          <p:cNvSpPr/>
          <p:nvPr/>
        </p:nvSpPr>
        <p:spPr>
          <a:xfrm>
            <a:off x="735120" y="4005360"/>
            <a:ext cx="5205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жонок нес бусы для мамы – медведицы, упал. Бусы рассыпалис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помогли мишке найти бусинки в песке и собрать на ниточку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атем угостили медвежонка пирожк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02920" y="1125000"/>
            <a:ext cx="3529080" cy="52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ыгрывание постройки.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Picture 9" descr="PA252352"/>
          <p:cNvPicPr/>
          <p:nvPr/>
        </p:nvPicPr>
        <p:blipFill>
          <a:blip r:embed="rId1"/>
          <a:stretch/>
        </p:blipFill>
        <p:spPr>
          <a:xfrm rot="1458600">
            <a:off x="4835160" y="2854080"/>
            <a:ext cx="1622520" cy="1280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PA032131"/>
          <p:cNvPicPr/>
          <p:nvPr/>
        </p:nvPicPr>
        <p:blipFill>
          <a:blip r:embed="rId2"/>
          <a:stretch/>
        </p:blipFill>
        <p:spPr>
          <a:xfrm rot="19983600">
            <a:off x="785880" y="2881440"/>
            <a:ext cx="1735200" cy="1385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1"/>
          <p:cNvSpPr/>
          <p:nvPr/>
        </p:nvSpPr>
        <p:spPr>
          <a:xfrm rot="1703400">
            <a:off x="4932360" y="441324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одит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195640" y="206064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 сюжетно-ролевой игр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1692360" y="450864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 строител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18" descr="P1280055"/>
          <p:cNvPicPr/>
          <p:nvPr/>
        </p:nvPicPr>
        <p:blipFill>
          <a:blip r:embed="rId3"/>
          <a:stretch/>
        </p:blipFill>
        <p:spPr>
          <a:xfrm rot="625200">
            <a:off x="2677680" y="2910960"/>
            <a:ext cx="1913040" cy="1525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2:31:37Z</dcterms:created>
  <dc:creator>Евгений</dc:creator>
  <dc:description/>
  <dc:language>en-US</dc:language>
  <cp:lastModifiedBy>Леха</cp:lastModifiedBy>
  <dcterms:modified xsi:type="dcterms:W3CDTF">2012-06-04T14:42:07Z</dcterms:modified>
  <cp:revision>35</cp:revision>
  <dc:subject/>
  <dc:title>«Игровая деятельность детей раннего возраста в период адаптации»</dc:title>
</cp:coreProperties>
</file>