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F200-C99E-4C9D-9483-A1A23246D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2010-6941-4F16-88A8-BF04DA8E3B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7F1E-31DE-4414-8888-A0C3306E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C301-29FD-4ACC-8E35-A7B8AAB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89BD-141A-4B98-9481-1D031E5A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EDB7-2307-4E29-9965-312A81DA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87AC-CCA1-498E-ABCF-8791214E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63C5-FE90-4E0D-B631-65D7686C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CB76-A9E8-44E0-B3D4-67B876D1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D38A-78C1-43BF-A557-515AA2B8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198A-78F4-4C91-A38B-E3A7AAAB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D5B1-C305-4C2A-A0F6-4E860A5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A258-A93C-4525-B44E-EE85FD02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95F0-BF66-4212-8261-6ABED047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4A0C-E706-47B9-B146-1404BACF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118D-6D93-4011-A2D8-A290D198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4BF1-3BF8-48B7-B4D0-B5D77EC4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F5EE-EB35-4146-BE0C-BFB9C546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7705-1362-45A6-A49E-D282D12F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D385-D328-472C-B4EB-E2A4F71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D49A-6971-4BA4-8B78-04C687DA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60C3-7681-49B8-A6DE-F8AC0CD4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D95C-6CA4-46A0-BCD5-52036ED8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27BC-ED0A-4253-9D85-CEEC4CE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F1B2-D7CC-4E71-8995-B6212D1F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1082-9220-4BA2-ACFB-33D6A022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83A6-9406-4964-816E-B413A45B74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CB0C-A814-4248-BB1E-64BAE95831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4857480"/>
            <a:ext cx="84294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равственные уроки жизни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нализ сказки А. Погорельского «Чёрная курица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ли Подземные жители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2" descr="H:\Documents and Settings\Aida\Рабочий стол\клипарты рамки фончики\kniga39.gif"/>
          <p:cNvPicPr/>
          <p:nvPr/>
        </p:nvPicPr>
        <p:blipFill>
          <a:blip r:embed="rId1"/>
          <a:stretch/>
        </p:blipFill>
        <p:spPr>
          <a:xfrm>
            <a:off x="2700360" y="333360"/>
            <a:ext cx="4095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Содержимое 5" descr="ПетербургЗима_Вечер.jpg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5616720"/>
          </a:xfrm>
          <a:prstGeom prst="rect">
            <a:avLst/>
          </a:prstGeom>
          <a:ln w="0">
            <a:noFill/>
          </a:ln>
        </p:spPr>
      </p:pic>
      <p:sp>
        <p:nvSpPr>
          <p:cNvPr id="137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FE86-F11B-45CF-A004-B306A478D954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1008-B238-4AA8-850A-8B5C959B90F5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Рисунок 7" descr="Карета_2.gif"/>
          <p:cNvPicPr/>
          <p:nvPr/>
        </p:nvPicPr>
        <p:blipFill>
          <a:blip r:embed="rId2"/>
          <a:stretch/>
        </p:blipFill>
        <p:spPr>
          <a:xfrm>
            <a:off x="-2976480" y="42861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Карета_3.gif"/>
          <p:cNvPicPr/>
          <p:nvPr/>
        </p:nvPicPr>
        <p:blipFill>
          <a:blip r:embed="rId3"/>
          <a:stretch/>
        </p:blipFill>
        <p:spPr>
          <a:xfrm>
            <a:off x="3059280" y="3716280"/>
            <a:ext cx="1834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3821E-006 L -0.77552 0.22849 E">
                                      <p:cBhvr>
                                        <p:cTn id="6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Содержимое 5" descr="Пансион.jpg"/>
          <p:cNvPicPr/>
          <p:nvPr/>
        </p:nvPicPr>
        <p:blipFill>
          <a:blip r:embed="rId1"/>
          <a:stretch/>
        </p:blipFill>
        <p:spPr>
          <a:xfrm>
            <a:off x="468360" y="260280"/>
            <a:ext cx="8292960" cy="6359760"/>
          </a:xfrm>
          <a:prstGeom prst="rect">
            <a:avLst/>
          </a:prstGeom>
          <a:ln w="0">
            <a:noFill/>
          </a:ln>
        </p:spPr>
      </p:pic>
      <p:sp>
        <p:nvSpPr>
          <p:cNvPr id="1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29FB-5159-4037-BEAE-05CBA0D2A469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1846-1226-4FE5-A3C7-6A7AB6EDEA39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6" descr="Карета_2.gif"/>
          <p:cNvPicPr/>
          <p:nvPr/>
        </p:nvPicPr>
        <p:blipFill>
          <a:blip r:embed="rId2"/>
          <a:stretch/>
        </p:blipFill>
        <p:spPr>
          <a:xfrm>
            <a:off x="4881600" y="51436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ловарная рабо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Дортуары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спальные комнат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Букли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- кольца завитых волос, локон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Тупей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старинная причёска – взбитый хохол на голов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Вакации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каникулярное врем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Шиньон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- женская причёска, обычно из накладных волос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Салоп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 широкое дамское пальт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Империал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золотая монет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Фрак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род сюртука  вырезанными спереди пополам и длинными узкими фалдами сзад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Изразец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 плитка из  обожжённой глины, для облицовки стен, печей, обычно покрытая с лицевой стороны глазурью, кафел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Качества Алеш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859280" y="981000"/>
            <a:ext cx="396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Добр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Жестоки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Ласков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Упрям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Общительный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Самолюбивый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Гордый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Дерзкий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Любознательн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Застенчив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.Непослушн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.Скром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Содержимое 5" descr="Курица (2).jpg"/>
          <p:cNvPicPr/>
          <p:nvPr/>
        </p:nvPicPr>
        <p:blipFill>
          <a:blip r:embed="rId1"/>
          <a:stretch/>
        </p:blipFill>
        <p:spPr>
          <a:xfrm>
            <a:off x="539640" y="1052640"/>
            <a:ext cx="35449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bf25a"/>
                </a:solidFill>
                <a:latin typeface="Monotype Corsiva"/>
              </a:rPr>
              <a:t>Характер Алеши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2" descr="C:\WINDOWS\Рабочий стол\2009_03_12\Мальчик с волчком.jpg"/>
          <p:cNvPicPr/>
          <p:nvPr/>
        </p:nvPicPr>
        <p:blipFill>
          <a:blip r:embed="rId1"/>
          <a:stretch/>
        </p:blipFill>
        <p:spPr>
          <a:xfrm>
            <a:off x="2916360" y="836640"/>
            <a:ext cx="3047760" cy="21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187280" y="2997360"/>
          <a:ext cx="7210440" cy="3600360"/>
        </p:xfrm>
        <a:graphic>
          <a:graphicData uri="http://schemas.openxmlformats.org/drawingml/2006/table">
            <a:tbl>
              <a:tblPr/>
              <a:tblGrid>
                <a:gridCol w="3570480"/>
                <a:gridCol w="3639960"/>
              </a:tblGrid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До получения семечка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Имея семечко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Добр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Ласко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Общите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Скром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Застенчи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Любознате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Жесто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Упря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Непослуш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Самолюби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Горд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Дерзкий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«…Алёша стыдился об этом говорить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 вам когда-нибудь стыдно было за свои поступ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й выход из этой ситуации нашли 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7:17:19Z</dcterms:created>
  <dc:creator>Света</dc:creator>
  <dc:description/>
  <dc:language>en-US</dc:language>
  <cp:lastModifiedBy>Света</cp:lastModifiedBy>
  <dcterms:modified xsi:type="dcterms:W3CDTF">2011-03-13T17:47:50Z</dcterms:modified>
  <cp:revision>2</cp:revision>
  <dc:subject/>
  <dc:title>Слайд 1</dc:title>
</cp:coreProperties>
</file>