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EB1E-6D4F-4DFB-B515-DB2466BD52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05DF-3B03-4D5F-BA64-F24FE7786B6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CE3D8-E241-410C-9BA9-2E9D360C1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E104B-BFEA-41DC-83F9-E44B53F1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F905A-CBBC-4426-8944-CAD55E1ED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28669-34C2-45AA-81A1-CD695791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9BEE-58C3-43CF-8ACC-C5CFC640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0067-4292-4C38-843A-CA04E80A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F51C-3FA2-4972-9E53-237ECF6F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906B-14D7-45CA-BC8C-1259AA91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618B-54AE-43C3-BD94-603C176A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6316-566A-4DCC-BFE4-880406C7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BF76-F479-418A-8F0A-B4802EEF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E197F-8CAE-42CB-80DF-DF28E582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49CA-8A2B-4DB4-A787-40E02F9C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BADE-D390-474D-A6DE-BDB673E2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1D07-39FB-411F-BD3B-EB01EF43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DF97-A139-48EC-A818-ECBA0ACF6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34B5-92CF-4E6D-9E1C-3DBB9A75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C2C47-ED59-4CC1-8634-048C59E1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479BE-0B3C-4226-A4D9-75057B77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1D7AB-08BE-46CC-ADA5-1C3BC16D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FA5BE-A45A-4714-96E7-6DD7A71D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E9E0F-204E-4CAC-92F9-2096305E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040E4-5F83-4B02-8F0E-94C56AA4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2D22B-3CB5-49A2-86E4-7E2C0820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D909-E0C5-4C97-8BE5-7F2270E5D91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3467-223B-4F99-88B2-4CF92984231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400" y="4857480"/>
            <a:ext cx="84294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равственные уроки жизни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Анализ сказки А. Погорельского «Чёрная курица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или Подземные жители»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4" name="Picture 2" descr="H:\Documents and Settings\Aida\Рабочий стол\клипарты рамки фончики\kniga39.gif"/>
          <p:cNvPicPr/>
          <p:nvPr/>
        </p:nvPicPr>
        <p:blipFill>
          <a:blip r:embed="rId1"/>
          <a:stretch/>
        </p:blipFill>
        <p:spPr>
          <a:xfrm>
            <a:off x="2700360" y="333360"/>
            <a:ext cx="409572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6" name="Содержимое 5" descr="ПетербургЗима_Вечер.jpg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5616720"/>
          </a:xfrm>
          <a:prstGeom prst="rect">
            <a:avLst/>
          </a:prstGeom>
          <a:ln w="0">
            <a:noFill/>
          </a:ln>
        </p:spPr>
      </p:pic>
      <p:sp>
        <p:nvSpPr>
          <p:cNvPr id="137" name="Дата 3"/>
          <p:cNvSpPr/>
          <p:nvPr/>
        </p:nvSpPr>
        <p:spPr>
          <a:xfrm>
            <a:off x="5000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AE3C-042D-4832-80E4-1B1BFBD3C9E8}" type="datetime">
              <a:rPr b="0" lang="en-US" sz="1200" spc="-1" strike="noStrike">
                <a:solidFill>
                  <a:srgbClr val="ac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Номер слайда 4"/>
          <p:cNvSpPr/>
          <p:nvPr/>
        </p:nvSpPr>
        <p:spPr>
          <a:xfrm>
            <a:off x="685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3040-52BC-4CB6-AAC0-A96317C7D434}" type="slidenum">
              <a:rPr b="0" lang="en-US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Рисунок 7" descr="Карета_2.gif"/>
          <p:cNvPicPr/>
          <p:nvPr/>
        </p:nvPicPr>
        <p:blipFill>
          <a:blip r:embed="rId2"/>
          <a:stretch/>
        </p:blipFill>
        <p:spPr>
          <a:xfrm>
            <a:off x="-2976480" y="428616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8" descr="Карета_3.gif"/>
          <p:cNvPicPr/>
          <p:nvPr/>
        </p:nvPicPr>
        <p:blipFill>
          <a:blip r:embed="rId3"/>
          <a:stretch/>
        </p:blipFill>
        <p:spPr>
          <a:xfrm>
            <a:off x="3059280" y="3716280"/>
            <a:ext cx="18349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73821E-006 L -0.77552 0.22849 E">
                                      <p:cBhvr>
                                        <p:cTn id="6" dur="5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2" name="Содержимое 5" descr="Пансион.jpg"/>
          <p:cNvPicPr/>
          <p:nvPr/>
        </p:nvPicPr>
        <p:blipFill>
          <a:blip r:embed="rId1"/>
          <a:stretch/>
        </p:blipFill>
        <p:spPr>
          <a:xfrm>
            <a:off x="468360" y="260280"/>
            <a:ext cx="8292960" cy="6359760"/>
          </a:xfrm>
          <a:prstGeom prst="rect">
            <a:avLst/>
          </a:prstGeom>
          <a:ln w="0">
            <a:noFill/>
          </a:ln>
        </p:spPr>
      </p:pic>
      <p:sp>
        <p:nvSpPr>
          <p:cNvPr id="14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5AF4-F564-466E-A00A-B5EA12F19A48}" type="datetime">
              <a:rPr b="0" lang="en-US" sz="1200" spc="-1" strike="noStrike">
                <a:solidFill>
                  <a:srgbClr val="ac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B716-E210-4744-9DF6-2BA150D69D2A}" type="slidenum">
              <a:rPr b="0" lang="en-US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Рисунок 6" descr="Карета_2.gif"/>
          <p:cNvPicPr/>
          <p:nvPr/>
        </p:nvPicPr>
        <p:blipFill>
          <a:blip r:embed="rId2"/>
          <a:stretch/>
        </p:blipFill>
        <p:spPr>
          <a:xfrm>
            <a:off x="4881600" y="514368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ловарная работ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95280" y="981000"/>
            <a:ext cx="8353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Дортуары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спальные комнаты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Букли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- кольца завитых волос, локоны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Тупей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старинная причёска – взбитый хохол на голове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Вакации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каникулярное время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Шиньон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- женская причёска, обычно из накладных волос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Салоп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– широкое дамское пальто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Империал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золотая монета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Фрак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род сюртука  вырезанными спереди пополам и длинными узкими фалдами сзад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Изразец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– плитка из  обожжённой глины, для облицовки стен, печей, обычно покрытая с лицевой стороны глазурью, кафель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ahoma"/>
              </a:rPr>
              <a:t>Качества Алеш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859280" y="981000"/>
            <a:ext cx="3960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Добрый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Жестокий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Ласковый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Упрямый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Общительный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. Самолюбивый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.Гордый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.Дерзкий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.Любознательный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.Застенчивый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.Непослушный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.Скром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Содержимое 5" descr="Курица (2).jpg"/>
          <p:cNvPicPr/>
          <p:nvPr/>
        </p:nvPicPr>
        <p:blipFill>
          <a:blip r:embed="rId1"/>
          <a:stretch/>
        </p:blipFill>
        <p:spPr>
          <a:xfrm>
            <a:off x="539640" y="1052640"/>
            <a:ext cx="354492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ebf25a"/>
                </a:solidFill>
                <a:latin typeface="Monotype Corsiva"/>
              </a:rPr>
              <a:t>Характер Алеши</a:t>
            </a:r>
            <a:endParaRPr b="0" lang="en-US" sz="51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2" name="Picture 2" descr="C:\WINDOWS\Рабочий стол\2009_03_12\Мальчик с волчком.jpg"/>
          <p:cNvPicPr/>
          <p:nvPr/>
        </p:nvPicPr>
        <p:blipFill>
          <a:blip r:embed="rId1"/>
          <a:stretch/>
        </p:blipFill>
        <p:spPr>
          <a:xfrm>
            <a:off x="2916360" y="836640"/>
            <a:ext cx="3047760" cy="21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"/>
          <p:cNvGraphicFramePr/>
          <p:nvPr/>
        </p:nvGraphicFramePr>
        <p:xfrm>
          <a:off x="1187280" y="2997360"/>
          <a:ext cx="7210440" cy="3600360"/>
        </p:xfrm>
        <a:graphic>
          <a:graphicData uri="http://schemas.openxmlformats.org/drawingml/2006/table">
            <a:tbl>
              <a:tblPr/>
              <a:tblGrid>
                <a:gridCol w="3570480"/>
                <a:gridCol w="3639960"/>
              </a:tblGrid>
              <a:tr h="85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До получения семечка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Имея семечко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Добр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Ласков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Общитель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.Скром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.Застенчив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.Любознатель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Жесток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Упрям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.Непослуш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 Самолюбив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Горд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Дерзкий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Домашнее зада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«…Алёша стыдился об этом говорить…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 вам когда-нибудь стыдно было за свои поступк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кой выход из этой ситуации нашли вы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17:17:19Z</dcterms:created>
  <dc:creator>Света</dc:creator>
  <dc:description/>
  <dc:language>en-US</dc:language>
  <cp:lastModifiedBy>Света</cp:lastModifiedBy>
  <dcterms:modified xsi:type="dcterms:W3CDTF">2011-03-13T17:47:50Z</dcterms:modified>
  <cp:revision>2</cp:revision>
  <dc:subject/>
  <dc:title>Слайд 1</dc:title>
</cp:coreProperties>
</file>