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DBB8-E70C-4701-AA4A-A0C69535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0F6C-EAAD-4684-A550-4233B50B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BC34-39B7-4619-8224-4FE274C6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565E-B6D9-459E-B1D3-CD757CE7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301-5DD2-45D8-A3FA-608780CB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8F4-57CB-4D5C-9F94-4FADB992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9B04-DF63-45BA-A1F2-B6D6D560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23A0-886A-4229-A981-B079DE47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649E-AAE7-4D22-BDAD-4CEE0D24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EBDB-C815-430F-BD6D-616A610F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FCF8-C465-42E3-BA6F-B787239D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D12B-591C-4AAD-B589-06382840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2119-40DA-484D-A503-BB3B97E1B1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расли животно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уроку «Значение млекопитающи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ВЦЕВОД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19280" y="1657440"/>
            <a:ext cx="59054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ок ов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71440" y="1600200"/>
            <a:ext cx="680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вцевод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57200" y="1600200"/>
            <a:ext cx="8228520" cy="4524480"/>
            <a:chOff x="457200" y="1600200"/>
            <a:chExt cx="8228520" cy="4524480"/>
          </a:xfrm>
        </p:grpSpPr>
        <p:cxnSp>
          <p:nvCxnSpPr>
            <p:cNvPr id="83" name="_s14354"/>
            <p:cNvCxnSpPr>
              <a:stCxn id="84" idx="0"/>
              <a:endCxn id="85" idx="2"/>
            </p:cNvCxnSpPr>
            <p:nvPr/>
          </p:nvCxnSpPr>
          <p:spPr>
            <a:xfrm flipV="1" rot="16200000">
              <a:off x="5226480" y="2754000"/>
              <a:ext cx="905400" cy="221544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4352"/>
            <p:cNvCxnSpPr>
              <a:stCxn id="87" idx="0"/>
              <a:endCxn id="85" idx="2"/>
            </p:cNvCxnSpPr>
            <p:nvPr/>
          </p:nvCxnSpPr>
          <p:spPr>
            <a:xfrm flipH="1" flipV="1" rot="5400000">
              <a:off x="3010680" y="2754000"/>
              <a:ext cx="905400" cy="22161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5" name="_s14348"/>
            <p:cNvSpPr/>
            <p:nvPr/>
          </p:nvSpPr>
          <p:spPr>
            <a:xfrm>
              <a:off x="2673000" y="1600200"/>
              <a:ext cx="3797640" cy="180972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Породы овец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4349"/>
            <p:cNvSpPr/>
            <p:nvPr/>
          </p:nvSpPr>
          <p:spPr>
            <a:xfrm>
              <a:off x="457200" y="4314960"/>
              <a:ext cx="3797640" cy="180972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Тонкорун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4351"/>
            <p:cNvSpPr/>
            <p:nvPr/>
          </p:nvSpPr>
          <p:spPr>
            <a:xfrm>
              <a:off x="4888080" y="4314960"/>
              <a:ext cx="3797640" cy="180972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Грубошерст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нкорунная порода ов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03280" y="1695600"/>
            <a:ext cx="5761080" cy="3940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76360" y="566100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канийская тонкору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убошерстные породы ов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2025720"/>
            <a:ext cx="4495680" cy="3333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544500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ман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4068720" cy="3278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537372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ракуль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ясная порода ов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953320" cy="4467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03280" y="595008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дильбаевкая порода курдючных ов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ЗОВОД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698508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зовод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103" name="_s95246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95244"/>
            <p:cNvCxnSpPr>
              <a:stCxn id="107" idx="0"/>
              <a:endCxn id="105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95240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Породы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95241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000000"/>
                  </a:solidFill>
                  <a:latin typeface="Arial"/>
                </a:rPr>
                <a:t>Молоч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000000"/>
                  </a:solidFill>
                  <a:latin typeface="Arial"/>
                </a:rPr>
                <a:t>(Зааненские)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95243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Пухов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(Ангорская)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лочная (Зааненская пород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3880" y="1685880"/>
            <a:ext cx="60962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уховая порода (Ангорска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286080" cy="4681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140360" y="1773360"/>
            <a:ext cx="461952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расли животно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отноводство – отрасль сельского хозяйства, которая занимается использованием с/х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о обеспечивает людей пищевыми продуктами (молоко, мясо, сыр, масло); дает сырье для легкой (кожа, шерсть), а также  рабочую силу (лошадь, осел) и органическое удоб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я животноводства, связанные с млекопитающи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Скотоводство.                     6) Кроликовод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Овцеводство.                      7) Оленевод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Козоводств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Свиновод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Коневод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мятники овцам и коз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39680" y="3938760"/>
            <a:ext cx="2872080" cy="2187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300640" y="1600200"/>
            <a:ext cx="2732040" cy="2185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348160" y="3938760"/>
            <a:ext cx="2638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ИНОВОД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56000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ок сви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58920" y="1600200"/>
            <a:ext cx="6626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ИНОП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95400" y="1762200"/>
            <a:ext cx="53532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краинская степная свин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7610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виновод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висимости от направления продуктивности существуют следующие породы сви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сальные – большая черная, мангалицкая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беконные – ландрас, темвор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мясо-сальные, или универсальные – большая белая, миргородская и т.д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льшая черная пор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0581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андр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960560"/>
            <a:ext cx="705672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ргородская (мясо-сальна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87680"/>
            <a:ext cx="770400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слоухая вьетнам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1680" y="2152800"/>
            <a:ext cx="3809880" cy="3419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38720" y="1805040"/>
            <a:ext cx="2857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ОТОВОД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8150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мятники свин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2216160"/>
            <a:ext cx="4038480" cy="3294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48320" y="2516040"/>
            <a:ext cx="4038480" cy="26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док крупного рогатого ск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769440" cy="4465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50920" y="5877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расли ското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52" name="_s4109"/>
            <p:cNvCxnSpPr>
              <a:stCxn id="53" idx="0"/>
              <a:endCxn id="54" idx="2"/>
            </p:cNvCxnSpPr>
            <p:nvPr/>
          </p:nvCxnSpPr>
          <p:spPr>
            <a:xfrm flipV="1" rot="16200000">
              <a:off x="5558760" y="2421360"/>
              <a:ext cx="905400" cy="2880720"/>
            </a:xfrm>
            <a:prstGeom prst="bentConnector3">
              <a:avLst>
                <a:gd name="adj1" fmla="val 97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4108"/>
            <p:cNvCxnSpPr>
              <a:stCxn id="56" idx="0"/>
              <a:endCxn id="54" idx="2"/>
            </p:cNvCxnSpPr>
            <p:nvPr/>
          </p:nvCxnSpPr>
          <p:spPr>
            <a:xfrm flipV="1">
              <a:off x="4571640" y="3409200"/>
              <a:ext cx="3600" cy="90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4107"/>
            <p:cNvCxnSpPr>
              <a:stCxn id="58" idx="0"/>
              <a:endCxn id="54" idx="2"/>
            </p:cNvCxnSpPr>
            <p:nvPr/>
          </p:nvCxnSpPr>
          <p:spPr>
            <a:xfrm flipH="1" flipV="1" rot="5400000">
              <a:off x="2678760" y="2421720"/>
              <a:ext cx="905400" cy="2880720"/>
            </a:xfrm>
            <a:prstGeom prst="bentConnector3">
              <a:avLst>
                <a:gd name="adj1" fmla="val 97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4" name="_s4103"/>
            <p:cNvSpPr/>
            <p:nvPr/>
          </p:nvSpPr>
          <p:spPr>
            <a:xfrm>
              <a:off x="3337200" y="160020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котоводств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4104"/>
            <p:cNvSpPr/>
            <p:nvPr/>
          </p:nvSpPr>
          <p:spPr>
            <a:xfrm>
              <a:off x="45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Мяс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4105"/>
            <p:cNvSpPr/>
            <p:nvPr/>
          </p:nvSpPr>
          <p:spPr>
            <a:xfrm>
              <a:off x="333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Молоч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4106"/>
            <p:cNvSpPr/>
            <p:nvPr/>
          </p:nvSpPr>
          <p:spPr>
            <a:xfrm>
              <a:off x="621756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Мясо-молоч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лочные породы к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4427640" cy="3321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0" y="2421000"/>
            <a:ext cx="4572000" cy="2800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716360" y="4724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рославская</a:t>
            </a:r>
            <a:r>
              <a:rPr b="1" lang="en-US" sz="1800" spc="-1" strike="noStrike">
                <a:solidFill>
                  <a:srgbClr val="def6f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724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Холмогорская</a:t>
            </a:r>
            <a:r>
              <a:rPr b="1" lang="en-US" sz="1800" spc="-1" strike="noStrike">
                <a:solidFill>
                  <a:srgbClr val="def6f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ясные породы к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7937" b="9637"/>
          <a:stretch/>
        </p:blipFill>
        <p:spPr>
          <a:xfrm>
            <a:off x="4356000" y="1916280"/>
            <a:ext cx="4788000" cy="3192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788000" y="551664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захская белоголов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4038480" cy="3546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5280" y="558972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лмыц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ясомолочная порода ко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284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87280" y="623736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мменталь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мятники коро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3167280" cy="2386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211640" y="1413000"/>
            <a:ext cx="2665440" cy="2333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84360" y="386064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211640" y="3933720"/>
            <a:ext cx="32860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5:24:22Z</dcterms:created>
  <dc:creator>Сергей</dc:creator>
  <dc:description/>
  <dc:language>en-US</dc:language>
  <cp:lastModifiedBy>Сергей</cp:lastModifiedBy>
  <dcterms:modified xsi:type="dcterms:W3CDTF">2012-06-17T09:38:20Z</dcterms:modified>
  <cp:revision>12</cp:revision>
  <dc:subject/>
  <dc:title>Слайд 1</dc:title>
</cp:coreProperties>
</file>