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E61-5B7F-49F1-90BB-4C10AA5E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B13-6ABA-4357-BD2C-88B43761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27B-EA77-4551-8525-CDE67131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FC4-48A4-46E6-AB1C-29B9F1ED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C69-AEF3-4D09-B495-3AB0C66C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67A-2A6C-45ED-948B-283E75C2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779-8562-470C-9284-F345AF67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BAD-AD4C-4995-922D-AFC8837C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112-6D3F-4E57-BC12-01561763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AC3-E067-4153-82B3-C50B9481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76B-27E6-4810-85E9-C90D7A8F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F7C-40C5-440C-8EEB-E4901E66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584C-5F4C-4DFF-9879-F7E2551D1A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расли животно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уроку «Значение млекопитающи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1657440"/>
            <a:ext cx="59054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ок ов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71440" y="1600200"/>
            <a:ext cx="680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57200" y="1600200"/>
            <a:ext cx="8228520" cy="4524480"/>
            <a:chOff x="457200" y="1600200"/>
            <a:chExt cx="8228520" cy="4524480"/>
          </a:xfrm>
        </p:grpSpPr>
        <p:cxnSp>
          <p:nvCxnSpPr>
            <p:cNvPr id="83" name="_s14354"/>
            <p:cNvCxnSpPr>
              <a:stCxn id="84" idx="0"/>
              <a:endCxn id="85" idx="2"/>
            </p:cNvCxnSpPr>
            <p:nvPr/>
          </p:nvCxnSpPr>
          <p:spPr>
            <a:xfrm flipV="1" rot="16200000">
              <a:off x="5226480" y="2754000"/>
              <a:ext cx="905400" cy="22154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4352"/>
            <p:cNvCxnSpPr>
              <a:stCxn id="87" idx="0"/>
              <a:endCxn id="85" idx="2"/>
            </p:cNvCxnSpPr>
            <p:nvPr/>
          </p:nvCxnSpPr>
          <p:spPr>
            <a:xfrm flipH="1" flipV="1" rot="5400000">
              <a:off x="3010680" y="2754000"/>
              <a:ext cx="905400" cy="2216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5" name="_s14348"/>
            <p:cNvSpPr/>
            <p:nvPr/>
          </p:nvSpPr>
          <p:spPr>
            <a:xfrm>
              <a:off x="2673000" y="160020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Породы овец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4349"/>
            <p:cNvSpPr/>
            <p:nvPr/>
          </p:nvSpPr>
          <p:spPr>
            <a:xfrm>
              <a:off x="457200" y="431496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Тонкорун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4351"/>
            <p:cNvSpPr/>
            <p:nvPr/>
          </p:nvSpPr>
          <p:spPr>
            <a:xfrm>
              <a:off x="4888080" y="431496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Грубошерст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нкорунная порода ов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03280" y="1695600"/>
            <a:ext cx="5761080" cy="3940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76360" y="566100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канийская тонкору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убошерстные породы ов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4495680" cy="3333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44500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ман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068720" cy="3278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537372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ракуль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ясная порода ов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953320" cy="4467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9500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дильбаевкая порода курдючных ов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ЗО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9850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зо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103" name="_s95246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95244"/>
            <p:cNvCxnSpPr>
              <a:stCxn id="107" idx="0"/>
              <a:endCxn id="105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95240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Пород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95241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Arial"/>
                </a:rPr>
                <a:t>Молоч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Arial"/>
                </a:rPr>
                <a:t>(Зааненские)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95243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Пухов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(Ангорская)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лочная (Зааненская пород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3880" y="1685880"/>
            <a:ext cx="60962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уховая порода (Ангорска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286080" cy="4681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40360" y="1773360"/>
            <a:ext cx="461952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расли животно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тноводство – отрасль сельского хозяйства, которая занимается использованием с/х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о обеспечивает людей пищевыми продуктами (молоко, мясо, сыр, масло); дает сырье для легкой (кожа, шерсть), а также  рабочую силу (лошадь, осел) и органическое удоб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 животноводства, связанные с млекопитающи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Скотоводство.                     6) Кроликово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Овцеводство.                      7) Оленево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Козоводств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Свиновод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Коневод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мятники овцам и коз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39680" y="3938760"/>
            <a:ext cx="2872080" cy="2187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00640" y="1600200"/>
            <a:ext cx="2732040" cy="218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348160" y="3938760"/>
            <a:ext cx="2638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ИНО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5600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ок сви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626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ИНОП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95400" y="1762200"/>
            <a:ext cx="53532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краинская степная сви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7610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ино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направления продуктивности существуют следующие породы сви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сальные – большая черная, мангалицкая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беконные – ландрас, темвор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мясо-сальные, или универсальные – большая белая, миргородская и т.д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льшая черная п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0581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андр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960560"/>
            <a:ext cx="705672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городская (мясо-сальна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87680"/>
            <a:ext cx="770400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слоухая вьетнам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1680" y="2152800"/>
            <a:ext cx="3809880" cy="3419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38720" y="1805040"/>
            <a:ext cx="285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ТО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8150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мятники сви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2216160"/>
            <a:ext cx="4038480" cy="329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8320" y="2516040"/>
            <a:ext cx="403848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ок крупного рогатого ск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769440" cy="446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0920" y="5877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расли ското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52" name="_s4109"/>
            <p:cNvCxnSpPr>
              <a:stCxn id="53" idx="0"/>
              <a:endCxn id="54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97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4108"/>
            <p:cNvCxnSpPr>
              <a:stCxn id="56" idx="0"/>
              <a:endCxn id="54" idx="2"/>
            </p:cNvCxnSpPr>
            <p:nvPr/>
          </p:nvCxnSpPr>
          <p:spPr>
            <a:xfrm flipV="1">
              <a:off x="4571640" y="3409200"/>
              <a:ext cx="360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4107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2678760" y="2421720"/>
              <a:ext cx="905400" cy="2880720"/>
            </a:xfrm>
            <a:prstGeom prst="bentConnector3">
              <a:avLst>
                <a:gd name="adj1" fmla="val 97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4103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котовод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104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яс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05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олоч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06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Мясо-молоч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лочные породы к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4572000" cy="2800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16360" y="472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рославская</a:t>
            </a:r>
            <a:r>
              <a:rPr b="1" lang="en-US" sz="18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72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Холмогорская</a:t>
            </a:r>
            <a:r>
              <a:rPr b="1" lang="en-US" sz="18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ясные породы к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7937" b="9637"/>
          <a:stretch/>
        </p:blipFill>
        <p:spPr>
          <a:xfrm>
            <a:off x="4356000" y="1916280"/>
            <a:ext cx="4788000" cy="3192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88000" y="55166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захская белогол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4038480" cy="3546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558972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лмыц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ясомолочная порода к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284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7280" y="623736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менталь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мятники коро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167280" cy="2386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11640" y="1413000"/>
            <a:ext cx="2665440" cy="2333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4360" y="386064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211640" y="3933720"/>
            <a:ext cx="32860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5:24:22Z</dcterms:created>
  <dc:creator>Сергей</dc:creator>
  <dc:description/>
  <dc:language>en-US</dc:language>
  <cp:lastModifiedBy>Сергей</cp:lastModifiedBy>
  <dcterms:modified xsi:type="dcterms:W3CDTF">2012-06-17T09:38:20Z</dcterms:modified>
  <cp:revision>12</cp:revision>
  <dc:subject/>
  <dc:title>Слайд 1</dc:title>
</cp:coreProperties>
</file>