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63C-7A96-4F44-A665-A9525BEE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455-B5FA-447A-ABB8-F953D291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CC4-9DE1-43C5-B86E-229AFC3A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877-0E1C-4E65-AFF8-A1CC5F2F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6E3C-CBAC-4924-A309-308821CC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F52F-B94B-4ADF-9508-05547437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C72D-7649-4ECE-800B-A53B872E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E43F-F2D8-4D08-811C-1778547A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A4E9-E32B-4607-940B-C20E3078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2547-F5BC-408B-880E-E90A4B5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3C1C-1936-4A5F-9066-E4D49A3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B28-A71B-4D45-A05C-39A61EE9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CAC4-89A9-42BE-9CD5-5719E3C2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2C2C-3426-4C82-9C74-658C0A35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54EA-93D3-414B-BC02-4ADF4550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97B4-6474-4031-9DCD-11E24821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5968-FB8C-4477-9996-EE6E6D42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638-0245-43DD-A6DB-EECBE3C8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C4C-A950-4D29-8118-134927D4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18F-1D36-4618-99F4-B6D890F2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B8B-FE03-4E11-ABA8-017F1577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13E-567A-4F86-8ABB-274B836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190-2562-4A02-95A1-BBB1BE47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85A-E8EB-464A-A530-852861A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16A5-0DBC-4C5B-ABD9-0FA5FA6752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7DC7-38F3-4DE1-81FC-1B658BAF2A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3024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ма:</a:t>
            </a:r>
            <a:br>
              <a:rPr sz="3600"/>
            </a:b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700d2"/>
                </a:solidFill>
                <a:latin typeface="Times New Roman"/>
              </a:rPr>
              <a:t>«Портфолио ученика как метод оценивания индивидуальных достижений учащихся с ограниченными возможностями здоровь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Российская Федерация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униципальное специальное (коррекционное) образовательное учреждение для обучающихся  воспитанников с ограниченными возможностями здоровья,  специальная коррекционная школа-интернат 7 вида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г. Павловский  Посад Московской област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      Учитель начальных классов Трухачёва Г.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4360" y="3645000"/>
            <a:ext cx="7696080" cy="2232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ворчество для детей с ограниченными возможностями здоровья – путь к самореализации и самоутверждению. Задача учителя помочь ребенку найти себя в творчестве, приобрести уверенность, достичь успех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ученика в коррекционной школе необходимо для отслеживания динамики развития учащегося. Оно помогает проектировать его «зону ближайшего развития», коррекции отклонений и оказания ему посильной помощи в адаптации к нашей современной сложной действительности,  с целью отслеживания результатов совместной работы всех специалистов и педагогов школы по медика – психолога - педагогическому сопровождению детей, имеющих ограниченные возможности здоровь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P1010078"/>
          <p:cNvPicPr/>
          <p:nvPr/>
        </p:nvPicPr>
        <p:blipFill>
          <a:blip r:embed="rId1"/>
          <a:stretch/>
        </p:blipFill>
        <p:spPr>
          <a:xfrm>
            <a:off x="5003640" y="83664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SAM_0536"/>
          <p:cNvPicPr/>
          <p:nvPr/>
        </p:nvPicPr>
        <p:blipFill>
          <a:blip r:embed="rId2"/>
          <a:stretch/>
        </p:blipFill>
        <p:spPr>
          <a:xfrm>
            <a:off x="1042920" y="836640"/>
            <a:ext cx="288144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714240" y="951840"/>
            <a:ext cx="3286440" cy="5031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ботая учителем  в специальной  коррекционной школе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VII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вида, я постаралась определить возможные направления составления портфолио учащегося с 1 по 4 класс. Создание портфолио проходит под девизом: «Дерзайте, вы - талантливы!» Первая страничка портфолио содержит вступительную статью, в которой рассказывается о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его предназначен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8" descr="SAM_0553"/>
          <p:cNvPicPr/>
          <p:nvPr/>
        </p:nvPicPr>
        <p:blipFill>
          <a:blip r:embed="rId1"/>
          <a:stretch/>
        </p:blipFill>
        <p:spPr>
          <a:xfrm>
            <a:off x="4357800" y="714240"/>
            <a:ext cx="3643200" cy="2714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SAM_0524"/>
          <p:cNvPicPr/>
          <p:nvPr/>
        </p:nvPicPr>
        <p:blipFill>
          <a:blip r:embed="rId2"/>
          <a:stretch/>
        </p:blipFill>
        <p:spPr>
          <a:xfrm>
            <a:off x="4357800" y="3643200"/>
            <a:ext cx="3643200" cy="2522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своей  работе выделяю три раздела портфолио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137440" cy="1943280"/>
          </a:xfrm>
          <a:prstGeom prst="rect">
            <a:avLst/>
          </a:prstGeom>
          <a:solidFill>
            <a:srgbClr val="fcf96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700d2"/>
                </a:solidFill>
                <a:uFillTx/>
                <a:latin typeface="Times New Roman"/>
              </a:rPr>
              <a:t>Мой ми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десь фотография, краткие сведения о ребёнке. Здесь же тестирование    по темам в  виде рисунков: Моя семья, мой дом, дерево. Здесь разделы - мои друзья, мои увлечения и т.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10" descr="SAM_0530"/>
          <p:cNvPicPr/>
          <p:nvPr/>
        </p:nvPicPr>
        <p:blipFill>
          <a:blip r:embed="rId1"/>
          <a:stretch/>
        </p:blipFill>
        <p:spPr>
          <a:xfrm>
            <a:off x="4643280" y="3716280"/>
            <a:ext cx="3241800" cy="21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SAM_0587"/>
          <p:cNvPicPr/>
          <p:nvPr/>
        </p:nvPicPr>
        <p:blipFill>
          <a:blip r:embed="rId2"/>
          <a:stretch/>
        </p:blipFill>
        <p:spPr>
          <a:xfrm>
            <a:off x="1619280" y="3429000"/>
            <a:ext cx="234792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5640" cy="1873440"/>
          </a:xfrm>
          <a:prstGeom prst="rect">
            <a:avLst/>
          </a:prstGeom>
          <a:solidFill>
            <a:srgbClr val="fcf96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700d2"/>
                </a:solidFill>
                <a:uFillTx/>
                <a:latin typeface="Times New Roman"/>
              </a:rPr>
              <a:t>Моё творчество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этом разделе накапливаются рисунки детей, творческие работы, работы по предметам, всё, что он на данный момент создал сам (фотографии поделок, чего добился, занимаясь в кружках и т.д.)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7" descr="P1010071"/>
          <p:cNvPicPr/>
          <p:nvPr/>
        </p:nvPicPr>
        <p:blipFill>
          <a:blip r:embed="rId1"/>
          <a:stretch/>
        </p:blipFill>
        <p:spPr>
          <a:xfrm>
            <a:off x="611280" y="2421000"/>
            <a:ext cx="2232000" cy="3024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SAM_0588"/>
          <p:cNvPicPr/>
          <p:nvPr/>
        </p:nvPicPr>
        <p:blipFill>
          <a:blip r:embed="rId2"/>
          <a:stretch/>
        </p:blipFill>
        <p:spPr>
          <a:xfrm>
            <a:off x="5580000" y="4724280"/>
            <a:ext cx="2521080" cy="1729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SAM_0541"/>
          <p:cNvPicPr/>
          <p:nvPr/>
        </p:nvPicPr>
        <p:blipFill>
          <a:blip r:embed="rId3"/>
          <a:stretch/>
        </p:blipFill>
        <p:spPr>
          <a:xfrm>
            <a:off x="5580000" y="249228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SAM_0575"/>
          <p:cNvPicPr/>
          <p:nvPr/>
        </p:nvPicPr>
        <p:blipFill>
          <a:blip r:embed="rId4"/>
          <a:stretch/>
        </p:blipFill>
        <p:spPr>
          <a:xfrm>
            <a:off x="3276720" y="3141720"/>
            <a:ext cx="187164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31280" cy="1657440"/>
          </a:xfrm>
          <a:prstGeom prst="rect">
            <a:avLst/>
          </a:prstGeom>
          <a:solidFill>
            <a:srgbClr val="fcf96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700d2"/>
                </a:solidFill>
                <a:uFillTx/>
                <a:latin typeface="Times New Roman"/>
              </a:rPr>
              <a:t>Мои достижения.</a:t>
            </a:r>
            <a:br>
              <a:rPr sz="20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Отчеты о достигнутых успехах, грамоты, достижения в учёбе, работе с логопедом, мониторинги, достижения в  спорте, и т.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9" descr="SAM_0537"/>
          <p:cNvPicPr/>
          <p:nvPr/>
        </p:nvPicPr>
        <p:blipFill>
          <a:blip r:embed="rId1"/>
          <a:stretch/>
        </p:blipFill>
        <p:spPr>
          <a:xfrm>
            <a:off x="3995640" y="299736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SAM_0540"/>
          <p:cNvPicPr/>
          <p:nvPr/>
        </p:nvPicPr>
        <p:blipFill>
          <a:blip r:embed="rId2"/>
          <a:stretch/>
        </p:blipFill>
        <p:spPr>
          <a:xfrm>
            <a:off x="971640" y="2997360"/>
            <a:ext cx="23763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140360" y="333360"/>
            <a:ext cx="3960720" cy="2665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дает  возможность отслеживать динамику развития ребенка, построить мониторинговую систему оценивания. В конце четверти учащиеся получают грамоты за хорошее поведение, учебу, помощь учителю, за успехи в школе, которые также вкладываются в портфоли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3" descr="SAM_0593"/>
          <p:cNvPicPr/>
          <p:nvPr/>
        </p:nvPicPr>
        <p:blipFill>
          <a:blip r:embed="rId1"/>
          <a:stretch/>
        </p:blipFill>
        <p:spPr>
          <a:xfrm>
            <a:off x="3203640" y="3357720"/>
            <a:ext cx="2016000" cy="266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SAM_0534"/>
          <p:cNvPicPr/>
          <p:nvPr/>
        </p:nvPicPr>
        <p:blipFill>
          <a:blip r:embed="rId2"/>
          <a:stretch/>
        </p:blipFill>
        <p:spPr>
          <a:xfrm>
            <a:off x="755640" y="549360"/>
            <a:ext cx="2808360" cy="1869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SAM_0584"/>
          <p:cNvPicPr/>
          <p:nvPr/>
        </p:nvPicPr>
        <p:blipFill>
          <a:blip r:embed="rId3"/>
          <a:stretch/>
        </p:blipFill>
        <p:spPr>
          <a:xfrm>
            <a:off x="755640" y="3357720"/>
            <a:ext cx="2087640" cy="269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SAM_0542"/>
          <p:cNvPicPr/>
          <p:nvPr/>
        </p:nvPicPr>
        <p:blipFill>
          <a:blip r:embed="rId4"/>
          <a:stretch/>
        </p:blipFill>
        <p:spPr>
          <a:xfrm>
            <a:off x="5580000" y="3860640"/>
            <a:ext cx="287964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2808360" cy="4968720"/>
          </a:xfrm>
          <a:prstGeom prst="rect">
            <a:avLst/>
          </a:prstGeom>
          <a:solidFill>
            <a:srgbClr val="fcf96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пециальной коррекционной школе нет отбора лучших работ, каждая работа особого ребенка уникальна. Поэтому вся деятельность, осуществляемая детьми,  отражается в портфоли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- папку роста, развития и достижений ученика, вполне можно  представлять как мини-презентацию на дне рождения ребенка,  родственникам, на родительских собраниях, в классе. Ведь пролистать красочную папку очень интересно!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SAM_0548"/>
          <p:cNvPicPr/>
          <p:nvPr/>
        </p:nvPicPr>
        <p:blipFill>
          <a:blip r:embed="rId1"/>
          <a:stretch/>
        </p:blipFill>
        <p:spPr>
          <a:xfrm>
            <a:off x="6588000" y="342900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SAM_0539"/>
          <p:cNvPicPr/>
          <p:nvPr/>
        </p:nvPicPr>
        <p:blipFill>
          <a:blip r:embed="rId2"/>
          <a:stretch/>
        </p:blipFill>
        <p:spPr>
          <a:xfrm>
            <a:off x="5940360" y="98100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SAM_0535"/>
          <p:cNvPicPr/>
          <p:nvPr/>
        </p:nvPicPr>
        <p:blipFill>
          <a:blip r:embed="rId3"/>
          <a:stretch/>
        </p:blipFill>
        <p:spPr>
          <a:xfrm>
            <a:off x="3564000" y="4005360"/>
            <a:ext cx="2663640" cy="201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SAM_0573"/>
          <p:cNvPicPr/>
          <p:nvPr/>
        </p:nvPicPr>
        <p:blipFill>
          <a:blip r:embed="rId4"/>
          <a:stretch/>
        </p:blipFill>
        <p:spPr>
          <a:xfrm>
            <a:off x="3564000" y="549360"/>
            <a:ext cx="20890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684360" y="469800"/>
            <a:ext cx="7704000" cy="1465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ое - это то, что портфолио не несет идеи соперничества между детьми, а помогает каждому индивидуально развивать свои таланты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1763640" y="1484280"/>
            <a:ext cx="5832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cf96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ть с портфолио детям нравится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cf96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8" name="Picture 8" descr="SAM_0558"/>
          <p:cNvPicPr/>
          <p:nvPr/>
        </p:nvPicPr>
        <p:blipFill>
          <a:blip r:embed="rId1"/>
          <a:stretch/>
        </p:blipFill>
        <p:spPr>
          <a:xfrm>
            <a:off x="1908000" y="2349360"/>
            <a:ext cx="5185080" cy="3743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468360" y="365400"/>
            <a:ext cx="7991280" cy="5848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нтернет-ресурсы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 литерату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еликанова А.В., Мокраусов И.В., Севастьянова О.В., Перелыгина Е.А., Чуракова О.В. Технология развития критического мышления через чтение и письмо. Дебаты. Портфолио. / Серия «Компетентностно-ориентированный подход к образованию: образовательные технологии». Выпуск 2. – Самара: Изд-во «Профи»,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ipkps.bsu.edu.ru/source/predprof/baza_rek/portfolio.doc Рекомендации по построению различных моделей и использованию «портфолио» учащихся основной и полной средней школы. Письмо ГУ ВШЭ от 28.12.04 № 31-17/12-29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textbook.keldysh.ru/literacy/ М.М.Горбунов-Посадов, Т.А.Полилова, А.Л.Семенов. Школа на пути к новой грамот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edu.kem.ru/forum/topic.php  forum=1&amp;topic=7 на сайте департамента образования Кемеров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news.orenburg-cci.ru/education/?id=29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www.krsk-obr.ru/arhiv/1/2/statii/15 (городской портал "Красноярское образование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image.websib.ru/05/text_article.htm?454 Т.Г. Новикова. Папка индивидуальных учебных достижений «портфолио»: федеральные рекомендации и местный оп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image.websib.ru/05/text_article.htm?457 В.К.Загвоздкин. Портфель индивидуальных учебных достижений – нечто большее, чем просто альтернативный способ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kraioko.perm.ru/docs/20.html (Рекомендации по построению  моделей «портфолио» учащихся начальной и основной и средней общеобразовательной  школы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uotula.ru/cgi-bin/index.cgi?id=19 (Управление образования г. Тул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ps.1september.ru/articlef.php?ID=200406920 (Ольга ДАШКОВСКАЯ Портфолио: за и против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design.gossoudarev.com/portfolio.html (Государев И.Б. Веб-портфоли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mado.spb.ru/index.php?page=3 («Банк личных достижений учащихся»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755640" y="603000"/>
            <a:ext cx="7416720" cy="2527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дея применения портфолио в школе происходит из США, где она возникла в 80- е годы, а в конце 80-х – начале 90-х годов начался настоящий бум. Применение портфолио в школах приняло лавинообразный характер. Число публикаций и книг, посвящённых портфолио в обучении, за короткий срок резко возросло, достигло в 1995 году своего пика и стало в настоящее время практически невообразимым. Это состояние в образовательном процессе называется «портфолиоманией». Кроме США и Канады идея портфолио становится всё более популярной в Европе и Япон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конце ХХ и начале ХХI вв. эта идея становится популярной во всём   мире, в том числе и у нас, в Росс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2484360" y="3500280"/>
            <a:ext cx="4464000" cy="26654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3059280" y="3933720"/>
            <a:ext cx="72720" cy="71640"/>
          </a:xfrm>
          <a:custGeom>
            <a:avLst/>
            <a:gdLst>
              <a:gd name="textAreaLeft" fmla="*/ 10440 w 72720"/>
              <a:gd name="textAreaRight" fmla="*/ 62280 w 72720"/>
              <a:gd name="textAreaTop" fmla="*/ 10440 h 71640"/>
              <a:gd name="textAreaBottom" fmla="*/ 6120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6048360" cy="2881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4"/>
          <p:cNvSpPr/>
          <p:nvPr/>
        </p:nvSpPr>
        <p:spPr>
          <a:xfrm>
            <a:off x="2124000" y="3860640"/>
            <a:ext cx="217440" cy="28764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2411280" y="4437000"/>
            <a:ext cx="217800" cy="287280"/>
          </a:xfrm>
          <a:custGeom>
            <a:avLst/>
            <a:gdLst>
              <a:gd name="textAreaLeft" fmla="*/ 89640 w 217800"/>
              <a:gd name="textAreaRight" fmla="*/ 128160 w 2178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4211640" y="4292640"/>
            <a:ext cx="217440" cy="2872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4500720" y="4221000"/>
            <a:ext cx="217440" cy="28764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2"/>
          <p:cNvSpPr/>
          <p:nvPr/>
        </p:nvSpPr>
        <p:spPr>
          <a:xfrm>
            <a:off x="4500720" y="4221000"/>
            <a:ext cx="217440" cy="2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4716360" y="4005360"/>
            <a:ext cx="217440" cy="287280"/>
          </a:xfrm>
          <a:custGeom>
            <a:avLst/>
            <a:gdLst>
              <a:gd name="textAreaLeft" fmla="*/ 89280 w 217440"/>
              <a:gd name="textAreaRight" fmla="*/ 128160 w 217440"/>
              <a:gd name="textAreaTop" fmla="*/ 117720 h 287280"/>
              <a:gd name="textAreaBottom" fmla="*/ 1695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58" y="8858"/>
                </a:lnTo>
                <a:lnTo>
                  <a:pt x="10800" y="0"/>
                </a:lnTo>
                <a:lnTo>
                  <a:pt x="12742" y="8858"/>
                </a:lnTo>
                <a:lnTo>
                  <a:pt x="21600" y="10800"/>
                </a:lnTo>
                <a:lnTo>
                  <a:pt x="12742" y="12742"/>
                </a:lnTo>
                <a:lnTo>
                  <a:pt x="10800" y="21600"/>
                </a:lnTo>
                <a:lnTo>
                  <a:pt x="8858" y="12742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6443640" y="4365720"/>
            <a:ext cx="217440" cy="2872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4356000" y="3789360"/>
            <a:ext cx="21744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9"/>
          <p:cNvSpPr/>
          <p:nvPr/>
        </p:nvSpPr>
        <p:spPr>
          <a:xfrm>
            <a:off x="4356000" y="3789360"/>
            <a:ext cx="217440" cy="2872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04000" cy="316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В современном обществе приоритетом образования становится такое обучение, которое помогает выпускнику найти своё призвание, реализоваться в жизни как личность. Трудно учиться сейчас здоровым, подготовленным к школе детям. Что же говорить о детях с задержкой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сихическог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развития, детях с ограниченными возможностями здоровья. Они испытывают трудности в обучении. Нет мотивации в познавательной деятельности, не развита эмоционально-волевая сфер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В системе психологической, медицинской и педагогической помощи таким  детям на первое место ставят не дефект, а формирование и развитие целостной личности ребёнка. Под руководством взрослых дети с ограниченными возможностями здоровья могут компенсировать нарушения, реализовать свои возможности и благополучно адаптироваться в социальной сред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8" descr="P1010001"/>
          <p:cNvPicPr/>
          <p:nvPr/>
        </p:nvPicPr>
        <p:blipFill>
          <a:blip r:embed="rId1"/>
          <a:stretch/>
        </p:blipFill>
        <p:spPr>
          <a:xfrm>
            <a:off x="2916360" y="4005360"/>
            <a:ext cx="302580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6870600" cy="1584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опрос о формах, средствах, способах контроля при оценке результатов обучения учащегося остро стоит в современной системе образования и является одним из актуальных направлений в эксперименте по обновлению структуры и содержания образовани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2924280"/>
            <a:ext cx="5761080" cy="2665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тандарты второго поколения обозначили явный отход от ориентации на предметные знания и умения как результаты образования, и выход в сферу надпредметных умений, компетентностей в различных областях жизнедеятельности школьника (не только в собственно познавательной или учебной). В свете новых задач необходимо отметить образовательные возможности портфолио, т. к. его идеология созвучна идее компетентностно - ориентированного образов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826920" y="476280"/>
            <a:ext cx="7417080" cy="2411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- это и организатор деятельности (учебный органайзер), и хранилище материалов, и зеркало пути, пройденного каждым отдельным учеником в соответствии с его индивидуальностью и потребност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бочие листы портфолио выполняют, с одной стороны, функции дидактических материалов, то есть обучают некоторым действиям, с другой стороны – доносят до учащихся в адаптированном виде требования к выполнению отдельных этапов работы и становятся объектами оцен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SAM_0538"/>
          <p:cNvPicPr/>
          <p:nvPr/>
        </p:nvPicPr>
        <p:blipFill>
          <a:blip r:embed="rId1"/>
          <a:stretch/>
        </p:blipFill>
        <p:spPr>
          <a:xfrm>
            <a:off x="4788000" y="3500280"/>
            <a:ext cx="2952720" cy="208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SAM_0113"/>
          <p:cNvPicPr/>
          <p:nvPr/>
        </p:nvPicPr>
        <p:blipFill>
          <a:blip r:embed="rId2"/>
          <a:stretch/>
        </p:blipFill>
        <p:spPr>
          <a:xfrm>
            <a:off x="1476360" y="3500280"/>
            <a:ext cx="287964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187280" y="3502080"/>
            <a:ext cx="605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356000" y="704160"/>
            <a:ext cx="3816360" cy="5691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не только является современной формой оценивания, но и помогает решать важные педагогические задач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ддерживать высокую учебную мотивацию школьников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ощрять их активность и самостоятельност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сширять возможности обучения и самообучени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вивать навыки рефлексивной и оценочной деятельности учащихс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формировать умение учиться: ставить цели, планировать и организовывать собственную учебную деятельность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 как результат: способствовать повышению качества образования в цел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ля самореализации ребенку уже в начальных классах необходимо иметь правильную мотивацию, умение ставить цели и добиваться и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8" descr="SAM_0520"/>
          <p:cNvPicPr/>
          <p:nvPr/>
        </p:nvPicPr>
        <p:blipFill>
          <a:blip r:embed="rId1"/>
          <a:stretch/>
        </p:blipFill>
        <p:spPr>
          <a:xfrm>
            <a:off x="684360" y="907920"/>
            <a:ext cx="302580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2" descr="SAM_0570"/>
          <p:cNvPicPr/>
          <p:nvPr/>
        </p:nvPicPr>
        <p:blipFill>
          <a:blip r:embed="rId2"/>
          <a:stretch/>
        </p:blipFill>
        <p:spPr>
          <a:xfrm>
            <a:off x="684360" y="3933720"/>
            <a:ext cx="30240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860640"/>
            <a:ext cx="8136000" cy="2160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иссия специальной коррекционной школы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II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ида состоит в том, чтобы подготовить каждого учащегося  к  жизни в социуме  с учётом показателей здоровья, личностных характеристик и индивидуальных возможностей каждого. Подготовить, по возможности, учащегося к получению в будущем, профессии, трудоустройству,  пониманию и защите своих прав и интересов, достаточной коммуникации с другими членами общества. И одним из таких помощником для дальнейшей социальной адаптации в обществе может стать портфолио учащегос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4360" y="404640"/>
            <a:ext cx="7416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4" descr="SAM_0116"/>
          <p:cNvPicPr/>
          <p:nvPr/>
        </p:nvPicPr>
        <p:blipFill>
          <a:blip r:embed="rId1"/>
          <a:stretch/>
        </p:blipFill>
        <p:spPr>
          <a:xfrm>
            <a:off x="1116000" y="692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SAM_0569"/>
          <p:cNvPicPr/>
          <p:nvPr/>
        </p:nvPicPr>
        <p:blipFill>
          <a:blip r:embed="rId2"/>
          <a:stretch/>
        </p:blipFill>
        <p:spPr>
          <a:xfrm>
            <a:off x="5364000" y="476280"/>
            <a:ext cx="230688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6913800" cy="1584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дна из задач обучения и воспитания специальной коррекционной школы является выявление и развитие индивидуальных творческих способностей ребенка. А как можно зафиксировать эти творческие способности? На мой взгляд,  только с помощью создания индивидуального «портфолио» ученик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0" descr="SAM_0583"/>
          <p:cNvPicPr/>
          <p:nvPr/>
        </p:nvPicPr>
        <p:blipFill>
          <a:blip r:embed="rId1"/>
          <a:stretch/>
        </p:blipFill>
        <p:spPr>
          <a:xfrm>
            <a:off x="4572000" y="2924280"/>
            <a:ext cx="3273480" cy="2305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1010002"/>
          <p:cNvPicPr/>
          <p:nvPr/>
        </p:nvPicPr>
        <p:blipFill>
          <a:blip r:embed="rId2"/>
          <a:stretch/>
        </p:blipFill>
        <p:spPr>
          <a:xfrm>
            <a:off x="1116000" y="2565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2953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Жестких требований (государственного образца) к созданию портфолио на данный момент не существует. Поэтому работа над портфолио - хорошая возможность проявить себя, подойти  творчески к этой задаче.  Ведь именно творчество должно стать одним из важных звеньев современного образования.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Новые подходы и идеи всегда интересны, а тем более, когда они способствуют индивидуальному росту учащегося. Кто сказал, что дети с ОВЗ не обучаются и не развиваются? Пусть они делают это медленнее других и в меньшем объеме, но они также образовываются.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 детей с ограниченными возможностями здоровья многие говорят: «он не может!». Это неправда. Он может всё! Портфолио тому доказательство. Оно  зеркало ученика на протяжении всего обучения в специальной коррекционной школ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84360" y="3933720"/>
            <a:ext cx="76960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P1010062"/>
          <p:cNvPicPr/>
          <p:nvPr/>
        </p:nvPicPr>
        <p:blipFill>
          <a:blip r:embed="rId1"/>
          <a:stretch/>
        </p:blipFill>
        <p:spPr>
          <a:xfrm>
            <a:off x="4932360" y="378936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P1010072"/>
          <p:cNvPicPr/>
          <p:nvPr/>
        </p:nvPicPr>
        <p:blipFill>
          <a:blip r:embed="rId2"/>
          <a:stretch/>
        </p:blipFill>
        <p:spPr>
          <a:xfrm>
            <a:off x="1116000" y="378936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0:35:47Z</dcterms:created>
  <dc:creator>Танюша</dc:creator>
  <dc:description/>
  <dc:language>en-US</dc:language>
  <cp:lastModifiedBy>Танюша</cp:lastModifiedBy>
  <dcterms:modified xsi:type="dcterms:W3CDTF">2012-06-17T13:27:06Z</dcterms:modified>
  <cp:revision>17</cp:revision>
  <dc:subject/>
  <dc:title>Тема:   «Портфолио ученика как метод оценивания индивидуальных достижений учащихся с ограниченными возможностями здоровья»</dc:title>
</cp:coreProperties>
</file>