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EBF3-07EC-4335-A56B-7116447329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tarts with “if” clause/ It starts with main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C25B-9EB3-43A7-88C0-16A391165A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conditionals in this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1239-16A2-4F4F-9636-A477D322A5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new for you at this less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ften do we use adverb-condition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A4E1-7EB7-4705-B03B-F5C0FBCDCA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rosty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kates|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o skat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20F2-A3B0-4495-B21D-8FFE204E7E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1FB-1124-4876-94ED-F354AB06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5E9-9419-47D3-954F-01D246D6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6B8-A0B9-43FC-83AF-5B1F2AA8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A2C-2DBC-4711-A365-7F48ADB8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5E5-768A-4B4F-AB96-27E8B37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F0F-12E8-432E-8D26-497D0016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0BD-AECA-40E4-932D-4EADA81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1F8-C13C-43CF-B414-2AA37890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3BC-CFA7-48A2-980F-57E9B598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923-C6AA-4F1E-9D42-1C4A2F9F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FDD-10F8-4A9F-9A96-E6B3D27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9D2-C099-4E6E-A5F8-359623C5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0F80-9F84-435B-BC01-AF59B1036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34900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 u="sng">
                <a:solidFill>
                  <a:srgbClr val="800080"/>
                </a:solidFill>
                <a:uFillTx/>
                <a:latin typeface="Calibri"/>
              </a:rPr>
              <a:t>“</a:t>
            </a:r>
            <a:r>
              <a:rPr b="1" lang="es-ES" sz="4000" spc="-1" strike="noStrike" u="sng">
                <a:solidFill>
                  <a:srgbClr val="800080"/>
                </a:solidFill>
                <a:uFillTx/>
                <a:latin typeface="Calibri"/>
              </a:rPr>
              <a:t>IF/When”-Adverb  Conditional  and</a:t>
            </a:r>
            <a:br>
              <a:rPr sz="4000"/>
            </a:br>
            <a:r>
              <a:rPr b="1" lang="es-ES" sz="4000" spc="-1" strike="noStrike" u="sng">
                <a:solidFill>
                  <a:srgbClr val="800080"/>
                </a:solidFill>
                <a:uFillTx/>
                <a:latin typeface="Calibri"/>
              </a:rPr>
              <a:t> “Sport”</a:t>
            </a:r>
            <a:br>
              <a:rPr sz="4000"/>
            </a:br>
            <a:r>
              <a:rPr b="1" lang="es-ES" sz="4000" spc="-1" strike="noStrike" u="sng">
                <a:solidFill>
                  <a:srgbClr val="604a7b"/>
                </a:solidFill>
                <a:uFillTx/>
                <a:latin typeface="Calibri"/>
              </a:rPr>
              <a:t>Made by</a:t>
            </a:r>
            <a:br>
              <a:rPr sz="4000"/>
            </a:br>
            <a:r>
              <a:rPr b="1" lang="es-ES" sz="4000" spc="-1" strike="noStrike" u="sng">
                <a:solidFill>
                  <a:srgbClr val="604a7b"/>
                </a:solidFill>
                <a:uFillTx/>
                <a:latin typeface="Calibri"/>
              </a:rPr>
              <a:t>Litvinova A.S.</a:t>
            </a:r>
            <a:br>
              <a:rPr sz="4000"/>
            </a:br>
            <a:r>
              <a:rPr b="1" lang="es-ES" sz="4000" spc="-1" strike="noStrike" u="sng">
                <a:solidFill>
                  <a:srgbClr val="604a7b"/>
                </a:solidFill>
                <a:uFillTx/>
                <a:latin typeface="Calibri"/>
              </a:rPr>
              <a:t>School 1591</a:t>
            </a:r>
            <a:br>
              <a:rPr sz="4000"/>
            </a:br>
            <a:br>
              <a:rPr sz="4000"/>
            </a:br>
            <a:r>
              <a:rPr b="1" lang="es-ES" sz="4000" spc="-1" strike="noStrike" u="sng">
                <a:solidFill>
                  <a:srgbClr val="604a7b"/>
                </a:solidFill>
                <a:uFillTx/>
                <a:latin typeface="Calibri"/>
              </a:rPr>
              <a:t>Moscow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tr-TR" sz="4000" spc="-1" strike="noStrike">
                <a:solidFill>
                  <a:srgbClr val="000000"/>
                </a:solidFill>
                <a:latin typeface="Comic Sans MS"/>
              </a:rPr>
              <a:t>EXERCISE TIM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 (Wr.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. 9 p.234 Say what they will do when the lesson is over.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.Н. Верещагина О.В.Афанасьева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Example: When the lesson is over, Nick will go to the cin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5715000" y="3786120"/>
            <a:ext cx="209376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omic Sans MS"/>
              </a:rPr>
              <a:t>EXERCISE TI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 (Sp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Example</a:t>
            </a: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If we go to the science club at the university we shall miss the hockey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mat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I go to the science club at the university I’ll mis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000840" y="3786120"/>
            <a:ext cx="2833560" cy="271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3643200" y="3714840"/>
            <a:ext cx="2000520" cy="2851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357120" y="4214880"/>
            <a:ext cx="33210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642960" y="221472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 rains, we will stay at h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ill arrive late unless he hurries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er will buy a new car, if he gets his rai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538920" y="1571760"/>
            <a:ext cx="82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go to the movies if he finishes on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63120" y="3857760"/>
            <a:ext cx="816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 have time today, I will phone my fri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500040" y="514368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ll buy some Cheddar cheese, when I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Eng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597600" y="450072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we take John, he'll be really plea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1285920" y="42876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TWO GROUPS  (Sp.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7"/>
          <p:cNvSpPr/>
          <p:nvPr/>
        </p:nvSpPr>
        <p:spPr>
          <a:xfrm>
            <a:off x="0" y="100008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It starts with “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if</a:t>
            </a: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” clause/ It starts with the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main </a:t>
            </a: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cl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551800" cy="542916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2071800" y="50004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tr-TR" sz="3600" spc="-1" strike="noStrike">
                <a:solidFill>
                  <a:srgbClr val="000000"/>
                </a:solidFill>
                <a:latin typeface="Comic Sans MS"/>
              </a:rPr>
              <a:t>EXERCISE TI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 (Wr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0" y="50004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Find conditionals in this text (Sp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1214280"/>
            <a:ext cx="885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an talk with crowds and keep your virtu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walk with kings–nor lose the common tou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either foes nor loving friends can hurt yo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all men count with you, but none too mu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an fill the unforgiving min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sixty seconds’ worth of distance run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s is the Earth and everything that’s in i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–which is more–you’ll be a Man, my son!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udyard Ki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7093080" y="2349360"/>
            <a:ext cx="180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857160" y="785880"/>
            <a:ext cx="72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             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Make </a:t>
            </a:r>
            <a:r>
              <a:rPr b="0" lang="ru-RU" sz="3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omic Sans MS"/>
              </a:rPr>
              <a:t>a 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3714840" y="2071800"/>
            <a:ext cx="4929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was new for you at this less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is theme  important and usefu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often do we use adverb-conditionals in our speec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143000" y="428760"/>
            <a:ext cx="695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Frosty and winter Spo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14240" y="2357280"/>
            <a:ext cx="3144960" cy="414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5072040" y="1260360"/>
            <a:ext cx="324324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4429080" y="3500280"/>
            <a:ext cx="4407120" cy="3000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7"/>
          <p:cNvSpPr/>
          <p:nvPr/>
        </p:nvSpPr>
        <p:spPr>
          <a:xfrm>
            <a:off x="0" y="1214280"/>
            <a:ext cx="5165640" cy="1312920"/>
          </a:xfrm>
          <a:prstGeom prst="rect">
            <a:avLst/>
          </a:prstGeom>
          <a:noFill/>
          <a:ln w="93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rosty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k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go skating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143000"/>
            <a:ext cx="914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900"/>
            </a:br>
            <a:r>
              <a:rPr b="0" lang="en-US" sz="29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2060"/>
                </a:solidFill>
                <a:latin typeface="Calibri"/>
              </a:rPr>
              <a:t>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2060"/>
                </a:solidFill>
                <a:latin typeface="Calibri"/>
              </a:rPr>
              <a:t>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Calibri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i="1" lang="en-US" sz="2900" spc="-1" strike="noStrike">
                <a:solidFill>
                  <a:srgbClr val="002060"/>
                </a:solidFill>
                <a:latin typeface="Calibri"/>
              </a:rPr>
              <a:t>main  clause</a:t>
            </a:r>
            <a:r>
              <a:rPr b="0" i="1" lang="en-US" sz="2900" spc="-1" strike="noStrike">
                <a:solidFill>
                  <a:srgbClr val="002060"/>
                </a:solidFill>
                <a:latin typeface="Calibri"/>
              </a:rPr>
              <a:t>                          </a:t>
            </a:r>
            <a:r>
              <a:rPr b="1" i="1" lang="en-US" sz="2900" spc="-1" strike="noStrike">
                <a:solidFill>
                  <a:srgbClr val="002060"/>
                </a:solidFill>
                <a:latin typeface="Calibri"/>
              </a:rPr>
              <a:t>if/when - clause </a:t>
            </a:r>
            <a:br>
              <a:rPr sz="2900"/>
            </a:br>
            <a:r>
              <a:rPr b="0" i="1" lang="en-US" sz="29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 won’t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understand if you 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don’t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listen carefully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 be happy when you</a:t>
            </a:r>
            <a:r>
              <a:rPr b="1" i="1" lang="en-US" sz="2900" spc="-1" strike="noStrike">
                <a:solidFill>
                  <a:srgbClr val="000000"/>
                </a:solidFill>
                <a:latin typeface="Calibri"/>
              </a:rPr>
              <a:t> ring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her up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10"/>
          <p:cNvSpPr/>
          <p:nvPr/>
        </p:nvSpPr>
        <p:spPr>
          <a:xfrm>
            <a:off x="0" y="4000680"/>
            <a:ext cx="8929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al sentences consist of two par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– clause (Present Simpl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begins with the wor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/wh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clause (Future Simpl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hows the res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2282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dverb-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CONDITIONAL 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if/when – clause              main cl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you don’t listen carefully, you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on’t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understand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When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you ring her up she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will 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be hap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3857760" y="1928880"/>
            <a:ext cx="52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obert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ll pa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is exa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714840" y="3357720"/>
            <a:ext cx="5072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is the if-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is the main 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ense do we use in the if-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ense do we use in the main 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it possible that Robert will pass his exam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34066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5072040" y="1000080"/>
            <a:ext cx="371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you don’t leave early,    y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’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miss th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2286000" y="4357800"/>
            <a:ext cx="585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is the if-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ch is the main 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ense do we use in the if-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ense do we use in the main clau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it possible that You will miss the mat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4572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571680"/>
            <a:ext cx="4038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t doesn’t rain Joh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ke a part in the </a:t>
            </a: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swimming  compet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don’t join to th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golf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lub you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ose a  chance to become famou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857840" y="285840"/>
            <a:ext cx="3786120" cy="283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857840" y="3357720"/>
            <a:ext cx="37861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499680"/>
            <a:ext cx="39672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 star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be fond of </a:t>
            </a:r>
            <a:r>
              <a:rPr b="0" lang="en-US" sz="3200" spc="-1" strike="noStrike">
                <a:solidFill>
                  <a:srgbClr val="e46c0a"/>
                </a:solidFill>
                <a:latin typeface="Comic Sans MS"/>
              </a:rPr>
              <a:t>climb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plore the  new l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o abroad if the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n the </a:t>
            </a:r>
            <a:r>
              <a:rPr b="0" lang="en-US" sz="3200" spc="-1" strike="noStrike">
                <a:solidFill>
                  <a:srgbClr val="00b0f0"/>
                </a:solidFill>
                <a:latin typeface="Comic Sans MS"/>
              </a:rPr>
              <a:t>international championshi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929040" y="2143080"/>
            <a:ext cx="3079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105520" y="571320"/>
            <a:ext cx="4038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h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e able to visit this </a:t>
            </a:r>
            <a:r>
              <a:rPr b="0" lang="en-US" sz="3200" spc="-1" strike="noStrike">
                <a:solidFill>
                  <a:srgbClr val="953735"/>
                </a:solidFill>
                <a:latin typeface="Comic Sans MS"/>
              </a:rPr>
              <a:t>rugby competi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he books a tick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lliam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go ho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 watch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final </a:t>
            </a:r>
            <a:r>
              <a:rPr b="0" lang="en-US" sz="3200" spc="-1" strike="noStrike">
                <a:solidFill>
                  <a:srgbClr val="7030a0"/>
                </a:solidFill>
                <a:latin typeface="Comic Sans MS"/>
              </a:rPr>
              <a:t>game of cricke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85880" y="428760"/>
            <a:ext cx="4071960" cy="2863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857160" y="3571920"/>
            <a:ext cx="40006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omic Sans MS"/>
              </a:rPr>
              <a:t>EXERCISE TI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 (Sp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Example: If you have a time you will be fond of Ving/go in for footbal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I have a time I shall be fond of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573880" y="3143160"/>
            <a:ext cx="3570120" cy="2305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3286080"/>
            <a:ext cx="2428920" cy="317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143080" y="5148360"/>
            <a:ext cx="2571840" cy="170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4786200" y="492912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tretch/>
        </p:blipFill>
        <p:spPr>
          <a:xfrm>
            <a:off x="2571840" y="3143160"/>
            <a:ext cx="2143080" cy="2044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6"/>
          <a:stretch/>
        </p:blipFill>
        <p:spPr>
          <a:xfrm>
            <a:off x="6786720" y="514368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7:45:38Z</dcterms:created>
  <dc:creator>XP GAME 2008</dc:creator>
  <dc:description/>
  <dc:language>en-US</dc:language>
  <cp:lastModifiedBy>Анастасия</cp:lastModifiedBy>
  <dcterms:modified xsi:type="dcterms:W3CDTF">2012-11-17T18:31:19Z</dcterms:modified>
  <cp:revision>60</cp:revision>
  <dc:subject/>
  <dc:title>Слайд 1</dc:title>
</cp:coreProperties>
</file>