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6149-5FAD-4CEE-8F5D-1CDC86A3CC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tarts with “if” clause/ It starts with main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7663-E2F2-4643-A987-49304DF095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conditionals in this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CA2-3154-4997-A9DB-47126D5D8F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w for you at this less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ften do we use adverb-condition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8047-6B94-43D7-8313-84ACDD2896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rosty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kates|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o skat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7F58-C5B5-4A50-AC49-CD6DCC45C8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957-CABE-4001-BCF7-90A96089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574-C370-4B94-88EB-C3F967D7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0FF-9038-4C49-8458-AB3F94A3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4FB-A7BA-44F6-9F29-B5782216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4DF-58DC-43C9-8266-412B6A43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DD4-A748-47C9-B93A-9750CE0B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017-EC66-4CD3-B642-C4AC2699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2E4-0F12-463E-8A48-53BE8992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B43-222E-49EE-8A50-4542462A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896-78D3-4C23-9294-A3DA0CB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214-EB3D-480A-9689-71C06B2D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A45-1D6C-40C7-A10F-B501D2E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89C-6DEE-43D8-AAF2-D8BC97488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34900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 u="sng">
                <a:solidFill>
                  <a:srgbClr val="800080"/>
                </a:solidFill>
                <a:uFillTx/>
                <a:latin typeface="Calibri"/>
              </a:rPr>
              <a:t>“</a:t>
            </a:r>
            <a:r>
              <a:rPr b="1" lang="es-ES" sz="4000" spc="-1" strike="noStrike" u="sng">
                <a:solidFill>
                  <a:srgbClr val="800080"/>
                </a:solidFill>
                <a:uFillTx/>
                <a:latin typeface="Calibri"/>
              </a:rPr>
              <a:t>IF/When”-Adverb  Conditional  and</a:t>
            </a:r>
            <a:br>
              <a:rPr sz="4000"/>
            </a:br>
            <a:r>
              <a:rPr b="1" lang="es-ES" sz="4000" spc="-1" strike="noStrike" u="sng">
                <a:solidFill>
                  <a:srgbClr val="800080"/>
                </a:solidFill>
                <a:uFillTx/>
                <a:latin typeface="Calibri"/>
              </a:rPr>
              <a:t> “Sport”</a:t>
            </a: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Made by</a:t>
            </a: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Litvinova A.S.</a:t>
            </a: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School 1591</a:t>
            </a:r>
            <a:br>
              <a:rPr sz="4000"/>
            </a:b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Moscow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 (Wr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9 p.234 Say what they will do when the lesson is over.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Н. Верещагина О.В.Афанасьев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Example: When the lesson is over, Nick will go to the cin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715000" y="3786120"/>
            <a:ext cx="209376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 (Sp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Example</a:t>
            </a: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f we go to the science club at the university we shall miss the hockey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m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I go to the science club at the university I’ll mis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000840" y="3786120"/>
            <a:ext cx="2833560" cy="271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643200" y="3714840"/>
            <a:ext cx="2000520" cy="28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357120" y="4214880"/>
            <a:ext cx="3321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642960" y="221472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rains, we will stay at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ill arrive late unless he hurries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will buy a new car, if he gets his ra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538920" y="1571760"/>
            <a:ext cx="82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go to the movies if he finishes on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63120" y="3857760"/>
            <a:ext cx="81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have time today, I will phone my fri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00040" y="5143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buy some Cheddar cheese, when I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Eng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597600" y="450072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take John, he'll be really pl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1285920" y="428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WO GROUPS  (Sp.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0" y="10000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It starts with “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f</a:t>
            </a: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” clause/ It starts with the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main </a:t>
            </a: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51800" cy="5429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2071800" y="5000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 (Wr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0" y="50004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Find conditionals in this text (Sp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121428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an talk with crowds and keep your virtu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walk with kings–nor lose the common tou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either foes nor loving friends can hurt yo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ll men count with you, but none too mu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an fill the unforgiving min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sixty seconds’ worth of distance run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s is the Earth and everything that’s in 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–which is more–you’ll be a Man, my son!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udyard Ki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7093080" y="2349360"/>
            <a:ext cx="180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857160" y="78588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Make </a:t>
            </a:r>
            <a:r>
              <a:rPr b="0" lang="ru-RU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a 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3714840" y="2071800"/>
            <a:ext cx="492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as new for you at this les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is theme  important and usefu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often do we use adverb-conditionals in our spee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143000" y="428760"/>
            <a:ext cx="69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Frosty and winter S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14240" y="2357280"/>
            <a:ext cx="3144960" cy="414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72040" y="1260360"/>
            <a:ext cx="324324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429080" y="3500280"/>
            <a:ext cx="4407120" cy="3000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0" y="1214280"/>
            <a:ext cx="5165640" cy="1312920"/>
          </a:xfrm>
          <a:prstGeom prst="rect">
            <a:avLst/>
          </a:prstGeom>
          <a:noFill/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rosty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k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o skating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14300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900"/>
            </a:br>
            <a:r>
              <a:rPr b="0" lang="en-US" sz="29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2060"/>
                </a:solidFill>
                <a:latin typeface="Calibri"/>
              </a:rPr>
              <a:t>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2060"/>
                </a:solidFill>
                <a:latin typeface="Calibri"/>
              </a:rPr>
              <a:t>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main  clause</a:t>
            </a:r>
            <a:r>
              <a:rPr b="0" i="1" lang="en-US" sz="2900" spc="-1" strike="noStrike">
                <a:solidFill>
                  <a:srgbClr val="002060"/>
                </a:solidFill>
                <a:latin typeface="Calibri"/>
              </a:rPr>
              <a:t>                          </a:t>
            </a: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if/when - clause </a:t>
            </a:r>
            <a:br>
              <a:rPr sz="2900"/>
            </a:br>
            <a:r>
              <a:rPr b="0" i="1" lang="en-US" sz="29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 won’t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understand if you 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listen carefull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 be happy when you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 ring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her up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10"/>
          <p:cNvSpPr/>
          <p:nvPr/>
        </p:nvSpPr>
        <p:spPr>
          <a:xfrm>
            <a:off x="0" y="4000680"/>
            <a:ext cx="8929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al sentences consist of two par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– clause (Present Simpl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begins with the wor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/w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clause (Future Simpl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hows the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282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dverb-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CONDITIONAL 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if/when – clause              main 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you don’t listen carefully, you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on’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understand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When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you ring her up she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will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be hap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3857760" y="1928880"/>
            <a:ext cx="52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ober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ll pa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is ex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714840" y="3357720"/>
            <a:ext cx="507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it possible that Robert will pass his exa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3406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072040" y="1000080"/>
            <a:ext cx="371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you don’t leave early,    y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’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iss th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2286000" y="435780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it possible that You will miss the mat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4572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571680"/>
            <a:ext cx="4038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t doesn’t rain Joh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ke a part in the </a:t>
            </a: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swimming  compet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don’t join to th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gol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ub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ose a  chance to become famou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857840" y="285840"/>
            <a:ext cx="3786120" cy="283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857840" y="3357720"/>
            <a:ext cx="3786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499680"/>
            <a:ext cx="39672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star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be fond of </a:t>
            </a:r>
            <a:r>
              <a:rPr b="0" lang="en-US" sz="3200" spc="-1" strike="noStrike">
                <a:solidFill>
                  <a:srgbClr val="e46c0a"/>
                </a:solidFill>
                <a:latin typeface="Comic Sans MS"/>
              </a:rPr>
              <a:t>climb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plore the  new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 abroad if the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n the </a:t>
            </a: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international championshi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29040" y="2143080"/>
            <a:ext cx="3079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105520" y="571320"/>
            <a:ext cx="4038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 able to visit this </a:t>
            </a:r>
            <a:r>
              <a:rPr b="0" lang="en-US" sz="3200" spc="-1" strike="noStrike">
                <a:solidFill>
                  <a:srgbClr val="953735"/>
                </a:solidFill>
                <a:latin typeface="Comic Sans MS"/>
              </a:rPr>
              <a:t>rugby competi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he books a ti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liam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 ho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watc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final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game of crick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85880" y="428760"/>
            <a:ext cx="4071960" cy="286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57160" y="3571920"/>
            <a:ext cx="40006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 (Sp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Example: If you have a time you will be fond of Ving/go in for footb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have a time I shall be fond of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573880" y="3143160"/>
            <a:ext cx="3570120" cy="2305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3286080"/>
            <a:ext cx="2428920" cy="31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143080" y="5148360"/>
            <a:ext cx="2571840" cy="170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4786200" y="4929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tretch/>
        </p:blipFill>
        <p:spPr>
          <a:xfrm>
            <a:off x="2571840" y="3143160"/>
            <a:ext cx="2143080" cy="204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6"/>
          <a:stretch/>
        </p:blipFill>
        <p:spPr>
          <a:xfrm>
            <a:off x="6786720" y="514368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7:45:38Z</dcterms:created>
  <dc:creator>XP GAME 2008</dc:creator>
  <dc:description/>
  <dc:language>en-US</dc:language>
  <cp:lastModifiedBy>Анастасия</cp:lastModifiedBy>
  <dcterms:modified xsi:type="dcterms:W3CDTF">2012-11-17T18:31:19Z</dcterms:modified>
  <cp:revision>60</cp:revision>
  <dc:subject/>
  <dc:title>Слайд 1</dc:title>
</cp:coreProperties>
</file>