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446-2D0F-470E-A556-9390D1EF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CF1-1972-4EE6-943B-0E067958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6BA-359B-4E58-9A23-58536167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18A-A932-4F05-9FCE-49987873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6FF-E82F-4A0B-B16F-899CF761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9B9-6697-4FD4-8FD4-33DD215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2B2-EBA4-47CF-B6F2-D480AF7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641-08E3-4753-8647-60F64BC6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1EC-7D52-4524-ACD9-6006CA2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639-501F-416B-A337-EB34A69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AD6-CF9F-47C6-B03A-6F86284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B93-17BF-4FE3-9A27-4BD83EA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BCF2-4F7C-4289-903C-DE8CE7436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tandart.edu.ru/catalog.aspx?CatalogId=2587" TargetMode="External"/><Relationship Id="rId4" Type="http://schemas.openxmlformats.org/officeDocument/2006/relationships/hyperlink" Target="http://standart.edu.ru/catalog.aspx?CatalogId=2587" TargetMode="External"/><Relationship Id="rId5" Type="http://schemas.openxmlformats.org/officeDocument/2006/relationships/hyperlink" Target="http://standart.edu.ru/catalog.aspx?CatalogId=2587" TargetMode="External"/><Relationship Id="rId6" Type="http://schemas.openxmlformats.org/officeDocument/2006/relationships/hyperlink" Target="http://standart.edu.ru/catalog.aspx?CatalogId=2587" TargetMode="External"/><Relationship Id="rId7" Type="http://schemas.openxmlformats.org/officeDocument/2006/relationships/hyperlink" Target="http://standart.edu.ru/catalog.aspx?CatalogId=2587" TargetMode="External"/><Relationship Id="rId8" Type="http://schemas.openxmlformats.org/officeDocument/2006/relationships/hyperlink" Target="http://standart.edu.ru/catalog.aspx?CatalogId=2587" TargetMode="External"/><Relationship Id="rId9" Type="http://schemas.openxmlformats.org/officeDocument/2006/relationships/hyperlink" Target="http://standart.edu.ru/catalog.aspx?CatalogId=2587" TargetMode="External"/><Relationship Id="rId10" Type="http://schemas.openxmlformats.org/officeDocument/2006/relationships/hyperlink" Target="http://standart.edu.ru/catalog.aspx?CatalogId=2587" TargetMode="External"/><Relationship Id="rId11" Type="http://schemas.openxmlformats.org/officeDocument/2006/relationships/hyperlink" Target="http://standart.edu.ru/catalog.aspx?CatalogId=2587" TargetMode="External"/><Relationship Id="rId12" Type="http://schemas.openxmlformats.org/officeDocument/2006/relationships/hyperlink" Target="http://standart.edu.ru/catalog.aspx?CatalogId=2587" TargetMode="External"/><Relationship Id="rId13" Type="http://schemas.openxmlformats.org/officeDocument/2006/relationships/hyperlink" Target="http://standart.edu.ru/catalog.aspx?CatalogId=2587" TargetMode="External"/><Relationship Id="rId14" Type="http://schemas.openxmlformats.org/officeDocument/2006/relationships/hyperlink" Target="http://standart.edu.ru/catalog.aspx?CatalogId=2587" TargetMode="External"/><Relationship Id="rId15" Type="http://schemas.openxmlformats.org/officeDocument/2006/relationships/hyperlink" Target="http://standart.edu.ru/catalog.aspx?CatalogId=2587" TargetMode="External"/><Relationship Id="rId16" Type="http://schemas.openxmlformats.org/officeDocument/2006/relationships/hyperlink" Target="http://standart.edu.ru/catalog.aspx?CatalogId=2587" TargetMode="External"/><Relationship Id="rId17" Type="http://schemas.openxmlformats.org/officeDocument/2006/relationships/hyperlink" Target="http://festival.1september.ru/articles/413106/" TargetMode="External"/><Relationship Id="rId18" Type="http://schemas.openxmlformats.org/officeDocument/2006/relationships/hyperlink" Target="http://festival.1september.ru/articles/413106/" TargetMode="External"/><Relationship Id="rId19" Type="http://schemas.openxmlformats.org/officeDocument/2006/relationships/hyperlink" Target="http://festival.1september.ru/articles/413106/" TargetMode="External"/><Relationship Id="rId20" Type="http://schemas.openxmlformats.org/officeDocument/2006/relationships/hyperlink" Target="http://festival.1september.ru/articles/413106/" TargetMode="External"/><Relationship Id="rId21" Type="http://schemas.openxmlformats.org/officeDocument/2006/relationships/hyperlink" Target="http://festival.1september.ru/articles/413106/" TargetMode="External"/><Relationship Id="rId22" Type="http://schemas.openxmlformats.org/officeDocument/2006/relationships/hyperlink" Target="http://festival.1september.ru/articles/413106/" TargetMode="External"/><Relationship Id="rId23" Type="http://schemas.openxmlformats.org/officeDocument/2006/relationships/hyperlink" Target="http://festival.1september.ru/articles/413106/" TargetMode="External"/><Relationship Id="rId24" Type="http://schemas.openxmlformats.org/officeDocument/2006/relationships/hyperlink" Target="http://festival.1september.ru/articles/413106/" TargetMode="External"/><Relationship Id="rId25" Type="http://schemas.openxmlformats.org/officeDocument/2006/relationships/hyperlink" Target="http://festival.1september.ru/articles/413106/" TargetMode="External"/><Relationship Id="rId26" Type="http://schemas.openxmlformats.org/officeDocument/2006/relationships/hyperlink" Target="http://festival.1september.ru/articles/413106/" TargetMode="External"/><Relationship Id="rId27" Type="http://schemas.openxmlformats.org/officeDocument/2006/relationships/hyperlink" Target="http://festival.1september.ru/articles/100689/" TargetMode="External"/><Relationship Id="rId28" Type="http://schemas.openxmlformats.org/officeDocument/2006/relationships/hyperlink" Target="http://festival.1september.ru/articles/100689/" TargetMode="External"/><Relationship Id="rId29" Type="http://schemas.openxmlformats.org/officeDocument/2006/relationships/hyperlink" Target="http://festival.1september.ru/articles/100689/" TargetMode="External"/><Relationship Id="rId30" Type="http://schemas.openxmlformats.org/officeDocument/2006/relationships/hyperlink" Target="http://festival.1september.ru/articles/100689/" TargetMode="External"/><Relationship Id="rId31" Type="http://schemas.openxmlformats.org/officeDocument/2006/relationships/hyperlink" Target="http://festival.1september.ru/articles/100689/" TargetMode="External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2920" y="1152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пользование активных и интерактивных методик преподавания предметов гуманитарного цик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ак эффективное средство повышения качества современ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143680" y="43628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селева И.В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-ООШ №7 г.Петров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8760" y="578628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тро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8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ценочный лист лабораторной работы №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31320"/>
            <a:ext cx="9144000" cy="60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: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а (цы) _____класса Ф.И.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 выполнения: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оценка 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а экспертов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а учителя____________________________________________________________________________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оговая оценка ___________________________________________________________________________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пись учителя_____________________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Модульная технологию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Calibri"/>
              </a:rPr>
              <a:t>как средство коррекции знани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Calibri"/>
              </a:rPr>
              <a:t>и умений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6"/>
          <p:cNvSpPr/>
          <p:nvPr/>
        </p:nvSpPr>
        <p:spPr>
          <a:xfrm>
            <a:off x="2857680" y="3786120"/>
            <a:ext cx="392904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ндивидуализация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11"/>
          <p:cNvSpPr/>
          <p:nvPr/>
        </p:nvSpPr>
        <p:spPr>
          <a:xfrm>
            <a:off x="1143000" y="3214800"/>
            <a:ext cx="2714760" cy="144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13"/>
          <p:cNvSpPr/>
          <p:nvPr/>
        </p:nvSpPr>
        <p:spPr>
          <a:xfrm>
            <a:off x="785880" y="4572000"/>
            <a:ext cx="1928880" cy="144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16"/>
          <p:cNvSpPr/>
          <p:nvPr/>
        </p:nvSpPr>
        <p:spPr>
          <a:xfrm>
            <a:off x="4786200" y="3643200"/>
            <a:ext cx="307188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ая соединительная линия 24"/>
          <p:cNvSpPr/>
          <p:nvPr/>
        </p:nvSpPr>
        <p:spPr>
          <a:xfrm flipH="1">
            <a:off x="1213920" y="5572080"/>
            <a:ext cx="4000680" cy="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ая соединительная линия 30"/>
          <p:cNvSpPr/>
          <p:nvPr/>
        </p:nvSpPr>
        <p:spPr>
          <a:xfrm>
            <a:off x="5786280" y="5429160"/>
            <a:ext cx="3143520" cy="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1082880" y="285768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одержанию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4"/>
          <p:cNvSpPr/>
          <p:nvPr/>
        </p:nvSpPr>
        <p:spPr>
          <a:xfrm>
            <a:off x="723240" y="41432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емпу усво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5"/>
          <p:cNvSpPr/>
          <p:nvPr/>
        </p:nvSpPr>
        <p:spPr>
          <a:xfrm flipV="1" rot="10800000">
            <a:off x="4643280" y="32137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уровню самосто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6"/>
          <p:cNvSpPr/>
          <p:nvPr/>
        </p:nvSpPr>
        <p:spPr>
          <a:xfrm>
            <a:off x="5630400" y="50007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етодам и способам 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1090800" y="51436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пособам контроля и самоконтро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Цель модульного обучени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214200" y="173232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содействие развитию самостоятельности учащих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их умения работать с учетом индивидуальных способов проработки учебного материа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0" y="0"/>
            <a:ext cx="914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информационных технологий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эффективное средство активизации познавательной, рефлексивной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хся в образователь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амообразовательном проце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1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-4140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428760" y="0"/>
            <a:ext cx="8429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Списо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использованной литературы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428760" y="1877040"/>
            <a:ext cx="81439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илова Г.Г., Гельдиева С., Зайкаускене Я.Ю., Изаренков Д.И.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работы по современному русскому язы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Н.М. Шанского. – Санкт-Петербург,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5"/>
              </a:rPr>
              <a:t>standart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7"/>
              </a:rPr>
              <a:t>edu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1"/>
              </a:rPr>
              <a:t>catalog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3"/>
              </a:rPr>
              <a:t>aspx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4"/>
              </a:rPr>
              <a:t>?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5"/>
              </a:rPr>
              <a:t>CatalogId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6"/>
              </a:rPr>
              <a:t>=258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7"/>
              </a:rPr>
              <a:t>http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8"/>
              </a:rPr>
              <a:t>:/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9"/>
              </a:rPr>
              <a:t>festival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0"/>
              </a:rPr>
              <a:t>.1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1"/>
              </a:rPr>
              <a:t>september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2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3"/>
              </a:rPr>
              <a:t>ru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4"/>
              </a:rPr>
              <a:t>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5"/>
              </a:rPr>
              <a:t>articles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6"/>
              </a:rPr>
              <a:t>/413106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8"/>
              </a:rPr>
              <a:t>:/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9"/>
              </a:rPr>
              <a:t>festival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0"/>
              </a:rPr>
              <a:t>.1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1"/>
              </a:rPr>
              <a:t>septemb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689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tiva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010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festival.1september.ru/articles/418985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-142920"/>
            <a:ext cx="9185400" cy="682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Портрет"/>
          <p:cNvPicPr/>
          <p:nvPr/>
        </p:nvPicPr>
        <p:blipFill>
          <a:blip r:embed="rId3"/>
          <a:stretch/>
        </p:blipFill>
        <p:spPr>
          <a:xfrm>
            <a:off x="500040" y="3571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428760" y="1785960"/>
            <a:ext cx="19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й Александрович 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Шаталов Виктор Федорович"/>
          <p:cNvPicPr/>
          <p:nvPr/>
        </p:nvPicPr>
        <p:blipFill>
          <a:blip r:embed="rId4"/>
          <a:stretch/>
        </p:blipFill>
        <p:spPr>
          <a:xfrm>
            <a:off x="2500200" y="571680"/>
            <a:ext cx="1905120" cy="27619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2500200" y="335772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ктор Федо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атал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4572000" y="3500280"/>
            <a:ext cx="18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алва Александ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монашви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Амонашвили Ш.А."/>
          <p:cNvPicPr/>
          <p:nvPr/>
        </p:nvPicPr>
        <p:blipFill>
          <a:blip r:embed="rId5"/>
          <a:stretch/>
        </p:blipFill>
        <p:spPr>
          <a:xfrm>
            <a:off x="4572000" y="85716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1"/>
          <p:cNvSpPr/>
          <p:nvPr/>
        </p:nvSpPr>
        <p:spPr>
          <a:xfrm>
            <a:off x="6215040" y="5643720"/>
            <a:ext cx="27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фь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ысен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shatalovschools.ru/images/img.php?16"/>
          <p:cNvPicPr/>
          <p:nvPr/>
        </p:nvPicPr>
        <p:blipFill>
          <a:blip r:embed="rId6"/>
          <a:stretch/>
        </p:blipFill>
        <p:spPr>
          <a:xfrm>
            <a:off x="6286680" y="3571920"/>
            <a:ext cx="2681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27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http://festival.1september.ru/articles/512797/img2.gif"/>
          <p:cNvPicPr/>
          <p:nvPr/>
        </p:nvPicPr>
        <p:blipFill>
          <a:blip r:embed="rId3"/>
          <a:stretch/>
        </p:blipFill>
        <p:spPr>
          <a:xfrm>
            <a:off x="1357200" y="1214280"/>
            <a:ext cx="6048360" cy="3857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0" y="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Активные мето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Интерактивные метод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http://festival.1september.ru/articles/512797/img3.gif"/>
          <p:cNvPicPr/>
          <p:nvPr/>
        </p:nvPicPr>
        <p:blipFill>
          <a:blip r:embed="rId3"/>
          <a:stretch/>
        </p:blipFill>
        <p:spPr>
          <a:xfrm>
            <a:off x="928800" y="1214280"/>
            <a:ext cx="7072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30240"/>
            <a:ext cx="91440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Методы интерактивного обучения</a:t>
            </a:r>
            <a:r>
              <a:rPr b="0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бота в групп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мозговой штурм», дебаты, дискуссия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моделирован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ролевые игра, деловая иг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обучающие и метафорические упражн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лабораторные рабо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"/>
          <p:cNvGrpSpPr/>
          <p:nvPr/>
        </p:nvGrpSpPr>
        <p:grpSpPr>
          <a:xfrm>
            <a:off x="1386360" y="579600"/>
            <a:ext cx="6328440" cy="4946400"/>
            <a:chOff x="1386360" y="579600"/>
            <a:chExt cx="6328440" cy="4946400"/>
          </a:xfrm>
        </p:grpSpPr>
        <p:sp>
          <p:nvSpPr>
            <p:cNvPr id="78" name="Oval 4"/>
            <p:cNvSpPr/>
            <p:nvPr/>
          </p:nvSpPr>
          <p:spPr>
            <a:xfrm>
              <a:off x="2441520" y="3806280"/>
              <a:ext cx="5273280" cy="1479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5"/>
            <p:cNvSpPr/>
            <p:nvPr/>
          </p:nvSpPr>
          <p:spPr>
            <a:xfrm rot="20601600">
              <a:off x="1753920" y="1447200"/>
              <a:ext cx="5462640" cy="3367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6"/>
            <p:cNvSpPr/>
            <p:nvPr/>
          </p:nvSpPr>
          <p:spPr>
            <a:xfrm rot="20601600">
              <a:off x="1807200" y="1266120"/>
              <a:ext cx="5273280" cy="3262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rc 7"/>
            <p:cNvSpPr/>
            <p:nvPr/>
          </p:nvSpPr>
          <p:spPr>
            <a:xfrm rot="20601600">
              <a:off x="4325760" y="1143000"/>
              <a:ext cx="2701080" cy="2195280"/>
            </a:xfrm>
            <a:prstGeom prst="pie">
              <a:avLst/>
            </a:prstGeom>
            <a:gradFill rotWithShape="0">
              <a:gsLst>
                <a:gs pos="0">
                  <a:srgbClr val="e40059"/>
                </a:gs>
                <a:gs pos="100000">
                  <a:srgbClr val="ee5d9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rc 8"/>
            <p:cNvSpPr/>
            <p:nvPr/>
          </p:nvSpPr>
          <p:spPr>
            <a:xfrm flipH="1" rot="20602200">
              <a:off x="2039040" y="3235320"/>
              <a:ext cx="3108960" cy="1650960"/>
            </a:xfrm>
            <a:prstGeom prst="pie">
              <a:avLst/>
            </a:prstGeom>
            <a:gradFill rotWithShape="0">
              <a:gsLst>
                <a:gs pos="0">
                  <a:srgbClr val="b22762"/>
                </a:gs>
                <a:gs pos="100000">
                  <a:srgbClr val="ff388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rc 9"/>
            <p:cNvSpPr/>
            <p:nvPr/>
          </p:nvSpPr>
          <p:spPr>
            <a:xfrm rot="20601600">
              <a:off x="2995200" y="1193760"/>
              <a:ext cx="3060720" cy="1582200"/>
            </a:xfrm>
            <a:prstGeom prst="pie">
              <a:avLst/>
            </a:prstGeom>
            <a:gradFill rotWithShape="0">
              <a:gsLst>
                <a:gs pos="0">
                  <a:srgbClr val="17bbfd"/>
                </a:gs>
                <a:gs pos="100000">
                  <a:srgbClr val="1188b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rc 10"/>
            <p:cNvSpPr/>
            <p:nvPr/>
          </p:nvSpPr>
          <p:spPr>
            <a:xfrm flipH="1" rot="20602200">
              <a:off x="1714680" y="1856880"/>
              <a:ext cx="2702880" cy="2306880"/>
            </a:xfrm>
            <a:prstGeom prst="pie">
              <a:avLst/>
            </a:prstGeom>
            <a:gradFill rotWithShape="0">
              <a:gsLst>
                <a:gs pos="0">
                  <a:srgbClr val="e40059"/>
                </a:gs>
                <a:gs pos="100000">
                  <a:srgbClr val="6a002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5594400" y="2865240"/>
              <a:ext cx="1662840" cy="1984680"/>
            </a:xfrm>
            <a:prstGeom prst="pie">
              <a:avLst/>
            </a:prstGeom>
            <a:gradFill rotWithShape="0">
              <a:gsLst>
                <a:gs pos="0">
                  <a:srgbClr val="ffc2e3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rc 12"/>
            <p:cNvSpPr/>
            <p:nvPr/>
          </p:nvSpPr>
          <p:spPr>
            <a:xfrm rot="20539200">
              <a:off x="4688640" y="2182320"/>
              <a:ext cx="2586600" cy="2078640"/>
            </a:xfrm>
            <a:prstGeom prst="pie">
              <a:avLst/>
            </a:prstGeom>
            <a:gradFill rotWithShape="0">
              <a:gsLst>
                <a:gs pos="0">
                  <a:srgbClr val="76385a"/>
                </a:gs>
                <a:gs pos="100000">
                  <a:srgbClr val="ff79c2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4655520" y="3244680"/>
              <a:ext cx="976680" cy="1644120"/>
            </a:xfrm>
            <a:prstGeom prst="pie">
              <a:avLst/>
            </a:prstGeom>
            <a:gradFill rotWithShape="0">
              <a:gsLst>
                <a:gs pos="0">
                  <a:srgbClr val="ffc2e3"/>
                </a:gs>
                <a:gs pos="100000">
                  <a:srgbClr val="ff79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 rot="20601600">
              <a:off x="3192120" y="2063880"/>
              <a:ext cx="2555280" cy="1495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4579920" y="3485160"/>
              <a:ext cx="818640" cy="1204920"/>
            </a:xfrm>
            <a:prstGeom prst="pie">
              <a:avLst/>
            </a:prstGeom>
            <a:solidFill>
              <a:srgbClr val="66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1"/>
            <p:cNvSpPr/>
            <p:nvPr/>
          </p:nvSpPr>
          <p:spPr>
            <a:xfrm rot="20601600">
              <a:off x="3288960" y="2346120"/>
              <a:ext cx="2451240" cy="121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7175520" y="714240"/>
            <a:ext cx="1968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умений соотнесения содержания изучаемой темы в научной литературе с материалами по этой теме, изложенными в школьном учебн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AutoShape 23"/>
          <p:cNvCxnSpPr/>
          <p:nvPr/>
        </p:nvCxnSpPr>
        <p:spPr>
          <a:xfrm flipV="1" rot="10800000">
            <a:off x="6786000" y="1285920"/>
            <a:ext cx="1926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3" name="Text Box 24"/>
          <p:cNvSpPr/>
          <p:nvPr/>
        </p:nvSpPr>
        <p:spPr>
          <a:xfrm>
            <a:off x="0" y="1143000"/>
            <a:ext cx="235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навыков и умений самостоятельной работы с учебной, научной, методической и справочной литератур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AutoShape 25"/>
          <p:cNvCxnSpPr/>
          <p:nvPr/>
        </p:nvCxnSpPr>
        <p:spPr>
          <a:xfrm>
            <a:off x="2428920" y="17146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5" name="Text Box 26"/>
          <p:cNvSpPr/>
          <p:nvPr/>
        </p:nvSpPr>
        <p:spPr>
          <a:xfrm>
            <a:off x="1500120" y="428760"/>
            <a:ext cx="350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, закрепление, углубление ранее полученных зн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27"/>
          <p:cNvCxnSpPr/>
          <p:nvPr/>
        </p:nvCxnSpPr>
        <p:spPr>
          <a:xfrm>
            <a:off x="3929040" y="10000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7" name="Text Box 28"/>
          <p:cNvSpPr/>
          <p:nvPr/>
        </p:nvSpPr>
        <p:spPr>
          <a:xfrm>
            <a:off x="6786720" y="4286160"/>
            <a:ext cx="221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пособности творческого внутри- и межсистемного  переноса знаний, навыков и ум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AutoShape 29"/>
          <p:cNvCxnSpPr/>
          <p:nvPr/>
        </p:nvCxnSpPr>
        <p:spPr>
          <a:xfrm rot="10800000">
            <a:off x="6285960" y="4357080"/>
            <a:ext cx="492840" cy="47196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99" name="Text Box 30"/>
          <p:cNvSpPr/>
          <p:nvPr/>
        </p:nvSpPr>
        <p:spPr>
          <a:xfrm>
            <a:off x="642960" y="5214960"/>
            <a:ext cx="27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методами и приемами лингвистического анали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AutoShape 31"/>
          <p:cNvCxnSpPr/>
          <p:nvPr/>
        </p:nvCxnSpPr>
        <p:spPr>
          <a:xfrm flipV="1">
            <a:off x="3571920" y="5000400"/>
            <a:ext cx="48240" cy="6228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277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5"/>
          <p:cNvGrpSpPr/>
          <p:nvPr/>
        </p:nvGrpSpPr>
        <p:grpSpPr>
          <a:xfrm>
            <a:off x="287280" y="1714680"/>
            <a:ext cx="8856000" cy="4500000"/>
            <a:chOff x="287280" y="1714680"/>
            <a:chExt cx="8856000" cy="4500000"/>
          </a:xfrm>
        </p:grpSpPr>
        <p:sp>
          <p:nvSpPr>
            <p:cNvPr id="106" name="Rectangle 6"/>
            <p:cNvSpPr/>
            <p:nvPr/>
          </p:nvSpPr>
          <p:spPr>
            <a:xfrm>
              <a:off x="7728480" y="1719360"/>
              <a:ext cx="343080" cy="449532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1277280" y="1714680"/>
              <a:ext cx="343080" cy="449532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287280" y="2000520"/>
              <a:ext cx="8856000" cy="556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1 «Лексикография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296280" y="2784960"/>
              <a:ext cx="8846640" cy="5572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2 «Сложносочиненное предложение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296280" y="3565080"/>
              <a:ext cx="8846640" cy="556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3 «Классификация сложноподчиненного предложения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296280" y="4345560"/>
              <a:ext cx="8846640" cy="556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4 «Классификация бессоюзного сложного предложения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12"/>
            <p:cNvSpPr/>
            <p:nvPr/>
          </p:nvSpPr>
          <p:spPr>
            <a:xfrm>
              <a:off x="296280" y="5125320"/>
              <a:ext cx="8846640" cy="5572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5 «Сложное синтаксическое целое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1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Тематик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лабораторных рабо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Этапы исслед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500040" y="785880"/>
            <a:ext cx="7929000" cy="6071400"/>
            <a:chOff x="500040" y="785880"/>
            <a:chExt cx="7929000" cy="6071400"/>
          </a:xfrm>
        </p:grpSpPr>
        <p:sp>
          <p:nvSpPr>
            <p:cNvPr id="120" name="Rectangle 6"/>
            <p:cNvSpPr/>
            <p:nvPr/>
          </p:nvSpPr>
          <p:spPr>
            <a:xfrm>
              <a:off x="7262640" y="929880"/>
              <a:ext cx="275400" cy="592740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451160" y="929880"/>
              <a:ext cx="283680" cy="592056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500040" y="785880"/>
              <a:ext cx="7925400" cy="570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блюдение и изучение фактов и явлений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9"/>
            <p:cNvSpPr/>
            <p:nvPr/>
          </p:nvSpPr>
          <p:spPr>
            <a:xfrm>
              <a:off x="500040" y="1572480"/>
              <a:ext cx="7925400" cy="5742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снение непонятных явлений, подлежащих исследованию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500040" y="2284560"/>
              <a:ext cx="7925400" cy="4989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жение гипотезы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AutoShape 11"/>
            <p:cNvSpPr/>
            <p:nvPr/>
          </p:nvSpPr>
          <p:spPr>
            <a:xfrm>
              <a:off x="500040" y="2927880"/>
              <a:ext cx="7929000" cy="498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роение плана исследования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12"/>
            <p:cNvSpPr/>
            <p:nvPr/>
          </p:nvSpPr>
          <p:spPr>
            <a:xfrm>
              <a:off x="500040" y="3570480"/>
              <a:ext cx="7929000" cy="498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снение связей изучаемого явления с другими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AutoShape 12"/>
          <p:cNvSpPr/>
          <p:nvPr/>
        </p:nvSpPr>
        <p:spPr>
          <a:xfrm>
            <a:off x="500040" y="4286160"/>
            <a:ext cx="7929720" cy="557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2762"/>
              </a:gs>
              <a:gs pos="50000">
                <a:srgbClr val="ff388c"/>
              </a:gs>
              <a:gs pos="100000">
                <a:srgbClr val="b227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ингвистического эксперимен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571680" y="5000760"/>
            <a:ext cx="7786440" cy="5569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2762"/>
              </a:gs>
              <a:gs pos="50000">
                <a:srgbClr val="ff388c"/>
              </a:gs>
              <a:gs pos="100000">
                <a:srgbClr val="b227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лингвистически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571680" y="5643720"/>
            <a:ext cx="7786440" cy="5569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2762"/>
              </a:gs>
              <a:gs pos="50000">
                <a:srgbClr val="ff388c"/>
              </a:gs>
              <a:gs pos="100000">
                <a:srgbClr val="b227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результатов и формулировка выв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проведения лабораторной раб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928800" y="2286000"/>
            <a:ext cx="7389720" cy="3273480"/>
          </a:xfrm>
          <a:prstGeom prst="pie">
            <a:avLst/>
          </a:prstGeom>
          <a:gradFill rotWithShape="0">
            <a:gsLst>
              <a:gs pos="0">
                <a:srgbClr val="094b65"/>
              </a:gs>
              <a:gs pos="50000">
                <a:srgbClr val="17bbfd"/>
              </a:gs>
              <a:gs pos="100000">
                <a:srgbClr val="094b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1680" y="264312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28"/>
          <p:cNvSpPr/>
          <p:nvPr/>
        </p:nvSpPr>
        <p:spPr>
          <a:xfrm>
            <a:off x="2071800" y="2357280"/>
            <a:ext cx="22680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27"/>
          <p:cNvSpPr/>
          <p:nvPr/>
        </p:nvSpPr>
        <p:spPr>
          <a:xfrm>
            <a:off x="2928960" y="242892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071720" y="3000240"/>
            <a:ext cx="24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абораторной рабо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3857760" y="24289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143080" y="3500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выполнение рабо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5000760" y="257184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357720" y="40719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4"/>
          <p:cNvSpPr/>
          <p:nvPr/>
        </p:nvSpPr>
        <p:spPr>
          <a:xfrm>
            <a:off x="6215040" y="285768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429080" y="471492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7:06:18Z</dcterms:created>
  <dc:creator>SamLab.ws</dc:creator>
  <dc:description/>
  <dc:language>en-US</dc:language>
  <cp:lastModifiedBy>SamLab.ws</cp:lastModifiedBy>
  <dcterms:modified xsi:type="dcterms:W3CDTF">2011-08-28T18:32:48Z</dcterms:modified>
  <cp:revision>9</cp:revision>
  <dc:subject/>
  <dc:title>Слайд 1</dc:title>
</cp:coreProperties>
</file>