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150-FB16-4E71-8E1C-D5AE34B9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F62C-4906-4B50-B541-92F9DCEC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7F5-6356-4CC1-A097-97D657CD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4A49-5F6D-4213-A853-6B9F8927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576-191E-4FB3-9CD3-7EBB1F6A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726-87AE-44E7-9CB2-AB769D6A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4DC-92D4-422C-9F30-4DEFADC0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50A0-FF1A-4015-A876-B8E9B44D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531-184F-4E44-890B-80ACD84C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8B16-192E-4A83-ADBD-D09915DE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150-FBEA-46E1-B464-9EA09AED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312-91CE-4B13-BDA7-4B34D087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AA58-DB9F-40CF-B024-14C21C3DC2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standart.edu.ru/catalog.aspx?CatalogId=2587" TargetMode="External"/><Relationship Id="rId4" Type="http://schemas.openxmlformats.org/officeDocument/2006/relationships/hyperlink" Target="http://standart.edu.ru/catalog.aspx?CatalogId=2587" TargetMode="External"/><Relationship Id="rId5" Type="http://schemas.openxmlformats.org/officeDocument/2006/relationships/hyperlink" Target="http://standart.edu.ru/catalog.aspx?CatalogId=2587" TargetMode="External"/><Relationship Id="rId6" Type="http://schemas.openxmlformats.org/officeDocument/2006/relationships/hyperlink" Target="http://standart.edu.ru/catalog.aspx?CatalogId=2587" TargetMode="External"/><Relationship Id="rId7" Type="http://schemas.openxmlformats.org/officeDocument/2006/relationships/hyperlink" Target="http://standart.edu.ru/catalog.aspx?CatalogId=2587" TargetMode="External"/><Relationship Id="rId8" Type="http://schemas.openxmlformats.org/officeDocument/2006/relationships/hyperlink" Target="http://standart.edu.ru/catalog.aspx?CatalogId=2587" TargetMode="External"/><Relationship Id="rId9" Type="http://schemas.openxmlformats.org/officeDocument/2006/relationships/hyperlink" Target="http://standart.edu.ru/catalog.aspx?CatalogId=2587" TargetMode="External"/><Relationship Id="rId10" Type="http://schemas.openxmlformats.org/officeDocument/2006/relationships/hyperlink" Target="http://standart.edu.ru/catalog.aspx?CatalogId=2587" TargetMode="External"/><Relationship Id="rId11" Type="http://schemas.openxmlformats.org/officeDocument/2006/relationships/hyperlink" Target="http://standart.edu.ru/catalog.aspx?CatalogId=2587" TargetMode="External"/><Relationship Id="rId12" Type="http://schemas.openxmlformats.org/officeDocument/2006/relationships/hyperlink" Target="http://standart.edu.ru/catalog.aspx?CatalogId=2587" TargetMode="External"/><Relationship Id="rId13" Type="http://schemas.openxmlformats.org/officeDocument/2006/relationships/hyperlink" Target="http://standart.edu.ru/catalog.aspx?CatalogId=2587" TargetMode="External"/><Relationship Id="rId14" Type="http://schemas.openxmlformats.org/officeDocument/2006/relationships/hyperlink" Target="http://standart.edu.ru/catalog.aspx?CatalogId=2587" TargetMode="External"/><Relationship Id="rId15" Type="http://schemas.openxmlformats.org/officeDocument/2006/relationships/hyperlink" Target="http://standart.edu.ru/catalog.aspx?CatalogId=2587" TargetMode="External"/><Relationship Id="rId16" Type="http://schemas.openxmlformats.org/officeDocument/2006/relationships/hyperlink" Target="http://standart.edu.ru/catalog.aspx?CatalogId=2587" TargetMode="External"/><Relationship Id="rId17" Type="http://schemas.openxmlformats.org/officeDocument/2006/relationships/hyperlink" Target="http://festival.1september.ru/articles/413106/" TargetMode="External"/><Relationship Id="rId18" Type="http://schemas.openxmlformats.org/officeDocument/2006/relationships/hyperlink" Target="http://festival.1september.ru/articles/413106/" TargetMode="External"/><Relationship Id="rId19" Type="http://schemas.openxmlformats.org/officeDocument/2006/relationships/hyperlink" Target="http://festival.1september.ru/articles/413106/" TargetMode="External"/><Relationship Id="rId20" Type="http://schemas.openxmlformats.org/officeDocument/2006/relationships/hyperlink" Target="http://festival.1september.ru/articles/413106/" TargetMode="External"/><Relationship Id="rId21" Type="http://schemas.openxmlformats.org/officeDocument/2006/relationships/hyperlink" Target="http://festival.1september.ru/articles/413106/" TargetMode="External"/><Relationship Id="rId22" Type="http://schemas.openxmlformats.org/officeDocument/2006/relationships/hyperlink" Target="http://festival.1september.ru/articles/413106/" TargetMode="External"/><Relationship Id="rId23" Type="http://schemas.openxmlformats.org/officeDocument/2006/relationships/hyperlink" Target="http://festival.1september.ru/articles/413106/" TargetMode="External"/><Relationship Id="rId24" Type="http://schemas.openxmlformats.org/officeDocument/2006/relationships/hyperlink" Target="http://festival.1september.ru/articles/413106/" TargetMode="External"/><Relationship Id="rId25" Type="http://schemas.openxmlformats.org/officeDocument/2006/relationships/hyperlink" Target="http://festival.1september.ru/articles/413106/" TargetMode="External"/><Relationship Id="rId26" Type="http://schemas.openxmlformats.org/officeDocument/2006/relationships/hyperlink" Target="http://festival.1september.ru/articles/413106/" TargetMode="External"/><Relationship Id="rId27" Type="http://schemas.openxmlformats.org/officeDocument/2006/relationships/hyperlink" Target="http://festival.1september.ru/articles/100689/" TargetMode="External"/><Relationship Id="rId28" Type="http://schemas.openxmlformats.org/officeDocument/2006/relationships/hyperlink" Target="http://festival.1september.ru/articles/100689/" TargetMode="External"/><Relationship Id="rId29" Type="http://schemas.openxmlformats.org/officeDocument/2006/relationships/hyperlink" Target="http://festival.1september.ru/articles/100689/" TargetMode="External"/><Relationship Id="rId30" Type="http://schemas.openxmlformats.org/officeDocument/2006/relationships/hyperlink" Target="http://festival.1september.ru/articles/100689/" TargetMode="External"/><Relationship Id="rId31" Type="http://schemas.openxmlformats.org/officeDocument/2006/relationships/hyperlink" Target="http://festival.1september.ru/articles/100689/" TargetMode="External"/><Relationship Id="rId3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-41400" y="0"/>
            <a:ext cx="9185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142920" y="11520"/>
            <a:ext cx="842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Использование активных и интерактивных методик преподавания предметов гуманитарного цик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как эффективное средство повышения качества современного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5143680" y="4362840"/>
            <a:ext cx="4000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иселева И.В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У-ООШ №7 г.Петровс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428760" y="578628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тров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8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0" y="30240"/>
            <a:ext cx="9185400" cy="68277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Оценочный лист лабораторной работы №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0" y="31320"/>
            <a:ext cx="9144000" cy="60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а: 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ика (цы) _____класса Ф.И.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та выполнения: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оценка 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а экспертов 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а учителя____________________________________________________________________________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тоговая оценка ___________________________________________________________________________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пись учителя_____________________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4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0" y="30240"/>
            <a:ext cx="9185400" cy="68277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/>
          <p:cNvSpPr/>
          <p:nvPr/>
        </p:nvSpPr>
        <p:spPr>
          <a:xfrm>
            <a:off x="0" y="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Модульная технологию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2060"/>
                </a:solidFill>
                <a:latin typeface="Calibri"/>
              </a:rPr>
              <a:t>как средство коррекции знаний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2060"/>
                </a:solidFill>
                <a:latin typeface="Calibri"/>
              </a:rPr>
              <a:t>и умений учащих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вал 6"/>
          <p:cNvSpPr/>
          <p:nvPr/>
        </p:nvSpPr>
        <p:spPr>
          <a:xfrm>
            <a:off x="2857680" y="3786120"/>
            <a:ext cx="3929040" cy="1285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ндивидуализация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11"/>
          <p:cNvSpPr/>
          <p:nvPr/>
        </p:nvSpPr>
        <p:spPr>
          <a:xfrm>
            <a:off x="1143000" y="3214800"/>
            <a:ext cx="2714760" cy="144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13"/>
          <p:cNvSpPr/>
          <p:nvPr/>
        </p:nvSpPr>
        <p:spPr>
          <a:xfrm>
            <a:off x="785880" y="4572000"/>
            <a:ext cx="1928880" cy="144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ая соединительная линия 16"/>
          <p:cNvSpPr/>
          <p:nvPr/>
        </p:nvSpPr>
        <p:spPr>
          <a:xfrm>
            <a:off x="4786200" y="3643200"/>
            <a:ext cx="3071880" cy="180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ая соединительная линия 24"/>
          <p:cNvSpPr/>
          <p:nvPr/>
        </p:nvSpPr>
        <p:spPr>
          <a:xfrm flipH="1">
            <a:off x="1213920" y="5572080"/>
            <a:ext cx="4000680" cy="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ая соединительная линия 30"/>
          <p:cNvSpPr/>
          <p:nvPr/>
        </p:nvSpPr>
        <p:spPr>
          <a:xfrm>
            <a:off x="5786280" y="5429160"/>
            <a:ext cx="3143520" cy="0"/>
          </a:xfrm>
          <a:prstGeom prst="line">
            <a:avLst/>
          </a:prstGeom>
          <a:ln w="93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1"/>
          <p:cNvSpPr/>
          <p:nvPr/>
        </p:nvSpPr>
        <p:spPr>
          <a:xfrm>
            <a:off x="1082880" y="2857680"/>
            <a:ext cx="28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содержанию об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34"/>
          <p:cNvSpPr/>
          <p:nvPr/>
        </p:nvSpPr>
        <p:spPr>
          <a:xfrm>
            <a:off x="723240" y="414324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темпу усво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5"/>
          <p:cNvSpPr/>
          <p:nvPr/>
        </p:nvSpPr>
        <p:spPr>
          <a:xfrm flipV="1" rot="10800000">
            <a:off x="4643280" y="3213720"/>
            <a:ext cx="34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уровню самосто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36"/>
          <p:cNvSpPr/>
          <p:nvPr/>
        </p:nvSpPr>
        <p:spPr>
          <a:xfrm>
            <a:off x="5630400" y="500076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методам и способам 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37"/>
          <p:cNvSpPr/>
          <p:nvPr/>
        </p:nvSpPr>
        <p:spPr>
          <a:xfrm>
            <a:off x="1090800" y="5143680"/>
            <a:ext cx="42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способам контроля и самоконтро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0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-41400" y="0"/>
            <a:ext cx="9185400" cy="68277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5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Цель модульного обучения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214200" y="1732320"/>
            <a:ext cx="8286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содействие развитию самостоятельности учащихся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Times New Roman"/>
              </a:rPr>
              <a:t>их умения работать с учетом индивидуальных способов проработки учебного материа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6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0" y="30240"/>
            <a:ext cx="9185400" cy="6827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0" y="0"/>
            <a:ext cx="91440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ние информационных технологий-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эффективное средство активизации познавательной, рефлексивной деятель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чащихся в образовательн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амообразовательном процес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1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-41400" y="30240"/>
            <a:ext cx="9185400" cy="68277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428760" y="0"/>
            <a:ext cx="84294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Times New Roman"/>
              </a:rPr>
              <a:t>Список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  <a:ea typeface="Times New Roman"/>
              </a:rPr>
              <a:t>использованной литературы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1"/>
          <p:cNvSpPr/>
          <p:nvPr/>
        </p:nvSpPr>
        <p:spPr>
          <a:xfrm>
            <a:off x="428760" y="1877040"/>
            <a:ext cx="81439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илова Г.Г., Гельдиева С., Зайкаускене Я.Ю., Изаренков Д.И. и д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работы по современному русскому язык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ед. Н.М. Шанского. – Санкт-Петербург, 199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5"/>
              </a:rPr>
              <a:t>standart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7"/>
              </a:rPr>
              <a:t>edu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9"/>
              </a:rPr>
              <a:t>ru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1"/>
              </a:rPr>
              <a:t>catalog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2"/>
              </a:rPr>
              <a:t>.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3"/>
              </a:rPr>
              <a:t>aspx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4"/>
              </a:rPr>
              <a:t>?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5"/>
              </a:rPr>
              <a:t>CatalogId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6"/>
              </a:rPr>
              <a:t>=2587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7"/>
              </a:rPr>
              <a:t>http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8"/>
              </a:rPr>
              <a:t>://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9"/>
              </a:rPr>
              <a:t>festival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0"/>
              </a:rPr>
              <a:t>.1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1"/>
              </a:rPr>
              <a:t>september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2"/>
              </a:rPr>
              <a:t>.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3"/>
              </a:rPr>
              <a:t>ru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4"/>
              </a:rPr>
              <a:t>/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5"/>
              </a:rPr>
              <a:t>articles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6"/>
              </a:rPr>
              <a:t>/413106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7"/>
              </a:rPr>
              <a:t>http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8"/>
              </a:rPr>
              <a:t>://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9"/>
              </a:rPr>
              <a:t>festival</a:t>
            </a:r>
            <a:r>
              <a:rPr b="0" lang="ru-RU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30"/>
              </a:rPr>
              <a:t>.1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31"/>
              </a:rPr>
              <a:t>septembe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l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100689/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a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stiva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010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l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in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m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festival.1september.ru/articles/418985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0" y="-142920"/>
            <a:ext cx="9185400" cy="6827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Портрет"/>
          <p:cNvPicPr/>
          <p:nvPr/>
        </p:nvPicPr>
        <p:blipFill>
          <a:blip r:embed="rId3"/>
          <a:stretch/>
        </p:blipFill>
        <p:spPr>
          <a:xfrm>
            <a:off x="500040" y="35712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6"/>
          <p:cNvSpPr/>
          <p:nvPr/>
        </p:nvSpPr>
        <p:spPr>
          <a:xfrm>
            <a:off x="428760" y="1785960"/>
            <a:ext cx="195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силий Александрович Сухомли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Шаталов Виктор Федорович"/>
          <p:cNvPicPr/>
          <p:nvPr/>
        </p:nvPicPr>
        <p:blipFill>
          <a:blip r:embed="rId4"/>
          <a:stretch/>
        </p:blipFill>
        <p:spPr>
          <a:xfrm>
            <a:off x="2500200" y="571680"/>
            <a:ext cx="1905120" cy="27619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8"/>
          <p:cNvSpPr/>
          <p:nvPr/>
        </p:nvSpPr>
        <p:spPr>
          <a:xfrm>
            <a:off x="2500200" y="335772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ктор Федоро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атал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4572000" y="3500280"/>
            <a:ext cx="18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алва Александро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монашви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Амонашвили Ш.А."/>
          <p:cNvPicPr/>
          <p:nvPr/>
        </p:nvPicPr>
        <p:blipFill>
          <a:blip r:embed="rId5"/>
          <a:stretch/>
        </p:blipFill>
        <p:spPr>
          <a:xfrm>
            <a:off x="4572000" y="857160"/>
            <a:ext cx="1905120" cy="2629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1"/>
          <p:cNvSpPr/>
          <p:nvPr/>
        </p:nvSpPr>
        <p:spPr>
          <a:xfrm>
            <a:off x="6215040" y="5643720"/>
            <a:ext cx="27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фья Никола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ысен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0" descr="http://shatalovschools.ru/images/img.php?16"/>
          <p:cNvPicPr/>
          <p:nvPr/>
        </p:nvPicPr>
        <p:blipFill>
          <a:blip r:embed="rId6"/>
          <a:stretch/>
        </p:blipFill>
        <p:spPr>
          <a:xfrm>
            <a:off x="6286680" y="3571920"/>
            <a:ext cx="2681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0" y="0"/>
            <a:ext cx="9185400" cy="68277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http://festival.1september.ru/articles/512797/img2.gif"/>
          <p:cNvPicPr/>
          <p:nvPr/>
        </p:nvPicPr>
        <p:blipFill>
          <a:blip r:embed="rId3"/>
          <a:stretch/>
        </p:blipFill>
        <p:spPr>
          <a:xfrm>
            <a:off x="1357200" y="1214280"/>
            <a:ext cx="6048360" cy="385776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0" y="0"/>
            <a:ext cx="90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Активные метод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0" y="30240"/>
            <a:ext cx="9185400" cy="682776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Интерактивные метод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2" descr="http://festival.1september.ru/articles/512797/img3.gif"/>
          <p:cNvPicPr/>
          <p:nvPr/>
        </p:nvPicPr>
        <p:blipFill>
          <a:blip r:embed="rId3"/>
          <a:stretch/>
        </p:blipFill>
        <p:spPr>
          <a:xfrm>
            <a:off x="928800" y="1214280"/>
            <a:ext cx="707220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4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0" y="0"/>
            <a:ext cx="9185400" cy="68277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0" y="30240"/>
            <a:ext cx="91440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  <a:ea typeface="Times New Roman"/>
              </a:rPr>
              <a:t>Методы интерактивного обучения</a:t>
            </a:r>
            <a:r>
              <a:rPr b="0" i="1" lang="ru-RU" sz="4000" spc="-1" strike="noStrike">
                <a:solidFill>
                  <a:srgbClr val="002060"/>
                </a:solidFill>
                <a:latin typeface="Arial"/>
                <a:ea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работа в групп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«мозговой штурм», дебаты, дискуссия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моделировани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ролевые игра, деловая игр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обучающие и метафорические упражне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лабораторные работ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4928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ная деятель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7b2"/>
            </a:gs>
            <a:gs pos="100000">
              <a:srgbClr val="ffdc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3"/>
          <p:cNvGrpSpPr/>
          <p:nvPr/>
        </p:nvGrpSpPr>
        <p:grpSpPr>
          <a:xfrm>
            <a:off x="1386360" y="579600"/>
            <a:ext cx="6328440" cy="4946400"/>
            <a:chOff x="1386360" y="579600"/>
            <a:chExt cx="6328440" cy="4946400"/>
          </a:xfrm>
        </p:grpSpPr>
        <p:sp>
          <p:nvSpPr>
            <p:cNvPr id="78" name="Oval 4"/>
            <p:cNvSpPr/>
            <p:nvPr/>
          </p:nvSpPr>
          <p:spPr>
            <a:xfrm>
              <a:off x="2441520" y="3806280"/>
              <a:ext cx="5273280" cy="14796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392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Oval 5"/>
            <p:cNvSpPr/>
            <p:nvPr/>
          </p:nvSpPr>
          <p:spPr>
            <a:xfrm rot="20601600">
              <a:off x="1753920" y="1447200"/>
              <a:ext cx="5462640" cy="3367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Oval 6"/>
            <p:cNvSpPr/>
            <p:nvPr/>
          </p:nvSpPr>
          <p:spPr>
            <a:xfrm rot="20601600">
              <a:off x="1807200" y="1266120"/>
              <a:ext cx="5273280" cy="32626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Arc 7"/>
            <p:cNvSpPr/>
            <p:nvPr/>
          </p:nvSpPr>
          <p:spPr>
            <a:xfrm rot="20601600">
              <a:off x="4325760" y="1143000"/>
              <a:ext cx="2701080" cy="2195280"/>
            </a:xfrm>
            <a:prstGeom prst="pie">
              <a:avLst/>
            </a:prstGeom>
            <a:gradFill rotWithShape="0">
              <a:gsLst>
                <a:gs pos="0">
                  <a:srgbClr val="e40059"/>
                </a:gs>
                <a:gs pos="100000">
                  <a:srgbClr val="ee5d96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rc 8"/>
            <p:cNvSpPr/>
            <p:nvPr/>
          </p:nvSpPr>
          <p:spPr>
            <a:xfrm flipH="1" rot="20602200">
              <a:off x="2039040" y="3235320"/>
              <a:ext cx="3108960" cy="1650960"/>
            </a:xfrm>
            <a:prstGeom prst="pie">
              <a:avLst/>
            </a:prstGeom>
            <a:gradFill rotWithShape="0">
              <a:gsLst>
                <a:gs pos="0">
                  <a:srgbClr val="b22762"/>
                </a:gs>
                <a:gs pos="100000">
                  <a:srgbClr val="ff388c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Arc 9"/>
            <p:cNvSpPr/>
            <p:nvPr/>
          </p:nvSpPr>
          <p:spPr>
            <a:xfrm rot="20601600">
              <a:off x="2995200" y="1193760"/>
              <a:ext cx="3060720" cy="1582200"/>
            </a:xfrm>
            <a:prstGeom prst="pie">
              <a:avLst/>
            </a:prstGeom>
            <a:gradFill rotWithShape="0">
              <a:gsLst>
                <a:gs pos="0">
                  <a:srgbClr val="17bbfd"/>
                </a:gs>
                <a:gs pos="100000">
                  <a:srgbClr val="1188b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Arc 10"/>
            <p:cNvSpPr/>
            <p:nvPr/>
          </p:nvSpPr>
          <p:spPr>
            <a:xfrm flipH="1" rot="20602200">
              <a:off x="1714680" y="1856880"/>
              <a:ext cx="2702880" cy="2306880"/>
            </a:xfrm>
            <a:prstGeom prst="pie">
              <a:avLst/>
            </a:prstGeom>
            <a:gradFill rotWithShape="0">
              <a:gsLst>
                <a:gs pos="0">
                  <a:srgbClr val="e40059"/>
                </a:gs>
                <a:gs pos="100000">
                  <a:srgbClr val="6a002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1"/>
            <p:cNvSpPr/>
            <p:nvPr/>
          </p:nvSpPr>
          <p:spPr>
            <a:xfrm>
              <a:off x="5594400" y="2865240"/>
              <a:ext cx="1662840" cy="1984680"/>
            </a:xfrm>
            <a:prstGeom prst="pie">
              <a:avLst/>
            </a:prstGeom>
            <a:gradFill rotWithShape="0">
              <a:gsLst>
                <a:gs pos="0">
                  <a:srgbClr val="ffc2e3"/>
                </a:gs>
                <a:gs pos="100000">
                  <a:srgbClr val="ff79c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Arc 12"/>
            <p:cNvSpPr/>
            <p:nvPr/>
          </p:nvSpPr>
          <p:spPr>
            <a:xfrm rot="20539200">
              <a:off x="4688640" y="2182320"/>
              <a:ext cx="2586600" cy="2078640"/>
            </a:xfrm>
            <a:prstGeom prst="pie">
              <a:avLst/>
            </a:prstGeom>
            <a:gradFill rotWithShape="0">
              <a:gsLst>
                <a:gs pos="0">
                  <a:srgbClr val="76385a"/>
                </a:gs>
                <a:gs pos="100000">
                  <a:srgbClr val="ff79c2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4655520" y="3244680"/>
              <a:ext cx="976680" cy="1644120"/>
            </a:xfrm>
            <a:prstGeom prst="pie">
              <a:avLst/>
            </a:prstGeom>
            <a:gradFill rotWithShape="0">
              <a:gsLst>
                <a:gs pos="0">
                  <a:srgbClr val="ffc2e3"/>
                </a:gs>
                <a:gs pos="100000">
                  <a:srgbClr val="ff79c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Oval 14"/>
            <p:cNvSpPr/>
            <p:nvPr/>
          </p:nvSpPr>
          <p:spPr>
            <a:xfrm rot="20601600">
              <a:off x="3192120" y="2063880"/>
              <a:ext cx="2555280" cy="1495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4579920" y="3485160"/>
              <a:ext cx="818640" cy="1204920"/>
            </a:xfrm>
            <a:prstGeom prst="pie">
              <a:avLst/>
            </a:prstGeom>
            <a:solidFill>
              <a:srgbClr val="6666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21"/>
            <p:cNvSpPr/>
            <p:nvPr/>
          </p:nvSpPr>
          <p:spPr>
            <a:xfrm rot="20601600">
              <a:off x="3288960" y="2346120"/>
              <a:ext cx="2451240" cy="1217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Text Box 22"/>
          <p:cNvSpPr/>
          <p:nvPr/>
        </p:nvSpPr>
        <p:spPr>
          <a:xfrm>
            <a:off x="7175520" y="714240"/>
            <a:ext cx="1968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ка умений соотнесения содержания изучаемой темы в научной литературе с материалами по этой теме, изложенными в школьном учебник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AutoShape 23"/>
          <p:cNvCxnSpPr/>
          <p:nvPr/>
        </p:nvCxnSpPr>
        <p:spPr>
          <a:xfrm flipV="1" rot="10800000">
            <a:off x="6786000" y="1285920"/>
            <a:ext cx="1926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93" name="Text Box 24"/>
          <p:cNvSpPr/>
          <p:nvPr/>
        </p:nvSpPr>
        <p:spPr>
          <a:xfrm>
            <a:off x="0" y="1143000"/>
            <a:ext cx="2357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тие навыков и умений самостоятельной работы с учебной, научной, методической и справочной литератур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AutoShape 25"/>
          <p:cNvCxnSpPr/>
          <p:nvPr/>
        </p:nvCxnSpPr>
        <p:spPr>
          <a:xfrm>
            <a:off x="2428920" y="1714680"/>
            <a:ext cx="1800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95" name="Text Box 26"/>
          <p:cNvSpPr/>
          <p:nvPr/>
        </p:nvSpPr>
        <p:spPr>
          <a:xfrm>
            <a:off x="1500120" y="428760"/>
            <a:ext cx="350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, закрепление, углубление ранее полученных зна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AutoShape 27"/>
          <p:cNvCxnSpPr/>
          <p:nvPr/>
        </p:nvCxnSpPr>
        <p:spPr>
          <a:xfrm>
            <a:off x="3929040" y="10000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97" name="Text Box 28"/>
          <p:cNvSpPr/>
          <p:nvPr/>
        </p:nvSpPr>
        <p:spPr>
          <a:xfrm>
            <a:off x="6786720" y="4286160"/>
            <a:ext cx="2217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пособности творческого внутри- и межсистемного  переноса знаний, навыков и уме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AutoShape 29"/>
          <p:cNvCxnSpPr/>
          <p:nvPr/>
        </p:nvCxnSpPr>
        <p:spPr>
          <a:xfrm rot="10800000">
            <a:off x="6285960" y="4357080"/>
            <a:ext cx="492840" cy="47196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99" name="Text Box 30"/>
          <p:cNvSpPr/>
          <p:nvPr/>
        </p:nvSpPr>
        <p:spPr>
          <a:xfrm>
            <a:off x="642960" y="5214960"/>
            <a:ext cx="2786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методами и приемами лингвистического анали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AutoShape 31"/>
          <p:cNvCxnSpPr/>
          <p:nvPr/>
        </p:nvCxnSpPr>
        <p:spPr>
          <a:xfrm flipV="1">
            <a:off x="3571920" y="5000400"/>
            <a:ext cx="48240" cy="6228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0" y="0"/>
            <a:ext cx="9185400" cy="682776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5"/>
          <p:cNvGrpSpPr/>
          <p:nvPr/>
        </p:nvGrpSpPr>
        <p:grpSpPr>
          <a:xfrm>
            <a:off x="287280" y="1714680"/>
            <a:ext cx="8856000" cy="4500000"/>
            <a:chOff x="287280" y="1714680"/>
            <a:chExt cx="8856000" cy="4500000"/>
          </a:xfrm>
        </p:grpSpPr>
        <p:sp>
          <p:nvSpPr>
            <p:cNvPr id="106" name="Rectangle 6"/>
            <p:cNvSpPr/>
            <p:nvPr/>
          </p:nvSpPr>
          <p:spPr>
            <a:xfrm>
              <a:off x="7728480" y="1719360"/>
              <a:ext cx="343080" cy="4495320"/>
            </a:xfrm>
            <a:prstGeom prst="rect">
              <a:avLst/>
            </a:prstGeom>
            <a:gradFill rotWithShape="0">
              <a:gsLst>
                <a:gs pos="0">
                  <a:srgbClr val="d2d2d2"/>
                </a:gs>
                <a:gs pos="50000">
                  <a:srgbClr val="ededed"/>
                </a:gs>
                <a:gs pos="100000">
                  <a:srgbClr val="d2d2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1277280" y="1714680"/>
              <a:ext cx="343080" cy="4495320"/>
            </a:xfrm>
            <a:prstGeom prst="rect">
              <a:avLst/>
            </a:prstGeom>
            <a:gradFill rotWithShape="0">
              <a:gsLst>
                <a:gs pos="0">
                  <a:srgbClr val="d2d2d2"/>
                </a:gs>
                <a:gs pos="50000">
                  <a:srgbClr val="ededed"/>
                </a:gs>
                <a:gs pos="100000">
                  <a:srgbClr val="d2d2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AutoShape 8"/>
            <p:cNvSpPr/>
            <p:nvPr/>
          </p:nvSpPr>
          <p:spPr>
            <a:xfrm>
              <a:off x="287280" y="2000520"/>
              <a:ext cx="8856000" cy="556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22762"/>
                </a:gs>
                <a:gs pos="50000">
                  <a:srgbClr val="ff388c"/>
                </a:gs>
                <a:gs pos="100000">
                  <a:srgbClr val="b227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абораторная работа № 1 «Лексикография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AutoShape 9"/>
            <p:cNvSpPr/>
            <p:nvPr/>
          </p:nvSpPr>
          <p:spPr>
            <a:xfrm>
              <a:off x="296280" y="2784960"/>
              <a:ext cx="8846640" cy="5572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72153"/>
                </a:gs>
                <a:gs pos="50000">
                  <a:srgbClr val="ff388c"/>
                </a:gs>
                <a:gs pos="100000">
                  <a:srgbClr val="9721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абораторная работа № 2 «Сложносочиненное предложение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AutoShape 10"/>
            <p:cNvSpPr/>
            <p:nvPr/>
          </p:nvSpPr>
          <p:spPr>
            <a:xfrm>
              <a:off x="296280" y="3565080"/>
              <a:ext cx="8846640" cy="556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22762"/>
                </a:gs>
                <a:gs pos="50000">
                  <a:srgbClr val="ff388c"/>
                </a:gs>
                <a:gs pos="100000">
                  <a:srgbClr val="b227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абораторная работа № 3 «Классификация сложноподчиненного предложения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AutoShape 11"/>
            <p:cNvSpPr/>
            <p:nvPr/>
          </p:nvSpPr>
          <p:spPr>
            <a:xfrm>
              <a:off x="296280" y="4345560"/>
              <a:ext cx="8846640" cy="556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72153"/>
                </a:gs>
                <a:gs pos="50000">
                  <a:srgbClr val="ff388c"/>
                </a:gs>
                <a:gs pos="100000">
                  <a:srgbClr val="9721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абораторная работа № 4 «Классификация бессоюзного сложного предложения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AutoShape 12"/>
            <p:cNvSpPr/>
            <p:nvPr/>
          </p:nvSpPr>
          <p:spPr>
            <a:xfrm>
              <a:off x="296280" y="5125320"/>
              <a:ext cx="8846640" cy="5572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22762"/>
                </a:gs>
                <a:gs pos="50000">
                  <a:srgbClr val="ff388c"/>
                </a:gs>
                <a:gs pos="100000">
                  <a:srgbClr val="b227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абораторная работа № 5 «Сложное синтаксическое целое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13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Тематика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лабораторных рабо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6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0" y="30240"/>
            <a:ext cx="9185400" cy="68277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Этапы исследова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500040" y="785880"/>
            <a:ext cx="7929000" cy="6071400"/>
            <a:chOff x="500040" y="785880"/>
            <a:chExt cx="7929000" cy="6071400"/>
          </a:xfrm>
        </p:grpSpPr>
        <p:sp>
          <p:nvSpPr>
            <p:cNvPr id="120" name="Rectangle 6"/>
            <p:cNvSpPr/>
            <p:nvPr/>
          </p:nvSpPr>
          <p:spPr>
            <a:xfrm>
              <a:off x="7262640" y="929880"/>
              <a:ext cx="275400" cy="5927400"/>
            </a:xfrm>
            <a:prstGeom prst="rect">
              <a:avLst/>
            </a:prstGeom>
            <a:gradFill rotWithShape="0">
              <a:gsLst>
                <a:gs pos="0">
                  <a:srgbClr val="d2d2d2"/>
                </a:gs>
                <a:gs pos="50000">
                  <a:srgbClr val="ededed"/>
                </a:gs>
                <a:gs pos="100000">
                  <a:srgbClr val="d2d2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1451160" y="929880"/>
              <a:ext cx="283680" cy="5920560"/>
            </a:xfrm>
            <a:prstGeom prst="rect">
              <a:avLst/>
            </a:prstGeom>
            <a:gradFill rotWithShape="0">
              <a:gsLst>
                <a:gs pos="0">
                  <a:srgbClr val="d2d2d2"/>
                </a:gs>
                <a:gs pos="50000">
                  <a:srgbClr val="ededed"/>
                </a:gs>
                <a:gs pos="100000">
                  <a:srgbClr val="d2d2d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AutoShape 8"/>
            <p:cNvSpPr/>
            <p:nvPr/>
          </p:nvSpPr>
          <p:spPr>
            <a:xfrm>
              <a:off x="500040" y="785880"/>
              <a:ext cx="7925400" cy="570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22762"/>
                </a:gs>
                <a:gs pos="50000">
                  <a:srgbClr val="ff388c"/>
                </a:gs>
                <a:gs pos="100000">
                  <a:srgbClr val="b227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блюдение и изучение фактов и явлений;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AutoShape 9"/>
            <p:cNvSpPr/>
            <p:nvPr/>
          </p:nvSpPr>
          <p:spPr>
            <a:xfrm>
              <a:off x="500040" y="1572480"/>
              <a:ext cx="7925400" cy="57420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72153"/>
                </a:gs>
                <a:gs pos="50000">
                  <a:srgbClr val="ff388c"/>
                </a:gs>
                <a:gs pos="100000">
                  <a:srgbClr val="9721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яснение непонятных явлений, подлежащих исследованию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AutoShape 10"/>
            <p:cNvSpPr/>
            <p:nvPr/>
          </p:nvSpPr>
          <p:spPr>
            <a:xfrm>
              <a:off x="500040" y="2284560"/>
              <a:ext cx="7925400" cy="4989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22762"/>
                </a:gs>
                <a:gs pos="50000">
                  <a:srgbClr val="ff388c"/>
                </a:gs>
                <a:gs pos="100000">
                  <a:srgbClr val="b227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движение гипотезы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AutoShape 11"/>
            <p:cNvSpPr/>
            <p:nvPr/>
          </p:nvSpPr>
          <p:spPr>
            <a:xfrm>
              <a:off x="500040" y="2927880"/>
              <a:ext cx="7929000" cy="498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72153"/>
                </a:gs>
                <a:gs pos="50000">
                  <a:srgbClr val="ff388c"/>
                </a:gs>
                <a:gs pos="100000">
                  <a:srgbClr val="9721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троение плана исследования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AutoShape 12"/>
            <p:cNvSpPr/>
            <p:nvPr/>
          </p:nvSpPr>
          <p:spPr>
            <a:xfrm>
              <a:off x="500040" y="3570480"/>
              <a:ext cx="7929000" cy="498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22762"/>
                </a:gs>
                <a:gs pos="50000">
                  <a:srgbClr val="ff388c"/>
                </a:gs>
                <a:gs pos="100000">
                  <a:srgbClr val="b227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яснение связей изучаемого явления с другими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AutoShape 12"/>
          <p:cNvSpPr/>
          <p:nvPr/>
        </p:nvSpPr>
        <p:spPr>
          <a:xfrm>
            <a:off x="500040" y="4286160"/>
            <a:ext cx="7929720" cy="557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22762"/>
              </a:gs>
              <a:gs pos="50000">
                <a:srgbClr val="ff388c"/>
              </a:gs>
              <a:gs pos="100000">
                <a:srgbClr val="b227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лингвистического эксперимен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571680" y="5000760"/>
            <a:ext cx="7786440" cy="5569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22762"/>
              </a:gs>
              <a:gs pos="50000">
                <a:srgbClr val="ff388c"/>
              </a:gs>
              <a:gs pos="100000">
                <a:srgbClr val="b227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лингвистических задач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571680" y="5643720"/>
            <a:ext cx="7786440" cy="5569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22762"/>
              </a:gs>
              <a:gs pos="50000">
                <a:srgbClr val="ff388c"/>
              </a:gs>
              <a:gs pos="100000">
                <a:srgbClr val="b227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результатов и формулировка выв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2" name="Picture 2" descr="D:\WINDOWS\Temp\Rar$DR14.532\Nabor_fonov_№5\5-4.jpg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D:\WINDOWS\Temp\Rar$DR54.719\Nabor_fonov_№5\5-33.jpg"/>
          <p:cNvPicPr/>
          <p:nvPr/>
        </p:nvPicPr>
        <p:blipFill>
          <a:blip r:embed="rId2"/>
          <a:stretch/>
        </p:blipFill>
        <p:spPr>
          <a:xfrm>
            <a:off x="0" y="30240"/>
            <a:ext cx="9185400" cy="68277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уктура проведения лабораторной работ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928800" y="2286000"/>
            <a:ext cx="7389720" cy="3273480"/>
          </a:xfrm>
          <a:prstGeom prst="pie">
            <a:avLst/>
          </a:prstGeom>
          <a:gradFill rotWithShape="0">
            <a:gsLst>
              <a:gs pos="0">
                <a:srgbClr val="094b65"/>
              </a:gs>
              <a:gs pos="50000">
                <a:srgbClr val="17bbfd"/>
              </a:gs>
              <a:gs pos="100000">
                <a:srgbClr val="094b6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71680" y="2643120"/>
            <a:ext cx="23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 эта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28"/>
          <p:cNvSpPr/>
          <p:nvPr/>
        </p:nvSpPr>
        <p:spPr>
          <a:xfrm>
            <a:off x="2071800" y="2357280"/>
            <a:ext cx="226800" cy="3589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f388c"/>
              </a:gs>
              <a:gs pos="50000">
                <a:srgbClr val="ffb8d6"/>
              </a:gs>
              <a:gs pos="100000">
                <a:srgbClr val="ff388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27"/>
          <p:cNvSpPr/>
          <p:nvPr/>
        </p:nvSpPr>
        <p:spPr>
          <a:xfrm>
            <a:off x="2928960" y="242892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f388c"/>
              </a:gs>
              <a:gs pos="50000">
                <a:srgbClr val="ffb8d6"/>
              </a:gs>
              <a:gs pos="100000">
                <a:srgbClr val="ff388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1071720" y="3000240"/>
            <a:ext cx="24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лабораторной работ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26"/>
          <p:cNvSpPr/>
          <p:nvPr/>
        </p:nvSpPr>
        <p:spPr>
          <a:xfrm>
            <a:off x="3857760" y="242892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f388c"/>
              </a:gs>
              <a:gs pos="50000">
                <a:srgbClr val="ffb8d6"/>
              </a:gs>
              <a:gs pos="100000">
                <a:srgbClr val="ff388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2143080" y="350028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е выполнение работ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25"/>
          <p:cNvSpPr/>
          <p:nvPr/>
        </p:nvSpPr>
        <p:spPr>
          <a:xfrm>
            <a:off x="5000760" y="257184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f388c"/>
              </a:gs>
              <a:gs pos="50000">
                <a:srgbClr val="ffb8d6"/>
              </a:gs>
              <a:gs pos="100000">
                <a:srgbClr val="ff388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3357720" y="4071960"/>
            <a:ext cx="24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24"/>
          <p:cNvSpPr/>
          <p:nvPr/>
        </p:nvSpPr>
        <p:spPr>
          <a:xfrm>
            <a:off x="6215040" y="285768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f388c"/>
              </a:gs>
              <a:gs pos="50000">
                <a:srgbClr val="ffb8d6"/>
              </a:gs>
              <a:gs pos="100000">
                <a:srgbClr val="ff388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4429080" y="4714920"/>
            <a:ext cx="24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17:06:18Z</dcterms:created>
  <dc:creator>SamLab.ws</dc:creator>
  <dc:description/>
  <dc:language>en-US</dc:language>
  <cp:lastModifiedBy>SamLab.ws</cp:lastModifiedBy>
  <dcterms:modified xsi:type="dcterms:W3CDTF">2011-08-28T18:32:48Z</dcterms:modified>
  <cp:revision>9</cp:revision>
  <dc:subject/>
  <dc:title>Слайд 1</dc:title>
</cp:coreProperties>
</file>