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D82-9361-4D82-A9AF-10950DFF5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FF0-71E0-4813-B5B1-7846A2D3DC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1C0-0AA6-4282-A9E5-EFADC44A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ACD-9C2E-4511-83E3-73EA334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5DE-C7E3-426E-8BE8-404A0008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80B-72CA-4563-8016-D6381032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08F-6C77-48ED-8083-6CB6476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DD3-E41C-467A-BDBA-35B7AC34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2B3-509C-4F17-B860-0E57BA65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6E7-A195-4387-BC83-1DF852D5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80D-BF62-43D4-86B9-19135523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697-E683-472E-901F-C1A9153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AF5-1E0D-4550-A14F-FB91AAB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F7B-4F0C-4C30-B791-4EFC8E7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C56-90FA-4C5B-B397-489BA6574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Администратор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одительское собрание (адаптация первоклассников) "Испытание школой"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4" descr="C:\Documents and Settings\Администратор\Рабочий стол\фотографии\Для выпуска\19.JPG"/>
          <p:cNvPicPr/>
          <p:nvPr/>
        </p:nvPicPr>
        <p:blipFill>
          <a:blip r:embed="rId2"/>
          <a:stretch/>
        </p:blipFill>
        <p:spPr>
          <a:xfrm>
            <a:off x="2571840" y="3214800"/>
            <a:ext cx="41338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ерная схема режима дня для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2960" y="1285920"/>
          <a:ext cx="6858000" cy="4968720"/>
        </p:xfrm>
        <a:graphic>
          <a:graphicData uri="http://schemas.openxmlformats.org/drawingml/2006/table">
            <a:tbl>
              <a:tblPr/>
              <a:tblGrid>
                <a:gridCol w="3938400"/>
                <a:gridCol w="2919600"/>
              </a:tblGrid>
              <a:tr h="353520">
                <a:tc>
                  <a:txBody>
                    <a:bodyPr lIns="20160" rIns="20160" tIns="20160" bIns="20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ные мо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уждение , заряд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нятия в шко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- 1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 ,игры на свежем воздух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 – 1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96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для самостоятельных учеб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 – 1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кружков ,свободное время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0 -17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ывание на 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 – 18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 и свободные зан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1240200" y="85716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даптация закончена успе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571680" y="16614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ое отношение к школе, умение входить в контакт со взрослыми и сверстниками и поддержив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декватное восприятие школьных требований, легкость усвоения учебного материала, проявление самостоятельности и творческого начала при выполнении учебных и иных пору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лагоприятный статус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4"/>
          <p:cNvSpPr/>
          <p:nvPr/>
        </p:nvSpPr>
        <p:spPr>
          <a:xfrm>
            <a:off x="3286080" y="371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143080" y="36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лнце 13"/>
          <p:cNvSpPr/>
          <p:nvPr/>
        </p:nvSpPr>
        <p:spPr>
          <a:xfrm>
            <a:off x="428760" y="357120"/>
            <a:ext cx="4786200" cy="40006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785960" y="207324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ы родителям первокласс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носка-облако 5"/>
          <p:cNvSpPr/>
          <p:nvPr/>
        </p:nvSpPr>
        <p:spPr>
          <a:xfrm>
            <a:off x="1571760" y="3214800"/>
            <a:ext cx="4000320" cy="2643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первый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е главное, что вы можете подарить своему ребенку - это ваше внимание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носка-облако 6"/>
          <p:cNvSpPr/>
          <p:nvPr/>
        </p:nvSpPr>
        <p:spPr>
          <a:xfrm>
            <a:off x="1714680" y="2500200"/>
            <a:ext cx="4357440" cy="3714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второй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ше положительное отношение к школе и учителям упростит ребенку период адаптации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-облако 7"/>
          <p:cNvSpPr/>
          <p:nvPr/>
        </p:nvSpPr>
        <p:spPr>
          <a:xfrm>
            <a:off x="1714680" y="2571840"/>
            <a:ext cx="5429160" cy="3714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третий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ше спокойное отношение к школьным заботам и школьной жизни очень поможет ребен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Выноска-облако 11"/>
          <p:cNvSpPr/>
          <p:nvPr/>
        </p:nvSpPr>
        <p:spPr>
          <a:xfrm>
            <a:off x="3571920" y="1214280"/>
            <a:ext cx="4786200" cy="457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четвертый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могите ребенку установить отношения со сверстниками и чувствовать себя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12"/>
          <p:cNvSpPr/>
          <p:nvPr/>
        </p:nvSpPr>
        <p:spPr>
          <a:xfrm>
            <a:off x="3714840" y="1643040"/>
            <a:ext cx="457200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пятый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могите ребенку привыкнуть к новому школьному режим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15"/>
          <p:cNvSpPr/>
          <p:nvPr/>
        </p:nvSpPr>
        <p:spPr>
          <a:xfrm>
            <a:off x="3571920" y="1714680"/>
            <a:ext cx="5572080" cy="36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вет шестой: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мудрое отношение родителей к школьным результатам исключит треть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озможных неприятностей ребенка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C:\Documents and Settings\Администратор\Рабочий стол\фотографии\Фото 1\64.jpg"/>
          <p:cNvPicPr/>
          <p:nvPr/>
        </p:nvPicPr>
        <p:blipFill>
          <a:blip r:embed="rId1"/>
          <a:stretch/>
        </p:blipFill>
        <p:spPr>
          <a:xfrm>
            <a:off x="500040" y="571680"/>
            <a:ext cx="3929040" cy="2950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7" descr="C:\Documents and Settings\Администратор\Рабочий стол\фотографии\Фото 2в\P1010118.JPG"/>
          <p:cNvPicPr/>
          <p:nvPr/>
        </p:nvPicPr>
        <p:blipFill>
          <a:blip r:embed="rId2"/>
          <a:stretch/>
        </p:blipFill>
        <p:spPr>
          <a:xfrm>
            <a:off x="4452840" y="3143160"/>
            <a:ext cx="4256280" cy="3194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857160" y="278604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Школьные успехи важны, но это не вся жизнь ваше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5" descr="C:\Documents and Settings\Администратор\Рабочий стол\фотографии\Фото 2в\P1010132.JPG"/>
          <p:cNvPicPr/>
          <p:nvPr/>
        </p:nvPicPr>
        <p:blipFill>
          <a:blip r:embed="rId1"/>
          <a:stretch/>
        </p:blipFill>
        <p:spPr>
          <a:xfrm>
            <a:off x="2500200" y="1071720"/>
            <a:ext cx="4429080" cy="36525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668840"/>
            <a:ext cx="84362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760" y="642960"/>
            <a:ext cx="8215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даптац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ложный, многофакторный процесс включения человека в новые условия жизнедеятельности, в новую систему требований и контроля, в новый колл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C:\Documents and Settings\Администратор\Рабочий стол\фотографии\Для выпуска\12.JPG"/>
          <p:cNvPicPr/>
          <p:nvPr/>
        </p:nvPicPr>
        <p:blipFill>
          <a:blip r:embed="rId1"/>
          <a:stretch/>
        </p:blipFill>
        <p:spPr>
          <a:xfrm>
            <a:off x="4000680" y="3071880"/>
            <a:ext cx="4001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12" descr=""/>
          <p:cNvPicPr/>
          <p:nvPr/>
        </p:nvPicPr>
        <p:blipFill>
          <a:blip r:embed="rId1"/>
          <a:stretch/>
        </p:blipFill>
        <p:spPr>
          <a:xfrm>
            <a:off x="1768320" y="1262160"/>
            <a:ext cx="6107400" cy="321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:\Documents and Settings\Администратор\Рабочий стол\фотографии\Фото 1\IMG072-01.jpg"/>
          <p:cNvPicPr/>
          <p:nvPr/>
        </p:nvPicPr>
        <p:blipFill>
          <a:blip r:embed="rId2"/>
          <a:stretch/>
        </p:blipFill>
        <p:spPr>
          <a:xfrm>
            <a:off x="6238800" y="4500720"/>
            <a:ext cx="24764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500040" y="57276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же происходит адаптация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F:\фото\P1010102.JPG"/>
          <p:cNvPicPr/>
          <p:nvPr/>
        </p:nvPicPr>
        <p:blipFill>
          <a:blip r:embed="rId1"/>
          <a:stretch/>
        </p:blipFill>
        <p:spPr>
          <a:xfrm>
            <a:off x="714240" y="1357200"/>
            <a:ext cx="3329280" cy="3000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F:\фото\P1010107.JPG"/>
          <p:cNvPicPr/>
          <p:nvPr/>
        </p:nvPicPr>
        <p:blipFill>
          <a:blip r:embed="rId2"/>
          <a:stretch/>
        </p:blipFill>
        <p:spPr>
          <a:xfrm>
            <a:off x="5286240" y="1357200"/>
            <a:ext cx="32292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C:\Documents and Settings\Администратор\Рабочий стол\фотографии\Фото 1\IMG061-01.jpg"/>
          <p:cNvPicPr/>
          <p:nvPr/>
        </p:nvPicPr>
        <p:blipFill>
          <a:blip r:embed="rId1"/>
          <a:stretch/>
        </p:blipFill>
        <p:spPr>
          <a:xfrm>
            <a:off x="500040" y="4071960"/>
            <a:ext cx="3081240" cy="2314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C:\Documents and Settings\Администратор\Рабочий стол\фотографии\Фото 1\IMG062-01.jpg"/>
          <p:cNvPicPr/>
          <p:nvPr/>
        </p:nvPicPr>
        <p:blipFill>
          <a:blip r:embed="rId2"/>
          <a:stretch/>
        </p:blipFill>
        <p:spPr>
          <a:xfrm>
            <a:off x="5500800" y="500040"/>
            <a:ext cx="3112920" cy="2340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571760" y="19288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чительная часть детей ( 50 – 60 % ) адаптируется в течении 2 – 3 месяцев обуч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1" descr="C:\Documents and Settings\Администратор\Рабочий стол\фотографии\Фото 2в\P1010203.JPG"/>
          <p:cNvPicPr/>
          <p:nvPr/>
        </p:nvPicPr>
        <p:blipFill>
          <a:blip r:embed="rId1"/>
          <a:stretch/>
        </p:blipFill>
        <p:spPr>
          <a:xfrm>
            <a:off x="500040" y="4071960"/>
            <a:ext cx="3075120" cy="2308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C:\Documents and Settings\Администратор\Рабочий стол\фотографии\Фото 2в\P1010086.JPG"/>
          <p:cNvPicPr/>
          <p:nvPr/>
        </p:nvPicPr>
        <p:blipFill>
          <a:blip r:embed="rId2"/>
          <a:stretch/>
        </p:blipFill>
        <p:spPr>
          <a:xfrm>
            <a:off x="6072120" y="500040"/>
            <a:ext cx="2571840" cy="1925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1643040" y="1500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ой групп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около 30 % ) требуется больше времени для привыкания к новой школьной жизн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4" descr="C:\Documents and Settings\Администратор\Рабочий стол\фотографии\Фото 2в\P1010125.JPG"/>
          <p:cNvPicPr/>
          <p:nvPr/>
        </p:nvPicPr>
        <p:blipFill>
          <a:blip r:embed="rId1"/>
          <a:stretch/>
        </p:blipFill>
        <p:spPr>
          <a:xfrm>
            <a:off x="2643120" y="571680"/>
            <a:ext cx="370512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785880" y="350028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тья группа детей встречается в каждом классе ( примерно 14 % ). Это такие дети , у которых к значительным трудностям учебной работы прибавляются трудности болезненной и длительной адаптации ,примерно до 1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456840" y="1143000"/>
            <a:ext cx="49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 Острая »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5000760" y="3429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вые четы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дел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8"/>
          <p:cNvCxnSpPr/>
          <p:nvPr/>
        </p:nvCxnSpPr>
        <p:spPr>
          <a:xfrm>
            <a:off x="3999600" y="1785600"/>
            <a:ext cx="92916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0" name="Рисунок 16" descr="C:\Documents and Settings\Администратор\Рабочий стол\фотографии\Фото 2в\P1010134.JPG"/>
          <p:cNvPicPr/>
          <p:nvPr/>
        </p:nvPicPr>
        <p:blipFill>
          <a:blip r:embed="rId1"/>
          <a:stretch/>
        </p:blipFill>
        <p:spPr>
          <a:xfrm>
            <a:off x="500040" y="3500280"/>
            <a:ext cx="380844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5"/>
          <p:cNvSpPr/>
          <p:nvPr/>
        </p:nvSpPr>
        <p:spPr>
          <a:xfrm>
            <a:off x="1087920" y="2786040"/>
            <a:ext cx="47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–перв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учеба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1643040" y="321480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–втор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обязательный отдых на свежем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2357280" y="400068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–третьих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остаточный по продолжительности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2928960" y="492912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–четверт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регулярное и полноцен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500040" y="50004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же такое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ационально организованный режим дня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3" descr="C:\Documents and Settings\Администратор\Рабочий стол\фотографии\Фото 2в\P1010128.JPG"/>
          <p:cNvPicPr/>
          <p:nvPr/>
        </p:nvPicPr>
        <p:blipFill>
          <a:blip r:embed="rId1"/>
          <a:stretch/>
        </p:blipFill>
        <p:spPr>
          <a:xfrm>
            <a:off x="6300720" y="1484280"/>
            <a:ext cx="2281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41:34Z</dcterms:created>
  <dc:creator>Admin</dc:creator>
  <dc:description/>
  <dc:language>en-US</dc:language>
  <cp:lastModifiedBy>Admin</cp:lastModifiedBy>
  <dcterms:modified xsi:type="dcterms:W3CDTF">2012-06-17T13:07:17Z</dcterms:modified>
  <cp:revision>26</cp:revision>
  <dc:subject/>
  <dc:title>Родительское собрание (адаптация первоклассников) "Испытание школой" </dc:title>
</cp:coreProperties>
</file>