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5C8A-7612-48E3-8530-650089A89D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7123-1997-4BA8-8882-328C38569F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503-366E-4A3C-B30C-160D9A7C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8CD-0F46-470B-BA63-9B3BF29F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77A-0190-4AD3-A9E7-9D384AA8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173-E593-4FB0-9941-23674DB6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29C-EB3E-4C2C-A070-C8941D9B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02E-B9A5-4837-972F-3C229B16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FDC-F491-4CBA-8995-32593C19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68B5-901D-476F-AEE8-079F0B32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42A-F836-4704-B992-F1F7C387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850-AFF0-43C1-9250-99E96833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B58-998E-41D4-9274-F1F78EB2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DDE0-C7A1-4700-9686-FB3725CD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56D1-F345-466A-95C5-4712ACF0DE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Documents and Settings\Администратор\Рабочий стол\Рисунок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Родительское собрание (адаптация первоклассников) "Испытание школой"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Рисунок 4" descr="C:\Documents and Settings\Администратор\Рабочий стол\фотографии\Для выпуска\19.JPG"/>
          <p:cNvPicPr/>
          <p:nvPr/>
        </p:nvPicPr>
        <p:blipFill>
          <a:blip r:embed="rId2"/>
          <a:stretch/>
        </p:blipFill>
        <p:spPr>
          <a:xfrm>
            <a:off x="2571840" y="3214800"/>
            <a:ext cx="41338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3"/>
          <p:cNvSpPr/>
          <p:nvPr/>
        </p:nvSpPr>
        <p:spPr>
          <a:xfrm>
            <a:off x="571680" y="3571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мерная схема режима дня для младших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42960" y="1285920"/>
          <a:ext cx="6858000" cy="4968720"/>
        </p:xfrm>
        <a:graphic>
          <a:graphicData uri="http://schemas.openxmlformats.org/drawingml/2006/table">
            <a:tbl>
              <a:tblPr/>
              <a:tblGrid>
                <a:gridCol w="3938400"/>
                <a:gridCol w="2919600"/>
              </a:tblGrid>
              <a:tr h="353520">
                <a:tc>
                  <a:txBody>
                    <a:bodyPr lIns="20160" rIns="20160" tIns="20160" bIns="20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ные мо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уждение , заряд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0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32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тр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32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занятия в школ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0- 1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32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32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а ,игры на свежем воздух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 – 1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196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для самостоятельных учебных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0 – 16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32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кружков ,свободное время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30 -17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32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бывание на воздух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30 – 18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32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 и свободные зан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3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320">
                <a:tc>
                  <a:txBody>
                    <a:bodyPr lIns="20160" rIns="20160" tIns="20160" bIns="201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0160" rIns="20160" tIns="20160" bIns="20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160" marR="20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5"/>
          <p:cNvSpPr/>
          <p:nvPr/>
        </p:nvSpPr>
        <p:spPr>
          <a:xfrm>
            <a:off x="1240200" y="857160"/>
            <a:ext cx="63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даптация закончена успеш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571680" y="166140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ожительное отношение к школе, умение входить в контакт со взрослыми и сверстниками и поддерживать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декватное восприятие школьных требований, легкость усвоения учебного материала, проявление самостоятельности и творческого начала при выполнении учебных и иных поруч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лагоприятный статус в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4"/>
          <p:cNvSpPr/>
          <p:nvPr/>
        </p:nvSpPr>
        <p:spPr>
          <a:xfrm>
            <a:off x="3286080" y="3714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2143080" y="36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2286000" y="2828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олнце 13"/>
          <p:cNvSpPr/>
          <p:nvPr/>
        </p:nvSpPr>
        <p:spPr>
          <a:xfrm>
            <a:off x="428760" y="357120"/>
            <a:ext cx="4786200" cy="40006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1785960" y="207324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еты родителям первокласс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носка-облако 5"/>
          <p:cNvSpPr/>
          <p:nvPr/>
        </p:nvSpPr>
        <p:spPr>
          <a:xfrm>
            <a:off x="1571760" y="3214800"/>
            <a:ext cx="4000320" cy="26431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 первый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амое главное, что вы можете подарить своему ребенку - это ваше внимание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Выноска-облако 6"/>
          <p:cNvSpPr/>
          <p:nvPr/>
        </p:nvSpPr>
        <p:spPr>
          <a:xfrm>
            <a:off x="1714680" y="2500200"/>
            <a:ext cx="4357440" cy="3714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 второй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аше положительное отношение к школе и учителям упростит ребенку период адаптации</a:t>
            </a: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Выноска-облако 7"/>
          <p:cNvSpPr/>
          <p:nvPr/>
        </p:nvSpPr>
        <p:spPr>
          <a:xfrm>
            <a:off x="1714680" y="2571840"/>
            <a:ext cx="5429160" cy="3714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 третий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аше спокойное отношение к школьным заботам и школьной жизни очень поможет ребенк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Выноска-облако 11"/>
          <p:cNvSpPr/>
          <p:nvPr/>
        </p:nvSpPr>
        <p:spPr>
          <a:xfrm>
            <a:off x="3571920" y="1214280"/>
            <a:ext cx="4786200" cy="4572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 четвертый 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могите ребенку установить отношения со сверстниками и чувствовать себя увер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Выноска-облако 12"/>
          <p:cNvSpPr/>
          <p:nvPr/>
        </p:nvSpPr>
        <p:spPr>
          <a:xfrm>
            <a:off x="3714840" y="1643040"/>
            <a:ext cx="4572000" cy="40006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 пятый 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могите ребенку привыкнуть к новому школьному режим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Выноска-облако 15"/>
          <p:cNvSpPr/>
          <p:nvPr/>
        </p:nvSpPr>
        <p:spPr>
          <a:xfrm>
            <a:off x="3571920" y="1714680"/>
            <a:ext cx="5572080" cy="3643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овет шестой: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мудрое отношение родителей к школьным результатам исключит треть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озможных неприятностей ребенка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C:\Documents and Settings\Администратор\Рабочий стол\фотографии\Фото 1\64.jpg"/>
          <p:cNvPicPr/>
          <p:nvPr/>
        </p:nvPicPr>
        <p:blipFill>
          <a:blip r:embed="rId1"/>
          <a:stretch/>
        </p:blipFill>
        <p:spPr>
          <a:xfrm>
            <a:off x="500040" y="571680"/>
            <a:ext cx="3929040" cy="29509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7" descr="C:\Documents and Settings\Администратор\Рабочий стол\фотографии\Фото 2в\P1010118.JPG"/>
          <p:cNvPicPr/>
          <p:nvPr/>
        </p:nvPicPr>
        <p:blipFill>
          <a:blip r:embed="rId2"/>
          <a:stretch/>
        </p:blipFill>
        <p:spPr>
          <a:xfrm>
            <a:off x="4452840" y="3143160"/>
            <a:ext cx="4256280" cy="31942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857160" y="278604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Школьные успехи важны, но это не вся жизнь вашего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5" descr="C:\Documents and Settings\Администратор\Рабочий стол\фотографии\Фото 2в\P1010132.JPG"/>
          <p:cNvPicPr/>
          <p:nvPr/>
        </p:nvPicPr>
        <p:blipFill>
          <a:blip r:embed="rId1"/>
          <a:stretch/>
        </p:blipFill>
        <p:spPr>
          <a:xfrm>
            <a:off x="2500200" y="1071720"/>
            <a:ext cx="4429080" cy="365256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4668840"/>
            <a:ext cx="84362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3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28760" y="642960"/>
            <a:ext cx="82152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даптаци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сложный, многофакторный процесс включения человека в новые условия жизнедеятельности, в новую систему требований и контроля, в новый колл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C:\Documents and Settings\Администратор\Рабочий стол\фотографии\Для выпуска\12.JPG"/>
          <p:cNvPicPr/>
          <p:nvPr/>
        </p:nvPicPr>
        <p:blipFill>
          <a:blip r:embed="rId1"/>
          <a:stretch/>
        </p:blipFill>
        <p:spPr>
          <a:xfrm>
            <a:off x="4000680" y="3071880"/>
            <a:ext cx="4001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хема 12" descr=""/>
          <p:cNvPicPr/>
          <p:nvPr/>
        </p:nvPicPr>
        <p:blipFill>
          <a:blip r:embed="rId1"/>
          <a:stretch/>
        </p:blipFill>
        <p:spPr>
          <a:xfrm>
            <a:off x="1768320" y="1262160"/>
            <a:ext cx="6107400" cy="3217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C:\Documents and Settings\Администратор\Рабочий стол\фотографии\Фото 1\IMG072-01.jpg"/>
          <p:cNvPicPr/>
          <p:nvPr/>
        </p:nvPicPr>
        <p:blipFill>
          <a:blip r:embed="rId2"/>
          <a:stretch/>
        </p:blipFill>
        <p:spPr>
          <a:xfrm>
            <a:off x="6238800" y="4500720"/>
            <a:ext cx="24764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500040" y="57276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же происходит адаптация к шко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F:\фото\P1010102.JPG"/>
          <p:cNvPicPr/>
          <p:nvPr/>
        </p:nvPicPr>
        <p:blipFill>
          <a:blip r:embed="rId1"/>
          <a:stretch/>
        </p:blipFill>
        <p:spPr>
          <a:xfrm>
            <a:off x="714240" y="1357200"/>
            <a:ext cx="3329280" cy="30006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F:\фото\P1010107.JPG"/>
          <p:cNvPicPr/>
          <p:nvPr/>
        </p:nvPicPr>
        <p:blipFill>
          <a:blip r:embed="rId2"/>
          <a:stretch/>
        </p:blipFill>
        <p:spPr>
          <a:xfrm>
            <a:off x="5286240" y="1357200"/>
            <a:ext cx="322920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4" descr="C:\Documents and Settings\Администратор\Рабочий стол\фотографии\Фото 1\IMG061-01.jpg"/>
          <p:cNvPicPr/>
          <p:nvPr/>
        </p:nvPicPr>
        <p:blipFill>
          <a:blip r:embed="rId1"/>
          <a:stretch/>
        </p:blipFill>
        <p:spPr>
          <a:xfrm>
            <a:off x="500040" y="4071960"/>
            <a:ext cx="3081240" cy="2314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C:\Documents and Settings\Администратор\Рабочий стол\фотографии\Фото 1\IMG062-01.jpg"/>
          <p:cNvPicPr/>
          <p:nvPr/>
        </p:nvPicPr>
        <p:blipFill>
          <a:blip r:embed="rId2"/>
          <a:stretch/>
        </p:blipFill>
        <p:spPr>
          <a:xfrm>
            <a:off x="5500800" y="500040"/>
            <a:ext cx="3112920" cy="2340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1571760" y="192888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чительная часть детей ( 50 – 60 % ) адаптируется в течении 2 – 3 месяцев обучен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1" descr="C:\Documents and Settings\Администратор\Рабочий стол\фотографии\Фото 2в\P1010203.JPG"/>
          <p:cNvPicPr/>
          <p:nvPr/>
        </p:nvPicPr>
        <p:blipFill>
          <a:blip r:embed="rId1"/>
          <a:stretch/>
        </p:blipFill>
        <p:spPr>
          <a:xfrm>
            <a:off x="500040" y="4071960"/>
            <a:ext cx="3075120" cy="23083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0" descr="C:\Documents and Settings\Администратор\Рабочий стол\фотографии\Фото 2в\P1010086.JPG"/>
          <p:cNvPicPr/>
          <p:nvPr/>
        </p:nvPicPr>
        <p:blipFill>
          <a:blip r:embed="rId2"/>
          <a:stretch/>
        </p:blipFill>
        <p:spPr>
          <a:xfrm>
            <a:off x="6072120" y="500040"/>
            <a:ext cx="2571840" cy="19256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1643040" y="150012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торой группе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 около 30 % ) требуется больше времени для привыкания к новой школьной жизни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4" descr="C:\Documents and Settings\Администратор\Рабочий стол\фотографии\Фото 2в\P1010125.JPG"/>
          <p:cNvPicPr/>
          <p:nvPr/>
        </p:nvPicPr>
        <p:blipFill>
          <a:blip r:embed="rId1"/>
          <a:stretch/>
        </p:blipFill>
        <p:spPr>
          <a:xfrm>
            <a:off x="2643120" y="571680"/>
            <a:ext cx="3705120" cy="2786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785880" y="3500280"/>
            <a:ext cx="75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етья группа детей встречается в каждом классе ( примерно 14 % ). Это такие дети , у которых к значительным трудностям учебной работы прибавляются трудности болезненной и длительной адаптации ,примерно до 1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5"/>
          <p:cNvSpPr/>
          <p:nvPr/>
        </p:nvSpPr>
        <p:spPr>
          <a:xfrm>
            <a:off x="456840" y="1143000"/>
            <a:ext cx="49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« Острая » адап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5000760" y="3429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ервые четыр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дели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8"/>
          <p:cNvCxnSpPr/>
          <p:nvPr/>
        </p:nvCxnSpPr>
        <p:spPr>
          <a:xfrm>
            <a:off x="3999600" y="1785600"/>
            <a:ext cx="92916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0" name="Рисунок 16" descr="C:\Documents and Settings\Администратор\Рабочий стол\фотографии\Фото 2в\P1010134.JPG"/>
          <p:cNvPicPr/>
          <p:nvPr/>
        </p:nvPicPr>
        <p:blipFill>
          <a:blip r:embed="rId1"/>
          <a:stretch/>
        </p:blipFill>
        <p:spPr>
          <a:xfrm>
            <a:off x="500040" y="3500280"/>
            <a:ext cx="380844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5"/>
          <p:cNvSpPr/>
          <p:nvPr/>
        </p:nvSpPr>
        <p:spPr>
          <a:xfrm>
            <a:off x="1087920" y="2786040"/>
            <a:ext cx="47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о–первых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то учеба в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1643040" y="321480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о–вторых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то обязательный отдых на свежем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2357280" y="4000680"/>
            <a:ext cx="52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–третьих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достаточный по продолжительности 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2928960" y="4929120"/>
            <a:ext cx="535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–четвертых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то регулярное и полноценное 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0"/>
          <p:cNvSpPr/>
          <p:nvPr/>
        </p:nvSpPr>
        <p:spPr>
          <a:xfrm>
            <a:off x="500040" y="500040"/>
            <a:ext cx="807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Что же такое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рационально организованный режим дня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13" descr="C:\Documents and Settings\Администратор\Рабочий стол\фотографии\Фото 2в\P1010128.JPG"/>
          <p:cNvPicPr/>
          <p:nvPr/>
        </p:nvPicPr>
        <p:blipFill>
          <a:blip r:embed="rId1"/>
          <a:stretch/>
        </p:blipFill>
        <p:spPr>
          <a:xfrm>
            <a:off x="6300720" y="1484280"/>
            <a:ext cx="22813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09:41:34Z</dcterms:created>
  <dc:creator>Admin</dc:creator>
  <dc:description/>
  <dc:language>en-US</dc:language>
  <cp:lastModifiedBy>Admin</cp:lastModifiedBy>
  <dcterms:modified xsi:type="dcterms:W3CDTF">2012-06-17T13:07:17Z</dcterms:modified>
  <cp:revision>26</cp:revision>
  <dc:subject/>
  <dc:title>Родительское собрание (адаптация первоклассников) "Испытание школой" </dc:title>
</cp:coreProperties>
</file>