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094C-6B3B-4EBA-BD1A-98967AB4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AB11-FB93-47A4-AD5A-54573DD3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67F2-5201-4B1B-95FC-958EF58A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4641-0A91-4D7A-A059-5B022BEC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A4B2-4588-4434-A00B-947CCD08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0C35-E258-47B0-8BD0-2FB9DF69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E2DC-4443-4B14-8F90-270CCF9B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F195-7AAB-4A25-9B23-062B747F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C032-2A6B-457D-93FB-99445A83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74C4-FD80-4DAD-BC14-DBFDE8DC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880A-C88E-451A-8550-0F4800CA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1060-EEA9-4118-A6E0-87D74794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2D8D-E957-42A2-A973-33D6CF44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C901-D608-44BC-B845-FC54B90D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8536-6C93-46DA-AFCA-3E524B87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2DD3-5863-49BF-B168-B34D92AE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55DF-5EBC-4E4B-BFEC-E3BEB6BB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7DAE-F7AA-4979-9D35-A0B6DF6D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4FF-F9A1-4A05-8CBC-0F611AF7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62D0-DD9F-47AC-9C55-EEFECDF6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7454-5635-4CCE-A032-E38559B2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C5AE-4CA2-4A7B-B2F7-7717F047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A0F6-3A4D-4A3F-8284-D3A96BF0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BE6E-6CCC-497F-8F11-B7BE480A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27F7-C857-45EB-AF23-63576983BE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BD92-DDDF-47A3-BE95-A73F412C4E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Умники и умниц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Картинка 2 из 3720"/>
          <p:cNvPicPr/>
          <p:nvPr/>
        </p:nvPicPr>
        <p:blipFill>
          <a:blip r:embed="rId1"/>
          <a:stretch/>
        </p:blipFill>
        <p:spPr>
          <a:xfrm>
            <a:off x="1187280" y="1628640"/>
            <a:ext cx="67694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8. Сколько концов у трёх с половиной палок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Картинка 60 из 3927"/>
          <p:cNvPicPr/>
          <p:nvPr/>
        </p:nvPicPr>
        <p:blipFill>
          <a:blip r:embed="rId1"/>
          <a:stretch/>
        </p:blipFill>
        <p:spPr>
          <a:xfrm>
            <a:off x="2268360" y="2133720"/>
            <a:ext cx="504036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. Три девочки готовили ёлочные игрушки к Новому году. Втроем они работали 3 часа. Сколько часов работала каждая из них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Картинка 1 из 121863"/>
          <p:cNvPicPr/>
          <p:nvPr/>
        </p:nvPicPr>
        <p:blipFill>
          <a:blip r:embed="rId1"/>
          <a:stretch/>
        </p:blipFill>
        <p:spPr>
          <a:xfrm>
            <a:off x="2195640" y="3068640"/>
            <a:ext cx="47988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Картинка 11 из 2663"/>
          <p:cNvPicPr/>
          <p:nvPr/>
        </p:nvPicPr>
        <p:blipFill>
          <a:blip r:embed="rId1"/>
          <a:stretch/>
        </p:blipFill>
        <p:spPr>
          <a:xfrm>
            <a:off x="684360" y="596880"/>
            <a:ext cx="806436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. По небу летали воробей, ворона, стрекоза, ласточка и шмель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Сколько птиц летало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2. Стоит в поле дуб, а на дубе 3 ветки. На каждой ветке по 2 крупные сладкие сливы. Сколько слив ты можешь собрать? 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.  Продолжи ряд чисел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, 4, 5 …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, 4, 6, …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Картинка 42 из 3814"/>
          <p:cNvPicPr/>
          <p:nvPr/>
        </p:nvPicPr>
        <p:blipFill>
          <a:blip r:embed="rId3"/>
          <a:stretch/>
        </p:blipFill>
        <p:spPr>
          <a:xfrm>
            <a:off x="4859280" y="2781360"/>
            <a:ext cx="37083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 Сколько квадратов на рисунке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1446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5. Начерти три прямые линии так, чтобы они пересекались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Картинка 7 из 193"/>
          <p:cNvPicPr/>
          <p:nvPr/>
        </p:nvPicPr>
        <p:blipFill>
          <a:blip r:embed="rId1"/>
          <a:stretch/>
        </p:blipFill>
        <p:spPr>
          <a:xfrm>
            <a:off x="755640" y="3213000"/>
            <a:ext cx="30146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6. Сколько нечетных чисел находится в промежутке чисел от 3 до 10?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7. Мама дала Ире четыре рубля. Сколько монет и какого достоинства она могла ему дать?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1447920" cy="1407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916360" y="476280"/>
            <a:ext cx="1447560" cy="14079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4788000" y="476280"/>
            <a:ext cx="1447560" cy="14079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516720" y="476280"/>
            <a:ext cx="1447920" cy="14079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3635280" y="2492280"/>
            <a:ext cx="1447920" cy="1408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971640" y="2492280"/>
            <a:ext cx="1447560" cy="1408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Картинка 2 из 69571"/>
          <p:cNvPicPr/>
          <p:nvPr/>
        </p:nvPicPr>
        <p:blipFill>
          <a:blip r:embed="rId7"/>
          <a:stretch/>
        </p:blipFill>
        <p:spPr>
          <a:xfrm>
            <a:off x="5867280" y="2349360"/>
            <a:ext cx="1778040" cy="17780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Картинка 2 из 69571"/>
          <p:cNvPicPr/>
          <p:nvPr/>
        </p:nvPicPr>
        <p:blipFill>
          <a:blip r:embed="rId8"/>
          <a:stretch/>
        </p:blipFill>
        <p:spPr>
          <a:xfrm>
            <a:off x="5076720" y="4653000"/>
            <a:ext cx="1778040" cy="1778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Картинка 2 из 69571"/>
          <p:cNvPicPr/>
          <p:nvPr/>
        </p:nvPicPr>
        <p:blipFill>
          <a:blip r:embed="rId9"/>
          <a:stretch/>
        </p:blipFill>
        <p:spPr>
          <a:xfrm>
            <a:off x="1763640" y="4724280"/>
            <a:ext cx="177804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8T08:42:53Z</dcterms:created>
  <dc:creator>Алёна</dc:creator>
  <dc:description/>
  <dc:language>en-US</dc:language>
  <cp:lastModifiedBy>Tatyana</cp:lastModifiedBy>
  <dcterms:modified xsi:type="dcterms:W3CDTF">2012-06-17T08:32:54Z</dcterms:modified>
  <cp:revision>35</cp:revision>
  <dc:subject/>
  <dc:title>Анализ и синтез в обогащение словарного запаса младших школьников и детей старшего дошкольного возраста на уроках русского языка</dc:title>
</cp:coreProperties>
</file>