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7A0-D3C6-40A2-8BDB-8A243AFB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36B-A144-4497-BE22-02C4AC10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8B0-90E6-4584-AFFA-DD9D0FD4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72C-FC9D-4851-B6E7-583D11AC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4E79-8413-4673-9036-1C87F06B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165F-FFD6-47CB-9065-A21B25B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BF01-9ED4-471E-92F0-26CE4F99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5347-1FEC-4DA0-996D-15622BDC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FC5C-8EB2-476F-9F49-F3E5258A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11AD-2AF9-4D7A-B20E-541914A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B5CB-38A6-4A10-BCC2-E3DBEFDB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730-CA77-4D4C-8853-A0F63CF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C536-8D0B-44E5-92DB-1620E08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69F1-C902-4F60-8F98-377A922E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D00C-20CC-433C-870C-4A42C81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0E9E-EF0B-41AF-8002-399B7E16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91E9-88DD-4629-AC54-3123B732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F88-D8BF-446F-A28A-F6D5BF2F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90D-8D20-4F7F-AD39-2F267A6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955-4017-4DCD-8CF7-8968E60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BC5-318E-438F-B2D6-992269D8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06F-17C8-4157-83E5-39424FC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433-05FC-48F4-AEAE-43794FF9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613-7D1F-42CA-8522-F79FDA4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E383-B684-4B14-96DE-13796F54C1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32AB-F2C8-41ED-8397-DC5E3E2E5C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Умники и умниц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Картинка 2 из 3720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. Сколько концов у трёх с половиной палок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Картинка 60 из 3927"/>
          <p:cNvPicPr/>
          <p:nvPr/>
        </p:nvPicPr>
        <p:blipFill>
          <a:blip r:embed="rId1"/>
          <a:stretch/>
        </p:blipFill>
        <p:spPr>
          <a:xfrm>
            <a:off x="2268360" y="2133720"/>
            <a:ext cx="50403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Три девочки готовили ёлочные игрушки к Новому году. Втроем они работали 3 часа. Сколько часов работала каждая из них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Картинка 1 из 121863"/>
          <p:cNvPicPr/>
          <p:nvPr/>
        </p:nvPicPr>
        <p:blipFill>
          <a:blip r:embed="rId1"/>
          <a:stretch/>
        </p:blipFill>
        <p:spPr>
          <a:xfrm>
            <a:off x="2195640" y="3068640"/>
            <a:ext cx="47988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Картинка 11 из 2663"/>
          <p:cNvPicPr/>
          <p:nvPr/>
        </p:nvPicPr>
        <p:blipFill>
          <a:blip r:embed="rId1"/>
          <a:stretch/>
        </p:blipFill>
        <p:spPr>
          <a:xfrm>
            <a:off x="684360" y="596880"/>
            <a:ext cx="806436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. По небу летали воробей, ворона, стрекоза, ласточка и шмель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колько птиц летало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. Стоит в поле дуб, а на дубе 3 ветки. На каждой ветке по 2 крупные сладкие сливы. Сколько слив ты можешь собрать? 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Продолжи ряд чисел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, 4, 5 …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, 4, 6, …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Картинка 42 из 3814"/>
          <p:cNvPicPr/>
          <p:nvPr/>
        </p:nvPicPr>
        <p:blipFill>
          <a:blip r:embed="rId3"/>
          <a:stretch/>
        </p:blipFill>
        <p:spPr>
          <a:xfrm>
            <a:off x="4859280" y="2781360"/>
            <a:ext cx="3708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Сколько квадратов на рисунке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144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. Начерти три прямые линии так, чтобы они пересекались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Картинка 7 из 193"/>
          <p:cNvPicPr/>
          <p:nvPr/>
        </p:nvPicPr>
        <p:blipFill>
          <a:blip r:embed="rId1"/>
          <a:stretch/>
        </p:blipFill>
        <p:spPr>
          <a:xfrm>
            <a:off x="755640" y="3213000"/>
            <a:ext cx="30146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6. Сколько нечетных чисел находится в промежутке чисел от 3 до 10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. Мама дала Ире четыре рубля. Сколько монет и какого достоинства она могла ему дать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1447920" cy="140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16360" y="476280"/>
            <a:ext cx="1447560" cy="140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1447560" cy="1407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516720" y="476280"/>
            <a:ext cx="1447920" cy="1407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635280" y="2492280"/>
            <a:ext cx="1447920" cy="1408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971640" y="2492280"/>
            <a:ext cx="1447560" cy="1408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2 из 69571"/>
          <p:cNvPicPr/>
          <p:nvPr/>
        </p:nvPicPr>
        <p:blipFill>
          <a:blip r:embed="rId7"/>
          <a:stretch/>
        </p:blipFill>
        <p:spPr>
          <a:xfrm>
            <a:off x="5867280" y="234936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Картинка 2 из 69571"/>
          <p:cNvPicPr/>
          <p:nvPr/>
        </p:nvPicPr>
        <p:blipFill>
          <a:blip r:embed="rId8"/>
          <a:stretch/>
        </p:blipFill>
        <p:spPr>
          <a:xfrm>
            <a:off x="5076720" y="46530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Картинка 2 из 69571"/>
          <p:cNvPicPr/>
          <p:nvPr/>
        </p:nvPicPr>
        <p:blipFill>
          <a:blip r:embed="rId9"/>
          <a:stretch/>
        </p:blipFill>
        <p:spPr>
          <a:xfrm>
            <a:off x="1763640" y="4724280"/>
            <a:ext cx="1778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08:42:53Z</dcterms:created>
  <dc:creator>Алёна</dc:creator>
  <dc:description/>
  <dc:language>en-US</dc:language>
  <cp:lastModifiedBy>Tatyana</cp:lastModifiedBy>
  <dcterms:modified xsi:type="dcterms:W3CDTF">2012-06-17T08:32:54Z</dcterms:modified>
  <cp:revision>35</cp:revision>
  <dc:subject/>
  <dc:title>Анализ и синтез в обогащение словарного запаса младших школьников и детей старшего дошкольного возраста на уроках русского языка</dc:title>
</cp:coreProperties>
</file>