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19.jpeg" ContentType="image/jpeg"/>
  <Override PartName="/ppt/media/image7.wmf" ContentType="image/x-wmf"/>
  <Override PartName="/ppt/media/image20.jpeg" ContentType="image/jpeg"/>
  <Override PartName="/ppt/media/image4.jpeg" ContentType="image/jpeg"/>
  <Override PartName="/ppt/media/image61.jpeg" ContentType="image/jpeg"/>
  <Override PartName="/ppt/media/image8.wmf" ContentType="image/x-wmf"/>
  <Override PartName="/ppt/media/image14.png" ContentType="image/png"/>
  <Override PartName="/ppt/media/image2.png" ContentType="image/png"/>
  <Override PartName="/ppt/media/image25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56.jpeg" ContentType="image/jpeg"/>
  <Override PartName="/ppt/media/image28.jpeg" ContentType="image/jpeg"/>
  <Override PartName="/ppt/media/image51.jpeg" ContentType="image/jpeg"/>
  <Override PartName="/ppt/media/image23.jpeg" ContentType="image/jpeg"/>
  <Override PartName="/ppt/media/image18.jpeg" ContentType="image/jpeg"/>
  <Override PartName="/ppt/media/image3.png" ContentType="image/png"/>
  <Override PartName="/ppt/media/image15.png" ContentType="image/png"/>
  <Override PartName="/ppt/media/image22.jpeg" ContentType="image/jpeg"/>
  <Override PartName="/ppt/media/image9.png" ContentType="image/png"/>
  <Override PartName="/ppt/media/image21.jpeg" ContentType="image/jpeg"/>
  <Override PartName="/ppt/media/image5.jpeg" ContentType="image/jpeg"/>
  <Override PartName="/ppt/media/image26.jpeg" ContentType="image/jpeg"/>
  <Override PartName="/ppt/media/image32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24.jpeg" ContentType="image/jpeg"/>
  <Override PartName="/ppt/media/image30.jpeg" ContentType="image/jpeg"/>
  <Override PartName="/ppt/media/image6.wmf" ContentType="image/x-wmf"/>
  <Override PartName="/ppt/media/image47.jpeg" ContentType="image/jpeg"/>
  <Override PartName="/ppt/media/image11.png" ContentType="image/png"/>
  <Override PartName="/ppt/media/image1.png" ContentType="image/png"/>
  <Override PartName="/ppt/media/image52.jpeg" ContentType="image/jpeg"/>
  <Override PartName="/ppt/media/image13.png" ContentType="image/png"/>
  <Override PartName="/ppt/media/image54.jpeg" ContentType="image/jpeg"/>
  <Override PartName="/ppt/media/image29.jpeg" ContentType="image/jpeg"/>
  <Override PartName="/ppt/media/image12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36.jpeg" ContentType="image/jpeg"/>
  <Override PartName="/ppt/media/image38.jpeg" ContentType="image/jpeg"/>
  <Override PartName="/ppt/media/image17.png" ContentType="image/png"/>
  <Override PartName="/ppt/media/image39.jpeg" ContentType="image/jpeg"/>
  <Override PartName="/ppt/media/image40.jpeg" ContentType="image/jpeg"/>
  <Override PartName="/ppt/media/image41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5.jpeg" ContentType="image/jpeg"/>
  <Override PartName="/ppt/media/image57.jpeg" ContentType="image/jpeg"/>
  <Override PartName="/ppt/media/image5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4253-561B-4C0D-B5CB-75C43C07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12520" y="711000"/>
            <a:ext cx="4800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12520" y="2540160"/>
            <a:ext cx="48006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12520" y="5479560"/>
            <a:ext cx="48006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CDCB-1F07-4C27-9251-E6064253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12520" y="711000"/>
            <a:ext cx="4800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12520" y="2540160"/>
            <a:ext cx="23425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72400" y="2540160"/>
            <a:ext cx="23425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12520" y="5479560"/>
            <a:ext cx="23425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72400" y="5479560"/>
            <a:ext cx="23425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A7DB-88A1-4CB3-A748-FFD67817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12520" y="711000"/>
            <a:ext cx="4800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12520" y="2540160"/>
            <a:ext cx="15454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5760" y="2540160"/>
            <a:ext cx="15454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8640" y="2540160"/>
            <a:ext cx="15454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12520" y="5479560"/>
            <a:ext cx="15454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5760" y="5479560"/>
            <a:ext cx="15454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58640" y="5479560"/>
            <a:ext cx="15454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FF32-852F-4DEC-AF63-9DFAF1FE8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1DA3-60B5-4F0B-AB03-17BC3DE36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2520" y="711000"/>
            <a:ext cx="4800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12520" y="2540160"/>
            <a:ext cx="4800600" cy="56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FB68-1F2F-46F8-85AD-AE3C8831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12520" y="711000"/>
            <a:ext cx="4800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12520" y="2540160"/>
            <a:ext cx="480060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2E17-1381-4D5B-9B94-DAC5787E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12520" y="711000"/>
            <a:ext cx="4800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12520" y="2540160"/>
            <a:ext cx="234252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72400" y="2540160"/>
            <a:ext cx="234252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35F3-574F-460C-AF84-AFE8571C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12520" y="711000"/>
            <a:ext cx="4800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2575-ABE3-427B-BCF9-3528D9FE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12520" y="711000"/>
            <a:ext cx="480060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A4F5-6764-415B-B11D-0E348863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12520" y="711000"/>
            <a:ext cx="4800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12520" y="2540160"/>
            <a:ext cx="23425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72400" y="2540160"/>
            <a:ext cx="234252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12520" y="5479560"/>
            <a:ext cx="23425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9FE5-C71A-4B98-A7E6-810F399E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12520" y="711000"/>
            <a:ext cx="4800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12520" y="2540160"/>
            <a:ext cx="4800600" cy="56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8E57-2028-49BD-AF30-59956254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12520" y="711000"/>
            <a:ext cx="4800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12520" y="2540160"/>
            <a:ext cx="234252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72400" y="2540160"/>
            <a:ext cx="23425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72400" y="5479560"/>
            <a:ext cx="23425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7D11-115B-43A2-A8E1-59528EDF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12520" y="711000"/>
            <a:ext cx="4800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12520" y="2540160"/>
            <a:ext cx="23425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72400" y="2540160"/>
            <a:ext cx="23425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12520" y="5479560"/>
            <a:ext cx="48006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8FEF-28E8-4A9D-A6C5-3D4B7DD2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12520" y="711000"/>
            <a:ext cx="4800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12520" y="2540160"/>
            <a:ext cx="48006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12520" y="5479560"/>
            <a:ext cx="48006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C242-B536-4EE3-B28D-31EE8D2D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12520" y="711000"/>
            <a:ext cx="4800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12520" y="2540160"/>
            <a:ext cx="23425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72400" y="2540160"/>
            <a:ext cx="23425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12520" y="5479560"/>
            <a:ext cx="23425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72400" y="5479560"/>
            <a:ext cx="23425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2580-5075-488B-AEDE-B8CD20E75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12520" y="711000"/>
            <a:ext cx="4800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12520" y="2540160"/>
            <a:ext cx="15454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5760" y="2540160"/>
            <a:ext cx="15454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8640" y="2540160"/>
            <a:ext cx="15454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12520" y="5479560"/>
            <a:ext cx="15454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5760" y="5479560"/>
            <a:ext cx="15454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958640" y="5479560"/>
            <a:ext cx="154548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6504-3051-4C8F-BF42-4EB9951E5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12520" y="711000"/>
            <a:ext cx="4800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12520" y="2540160"/>
            <a:ext cx="480060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FD27-A3FB-47FF-960D-2BD683EF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12520" y="711000"/>
            <a:ext cx="4800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12520" y="2540160"/>
            <a:ext cx="234252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72400" y="2540160"/>
            <a:ext cx="234252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D7CB-EF8E-4DBF-987A-44934470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12520" y="711000"/>
            <a:ext cx="4800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EC31-FCC8-4C51-B803-1A0D226C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12520" y="711000"/>
            <a:ext cx="480060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C0A1-B855-4577-884A-CF5403B6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12520" y="711000"/>
            <a:ext cx="4800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12520" y="2540160"/>
            <a:ext cx="23425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72400" y="2540160"/>
            <a:ext cx="234252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12520" y="5479560"/>
            <a:ext cx="23425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66EF-505D-4193-ABAB-A605E591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12520" y="711000"/>
            <a:ext cx="4800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12520" y="2540160"/>
            <a:ext cx="234252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72400" y="2540160"/>
            <a:ext cx="23425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72400" y="5479560"/>
            <a:ext cx="23425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5DA6-1EE3-443A-90BE-03E18A73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12520" y="711000"/>
            <a:ext cx="4800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12520" y="2540160"/>
            <a:ext cx="23425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72400" y="2540160"/>
            <a:ext cx="234252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12520" y="5479560"/>
            <a:ext cx="4800600" cy="26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0970-7192-4DE8-855F-73217A57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12520" y="711000"/>
            <a:ext cx="4800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12520" y="2540160"/>
            <a:ext cx="480060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B938-D799-4F4C-A2B4-0A9DD4DB07D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14680" y="4572000"/>
            <a:ext cx="47988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42720" y="8326440"/>
            <a:ext cx="160020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43240" y="8326440"/>
            <a:ext cx="21715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4914720" y="8326440"/>
            <a:ext cx="160020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0EA5-CE1E-4A55-B3B7-D6F38B3291C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9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image" Target="../media/image59.jpe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76280" y="468360"/>
            <a:ext cx="5819760" cy="74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и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коррекционная педагогик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зического воспитания учащихс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3" name="Group 10"/>
          <p:cNvGrpSpPr/>
          <p:nvPr/>
        </p:nvGrpSpPr>
        <p:grpSpPr>
          <a:xfrm>
            <a:off x="333360" y="539640"/>
            <a:ext cx="2303640" cy="2273400"/>
            <a:chOff x="333360" y="539640"/>
            <a:chExt cx="2303640" cy="2273400"/>
          </a:xfrm>
        </p:grpSpPr>
        <p:sp>
          <p:nvSpPr>
            <p:cNvPr id="84" name="AutoShape 11"/>
            <p:cNvSpPr/>
            <p:nvPr/>
          </p:nvSpPr>
          <p:spPr>
            <a:xfrm>
              <a:off x="336600" y="539640"/>
              <a:ext cx="2297160" cy="22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2"/>
            <p:cNvSpPr/>
            <p:nvPr/>
          </p:nvSpPr>
          <p:spPr>
            <a:xfrm>
              <a:off x="346680" y="1207080"/>
              <a:ext cx="965880" cy="74448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3"/>
            <p:cNvSpPr/>
            <p:nvPr/>
          </p:nvSpPr>
          <p:spPr>
            <a:xfrm>
              <a:off x="829440" y="1199160"/>
              <a:ext cx="496440" cy="38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4"/>
            <p:cNvSpPr/>
            <p:nvPr/>
          </p:nvSpPr>
          <p:spPr>
            <a:xfrm>
              <a:off x="829440" y="1579320"/>
              <a:ext cx="496440" cy="38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5"/>
            <p:cNvSpPr/>
            <p:nvPr/>
          </p:nvSpPr>
          <p:spPr>
            <a:xfrm>
              <a:off x="333360" y="1579320"/>
              <a:ext cx="496080" cy="3801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6"/>
            <p:cNvSpPr/>
            <p:nvPr/>
          </p:nvSpPr>
          <p:spPr>
            <a:xfrm>
              <a:off x="333360" y="1199160"/>
              <a:ext cx="496080" cy="3801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7"/>
            <p:cNvSpPr/>
            <p:nvPr/>
          </p:nvSpPr>
          <p:spPr>
            <a:xfrm>
              <a:off x="887760" y="1212840"/>
              <a:ext cx="201600" cy="733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8"/>
            <p:cNvSpPr/>
            <p:nvPr/>
          </p:nvSpPr>
          <p:spPr>
            <a:xfrm>
              <a:off x="569880" y="1212840"/>
              <a:ext cx="201240" cy="733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9"/>
            <p:cNvSpPr/>
            <p:nvPr/>
          </p:nvSpPr>
          <p:spPr>
            <a:xfrm>
              <a:off x="429120" y="1364760"/>
              <a:ext cx="804240" cy="558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0"/>
            <p:cNvSpPr/>
            <p:nvPr/>
          </p:nvSpPr>
          <p:spPr>
            <a:xfrm>
              <a:off x="437040" y="1760040"/>
              <a:ext cx="785520" cy="550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1"/>
            <p:cNvSpPr/>
            <p:nvPr/>
          </p:nvSpPr>
          <p:spPr>
            <a:xfrm>
              <a:off x="351000" y="1571040"/>
              <a:ext cx="954720" cy="1584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2"/>
            <p:cNvSpPr/>
            <p:nvPr/>
          </p:nvSpPr>
          <p:spPr>
            <a:xfrm>
              <a:off x="817920" y="1208520"/>
              <a:ext cx="14760" cy="7405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3"/>
            <p:cNvSpPr/>
            <p:nvPr/>
          </p:nvSpPr>
          <p:spPr>
            <a:xfrm>
              <a:off x="549720" y="1738800"/>
              <a:ext cx="1535040" cy="99504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4"/>
            <p:cNvSpPr/>
            <p:nvPr/>
          </p:nvSpPr>
          <p:spPr>
            <a:xfrm>
              <a:off x="536040" y="1729080"/>
              <a:ext cx="913680" cy="45504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5"/>
            <p:cNvSpPr/>
            <p:nvPr/>
          </p:nvSpPr>
          <p:spPr>
            <a:xfrm>
              <a:off x="544680" y="2168280"/>
              <a:ext cx="718560" cy="5734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6"/>
            <p:cNvSpPr/>
            <p:nvPr/>
          </p:nvSpPr>
          <p:spPr>
            <a:xfrm>
              <a:off x="1281600" y="1835280"/>
              <a:ext cx="407520" cy="51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7"/>
            <p:cNvSpPr/>
            <p:nvPr/>
          </p:nvSpPr>
          <p:spPr>
            <a:xfrm>
              <a:off x="1276920" y="2089080"/>
              <a:ext cx="88920" cy="12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8"/>
            <p:cNvSpPr/>
            <p:nvPr/>
          </p:nvSpPr>
          <p:spPr>
            <a:xfrm>
              <a:off x="1276920" y="2208960"/>
              <a:ext cx="46080" cy="3636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9"/>
            <p:cNvSpPr/>
            <p:nvPr/>
          </p:nvSpPr>
          <p:spPr>
            <a:xfrm>
              <a:off x="1322640" y="2203920"/>
              <a:ext cx="105840" cy="4140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30"/>
            <p:cNvSpPr/>
            <p:nvPr/>
          </p:nvSpPr>
          <p:spPr>
            <a:xfrm>
              <a:off x="1418760" y="2210760"/>
              <a:ext cx="34920" cy="1065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31"/>
            <p:cNvSpPr/>
            <p:nvPr/>
          </p:nvSpPr>
          <p:spPr>
            <a:xfrm>
              <a:off x="1445400" y="2312640"/>
              <a:ext cx="39240" cy="4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32"/>
            <p:cNvSpPr/>
            <p:nvPr/>
          </p:nvSpPr>
          <p:spPr>
            <a:xfrm>
              <a:off x="1485000" y="2309760"/>
              <a:ext cx="42120" cy="4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33"/>
            <p:cNvSpPr/>
            <p:nvPr/>
          </p:nvSpPr>
          <p:spPr>
            <a:xfrm>
              <a:off x="1518480" y="2202480"/>
              <a:ext cx="31680" cy="111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34"/>
            <p:cNvSpPr/>
            <p:nvPr/>
          </p:nvSpPr>
          <p:spPr>
            <a:xfrm>
              <a:off x="1543680" y="2205360"/>
              <a:ext cx="103680" cy="39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35"/>
            <p:cNvSpPr/>
            <p:nvPr/>
          </p:nvSpPr>
          <p:spPr>
            <a:xfrm>
              <a:off x="1646640" y="2208600"/>
              <a:ext cx="45360" cy="367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36"/>
            <p:cNvSpPr/>
            <p:nvPr/>
          </p:nvSpPr>
          <p:spPr>
            <a:xfrm>
              <a:off x="1599840" y="2089080"/>
              <a:ext cx="92520" cy="11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37"/>
            <p:cNvSpPr/>
            <p:nvPr/>
          </p:nvSpPr>
          <p:spPr>
            <a:xfrm>
              <a:off x="1604880" y="2022840"/>
              <a:ext cx="68760" cy="7488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8"/>
            <p:cNvSpPr/>
            <p:nvPr/>
          </p:nvSpPr>
          <p:spPr>
            <a:xfrm>
              <a:off x="1666080" y="1964880"/>
              <a:ext cx="2808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9"/>
            <p:cNvSpPr/>
            <p:nvPr/>
          </p:nvSpPr>
          <p:spPr>
            <a:xfrm>
              <a:off x="1645920" y="1943280"/>
              <a:ext cx="46080" cy="2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40"/>
            <p:cNvSpPr/>
            <p:nvPr/>
          </p:nvSpPr>
          <p:spPr>
            <a:xfrm>
              <a:off x="1540800" y="1943280"/>
              <a:ext cx="105120" cy="4068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41"/>
            <p:cNvSpPr/>
            <p:nvPr/>
          </p:nvSpPr>
          <p:spPr>
            <a:xfrm>
              <a:off x="1517040" y="1869840"/>
              <a:ext cx="32760" cy="1065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42"/>
            <p:cNvSpPr/>
            <p:nvPr/>
          </p:nvSpPr>
          <p:spPr>
            <a:xfrm>
              <a:off x="1484640" y="1829520"/>
              <a:ext cx="41040" cy="4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43"/>
            <p:cNvSpPr/>
            <p:nvPr/>
          </p:nvSpPr>
          <p:spPr>
            <a:xfrm>
              <a:off x="1443960" y="1829520"/>
              <a:ext cx="41040" cy="4608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44"/>
            <p:cNvSpPr/>
            <p:nvPr/>
          </p:nvSpPr>
          <p:spPr>
            <a:xfrm>
              <a:off x="1418760" y="1871280"/>
              <a:ext cx="33840" cy="11088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45"/>
            <p:cNvSpPr/>
            <p:nvPr/>
          </p:nvSpPr>
          <p:spPr>
            <a:xfrm>
              <a:off x="1325160" y="1943280"/>
              <a:ext cx="100440" cy="367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46"/>
            <p:cNvSpPr/>
            <p:nvPr/>
          </p:nvSpPr>
          <p:spPr>
            <a:xfrm>
              <a:off x="1276920" y="1943280"/>
              <a:ext cx="48240" cy="352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7"/>
            <p:cNvSpPr/>
            <p:nvPr/>
          </p:nvSpPr>
          <p:spPr>
            <a:xfrm>
              <a:off x="1276920" y="1977120"/>
              <a:ext cx="32040" cy="565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8"/>
            <p:cNvSpPr/>
            <p:nvPr/>
          </p:nvSpPr>
          <p:spPr>
            <a:xfrm>
              <a:off x="1301400" y="2027160"/>
              <a:ext cx="6948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9"/>
            <p:cNvSpPr/>
            <p:nvPr/>
          </p:nvSpPr>
          <p:spPr>
            <a:xfrm>
              <a:off x="1411200" y="2063160"/>
              <a:ext cx="9360" cy="6912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50"/>
            <p:cNvSpPr/>
            <p:nvPr/>
          </p:nvSpPr>
          <p:spPr>
            <a:xfrm>
              <a:off x="1369800" y="2089080"/>
              <a:ext cx="48960" cy="381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51"/>
            <p:cNvSpPr/>
            <p:nvPr/>
          </p:nvSpPr>
          <p:spPr>
            <a:xfrm>
              <a:off x="1374840" y="2054880"/>
              <a:ext cx="46080" cy="4284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52"/>
            <p:cNvSpPr/>
            <p:nvPr/>
          </p:nvSpPr>
          <p:spPr>
            <a:xfrm>
              <a:off x="1368000" y="2045520"/>
              <a:ext cx="51840" cy="4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53"/>
            <p:cNvSpPr/>
            <p:nvPr/>
          </p:nvSpPr>
          <p:spPr>
            <a:xfrm>
              <a:off x="1287360" y="1980000"/>
              <a:ext cx="86760" cy="1116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54"/>
            <p:cNvSpPr/>
            <p:nvPr/>
          </p:nvSpPr>
          <p:spPr>
            <a:xfrm>
              <a:off x="1287360" y="1953360"/>
              <a:ext cx="38160" cy="2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55"/>
            <p:cNvSpPr/>
            <p:nvPr/>
          </p:nvSpPr>
          <p:spPr>
            <a:xfrm>
              <a:off x="1325520" y="1953360"/>
              <a:ext cx="47160" cy="18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56"/>
            <p:cNvSpPr/>
            <p:nvPr/>
          </p:nvSpPr>
          <p:spPr>
            <a:xfrm>
              <a:off x="1370520" y="1960920"/>
              <a:ext cx="56880" cy="2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57"/>
            <p:cNvSpPr/>
            <p:nvPr/>
          </p:nvSpPr>
          <p:spPr>
            <a:xfrm>
              <a:off x="1415880" y="1984680"/>
              <a:ext cx="11520" cy="2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58"/>
            <p:cNvSpPr/>
            <p:nvPr/>
          </p:nvSpPr>
          <p:spPr>
            <a:xfrm>
              <a:off x="1412640" y="2012040"/>
              <a:ext cx="12600" cy="4248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59"/>
            <p:cNvSpPr/>
            <p:nvPr/>
          </p:nvSpPr>
          <p:spPr>
            <a:xfrm>
              <a:off x="1430640" y="1984320"/>
              <a:ext cx="5472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60"/>
            <p:cNvSpPr/>
            <p:nvPr/>
          </p:nvSpPr>
          <p:spPr>
            <a:xfrm>
              <a:off x="1448640" y="2006640"/>
              <a:ext cx="27720" cy="2412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1"/>
            <p:cNvSpPr/>
            <p:nvPr/>
          </p:nvSpPr>
          <p:spPr>
            <a:xfrm>
              <a:off x="1422360" y="2021400"/>
              <a:ext cx="31320" cy="2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62"/>
            <p:cNvSpPr/>
            <p:nvPr/>
          </p:nvSpPr>
          <p:spPr>
            <a:xfrm>
              <a:off x="1422360" y="1982880"/>
              <a:ext cx="14400" cy="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63"/>
            <p:cNvSpPr/>
            <p:nvPr/>
          </p:nvSpPr>
          <p:spPr>
            <a:xfrm>
              <a:off x="1483920" y="1974600"/>
              <a:ext cx="55440" cy="3636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64"/>
            <p:cNvSpPr/>
            <p:nvPr/>
          </p:nvSpPr>
          <p:spPr>
            <a:xfrm>
              <a:off x="1427400" y="1973880"/>
              <a:ext cx="60840" cy="36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65"/>
            <p:cNvSpPr/>
            <p:nvPr/>
          </p:nvSpPr>
          <p:spPr>
            <a:xfrm>
              <a:off x="1428480" y="1882440"/>
              <a:ext cx="30240" cy="9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66"/>
            <p:cNvSpPr/>
            <p:nvPr/>
          </p:nvSpPr>
          <p:spPr>
            <a:xfrm>
              <a:off x="1449720" y="1841040"/>
              <a:ext cx="34920" cy="4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7"/>
            <p:cNvSpPr/>
            <p:nvPr/>
          </p:nvSpPr>
          <p:spPr>
            <a:xfrm>
              <a:off x="1485000" y="1841040"/>
              <a:ext cx="57960" cy="14400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68"/>
            <p:cNvSpPr/>
            <p:nvPr/>
          </p:nvSpPr>
          <p:spPr>
            <a:xfrm>
              <a:off x="1533240" y="1987200"/>
              <a:ext cx="13680" cy="6588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69"/>
            <p:cNvSpPr/>
            <p:nvPr/>
          </p:nvSpPr>
          <p:spPr>
            <a:xfrm>
              <a:off x="1485360" y="2007720"/>
              <a:ext cx="59400" cy="381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70"/>
            <p:cNvSpPr/>
            <p:nvPr/>
          </p:nvSpPr>
          <p:spPr>
            <a:xfrm>
              <a:off x="1493640" y="1995480"/>
              <a:ext cx="24840" cy="2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71"/>
            <p:cNvSpPr/>
            <p:nvPr/>
          </p:nvSpPr>
          <p:spPr>
            <a:xfrm>
              <a:off x="1514520" y="1980360"/>
              <a:ext cx="28080" cy="2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72"/>
            <p:cNvSpPr/>
            <p:nvPr/>
          </p:nvSpPr>
          <p:spPr>
            <a:xfrm>
              <a:off x="1538640" y="2056680"/>
              <a:ext cx="9360" cy="25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73"/>
            <p:cNvSpPr/>
            <p:nvPr/>
          </p:nvSpPr>
          <p:spPr>
            <a:xfrm>
              <a:off x="1538640" y="2082960"/>
              <a:ext cx="9360" cy="52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74"/>
            <p:cNvSpPr/>
            <p:nvPr/>
          </p:nvSpPr>
          <p:spPr>
            <a:xfrm>
              <a:off x="1482480" y="2126160"/>
              <a:ext cx="63720" cy="4896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75"/>
            <p:cNvSpPr/>
            <p:nvPr/>
          </p:nvSpPr>
          <p:spPr>
            <a:xfrm>
              <a:off x="1464480" y="2152800"/>
              <a:ext cx="2304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76"/>
            <p:cNvSpPr/>
            <p:nvPr/>
          </p:nvSpPr>
          <p:spPr>
            <a:xfrm>
              <a:off x="1446120" y="2142000"/>
              <a:ext cx="22320" cy="2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77"/>
            <p:cNvSpPr/>
            <p:nvPr/>
          </p:nvSpPr>
          <p:spPr>
            <a:xfrm>
              <a:off x="1422360" y="2126160"/>
              <a:ext cx="28440" cy="2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78"/>
            <p:cNvSpPr/>
            <p:nvPr/>
          </p:nvSpPr>
          <p:spPr>
            <a:xfrm>
              <a:off x="1421280" y="2113920"/>
              <a:ext cx="10800" cy="16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79"/>
            <p:cNvSpPr/>
            <p:nvPr/>
          </p:nvSpPr>
          <p:spPr>
            <a:xfrm>
              <a:off x="1420200" y="2090160"/>
              <a:ext cx="11160" cy="2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80"/>
            <p:cNvSpPr/>
            <p:nvPr/>
          </p:nvSpPr>
          <p:spPr>
            <a:xfrm>
              <a:off x="1420200" y="2050920"/>
              <a:ext cx="10800" cy="4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81"/>
            <p:cNvSpPr/>
            <p:nvPr/>
          </p:nvSpPr>
          <p:spPr>
            <a:xfrm>
              <a:off x="1423440" y="2010960"/>
              <a:ext cx="65160" cy="4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82"/>
            <p:cNvSpPr/>
            <p:nvPr/>
          </p:nvSpPr>
          <p:spPr>
            <a:xfrm>
              <a:off x="1483560" y="2012400"/>
              <a:ext cx="34920" cy="2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83"/>
            <p:cNvSpPr/>
            <p:nvPr/>
          </p:nvSpPr>
          <p:spPr>
            <a:xfrm>
              <a:off x="1514160" y="2032920"/>
              <a:ext cx="33840" cy="2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84"/>
            <p:cNvSpPr/>
            <p:nvPr/>
          </p:nvSpPr>
          <p:spPr>
            <a:xfrm>
              <a:off x="1575720" y="2088720"/>
              <a:ext cx="18720" cy="1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85"/>
            <p:cNvSpPr/>
            <p:nvPr/>
          </p:nvSpPr>
          <p:spPr>
            <a:xfrm>
              <a:off x="1563840" y="2099520"/>
              <a:ext cx="17640" cy="1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86"/>
            <p:cNvSpPr/>
            <p:nvPr/>
          </p:nvSpPr>
          <p:spPr>
            <a:xfrm>
              <a:off x="1549080" y="2109600"/>
              <a:ext cx="20520" cy="2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87"/>
            <p:cNvSpPr/>
            <p:nvPr/>
          </p:nvSpPr>
          <p:spPr>
            <a:xfrm>
              <a:off x="1549080" y="2094480"/>
              <a:ext cx="9360" cy="2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8"/>
            <p:cNvSpPr/>
            <p:nvPr/>
          </p:nvSpPr>
          <p:spPr>
            <a:xfrm>
              <a:off x="1549080" y="2053440"/>
              <a:ext cx="9360" cy="4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89"/>
            <p:cNvSpPr/>
            <p:nvPr/>
          </p:nvSpPr>
          <p:spPr>
            <a:xfrm>
              <a:off x="1551240" y="2058480"/>
              <a:ext cx="48240" cy="392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90"/>
            <p:cNvSpPr/>
            <p:nvPr/>
          </p:nvSpPr>
          <p:spPr>
            <a:xfrm>
              <a:off x="1570680" y="2061000"/>
              <a:ext cx="32040" cy="2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91"/>
            <p:cNvSpPr/>
            <p:nvPr/>
          </p:nvSpPr>
          <p:spPr>
            <a:xfrm>
              <a:off x="1547640" y="2044080"/>
              <a:ext cx="2844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92"/>
            <p:cNvSpPr/>
            <p:nvPr/>
          </p:nvSpPr>
          <p:spPr>
            <a:xfrm>
              <a:off x="1541160" y="1980000"/>
              <a:ext cx="15840" cy="6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93"/>
            <p:cNvSpPr/>
            <p:nvPr/>
          </p:nvSpPr>
          <p:spPr>
            <a:xfrm>
              <a:off x="1545120" y="1951920"/>
              <a:ext cx="10188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94"/>
            <p:cNvSpPr/>
            <p:nvPr/>
          </p:nvSpPr>
          <p:spPr>
            <a:xfrm>
              <a:off x="1647360" y="1951920"/>
              <a:ext cx="36000" cy="2160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95"/>
            <p:cNvSpPr/>
            <p:nvPr/>
          </p:nvSpPr>
          <p:spPr>
            <a:xfrm>
              <a:off x="1674360" y="1969200"/>
              <a:ext cx="10080" cy="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96"/>
            <p:cNvSpPr/>
            <p:nvPr/>
          </p:nvSpPr>
          <p:spPr>
            <a:xfrm>
              <a:off x="1675080" y="1973160"/>
              <a:ext cx="9720" cy="792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97"/>
            <p:cNvSpPr/>
            <p:nvPr/>
          </p:nvSpPr>
          <p:spPr>
            <a:xfrm>
              <a:off x="1656360" y="1981440"/>
              <a:ext cx="28440" cy="4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98"/>
            <p:cNvSpPr/>
            <p:nvPr/>
          </p:nvSpPr>
          <p:spPr>
            <a:xfrm>
              <a:off x="1596600" y="2023200"/>
              <a:ext cx="67320" cy="7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99"/>
            <p:cNvSpPr/>
            <p:nvPr/>
          </p:nvSpPr>
          <p:spPr>
            <a:xfrm>
              <a:off x="1550160" y="2092320"/>
              <a:ext cx="52560" cy="4968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00"/>
            <p:cNvSpPr/>
            <p:nvPr/>
          </p:nvSpPr>
          <p:spPr>
            <a:xfrm>
              <a:off x="1596600" y="2095200"/>
              <a:ext cx="65520" cy="691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1"/>
            <p:cNvSpPr/>
            <p:nvPr/>
          </p:nvSpPr>
          <p:spPr>
            <a:xfrm>
              <a:off x="1654560" y="2157840"/>
              <a:ext cx="29160" cy="50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02"/>
            <p:cNvSpPr/>
            <p:nvPr/>
          </p:nvSpPr>
          <p:spPr>
            <a:xfrm>
              <a:off x="1648080" y="2208600"/>
              <a:ext cx="35640" cy="26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03"/>
            <p:cNvSpPr/>
            <p:nvPr/>
          </p:nvSpPr>
          <p:spPr>
            <a:xfrm>
              <a:off x="1542240" y="2194920"/>
              <a:ext cx="10584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04"/>
            <p:cNvSpPr/>
            <p:nvPr/>
          </p:nvSpPr>
          <p:spPr>
            <a:xfrm>
              <a:off x="1543320" y="2132640"/>
              <a:ext cx="13680" cy="6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05"/>
            <p:cNvSpPr/>
            <p:nvPr/>
          </p:nvSpPr>
          <p:spPr>
            <a:xfrm>
              <a:off x="1492200" y="2163600"/>
              <a:ext cx="15840" cy="1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06"/>
            <p:cNvSpPr/>
            <p:nvPr/>
          </p:nvSpPr>
          <p:spPr>
            <a:xfrm>
              <a:off x="1504080" y="2155320"/>
              <a:ext cx="18000" cy="1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07"/>
            <p:cNvSpPr/>
            <p:nvPr/>
          </p:nvSpPr>
          <p:spPr>
            <a:xfrm>
              <a:off x="1517400" y="2135880"/>
              <a:ext cx="30240" cy="2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08"/>
            <p:cNvSpPr/>
            <p:nvPr/>
          </p:nvSpPr>
          <p:spPr>
            <a:xfrm>
              <a:off x="1537200" y="2144880"/>
              <a:ext cx="10800" cy="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09"/>
            <p:cNvSpPr/>
            <p:nvPr/>
          </p:nvSpPr>
          <p:spPr>
            <a:xfrm>
              <a:off x="1535400" y="2163960"/>
              <a:ext cx="11520" cy="237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10"/>
            <p:cNvSpPr/>
            <p:nvPr/>
          </p:nvSpPr>
          <p:spPr>
            <a:xfrm>
              <a:off x="1534680" y="2186280"/>
              <a:ext cx="10440" cy="1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11"/>
            <p:cNvSpPr/>
            <p:nvPr/>
          </p:nvSpPr>
          <p:spPr>
            <a:xfrm>
              <a:off x="1514520" y="2181960"/>
              <a:ext cx="25920" cy="2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12"/>
            <p:cNvSpPr/>
            <p:nvPr/>
          </p:nvSpPr>
          <p:spPr>
            <a:xfrm>
              <a:off x="1483560" y="2170440"/>
              <a:ext cx="34920" cy="2124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13"/>
            <p:cNvSpPr/>
            <p:nvPr/>
          </p:nvSpPr>
          <p:spPr>
            <a:xfrm>
              <a:off x="1427040" y="2170440"/>
              <a:ext cx="49320" cy="3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14"/>
            <p:cNvSpPr/>
            <p:nvPr/>
          </p:nvSpPr>
          <p:spPr>
            <a:xfrm>
              <a:off x="1422360" y="2135880"/>
              <a:ext cx="14400" cy="615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15"/>
            <p:cNvSpPr/>
            <p:nvPr/>
          </p:nvSpPr>
          <p:spPr>
            <a:xfrm>
              <a:off x="1424880" y="2140200"/>
              <a:ext cx="27720" cy="241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16"/>
            <p:cNvSpPr/>
            <p:nvPr/>
          </p:nvSpPr>
          <p:spPr>
            <a:xfrm>
              <a:off x="1447920" y="2155320"/>
              <a:ext cx="37080" cy="2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17"/>
            <p:cNvSpPr/>
            <p:nvPr/>
          </p:nvSpPr>
          <p:spPr>
            <a:xfrm>
              <a:off x="1324800" y="2196720"/>
              <a:ext cx="9936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18"/>
            <p:cNvSpPr/>
            <p:nvPr/>
          </p:nvSpPr>
          <p:spPr>
            <a:xfrm>
              <a:off x="1299240" y="2219760"/>
              <a:ext cx="25920" cy="1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19"/>
            <p:cNvSpPr/>
            <p:nvPr/>
          </p:nvSpPr>
          <p:spPr>
            <a:xfrm>
              <a:off x="1285920" y="2205360"/>
              <a:ext cx="16920" cy="2412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20"/>
            <p:cNvSpPr/>
            <p:nvPr/>
          </p:nvSpPr>
          <p:spPr>
            <a:xfrm>
              <a:off x="1285920" y="2157120"/>
              <a:ext cx="30600" cy="4932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21"/>
            <p:cNvSpPr/>
            <p:nvPr/>
          </p:nvSpPr>
          <p:spPr>
            <a:xfrm>
              <a:off x="1309320" y="2092320"/>
              <a:ext cx="65160" cy="7164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22"/>
            <p:cNvSpPr/>
            <p:nvPr/>
          </p:nvSpPr>
          <p:spPr>
            <a:xfrm>
              <a:off x="1368000" y="2095200"/>
              <a:ext cx="54360" cy="4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23"/>
            <p:cNvSpPr/>
            <p:nvPr/>
          </p:nvSpPr>
          <p:spPr>
            <a:xfrm>
              <a:off x="1412640" y="2135880"/>
              <a:ext cx="1512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24"/>
            <p:cNvSpPr/>
            <p:nvPr/>
          </p:nvSpPr>
          <p:spPr>
            <a:xfrm>
              <a:off x="1484640" y="2206800"/>
              <a:ext cx="57240" cy="13968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5"/>
            <p:cNvSpPr/>
            <p:nvPr/>
          </p:nvSpPr>
          <p:spPr>
            <a:xfrm>
              <a:off x="1449360" y="2300400"/>
              <a:ext cx="3600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26"/>
            <p:cNvSpPr/>
            <p:nvPr/>
          </p:nvSpPr>
          <p:spPr>
            <a:xfrm>
              <a:off x="1427400" y="2202480"/>
              <a:ext cx="30600" cy="10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27"/>
            <p:cNvSpPr/>
            <p:nvPr/>
          </p:nvSpPr>
          <p:spPr>
            <a:xfrm>
              <a:off x="1431360" y="2173680"/>
              <a:ext cx="55800" cy="3852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28"/>
            <p:cNvSpPr/>
            <p:nvPr/>
          </p:nvSpPr>
          <p:spPr>
            <a:xfrm>
              <a:off x="1482480" y="2175120"/>
              <a:ext cx="59760" cy="37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29"/>
            <p:cNvSpPr/>
            <p:nvPr/>
          </p:nvSpPr>
          <p:spPr>
            <a:xfrm>
              <a:off x="1456200" y="2092320"/>
              <a:ext cx="15480" cy="2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30"/>
            <p:cNvSpPr/>
            <p:nvPr/>
          </p:nvSpPr>
          <p:spPr>
            <a:xfrm>
              <a:off x="1465920" y="2107080"/>
              <a:ext cx="20880" cy="1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31"/>
            <p:cNvSpPr/>
            <p:nvPr/>
          </p:nvSpPr>
          <p:spPr>
            <a:xfrm>
              <a:off x="1485720" y="2094480"/>
              <a:ext cx="27720" cy="30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32"/>
            <p:cNvSpPr/>
            <p:nvPr/>
          </p:nvSpPr>
          <p:spPr>
            <a:xfrm>
              <a:off x="1483560" y="2063160"/>
              <a:ext cx="2988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33"/>
            <p:cNvSpPr/>
            <p:nvPr/>
          </p:nvSpPr>
          <p:spPr>
            <a:xfrm>
              <a:off x="1456200" y="2063160"/>
              <a:ext cx="27360" cy="29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34"/>
            <p:cNvSpPr/>
            <p:nvPr/>
          </p:nvSpPr>
          <p:spPr>
            <a:xfrm>
              <a:off x="805320" y="2070360"/>
              <a:ext cx="192960" cy="2145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35"/>
            <p:cNvSpPr/>
            <p:nvPr/>
          </p:nvSpPr>
          <p:spPr>
            <a:xfrm>
              <a:off x="1058400" y="1907640"/>
              <a:ext cx="200520" cy="288000"/>
            </a:xfrm>
            <a:prstGeom prst="pi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6"/>
            <p:cNvSpPr/>
            <p:nvPr/>
          </p:nvSpPr>
          <p:spPr>
            <a:xfrm>
              <a:off x="1050120" y="2252880"/>
              <a:ext cx="194040" cy="214920"/>
            </a:xfrm>
            <a:prstGeom prst="pi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37"/>
            <p:cNvSpPr/>
            <p:nvPr/>
          </p:nvSpPr>
          <p:spPr>
            <a:xfrm>
              <a:off x="1222920" y="2231280"/>
              <a:ext cx="685080" cy="5137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38"/>
            <p:cNvSpPr/>
            <p:nvPr/>
          </p:nvSpPr>
          <p:spPr>
            <a:xfrm>
              <a:off x="1288800" y="2239200"/>
              <a:ext cx="591120" cy="5734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39"/>
            <p:cNvSpPr/>
            <p:nvPr/>
          </p:nvSpPr>
          <p:spPr>
            <a:xfrm>
              <a:off x="1904040" y="1330920"/>
              <a:ext cx="80280" cy="5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40"/>
            <p:cNvSpPr/>
            <p:nvPr/>
          </p:nvSpPr>
          <p:spPr>
            <a:xfrm>
              <a:off x="1891440" y="1330920"/>
              <a:ext cx="105480" cy="475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41"/>
            <p:cNvSpPr/>
            <p:nvPr/>
          </p:nvSpPr>
          <p:spPr>
            <a:xfrm>
              <a:off x="1971720" y="1330920"/>
              <a:ext cx="25200" cy="6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42"/>
            <p:cNvSpPr/>
            <p:nvPr/>
          </p:nvSpPr>
          <p:spPr>
            <a:xfrm>
              <a:off x="1891440" y="1371600"/>
              <a:ext cx="92880" cy="2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43"/>
            <p:cNvSpPr/>
            <p:nvPr/>
          </p:nvSpPr>
          <p:spPr>
            <a:xfrm>
              <a:off x="1891440" y="1330920"/>
              <a:ext cx="25200" cy="5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44"/>
            <p:cNvSpPr/>
            <p:nvPr/>
          </p:nvSpPr>
          <p:spPr>
            <a:xfrm>
              <a:off x="2263320" y="1330920"/>
              <a:ext cx="82080" cy="5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45"/>
            <p:cNvSpPr/>
            <p:nvPr/>
          </p:nvSpPr>
          <p:spPr>
            <a:xfrm>
              <a:off x="2251080" y="1330920"/>
              <a:ext cx="106920" cy="475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46"/>
            <p:cNvSpPr/>
            <p:nvPr/>
          </p:nvSpPr>
          <p:spPr>
            <a:xfrm>
              <a:off x="2332800" y="1330920"/>
              <a:ext cx="25200" cy="6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47"/>
            <p:cNvSpPr/>
            <p:nvPr/>
          </p:nvSpPr>
          <p:spPr>
            <a:xfrm>
              <a:off x="2251080" y="1371600"/>
              <a:ext cx="94320" cy="2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8"/>
            <p:cNvSpPr/>
            <p:nvPr/>
          </p:nvSpPr>
          <p:spPr>
            <a:xfrm>
              <a:off x="2251080" y="1330920"/>
              <a:ext cx="24480" cy="5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49"/>
            <p:cNvSpPr/>
            <p:nvPr/>
          </p:nvSpPr>
          <p:spPr>
            <a:xfrm>
              <a:off x="1610640" y="1161000"/>
              <a:ext cx="25560" cy="2934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50"/>
            <p:cNvSpPr/>
            <p:nvPr/>
          </p:nvSpPr>
          <p:spPr>
            <a:xfrm>
              <a:off x="1623240" y="1161000"/>
              <a:ext cx="153000" cy="1897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51"/>
            <p:cNvSpPr/>
            <p:nvPr/>
          </p:nvSpPr>
          <p:spPr>
            <a:xfrm>
              <a:off x="1751040" y="1162080"/>
              <a:ext cx="165240" cy="1886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52"/>
            <p:cNvSpPr/>
            <p:nvPr/>
          </p:nvSpPr>
          <p:spPr>
            <a:xfrm>
              <a:off x="1891440" y="1176120"/>
              <a:ext cx="25200" cy="2235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53"/>
            <p:cNvSpPr/>
            <p:nvPr/>
          </p:nvSpPr>
          <p:spPr>
            <a:xfrm>
              <a:off x="1904040" y="1371600"/>
              <a:ext cx="92880" cy="2772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54"/>
            <p:cNvSpPr/>
            <p:nvPr/>
          </p:nvSpPr>
          <p:spPr>
            <a:xfrm>
              <a:off x="1971720" y="1162080"/>
              <a:ext cx="25200" cy="2235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55"/>
            <p:cNvSpPr/>
            <p:nvPr/>
          </p:nvSpPr>
          <p:spPr>
            <a:xfrm>
              <a:off x="1984320" y="1162080"/>
              <a:ext cx="153000" cy="1886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56"/>
            <p:cNvSpPr/>
            <p:nvPr/>
          </p:nvSpPr>
          <p:spPr>
            <a:xfrm>
              <a:off x="2112120" y="1162080"/>
              <a:ext cx="163800" cy="1886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57"/>
            <p:cNvSpPr/>
            <p:nvPr/>
          </p:nvSpPr>
          <p:spPr>
            <a:xfrm>
              <a:off x="2251080" y="1176120"/>
              <a:ext cx="24480" cy="2235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58"/>
            <p:cNvSpPr/>
            <p:nvPr/>
          </p:nvSpPr>
          <p:spPr>
            <a:xfrm>
              <a:off x="2263320" y="1371600"/>
              <a:ext cx="94680" cy="2772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59"/>
            <p:cNvSpPr/>
            <p:nvPr/>
          </p:nvSpPr>
          <p:spPr>
            <a:xfrm>
              <a:off x="2332800" y="1162080"/>
              <a:ext cx="25200" cy="2235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60"/>
            <p:cNvSpPr/>
            <p:nvPr/>
          </p:nvSpPr>
          <p:spPr>
            <a:xfrm>
              <a:off x="2345760" y="1162080"/>
              <a:ext cx="151200" cy="1864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61"/>
            <p:cNvSpPr/>
            <p:nvPr/>
          </p:nvSpPr>
          <p:spPr>
            <a:xfrm>
              <a:off x="2471760" y="1162080"/>
              <a:ext cx="165240" cy="1864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62"/>
            <p:cNvSpPr/>
            <p:nvPr/>
          </p:nvSpPr>
          <p:spPr>
            <a:xfrm>
              <a:off x="2611800" y="1176120"/>
              <a:ext cx="24840" cy="2761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63"/>
            <p:cNvSpPr/>
            <p:nvPr/>
          </p:nvSpPr>
          <p:spPr>
            <a:xfrm>
              <a:off x="1685160" y="1428480"/>
              <a:ext cx="884880" cy="15732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64"/>
            <p:cNvSpPr/>
            <p:nvPr/>
          </p:nvSpPr>
          <p:spPr>
            <a:xfrm>
              <a:off x="1659960" y="1700640"/>
              <a:ext cx="228600" cy="1684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5"/>
            <p:cNvSpPr/>
            <p:nvPr/>
          </p:nvSpPr>
          <p:spPr>
            <a:xfrm>
              <a:off x="1912680" y="1696320"/>
              <a:ext cx="154800" cy="1774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66"/>
            <p:cNvSpPr/>
            <p:nvPr/>
          </p:nvSpPr>
          <p:spPr>
            <a:xfrm>
              <a:off x="2085480" y="1696320"/>
              <a:ext cx="145800" cy="1774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67"/>
            <p:cNvSpPr/>
            <p:nvPr/>
          </p:nvSpPr>
          <p:spPr>
            <a:xfrm>
              <a:off x="2123640" y="1708200"/>
              <a:ext cx="69480" cy="1544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68"/>
            <p:cNvSpPr/>
            <p:nvPr/>
          </p:nvSpPr>
          <p:spPr>
            <a:xfrm>
              <a:off x="2253240" y="1700640"/>
              <a:ext cx="165240" cy="1699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69"/>
            <p:cNvSpPr/>
            <p:nvPr/>
          </p:nvSpPr>
          <p:spPr>
            <a:xfrm>
              <a:off x="2444400" y="1696320"/>
              <a:ext cx="167760" cy="1728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70"/>
            <p:cNvSpPr/>
            <p:nvPr/>
          </p:nvSpPr>
          <p:spPr>
            <a:xfrm>
              <a:off x="2490480" y="1748880"/>
              <a:ext cx="48960" cy="633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71"/>
            <p:cNvSpPr/>
            <p:nvPr/>
          </p:nvSpPr>
          <p:spPr>
            <a:xfrm>
              <a:off x="1759320" y="1911600"/>
              <a:ext cx="132480" cy="2512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72"/>
            <p:cNvSpPr/>
            <p:nvPr/>
          </p:nvSpPr>
          <p:spPr>
            <a:xfrm>
              <a:off x="1909440" y="1911600"/>
              <a:ext cx="166320" cy="2588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73"/>
            <p:cNvSpPr/>
            <p:nvPr/>
          </p:nvSpPr>
          <p:spPr>
            <a:xfrm>
              <a:off x="1961280" y="1926720"/>
              <a:ext cx="61920" cy="1260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74"/>
            <p:cNvSpPr/>
            <p:nvPr/>
          </p:nvSpPr>
          <p:spPr>
            <a:xfrm>
              <a:off x="2107440" y="1911240"/>
              <a:ext cx="171720" cy="2592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75"/>
            <p:cNvSpPr/>
            <p:nvPr/>
          </p:nvSpPr>
          <p:spPr>
            <a:xfrm>
              <a:off x="2159640" y="1928520"/>
              <a:ext cx="66600" cy="2268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76"/>
            <p:cNvSpPr/>
            <p:nvPr/>
          </p:nvSpPr>
          <p:spPr>
            <a:xfrm>
              <a:off x="2306880" y="1911240"/>
              <a:ext cx="157680" cy="2592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77"/>
            <p:cNvSpPr/>
            <p:nvPr/>
          </p:nvSpPr>
          <p:spPr>
            <a:xfrm>
              <a:off x="1659960" y="1696320"/>
              <a:ext cx="952200" cy="473760"/>
            </a:xfrm>
            <a:prstGeom prst="pie">
              <a:avLst/>
            </a:prstGeom>
            <a:solidFill>
              <a:srgbClr val="ff0000"/>
            </a:solidFill>
            <a:ln w="1260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78"/>
            <p:cNvSpPr/>
            <p:nvPr/>
          </p:nvSpPr>
          <p:spPr>
            <a:xfrm>
              <a:off x="1118520" y="1650960"/>
              <a:ext cx="213120" cy="147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79"/>
            <p:cNvSpPr/>
            <p:nvPr/>
          </p:nvSpPr>
          <p:spPr>
            <a:xfrm>
              <a:off x="1118520" y="1650960"/>
              <a:ext cx="213120" cy="1476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80"/>
            <p:cNvSpPr/>
            <p:nvPr/>
          </p:nvSpPr>
          <p:spPr>
            <a:xfrm>
              <a:off x="762480" y="539640"/>
              <a:ext cx="756360" cy="1325880"/>
            </a:xfrm>
            <a:prstGeom prst="pi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81"/>
            <p:cNvSpPr/>
            <p:nvPr/>
          </p:nvSpPr>
          <p:spPr>
            <a:xfrm>
              <a:off x="777960" y="575640"/>
              <a:ext cx="695880" cy="123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82"/>
            <p:cNvSpPr/>
            <p:nvPr/>
          </p:nvSpPr>
          <p:spPr>
            <a:xfrm>
              <a:off x="819720" y="1069560"/>
              <a:ext cx="19080" cy="21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3429000" y="665964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76640" y="636408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стрейко Татьяна Михайл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физической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24280" y="83170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33000" y="324000"/>
            <a:ext cx="618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Verdana"/>
              </a:rPr>
              <a:t>Современный урок </a:t>
            </a:r>
            <a:br>
              <a:rPr sz="2400"/>
            </a:br>
            <a:r>
              <a:rPr b="1" lang="ru-RU" sz="2400" spc="-1" strike="noStrike">
                <a:solidFill>
                  <a:srgbClr val="ff5050"/>
                </a:solidFill>
                <a:latin typeface="Verdana"/>
              </a:rPr>
              <a:t>физической культуры и его перспектив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04280" y="1547280"/>
            <a:ext cx="6108840" cy="720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чиная строить дом, роют котлован и закладывают фундамент. Чем прочнее, тем лучше. Фундаментом укрепления своего собственного здоровья и здоровья своих воспитанников, мы определили концепцию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«От гармонии и пластики тела – к гармонии души»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её основе положены соблюдение определённых жизненных принципов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умение омолодить себя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изически, умственно и духовно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1268280" y="2916360"/>
            <a:ext cx="2519640" cy="18907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4076640" y="2916360"/>
            <a:ext cx="2411640" cy="18097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189000" y="4859280"/>
            <a:ext cx="2592360" cy="19432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3068640" y="4873680"/>
            <a:ext cx="259236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6640" y="539280"/>
            <a:ext cx="6021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Verdana"/>
              </a:rPr>
              <a:t>Внеклассная физкультурно-оздоровительная и спортивно-массовая рабо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189000" y="6804000"/>
            <a:ext cx="6467400" cy="2017800"/>
          </a:xfrm>
          <a:prstGeom prst="rect">
            <a:avLst/>
          </a:prstGeom>
          <a:ln w="63360">
            <a:solidFill>
              <a:srgbClr val="00ff00"/>
            </a:solidFill>
            <a:miter/>
          </a:ln>
        </p:spPr>
      </p:pic>
      <p:sp>
        <p:nvSpPr>
          <p:cNvPr id="307" name=""/>
          <p:cNvSpPr/>
          <p:nvPr/>
        </p:nvSpPr>
        <p:spPr>
          <a:xfrm>
            <a:off x="333360" y="2374560"/>
            <a:ext cx="60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ной частью внеклассной физкультурно-оздоровительной и спортивно-массовой работы являются массовые мероприятия. Они стимулируют учащихся к систематическим, регулярным занятиям спортом, являются эффективной формой пропаганды физической культуры и спорта среди учащих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33000" y="395280"/>
            <a:ext cx="6264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Verdana"/>
              </a:rPr>
              <a:t>      </a:t>
            </a:r>
            <a:br>
              <a:rPr sz="3200"/>
            </a:br>
            <a:r>
              <a:rPr b="1" lang="ru-RU" sz="3200" spc="-1" strike="noStrike">
                <a:solidFill>
                  <a:srgbClr val="ff5050"/>
                </a:solidFill>
                <a:latin typeface="Verdana"/>
              </a:rPr>
              <a:t>День Здоровья</a:t>
            </a:r>
            <a:br>
              <a:rPr sz="3200"/>
            </a:br>
            <a:r>
              <a:rPr b="1" lang="ru-RU" sz="3200" spc="-1" strike="noStrike">
                <a:solidFill>
                  <a:srgbClr val="ff5050"/>
                </a:solidFill>
                <a:latin typeface="Verdana"/>
              </a:rPr>
              <a:t>«Сильный, смелый, ловкий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333360" y="190800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3645000" y="1908000"/>
            <a:ext cx="2923920" cy="21942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404640" y="4284720"/>
            <a:ext cx="2953080" cy="22143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5"/>
          <a:stretch/>
        </p:blipFill>
        <p:spPr>
          <a:xfrm>
            <a:off x="3645000" y="4356000"/>
            <a:ext cx="2878200" cy="21592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6"/>
          <a:stretch/>
        </p:blipFill>
        <p:spPr>
          <a:xfrm>
            <a:off x="333360" y="6659640"/>
            <a:ext cx="2951280" cy="21063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7"/>
          <a:stretch/>
        </p:blipFill>
        <p:spPr>
          <a:xfrm>
            <a:off x="3645000" y="6659640"/>
            <a:ext cx="2808360" cy="21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89000" y="324000"/>
            <a:ext cx="632448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Verdana"/>
              </a:rPr>
              <a:t>День Здоровья</a:t>
            </a:r>
            <a:br>
              <a:rPr sz="3200"/>
            </a:br>
            <a:r>
              <a:rPr b="1" lang="ru-RU" sz="3200" spc="-1" strike="noStrike">
                <a:solidFill>
                  <a:srgbClr val="ff5050"/>
                </a:solidFill>
                <a:latin typeface="Verdana"/>
              </a:rPr>
              <a:t>«Физкульт-привет!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260280" y="1332000"/>
            <a:ext cx="3011400" cy="22590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260280" y="3851280"/>
            <a:ext cx="2952720" cy="22161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3573360" y="1332000"/>
            <a:ext cx="3024360" cy="22669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5"/>
          <a:stretch/>
        </p:blipFill>
        <p:spPr>
          <a:xfrm>
            <a:off x="3573360" y="3851280"/>
            <a:ext cx="2960640" cy="22208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6"/>
          <a:stretch/>
        </p:blipFill>
        <p:spPr>
          <a:xfrm>
            <a:off x="260280" y="6372360"/>
            <a:ext cx="3046320" cy="22842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7"/>
          <a:stretch/>
        </p:blipFill>
        <p:spPr>
          <a:xfrm>
            <a:off x="3573360" y="6372360"/>
            <a:ext cx="29512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60280" y="395280"/>
            <a:ext cx="62532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Verdana"/>
              </a:rPr>
              <a:t>«Трудовая кругосветка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260280" y="1332000"/>
            <a:ext cx="3011400" cy="22590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357720" y="1332000"/>
            <a:ext cx="3284280" cy="230328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4"/>
          <a:stretch/>
        </p:blipFill>
        <p:spPr>
          <a:xfrm>
            <a:off x="260280" y="3780000"/>
            <a:ext cx="3024360" cy="228744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5"/>
          <a:stretch/>
        </p:blipFill>
        <p:spPr>
          <a:xfrm>
            <a:off x="3429000" y="3780000"/>
            <a:ext cx="3068640" cy="230184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6"/>
          <a:stretch/>
        </p:blipFill>
        <p:spPr>
          <a:xfrm>
            <a:off x="189000" y="6227640"/>
            <a:ext cx="3184560" cy="23893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7"/>
          <a:stretch/>
        </p:blipFill>
        <p:spPr>
          <a:xfrm>
            <a:off x="3500280" y="6227640"/>
            <a:ext cx="310536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4280" y="324000"/>
            <a:ext cx="610884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Verdana"/>
              </a:rPr>
              <a:t>Танцетерапия</a:t>
            </a:r>
            <a:r>
              <a:rPr b="1" lang="ru-RU" sz="2800" spc="-1" strike="noStrike">
                <a:solidFill>
                  <a:srgbClr val="ff33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49000" y="971280"/>
            <a:ext cx="5964120" cy="77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сё живое находится в движении. Танцетерапия – это лечение движением, одна из наиболее древних систем, органично включающая механизмы профилактики и оздоровления организм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404640" y="3995640"/>
            <a:ext cx="2953080" cy="22147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3573360" y="6300720"/>
            <a:ext cx="2997360" cy="22478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3573360" y="399564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5"/>
          <a:stretch/>
        </p:blipFill>
        <p:spPr>
          <a:xfrm>
            <a:off x="404640" y="6300720"/>
            <a:ext cx="301644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89000" y="-360"/>
            <a:ext cx="632448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050"/>
                </a:solidFill>
                <a:latin typeface="Verdana"/>
              </a:rPr>
              <a:t>Танцетерап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260280" y="205092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3429000" y="2195640"/>
            <a:ext cx="3068640" cy="230184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260280" y="4284720"/>
            <a:ext cx="2951280" cy="22129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5"/>
          <a:stretch/>
        </p:blipFill>
        <p:spPr>
          <a:xfrm>
            <a:off x="189000" y="6588000"/>
            <a:ext cx="2997000" cy="22482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6"/>
          <a:stretch/>
        </p:blipFill>
        <p:spPr>
          <a:xfrm>
            <a:off x="3429000" y="4716360"/>
            <a:ext cx="3065400" cy="39610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262080" y="866520"/>
            <a:ext cx="659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щё Айседора Дункан считала, что танец является выражением духа. Она говорила своим ученикам:   «Всё, что может угнетать душу,   высвобождай через тело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33000" y="394920"/>
            <a:ext cx="6180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99"/>
                </a:solidFill>
                <a:latin typeface="Verdana"/>
              </a:rPr>
              <a:t>Литератур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404640" y="1692360"/>
            <a:ext cx="2027520" cy="30956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2565360" y="1692360"/>
            <a:ext cx="1989000" cy="30956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4653000" y="1619280"/>
            <a:ext cx="1946160" cy="31687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5"/>
          <a:stretch/>
        </p:blipFill>
        <p:spPr>
          <a:xfrm>
            <a:off x="404640" y="5003640"/>
            <a:ext cx="2081520" cy="34560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6"/>
          <a:stretch/>
        </p:blipFill>
        <p:spPr>
          <a:xfrm>
            <a:off x="4292640" y="5076720"/>
            <a:ext cx="2298600" cy="34275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7"/>
          <a:stretch/>
        </p:blipFill>
        <p:spPr>
          <a:xfrm>
            <a:off x="2421000" y="4572000"/>
            <a:ext cx="2247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324000"/>
            <a:ext cx="6597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66"/>
                </a:solidFill>
                <a:uFillTx/>
                <a:latin typeface="Verdana"/>
              </a:rPr>
              <a:t>  </a:t>
            </a:r>
            <a:r>
              <a:rPr b="1" lang="ru-RU" sz="3600" spc="-1" strike="noStrike" u="sng">
                <a:solidFill>
                  <a:srgbClr val="ff0066"/>
                </a:solidFill>
                <a:uFillTx/>
                <a:latin typeface="Verdana"/>
              </a:rPr>
              <a:t>Здоровое поколе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60280" y="2540160"/>
            <a:ext cx="6253200" cy="62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Всё своё ношу с собой» - сказал греческий философ Биант, подчёркивая тем самым, что главное богатство он сам. Самое большое открытие, которое сделал наш современник в 20 веке – это умение омолодить себя физически, умственно и духовно. Но это та вершина, на которую человек должен подняться сам. И наша задача передать учащимся знания и навыки по физическому совершенствованию, чтобы помочь им достичь этой верши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836640" y="1332000"/>
            <a:ext cx="2622600" cy="36003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3429000" y="1332000"/>
            <a:ext cx="2603520" cy="36003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981000" y="3924360"/>
            <a:ext cx="4896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Здоровье – не всё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 всё без здоровья – ничто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07560" y="711000"/>
            <a:ext cx="5605560" cy="83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3399"/>
                </a:solidFill>
                <a:uFillTx/>
                <a:latin typeface="Comic Sans MS"/>
              </a:rPr>
              <a:t>Здоровое</a:t>
            </a:r>
            <a:r>
              <a:rPr b="1" lang="ru-RU" sz="3600" spc="-1" strike="noStrike" u="sng">
                <a:solidFill>
                  <a:srgbClr val="ff0066"/>
                </a:solidFill>
                <a:uFillTx/>
                <a:latin typeface="Comic Sans MS"/>
              </a:rPr>
              <a:t> поколен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75920" y="1186920"/>
            <a:ext cx="6048360" cy="56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ff00"/>
                </a:solidFill>
                <a:uFillTx/>
                <a:latin typeface="Verdana"/>
              </a:rPr>
              <a:t>Здоровье- не всё, но всё без здоровья – ничто».</a:t>
            </a:r>
            <a:r>
              <a:rPr b="1" lang="en-US" sz="2800" spc="-1" strike="noStrike" u="sng">
                <a:solidFill>
                  <a:srgbClr val="00ff00"/>
                </a:solidFill>
                <a:uFillTx/>
                <a:latin typeface="Verdana"/>
              </a:rPr>
              <a:t>       </a:t>
            </a:r>
            <a:r>
              <a:rPr b="1" lang="ru-RU" sz="2800" spc="-1" strike="noStrike" u="sng">
                <a:solidFill>
                  <a:srgbClr val="00ff00"/>
                </a:solidFill>
                <a:uFillTx/>
                <a:latin typeface="Verdana"/>
              </a:rPr>
              <a:t>Сокр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92280" y="3132000"/>
            <a:ext cx="5327640" cy="5251680"/>
          </a:xfrm>
          <a:prstGeom prst="rect">
            <a:avLst/>
          </a:prstGeom>
          <a:ln w="4140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0280" y="39492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66"/>
                </a:solidFill>
                <a:uFillTx/>
                <a:latin typeface="Comic Sans MS"/>
              </a:rPr>
              <a:t>Здоровое поколен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33000" y="1115640"/>
            <a:ext cx="6048360" cy="73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ff"/>
                </a:solidFill>
                <a:latin typeface="Verdana"/>
              </a:rPr>
              <a:t>Выдающий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ff"/>
                </a:solidFill>
                <a:latin typeface="Verdana"/>
              </a:rPr>
              <a:t>Филосо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ff"/>
                </a:solidFill>
                <a:latin typeface="Verdana"/>
              </a:rPr>
              <a:t>ХХ век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33ff"/>
                </a:solidFill>
                <a:uFillTx/>
                <a:latin typeface="Verdana"/>
              </a:rPr>
              <a:t>Бертран Рассел</a:t>
            </a:r>
            <a:r>
              <a:rPr b="1" i="1" lang="ru-RU" sz="2800" spc="-1" strike="noStrike">
                <a:solidFill>
                  <a:srgbClr val="3333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ff"/>
                </a:solidFill>
                <a:latin typeface="Verdana"/>
              </a:rPr>
              <a:t>заметил:</a:t>
            </a:r>
            <a:r>
              <a:rPr b="1" i="1" lang="ru-RU" sz="2800" spc="-1" strike="noStrike">
                <a:solidFill>
                  <a:srgbClr val="66ff33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cc00"/>
                </a:solidFill>
                <a:latin typeface="Verdana"/>
              </a:rPr>
              <a:t>«Если Вы не думаете о своем будущем, у Вас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cc00"/>
                </a:solidFill>
                <a:latin typeface="Verdana"/>
              </a:rPr>
              <a:t>его не будет…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3789360" y="1258920"/>
            <a:ext cx="28400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33000" y="324000"/>
            <a:ext cx="61801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5050"/>
                </a:solidFill>
                <a:uFillTx/>
                <a:latin typeface="Comic Sans MS"/>
              </a:rPr>
              <a:t>Состояние здоровья учащихся ГОУ СОШ 1905</a:t>
            </a:r>
            <a:br>
              <a:rPr sz="3200"/>
            </a:br>
            <a:r>
              <a:rPr b="1" lang="ru-RU" sz="3200" spc="-1" strike="noStrike" u="sng">
                <a:solidFill>
                  <a:srgbClr val="ff5050"/>
                </a:solidFill>
                <a:uFillTx/>
                <a:latin typeface="Comic Sans MS"/>
              </a:rPr>
              <a:t>2010/2011 учебный го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60280" y="1692360"/>
          <a:ext cx="6337440" cy="39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0280" y="1692360"/>
                    <a:ext cx="6337440" cy="39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0" y="5580000"/>
          <a:ext cx="4581360" cy="2745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5580000"/>
                    <a:ext cx="4581360" cy="27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4724280" y="5148360"/>
            <a:ext cx="1941480" cy="3051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844640" y="428472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b00"/>
                </a:solidFill>
                <a:latin typeface="Arial"/>
              </a:rPr>
              <a:t>7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07920" y="2556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b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c0b00"/>
                </a:solidFill>
                <a:latin typeface="Arial"/>
              </a:rPr>
              <a:t>1,</a:t>
            </a:r>
            <a:r>
              <a:rPr b="1" lang="en-US" sz="1800" spc="-1" strike="noStrike">
                <a:solidFill>
                  <a:srgbClr val="0c0b00"/>
                </a:solidFill>
                <a:latin typeface="Arial"/>
              </a:rPr>
              <a:t>7</a:t>
            </a:r>
            <a:r>
              <a:rPr b="1" lang="ru-RU" sz="1800" spc="-1" strike="noStrike">
                <a:solidFill>
                  <a:srgbClr val="0c0b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44640" y="2484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b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c0b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c0b00"/>
                </a:solidFill>
                <a:latin typeface="Arial"/>
              </a:rPr>
              <a:t>8</a:t>
            </a:r>
            <a:r>
              <a:rPr b="1" lang="ru-RU" sz="1800" spc="-1" strike="noStrike">
                <a:solidFill>
                  <a:srgbClr val="0c0b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637000" y="2627280"/>
            <a:ext cx="8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b00"/>
                </a:solidFill>
                <a:latin typeface="Arial"/>
              </a:rPr>
              <a:t>13,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75920" y="468360"/>
            <a:ext cx="6381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5050"/>
                </a:solidFill>
                <a:uFillTx/>
                <a:latin typeface="Comic Sans MS"/>
              </a:rPr>
              <a:t>Здоровое поколен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1187280"/>
            <a:ext cx="6858000" cy="76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Школьный возраст — один из самых сложных этапов возрастного развития организма человека, который охватывает достаточно большой период времени и включает: рост, дифференцировку органов и тканей и приобретение организмом характерных для него форм. Все эти факторы находятся между собой в тесной взаимосвязи и взаимозависимости. При этом характерной особенностью процесса роста детского организма является неравномерность и волнообразность. На одних возрастных этапах имеются предпосылки развития восприимчивости к одним аспектам действительности, на других — к другим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645000" y="6624720"/>
            <a:ext cx="2781360" cy="20858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476280" y="6615000"/>
            <a:ext cx="280836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76280" y="323640"/>
            <a:ext cx="60372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Задачи физического воспитания учащихс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9920" y="1763280"/>
            <a:ext cx="659772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крепление здоровь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ащихся новым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традиционным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ами и методам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интереса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 урокам физическо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ультуры и внеклассным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роприятия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сестороннее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армоническ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витие личност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ждого ребён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4005360" y="1908000"/>
            <a:ext cx="2492280" cy="18702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3933720" y="6516720"/>
            <a:ext cx="2592360" cy="19429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189000" y="4500720"/>
            <a:ext cx="22572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395280"/>
            <a:ext cx="6858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5050"/>
                </a:solidFill>
                <a:uFillTx/>
                <a:latin typeface="Comic Sans MS"/>
              </a:rPr>
              <a:t>Здоровьесберегающие технологии - эт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260280" y="1692360"/>
            <a:ext cx="6253200" cy="59767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0" y="745164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аимосвязь и взаимопроникновение педагогиче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здоровительных технологий и специфиче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формообразующих, в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питательно-образовательных видов деятельности двигательно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49000" y="468000"/>
            <a:ext cx="59641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Verdana"/>
              </a:rPr>
              <a:t>Современный урок </a:t>
            </a:r>
            <a:br>
              <a:rPr sz="2400"/>
            </a:br>
            <a:r>
              <a:rPr b="1" lang="ru-RU" sz="2400" spc="-1" strike="noStrike">
                <a:solidFill>
                  <a:srgbClr val="ff5050"/>
                </a:solidFill>
                <a:latin typeface="Verdana"/>
              </a:rPr>
              <a:t>физической культуры и его перспектив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3429000" y="6300720"/>
            <a:ext cx="3164040" cy="24084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260280" y="6300720"/>
            <a:ext cx="3024360" cy="237492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60280" y="1618920"/>
            <a:ext cx="6384960" cy="59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ы осуществить задачу развития и становления  физической культуры личности, необходимо изменить подходы к проведению и содержанию урока физической культуры, предъявив к нему настоящую государственную требовательност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260280" y="3780000"/>
            <a:ext cx="3024360" cy="22320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5"/>
          <a:stretch/>
        </p:blipFill>
        <p:spPr>
          <a:xfrm>
            <a:off x="3500280" y="3780000"/>
            <a:ext cx="3097440" cy="21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4280" y="324000"/>
            <a:ext cx="62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Verdana"/>
              </a:rPr>
              <a:t>Современный урок </a:t>
            </a:r>
            <a:br>
              <a:rPr sz="2800"/>
            </a:br>
            <a:r>
              <a:rPr b="1" lang="ru-RU" sz="2800" spc="-1" strike="noStrike">
                <a:solidFill>
                  <a:srgbClr val="ff5050"/>
                </a:solidFill>
                <a:latin typeface="Verdana"/>
              </a:rPr>
              <a:t>физической культуры и его перспекти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0280" y="1763280"/>
            <a:ext cx="5892840" cy="64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вным содержанием предмета должно быть предоставление ученику возможности получать информацию о состоянии собственного организма и в соответствии с этими данными осуществлять разработку и выполнение программы личного самосовершенствова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573360" y="378000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189000" y="630072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3500280" y="6300720"/>
            <a:ext cx="3165480" cy="23734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5"/>
          <a:stretch/>
        </p:blipFill>
        <p:spPr>
          <a:xfrm>
            <a:off x="260280" y="3767040"/>
            <a:ext cx="309744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17:43:33Z</dcterms:created>
  <dc:creator>Kate and Ann</dc:creator>
  <dc:description/>
  <cp:keywords/>
  <dc:language>en-US</dc:language>
  <cp:lastModifiedBy>Танюха</cp:lastModifiedBy>
  <dcterms:modified xsi:type="dcterms:W3CDTF">2012-06-17T17:52:44Z</dcterms:modified>
  <cp:revision>11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21049</vt:lpwstr>
  </property>
</Properties>
</file>