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630-4A1D-45CE-AF6E-649DD131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CBA-EBD9-4FB1-B191-FA35A035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7A9-B97B-489E-9150-52B969C6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DB3-1C35-4B4C-9FF0-AD51AE80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53A8-DB27-4535-A7BF-490D3C6A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8C8A-4D28-4C98-B63E-404900FF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8868-EB22-49DB-A8C0-66848CCD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C7C9-D568-44B3-A670-B6C9257F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705A-54FB-4FCE-A44D-45AF6935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7B5E-FD6E-4AF5-9F47-2EEDE5D7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C106-FBEB-4B90-BFC1-7016A9B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7E7-9ED6-4E45-BC8F-6C214AB6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B649-77C7-4B0D-8BE3-8A826C6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B06A-4A2E-463F-9E09-AB5A940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F3E-E7B2-4661-93BF-BCE958F2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7E2-2943-4E34-A54A-85AE153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A422-44B8-44B1-8AFE-7B3A50FC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4C12-F847-4975-B461-3E72D54B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C9351-5239-4AAB-8B7F-7A00E230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9AD8-75CE-47C0-A813-D17A47C9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0E8F-B3C6-4759-82BB-9058E336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D570-775A-4C43-8A05-87EC86BD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004-BFB1-4386-88FF-442BE39D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75D7-B3F5-4177-AD04-B1369D2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456D0-F55D-414D-AB51-D28B147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E291-6C52-451C-9C20-08013C1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52DE7-FA92-4AC6-B359-B625689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98EF-6E97-42DE-8B5B-02E9E149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A8340-1FD4-4D08-BD88-36C55D19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3FAB-917F-4AEF-AB40-1569EDFE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F9C4-A30E-4FB0-8B14-B7858DC0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BB4A-3D0F-4374-A9A1-892F1659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C53E-CA6A-42FF-A610-7930128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B81-2713-483B-B617-9FA9B4D3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78958-D8F7-4B3E-9161-AD9738A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D315-78D8-46D2-9576-34C1D66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35E3-553D-40A4-BBB4-AB8518C1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1582-DACE-4E1C-9D1F-C660837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54ACF-F3DE-42C9-B0DC-541861C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61DB9-FA3F-430C-93CA-9F311F9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2B75-8C3A-447E-87FA-5DA3BAF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FEE4-B7B1-49A4-B1E7-B17CE035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E8F1-D4E0-4180-A577-71645A6B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28CD9-0AE7-41D6-8BDF-D9231EF9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39F-87A5-46A1-BB2A-42F0190D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B3CA-9524-4909-B4B9-180D336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BC77B-B89A-461F-AF45-4039CEC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DAA7E-D50F-4721-9122-D29DD54A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BF0C-5635-4040-BE60-D4625A9E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6BE0-EEFC-4E8D-ACC5-10C85256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F2AE-AB58-4C25-AA9F-2096347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564E2-5C1A-46A6-BBB0-5C515863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7CAAE-135A-4774-BCEA-ECA5A47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B4C3B-2FDD-4B96-BA45-A8C7E4C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FF97-409B-4ADC-BD49-E8CCF1C4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7C7-152A-4EFF-A896-CEF96825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2AA5-B008-4810-B75F-7B95181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98B4-8B61-463E-AB2D-61E8B6A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A930B-2FBD-4527-B5DD-CF104041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6948-488A-4E3F-81F9-2CA44BA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E1FD-9845-4AF3-8211-EBA4A799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40B65-CFA3-41B1-9286-696C4521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5C93A-DD84-4C71-A261-DB526F6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544A-025C-4F02-B625-3148D661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F3C3E-A7C3-45E0-8ED5-A426B92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F5F63-F37B-4252-A765-B0FB9EE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C5E-7FF0-46AF-8780-01E5830B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3BCF-D03B-4166-B588-C6D7542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DB718-2A72-4D07-937E-46681E4C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48E81-46AB-49F9-8578-ED3A3838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2DCA4-0DFB-4E26-BC61-9BC8A965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89B8C-3F4F-4258-BEB2-07ABA295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6CCA-3B83-41BC-8764-0CC2ED2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143B4-AB3E-4F60-8220-C16F9096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2394-99F1-4E5F-927F-FFCB2DA5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12296-F14D-47DD-B110-5654C524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E1EB-A081-4D61-B7B0-FB6CECE8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968-BB95-4873-A711-AEFD484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CD4ED-584A-4990-B004-6A7056D5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C886-FBB8-4D37-BFFF-0D3C9A5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FA57-2D91-41BA-9994-8EF1CA9B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D1B3-C4B9-42E0-AF65-ADF01428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C3EA-2E0F-48B5-9DDC-2C5BB3D7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57E3-961D-4D16-8337-1C9DB897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49850-DC74-4D55-85B5-FB99729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A1FD-3B0A-475F-88DB-C3C3B3C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66732-A929-494F-8363-CDEABEC2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46CA-9EE4-4C53-AFFA-8FC62C52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10-DF09-485F-8624-CE75DE31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422E-AC85-4328-9775-FBFCE998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48E54-EEED-47E6-8667-7464118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92012-49FD-48BE-A046-15EE7CD7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4747-CF48-4011-92C5-1517237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3AFA8-B5E1-4952-A706-35533A4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97F7E-B75F-4967-B0ED-2EF8F7B2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C6D4-71EC-4688-B223-684851ED3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FA73-D4FD-45DB-A23C-745725428160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59BD-0C63-4A86-8318-5F50455394F7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F06-58E9-4EE4-B921-F9738C2F89AF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07C9-6434-49FA-B70D-5424DE4E4964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3D6-D72F-4C56-AEF6-C6823EFBA4E8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495-EE48-4824-BA7C-C90C6A6A581F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F64-F153-4001-86F9-10DB715289F7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6c781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6c781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af71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EE8-148A-4A55-BBCF-E015C7C8BD0E}" type="slidenum">
              <a:rPr b="0" lang="en-US" sz="1200" spc="-1" strike="noStrike">
                <a:solidFill>
                  <a:srgbClr val="d9af71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5105520" y="1714680"/>
            <a:ext cx="3641760" cy="4724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8541360" y="6254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4767120" y="728640"/>
            <a:ext cx="4281480" cy="5257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936960" cy="64105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"/>
          <p:cNvSpPr/>
          <p:nvPr/>
        </p:nvSpPr>
        <p:spPr>
          <a:xfrm>
            <a:off x="8720640" y="6203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6191280" cy="4648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430360" cy="374796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"/>
          <p:cNvSpPr/>
          <p:nvPr/>
        </p:nvSpPr>
        <p:spPr>
          <a:xfrm>
            <a:off x="8609760" y="6383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8T16:45:06Z</dcterms:modified>
  <cp:revision>50</cp:revision>
  <dc:subject/>
  <dc:title>Художественная культура народов России второй половины XIX века. </dc:title>
</cp:coreProperties>
</file>