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EE2-FC86-4553-87CD-E6944FBB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DBC-3488-4B88-B591-ED8B92B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63E-C766-49D2-9215-A6128041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6F1-831E-48CA-8B17-799A6C9D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DA3-462F-4064-A4AB-1FB04363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2A21-5AFE-4C33-A4F0-F95A6521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4436-2691-4D39-9E71-D4324E43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73BB-1531-41B3-BC63-6064DF19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06AA-1F18-48B6-B14F-1D87734A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80BA-897D-430A-9DB8-8F2A471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5CB5-3237-402C-9FE9-EB21FF4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CD4-14E6-4159-8D66-8222955D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B5DF-4190-4AD6-94C9-8C8D01D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D55F-932D-4FAC-9037-E71F6A63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BA38-D795-4504-9F4D-51BFE7B2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A8AF-A649-459D-853A-82D7F97B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A095-ED9B-4944-A703-A4F88FCB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ACE9-86BF-4363-AF46-1D289BA9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BB82-406C-47F5-A69F-6117CD5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A6F0-D114-4B05-96F3-1853A2EE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FA1E-10AF-4470-9649-724BBA2D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3A05-2B52-4D75-B621-84FF2B44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B03-DB11-4850-A97D-E0CEC842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29B2-1D67-4C4C-8DB9-9A88B0EA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1302-DDED-46A6-9C44-ED7689F3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3DE8-3F09-499B-B0CC-844B8C4F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423B-E029-45CC-8579-40E49C46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CE91-B540-42AC-9EED-F9ABD1DD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544D-C96F-462E-BC9B-110502AA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A171-BC76-4BD7-AF41-6259B747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B7F1-E4D5-4A54-A683-62710A01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CC7C9-2803-41DF-86CB-EE3B4A9E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63E1-E338-4DF2-ADDD-A5E9D6E6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640-857A-407D-9A2E-9DCC613F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1662B-C6A6-4BF0-8E6E-C085393D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26E0A-D946-43A0-963B-BD310ABC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292DA-4DB2-466B-853E-2988C785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DCC1-EE93-4D76-ADE6-38F42C5D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3679-0A9B-4A2D-B9A8-38F76F81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A64A-BB2A-4D8D-8FE1-9E0C98D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C55E-8264-4452-A572-26AB9FD0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A505-9EFA-424A-B6C4-7FF62C2E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40A58-3566-4310-88F7-DBD481AD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08C89-F6FF-4F94-881C-086B2B4C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2E0-B886-4DA6-A69A-991EBD0B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D18D2-AF18-4496-AA21-4877AF8A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CE17C-519E-4F7B-8A85-655495CB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C8C31-C240-4024-86F7-65868532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CDB65-114D-4D6F-9B94-93C196D9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030E9-A3DA-4706-97B0-7A5340AF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FEEF-C1A1-4741-A09F-B1354197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FAB64-0373-4240-B313-768C2FD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0D9B6-D3B4-4FB5-9FD4-0CF8294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4FBE-9CD2-4019-8836-298BF5A1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D3B1A-8CA6-4192-831A-002DEB48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115-91D9-4330-8224-A193C082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02D8-6F7B-4F9F-9175-68492405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5E7B-AA3F-46CB-82BD-832D69B9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0FA3-A826-45FE-978D-BC9D94BC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52004-ED2F-4DAB-8565-B63B216B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94D72-1F24-4780-BD45-31725B5D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522EA-A50C-4D3D-8E91-52DE9759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DD012-7235-4E8C-ABA5-335E5295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B718-9197-4B7A-B92B-0BF44484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8445-8F53-4566-A17D-F1865E9A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8606C-C606-4B36-A428-F8EF1CD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EDB-045B-4A73-8BDE-685C76D8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EEBC3-ACD9-4F61-A619-9E75674A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A2865-019F-43CE-AAA4-85F0A92A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83DD-49B7-4435-BC0D-DEB52220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C19EA-5E26-4EED-B9AD-790F730C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B9896-0E2C-43B9-9DC2-4ED92582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8A8A-979D-4E39-A208-352682A1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26EF-EBB0-43EA-A52D-884B03DA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CB0BA-8A75-4C9F-9D39-2B46428D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7CA90-5048-440A-92E8-18F2F50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70AEC-BE28-4186-A7D8-2A763089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FD5-E948-40D7-8D8C-2ADD1FA5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7BAC8-05D5-46ED-AC45-0793EB6D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91A35-2FE4-488E-B413-95373ACD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235D2-1B46-44C4-86A3-039AC5E0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0D551-C0D2-485C-975F-9ED10296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94EB6-AE54-484A-9322-05E9A322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B9EFD-338A-43B9-8C6F-7E0203BF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25746-A645-4B3D-9A05-5224AB84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DF899-D339-4A81-8278-5C4D9E0A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45138-745B-44B0-8B50-6C468EC2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773FC-8DF2-4C24-AB8E-78E0BFC3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E79-B0C0-4813-8B1A-27B53DB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CCDE3-3278-4BEC-92F7-E2B0587A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30F0C-465C-4A5F-8FA0-5643D5B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E3EBC-CBB3-4549-B1A0-2096FB6F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E09E1-EDA6-44E1-A648-2C394EA2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1466-6D60-40E9-9503-71145A78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B2D3E-9F69-4FE5-8F1D-AD6F262E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FDAFA-6F14-40ED-A735-92B51093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3154-A5AB-477F-B10E-4015A85E25AD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ED38-DAEE-425A-A86B-667D20B5F92D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0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0E2B-50BE-4D3B-AE8C-313D8B469FC0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45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9EFB-B679-47E7-BE8C-B855C62DB237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4D78-3E02-4407-B527-8D7FAF8A5FEC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30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08A1-DFCF-4899-9674-E1611DC445FC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095-9E89-4F3E-AEFA-5147AC31A28E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E0F9-61B7-43F1-A1ED-6B330574BC3D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5105520" y="1714680"/>
            <a:ext cx="3641760" cy="4724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809880" cy="50799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8541360" y="6254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4767120" y="728640"/>
            <a:ext cx="4281480" cy="5257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3936960" cy="64105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1"/>
          <p:cNvSpPr/>
          <p:nvPr/>
        </p:nvSpPr>
        <p:spPr>
          <a:xfrm>
            <a:off x="8720640" y="620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6191280" cy="4648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2430360" cy="374796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"/>
          <p:cNvSpPr/>
          <p:nvPr/>
        </p:nvSpPr>
        <p:spPr>
          <a:xfrm>
            <a:off x="8609760" y="6383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8T16:45:06Z</dcterms:modified>
  <cp:revision>50</cp:revision>
  <dc:subject/>
  <dc:title>Художественная культура народов России второй половины XIX века. </dc:title>
</cp:coreProperties>
</file>