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EED0-222C-4BDA-88A7-7D4DD711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11D4-26A7-4C70-B9E9-13C896A1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7185-D70C-4C57-BC95-02404C32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64AF-3B09-4DC2-B763-BA23AFE6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4FE5-F43C-4DB7-9EFF-909AA1C6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3E16-3BA0-45FA-A804-9E1E1C6A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DD14-B56A-4759-91B7-DE10B45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E12-99A4-4646-9E3E-A852AD4A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5D26-AAFF-454F-B6DE-C348A4ED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DB1-E1F7-460B-9E0D-E02850EB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CA4-1933-4850-B325-3B6B918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0BFE-3B34-4182-8B31-E050D594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41FD-C442-4B0E-A3BD-70970D7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3E2-F479-44D8-B132-5CE6AEF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395E-033A-477B-8474-DC78395F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A4F-8E8E-4015-BF5C-72FADB65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87D6-C618-47F1-B165-A392D77D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B5B3-F368-479D-802D-E1D053C9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3FA2-7FB1-445C-9DA3-E633B9A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465F-3D81-4419-B603-F0A9BB38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8F65-2A49-4654-9C30-275B976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04A0-3A3C-4FF2-96F0-ACB711A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58B8-042F-4D48-AED4-1DE7D3E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5AE2-4748-434C-B63D-BA4D963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B5B-4E2B-47DE-B459-CA1A6D138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9E2-8B49-4309-88A5-803561120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Графическое изображение деталей из древес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876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ГОУ СОШ № 380 Красносельского района г. Санкт-Петербург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урова М.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мер (в миллиметрах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оставляю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д размерной лини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лева напра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низу ввер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Наименование единиц измерения не указы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3067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257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щину детали обозначают латинской букв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цифра, стоящая справа от этой буквы, показывает толщ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0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ть чертеж, эскиз, технический рисунок – значит определить название изделия, масштаб и изображения видов, размеры изделия и отдельных деталей, их названия и количество, форму, местоположение, материал, вид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22366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делия из древесины обычно состоят из отдельных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етале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оторые различным способом соединяют друг с дру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жде чем изготовить какую-либо деталь, выполняют её графическое изображение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ехнический рисунок, эскиз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чертё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960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1907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хнический рису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бъёмное изображение предмета, выполненное от руки с указанием размеров                    и материала. Знак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2» на рисунке обозначает, что диаметр отверстия равен 12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19720" y="1536840"/>
            <a:ext cx="449568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Эск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ет собой плоское изображение детали (изделия), выполненное от руки, с указанием размеров. Эскиз выполняется без соблюдения точного масштаба, но с соблюдением пропорций между частями детали (издел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86320" y="1066680"/>
            <a:ext cx="4427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4419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те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графическое изображение изделия, выполненное по определенным правилам с помощью  чертежных инструментов               с указанием размеров, наименования, масштаба                     и материала,              из которого изготовлено издел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4960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441972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чертеже (эскизе) показывают несколько видов изделия. Виды выполняют, исходя из того, как наблюдают изделие: спереди, сверху или сбоку (слев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исло видов на чертеже (эскизе) должно быть таким, чтобы давать полное представление о форме предм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4191120" cy="4084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3829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5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сто деталь имеет такие большие размеры,            что её изображение в натуральную величину           не помещается на листе бумаги. Трудно также изобразить в натуральную величину очень маленькую деталь. Для этого используют уменьшенное или увеличенное изображение де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5151600" cy="3503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238880" y="2637000"/>
            <a:ext cx="14479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, которое показывает, во сколько раз уменьшены или увеличены действительные размеры детали, называю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асштаб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 не может быть произвольным. Установлены строго определенные масштабы: например, для уменьшения – 1:2, 1:4, 1:50000 и др., а для увеличения 2:1, 4:1, 10:1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ертеже, выполненном в любом масштабе, проставляю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йствительны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род России</cp:lastModifiedBy>
  <dcterms:modified xsi:type="dcterms:W3CDTF">2011-09-23T09:15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