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8721C-DDC0-4521-9D18-C07938E5C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9F49D-2BC5-4ACF-8F7A-FA80FDFB2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025F1-22BC-4D56-9047-7642EC759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F136B-5355-4E13-B6DC-31ABD80E9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833C6-3B47-41E0-BAA5-F9C1B85D4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BDA39-5728-4595-850B-A10374305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70E02-AFE6-40B1-9765-127BEFAB4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73C60-7DB4-4B52-B07F-D8D52E061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4E2DA-EDCF-4C1A-9A9F-3F6290090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3AB08-6F62-4553-B882-772059E1A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144D4-07C9-49E1-B433-54767184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BDE38-DE33-4400-964A-3921C6886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66400-D602-4EF1-A21D-3C0E765F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5AAD4-1E87-4CA8-99BE-043003B49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836B6-DF25-470A-BCC1-F8B440E36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D40EB-28F8-41D6-93F4-89733D5D6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9F4CE-71A5-4FAA-9ED5-9A99B25A7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3E796-B8F4-4D93-A573-BE61C5B96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6AAEF-F28C-42AF-9C86-847526900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FEC36-5EAD-4B23-A4E7-01B894137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E0C9E-3992-4993-9F88-4A633E915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374EC-0315-45A5-88F0-811642A1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A0B8C-019B-4ED6-B249-B1CE7EBC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DDC7B-9D58-4F7C-92B0-8BE87EBC3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00F60-1580-4AA2-956D-6BBE7EEB15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B2B92-C917-4B30-9885-11573F74F7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Графическое изображение деталей из древесины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8765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езентацию выполнила учитель ГОУ СОШ № 380 Красносельского района г. Санкт-Петербурга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урова М.Г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66992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Размер (в миллиметрах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проставляют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над размерной линие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слева направ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снизу ввер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Наименование единиц измерения не указываю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124080" y="685800"/>
            <a:ext cx="30672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52574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лщину детали обозначают латинской буквой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 цифра, стоящая справа от этой буквы, показывает толщи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666880" y="457200"/>
            <a:ext cx="4000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6840" y="838080"/>
            <a:ext cx="83818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читать чертеж, эскиз, технический рисунок – значит определить название изделия, масштаб и изображения видов, размеры изделия и отдельных деталей, их названия и количество, форму, местоположение, материал, вид соедин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505320" y="4191120"/>
            <a:ext cx="22366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403848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делия из древесины обычно состоят из отдельных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детале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которые различным способом соединяют друг с друг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жде чем изготовить какую-либо деталь, выполняют её графическое изображение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технический рисунок, эскиз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чертёж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495680" y="1752480"/>
            <a:ext cx="449604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560" y="533160"/>
            <a:ext cx="419076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Технический рисуно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то объёмное изображение предмета, выполненное от руки с указанием размеров                    и материала. Знак 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2» на рисунке обозначает, что диаметр отверстия равен 12 м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419720" y="1536840"/>
            <a:ext cx="4495680" cy="42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403848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Эски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представляет собой плоское изображение детали (изделия), выполненное от руки, с указанием размеров. Эскиз выполняется без соблюдения точного масштаба, но с соблюдением пропорций между частями детали (изделия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486320" y="1066680"/>
            <a:ext cx="442764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228240" y="456840"/>
            <a:ext cx="441972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Черте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это графическое изображение изделия, выполненное по определенным правилам с помощью  чертежных инструментов               с указанием размеров, наименования, масштаба                     и материала,              из которого изготовлено издел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495680" y="1447920"/>
            <a:ext cx="44960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52280" y="4419720"/>
            <a:ext cx="88394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чертеже (эскизе) показывают несколько видов изделия. Виды выполняют, исходя из того, как наблюдают изделие: спереди, сверху или сбоку (слева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Число видов на чертеже (эскизе) должно быть таким, чтобы давать полное представление о форме предме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800600" y="457200"/>
            <a:ext cx="4191120" cy="40845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1219320"/>
            <a:ext cx="3382920" cy="27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286000" y="152280"/>
            <a:ext cx="457200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43434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асто деталь имеет такие большие размеры,            что её изображение в натуральную величину           не помещается на листе бумаги. Трудно также изобразить в натуральную величину очень маленькую деталь. Для этого используют уменьшенное или увеличенное изображение дета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5151600" cy="35038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238880" y="2637000"/>
            <a:ext cx="1447920" cy="12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исло, которое показывает, во сколько раз уменьшены или увеличены действительные размеры детали, называют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масштабо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сштаб не может быть произвольным. Установлены строго определенные масштабы: например, для уменьшения – 1:2, 1:4, 1:50000 и др., а для увеличения 2:1, 4:1, 10:1 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чертеже, выполненном в любом масштабе, проставляют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действительны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ме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род России</cp:lastModifiedBy>
  <dcterms:modified xsi:type="dcterms:W3CDTF">2011-09-23T09:15:48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