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  <p:custShowLst>
    <p:custShow name="1" id="0">
      <p:sldLst>
        <p:sld r:id="rId8"/>
      </p:sldLst>
    </p:custShow>
    <p:custShow name="2" id="1">
      <p:sldLst>
        <p:sld r:id="rId9"/>
      </p:sldLst>
    </p:custShow>
    <p:custShow name="3" id="2">
      <p:sldLst>
        <p:sld r:id="rId10"/>
      </p:sldLst>
    </p:custShow>
    <p:custShow name="4" id="3">
      <p:sldLst>
        <p:sld r:id="rId11"/>
      </p:sldLst>
    </p:custShow>
    <p:custShow name="5" id="4">
      <p:sldLst>
        <p:sld r:id="rId12"/>
      </p:sldLst>
    </p:custShow>
    <p:custShow name="6" id="5">
      <p:sldLst>
        <p:sld r:id="rId13"/>
      </p:sldLst>
    </p:custShow>
    <p:custShow name="7" id="6">
      <p:sldLst>
        <p:sld r:id="rId14"/>
      </p:sldLst>
    </p:custShow>
    <p:custShow name="8" id="7">
      <p:sldLst>
        <p:sld r:id="rId15"/>
      </p:sldLst>
    </p:custShow>
    <p:custShow name="9" id="8">
      <p:sldLst>
        <p:sld r:id="rId16"/>
      </p:sldLst>
    </p:custShow>
    <p:custShow name="Основной" id="9">
      <p:sldLst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A732-0701-4DB7-8F6A-352C504A5C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 с цифрами не удалять. Изображения на них изменить 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ь картинку нажав на неё левой кнопкой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авой кнопкой и выбрать -Формат надписи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а первой вкладке –Цвета и линии-, в разделе –Заливка-, находим -цвет-, нажимаем на перевернутый уголок около цвета и выбираем -Способы заливки…-  (на этом этапе можно просто выбрать цвет, тогда получите однотонный прямоугольн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выбираем вкладку –Рисунок- (она скорее всего уже открыта на неё), затем пониже написано – рисунок- жмём на надпись и выбираем свой рисунок. При желании можно выбрать и другие способы зали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еще раз обращаю вним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 НЕ УДАЛЯЙТЕ РИСУНКИ С ЦИФРАМИ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15640" y="1267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250920" y="541440"/>
            <a:ext cx="144144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Quiz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“Around the UK”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27280" y="4869000"/>
            <a:ext cx="56167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56" name="Picture 4" descr="карта"/>
          <p:cNvPicPr/>
          <p:nvPr/>
        </p:nvPicPr>
        <p:blipFill>
          <a:blip r:embed="rId1"/>
          <a:stretch/>
        </p:blipFill>
        <p:spPr>
          <a:xfrm>
            <a:off x="108000" y="3141720"/>
            <a:ext cx="3085920" cy="360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od l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ou are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ucky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today. You’ve got a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good chanc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удача"/>
          <p:cNvPicPr/>
          <p:nvPr/>
        </p:nvPicPr>
        <p:blipFill>
          <a:blip r:embed="rId1"/>
          <a:stretch/>
        </p:blipFill>
        <p:spPr>
          <a:xfrm>
            <a:off x="250920" y="3343320"/>
            <a:ext cx="3889440" cy="28940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18" name="Picture 11" descr="good-luck-clover-2"/>
          <p:cNvPicPr/>
          <p:nvPr/>
        </p:nvPicPr>
        <p:blipFill>
          <a:blip r:embed="rId2"/>
          <a:stretch/>
        </p:blipFill>
        <p:spPr>
          <a:xfrm>
            <a:off x="4788000" y="3301920"/>
            <a:ext cx="4103640" cy="29019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big fa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It’s not your da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failure"/>
          <p:cNvPicPr/>
          <p:nvPr/>
        </p:nvPicPr>
        <p:blipFill>
          <a:blip r:embed="rId1"/>
          <a:stretch/>
        </p:blipFill>
        <p:spPr>
          <a:xfrm>
            <a:off x="395280" y="1197000"/>
            <a:ext cx="3306600" cy="35179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22" name="Picture 11" descr="лузер"/>
          <p:cNvPicPr/>
          <p:nvPr/>
        </p:nvPicPr>
        <p:blipFill>
          <a:blip r:embed="rId2"/>
          <a:stretch/>
        </p:blipFill>
        <p:spPr>
          <a:xfrm>
            <a:off x="5148360" y="1197000"/>
            <a:ext cx="3600360" cy="34560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87280" y="1736640"/>
            <a:ext cx="71928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87280" y="310680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87280" y="449280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87280" y="588024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993080" y="1736640"/>
            <a:ext cx="7192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7993080" y="588024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994520" y="449280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994520" y="310680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62040" y="267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oose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676520" y="1630440"/>
            <a:ext cx="1439640" cy="107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809880" y="1989000"/>
            <a:ext cx="1440000" cy="10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3600" y="2349360"/>
            <a:ext cx="1440000" cy="10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676520" y="3252960"/>
            <a:ext cx="1439640" cy="107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610080"/>
            <a:ext cx="1440000" cy="107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3600" y="3971880"/>
            <a:ext cx="144000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676520" y="4873680"/>
            <a:ext cx="1439640" cy="10792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5232240"/>
            <a:ext cx="1440000" cy="107964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943600" y="5592600"/>
            <a:ext cx="1440000" cy="107964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50920" y="1700280"/>
            <a:ext cx="79200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50920" y="3070080"/>
            <a:ext cx="79200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50920" y="4456080"/>
            <a:ext cx="792000" cy="792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250920" y="5843520"/>
            <a:ext cx="792000" cy="792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7956720" y="1700280"/>
            <a:ext cx="792000" cy="792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7956720" y="5843520"/>
            <a:ext cx="792000" cy="792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7958160" y="4456080"/>
            <a:ext cx="792000" cy="79236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958160" y="3070080"/>
            <a:ext cx="792000" cy="79236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8"/>
          <p:cNvSpPr/>
          <p:nvPr/>
        </p:nvSpPr>
        <p:spPr>
          <a:xfrm>
            <a:off x="241200" y="371520"/>
            <a:ext cx="1079640" cy="936720"/>
          </a:xfrm>
          <a:custGeom>
            <a:avLst/>
            <a:gdLst>
              <a:gd name="textAreaLeft" fmla="*/ 381600 w 1079640"/>
              <a:gd name="textAreaRight" fmla="*/ 698040 w 1079640"/>
              <a:gd name="textAreaTop" fmla="*/ 330840 h 936720"/>
              <a:gd name="textAreaBottom" fmla="*/ 605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54" y="11346"/>
                </a:lnTo>
                <a:lnTo>
                  <a:pt x="368" y="13595"/>
                </a:lnTo>
                <a:lnTo>
                  <a:pt x="6647" y="12478"/>
                </a:lnTo>
                <a:lnTo>
                  <a:pt x="1447" y="16200"/>
                </a:lnTo>
                <a:lnTo>
                  <a:pt x="7223" y="13496"/>
                </a:lnTo>
                <a:lnTo>
                  <a:pt x="3163" y="18437"/>
                </a:lnTo>
                <a:lnTo>
                  <a:pt x="8042" y="14330"/>
                </a:lnTo>
                <a:lnTo>
                  <a:pt x="5400" y="20153"/>
                </a:lnTo>
                <a:lnTo>
                  <a:pt x="9050" y="14923"/>
                </a:lnTo>
                <a:lnTo>
                  <a:pt x="8005" y="21232"/>
                </a:lnTo>
                <a:lnTo>
                  <a:pt x="10177" y="15235"/>
                </a:lnTo>
                <a:lnTo>
                  <a:pt x="10800" y="21600"/>
                </a:lnTo>
                <a:lnTo>
                  <a:pt x="11346" y="15246"/>
                </a:lnTo>
                <a:lnTo>
                  <a:pt x="13595" y="21232"/>
                </a:lnTo>
                <a:lnTo>
                  <a:pt x="12478" y="14953"/>
                </a:lnTo>
                <a:lnTo>
                  <a:pt x="16200" y="20153"/>
                </a:lnTo>
                <a:lnTo>
                  <a:pt x="13496" y="14377"/>
                </a:lnTo>
                <a:lnTo>
                  <a:pt x="18437" y="18437"/>
                </a:lnTo>
                <a:lnTo>
                  <a:pt x="14330" y="13558"/>
                </a:lnTo>
                <a:lnTo>
                  <a:pt x="20153" y="16200"/>
                </a:lnTo>
                <a:lnTo>
                  <a:pt x="14923" y="12550"/>
                </a:lnTo>
                <a:lnTo>
                  <a:pt x="21232" y="13595"/>
                </a:lnTo>
                <a:lnTo>
                  <a:pt x="15235" y="11423"/>
                </a:lnTo>
                <a:lnTo>
                  <a:pt x="21600" y="10800"/>
                </a:lnTo>
                <a:lnTo>
                  <a:pt x="15246" y="10254"/>
                </a:lnTo>
                <a:lnTo>
                  <a:pt x="21232" y="8005"/>
                </a:lnTo>
                <a:lnTo>
                  <a:pt x="14953" y="9122"/>
                </a:lnTo>
                <a:lnTo>
                  <a:pt x="20153" y="5400"/>
                </a:lnTo>
                <a:lnTo>
                  <a:pt x="14377" y="8104"/>
                </a:lnTo>
                <a:lnTo>
                  <a:pt x="18437" y="3163"/>
                </a:lnTo>
                <a:lnTo>
                  <a:pt x="13558" y="7270"/>
                </a:lnTo>
                <a:lnTo>
                  <a:pt x="16200" y="1447"/>
                </a:lnTo>
                <a:lnTo>
                  <a:pt x="12550" y="6677"/>
                </a:lnTo>
                <a:lnTo>
                  <a:pt x="13595" y="368"/>
                </a:lnTo>
                <a:lnTo>
                  <a:pt x="11423" y="6365"/>
                </a:lnTo>
                <a:lnTo>
                  <a:pt x="10800" y="0"/>
                </a:lnTo>
                <a:lnTo>
                  <a:pt x="10254" y="6354"/>
                </a:lnTo>
                <a:lnTo>
                  <a:pt x="8005" y="368"/>
                </a:lnTo>
                <a:lnTo>
                  <a:pt x="9122" y="6647"/>
                </a:lnTo>
                <a:lnTo>
                  <a:pt x="5400" y="1447"/>
                </a:lnTo>
                <a:lnTo>
                  <a:pt x="8104" y="7223"/>
                </a:lnTo>
                <a:lnTo>
                  <a:pt x="3163" y="3163"/>
                </a:lnTo>
                <a:lnTo>
                  <a:pt x="7270" y="8042"/>
                </a:lnTo>
                <a:lnTo>
                  <a:pt x="1447" y="5400"/>
                </a:lnTo>
                <a:lnTo>
                  <a:pt x="6677" y="9050"/>
                </a:lnTo>
                <a:lnTo>
                  <a:pt x="368" y="8005"/>
                </a:lnTo>
                <a:lnTo>
                  <a:pt x="6365" y="1017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9"/>
          <p:cNvSpPr/>
          <p:nvPr/>
        </p:nvSpPr>
        <p:spPr>
          <a:xfrm>
            <a:off x="7823160" y="371520"/>
            <a:ext cx="1079640" cy="936720"/>
          </a:xfrm>
          <a:custGeom>
            <a:avLst/>
            <a:gdLst>
              <a:gd name="textAreaLeft" fmla="*/ 381600 w 1079640"/>
              <a:gd name="textAreaRight" fmla="*/ 698040 w 1079640"/>
              <a:gd name="textAreaTop" fmla="*/ 330840 h 936720"/>
              <a:gd name="textAreaBottom" fmla="*/ 605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54" y="11346"/>
                </a:lnTo>
                <a:lnTo>
                  <a:pt x="368" y="13595"/>
                </a:lnTo>
                <a:lnTo>
                  <a:pt x="6647" y="12478"/>
                </a:lnTo>
                <a:lnTo>
                  <a:pt x="1447" y="16200"/>
                </a:lnTo>
                <a:lnTo>
                  <a:pt x="7223" y="13496"/>
                </a:lnTo>
                <a:lnTo>
                  <a:pt x="3163" y="18437"/>
                </a:lnTo>
                <a:lnTo>
                  <a:pt x="8042" y="14330"/>
                </a:lnTo>
                <a:lnTo>
                  <a:pt x="5400" y="20153"/>
                </a:lnTo>
                <a:lnTo>
                  <a:pt x="9050" y="14923"/>
                </a:lnTo>
                <a:lnTo>
                  <a:pt x="8005" y="21232"/>
                </a:lnTo>
                <a:lnTo>
                  <a:pt x="10177" y="15235"/>
                </a:lnTo>
                <a:lnTo>
                  <a:pt x="10800" y="21600"/>
                </a:lnTo>
                <a:lnTo>
                  <a:pt x="11346" y="15246"/>
                </a:lnTo>
                <a:lnTo>
                  <a:pt x="13595" y="21232"/>
                </a:lnTo>
                <a:lnTo>
                  <a:pt x="12478" y="14953"/>
                </a:lnTo>
                <a:lnTo>
                  <a:pt x="16200" y="20153"/>
                </a:lnTo>
                <a:lnTo>
                  <a:pt x="13496" y="14377"/>
                </a:lnTo>
                <a:lnTo>
                  <a:pt x="18437" y="18437"/>
                </a:lnTo>
                <a:lnTo>
                  <a:pt x="14330" y="13558"/>
                </a:lnTo>
                <a:lnTo>
                  <a:pt x="20153" y="16200"/>
                </a:lnTo>
                <a:lnTo>
                  <a:pt x="14923" y="12550"/>
                </a:lnTo>
                <a:lnTo>
                  <a:pt x="21232" y="13595"/>
                </a:lnTo>
                <a:lnTo>
                  <a:pt x="15235" y="11423"/>
                </a:lnTo>
                <a:lnTo>
                  <a:pt x="21600" y="10800"/>
                </a:lnTo>
                <a:lnTo>
                  <a:pt x="15246" y="10254"/>
                </a:lnTo>
                <a:lnTo>
                  <a:pt x="21232" y="8005"/>
                </a:lnTo>
                <a:lnTo>
                  <a:pt x="14953" y="9122"/>
                </a:lnTo>
                <a:lnTo>
                  <a:pt x="20153" y="5400"/>
                </a:lnTo>
                <a:lnTo>
                  <a:pt x="14377" y="8104"/>
                </a:lnTo>
                <a:lnTo>
                  <a:pt x="18437" y="3163"/>
                </a:lnTo>
                <a:lnTo>
                  <a:pt x="13558" y="7270"/>
                </a:lnTo>
                <a:lnTo>
                  <a:pt x="16200" y="1447"/>
                </a:lnTo>
                <a:lnTo>
                  <a:pt x="12550" y="6677"/>
                </a:lnTo>
                <a:lnTo>
                  <a:pt x="13595" y="368"/>
                </a:lnTo>
                <a:lnTo>
                  <a:pt x="11423" y="6365"/>
                </a:lnTo>
                <a:lnTo>
                  <a:pt x="10800" y="0"/>
                </a:lnTo>
                <a:lnTo>
                  <a:pt x="10254" y="6354"/>
                </a:lnTo>
                <a:lnTo>
                  <a:pt x="8005" y="368"/>
                </a:lnTo>
                <a:lnTo>
                  <a:pt x="9122" y="6647"/>
                </a:lnTo>
                <a:lnTo>
                  <a:pt x="5400" y="1447"/>
                </a:lnTo>
                <a:lnTo>
                  <a:pt x="8104" y="7223"/>
                </a:lnTo>
                <a:lnTo>
                  <a:pt x="3163" y="3163"/>
                </a:lnTo>
                <a:lnTo>
                  <a:pt x="7270" y="8042"/>
                </a:lnTo>
                <a:lnTo>
                  <a:pt x="1447" y="5400"/>
                </a:lnTo>
                <a:lnTo>
                  <a:pt x="6677" y="9050"/>
                </a:lnTo>
                <a:lnTo>
                  <a:pt x="368" y="8005"/>
                </a:lnTo>
                <a:lnTo>
                  <a:pt x="6365" y="1017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Match: what do these initials mean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GCSE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type of private hot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B&amp;B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national radio and TV compa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BBC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member of British Parli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MP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n exam at secondary sch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me these people.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se are some promp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9" descr="шекспир"/>
          <p:cNvPicPr/>
          <p:nvPr/>
        </p:nvPicPr>
        <p:blipFill>
          <a:blip r:embed="rId1"/>
          <a:stretch/>
        </p:blipFill>
        <p:spPr>
          <a:xfrm>
            <a:off x="669960" y="2741760"/>
            <a:ext cx="2606760" cy="309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9" name="Picture 20" descr="завоеватель"/>
          <p:cNvPicPr/>
          <p:nvPr/>
        </p:nvPicPr>
        <p:blipFill>
          <a:blip r:embed="rId2"/>
          <a:stretch/>
        </p:blipFill>
        <p:spPr>
          <a:xfrm>
            <a:off x="5456160" y="2637000"/>
            <a:ext cx="236232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0" name="Text Box 21"/>
          <p:cNvSpPr/>
          <p:nvPr/>
        </p:nvSpPr>
        <p:spPr>
          <a:xfrm>
            <a:off x="179280" y="765000"/>
            <a:ext cx="878544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a) He conquered Great Britain. He was a king. He built the Tower of Lon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b) He was English. He was born in 1564. He was a writer and a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4883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Name the countries and their capi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6" descr="SevIrlandiaBig"/>
          <p:cNvPicPr/>
          <p:nvPr/>
        </p:nvPicPr>
        <p:blipFill>
          <a:blip r:embed="rId1"/>
          <a:stretch/>
        </p:blipFill>
        <p:spPr>
          <a:xfrm>
            <a:off x="395280" y="1459080"/>
            <a:ext cx="3456000" cy="207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3" name="Picture 27" descr="111"/>
          <p:cNvPicPr/>
          <p:nvPr/>
        </p:nvPicPr>
        <p:blipFill>
          <a:blip r:embed="rId2"/>
          <a:stretch/>
        </p:blipFill>
        <p:spPr>
          <a:xfrm>
            <a:off x="5148360" y="1413000"/>
            <a:ext cx="3095640" cy="201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4" name="Picture 28" descr="800px-Flag_of_Wales_2"/>
          <p:cNvPicPr/>
          <p:nvPr/>
        </p:nvPicPr>
        <p:blipFill>
          <a:blip r:embed="rId3"/>
          <a:stretch/>
        </p:blipFill>
        <p:spPr>
          <a:xfrm>
            <a:off x="5148360" y="4076640"/>
            <a:ext cx="290808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5" name="Picture 29" descr="222"/>
          <p:cNvPicPr/>
          <p:nvPr/>
        </p:nvPicPr>
        <p:blipFill>
          <a:blip r:embed="rId4"/>
          <a:stretch/>
        </p:blipFill>
        <p:spPr>
          <a:xfrm>
            <a:off x="395280" y="4114800"/>
            <a:ext cx="3240000" cy="206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667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Put these holidays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in the correct o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971640" y="1989000"/>
            <a:ext cx="7345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)     New Year’s Day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b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April Fool’s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Guy Fawkes’ Day,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St. Valentine’s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Halloween,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hrist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596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me only places of interest in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8" descr="букингем"/>
          <p:cNvPicPr/>
          <p:nvPr/>
        </p:nvPicPr>
        <p:blipFill>
          <a:blip r:embed="rId1"/>
          <a:stretch/>
        </p:blipFill>
        <p:spPr>
          <a:xfrm>
            <a:off x="179280" y="1268280"/>
            <a:ext cx="3330720" cy="266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0" name="Picture 29" descr="оксфорд"/>
          <p:cNvPicPr/>
          <p:nvPr/>
        </p:nvPicPr>
        <p:blipFill>
          <a:blip r:embed="rId2"/>
          <a:stretch/>
        </p:blipFill>
        <p:spPr>
          <a:xfrm>
            <a:off x="5722920" y="4157640"/>
            <a:ext cx="3313080" cy="25113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01" name="Picture 30" descr="св павел"/>
          <p:cNvPicPr/>
          <p:nvPr/>
        </p:nvPicPr>
        <p:blipFill>
          <a:blip r:embed="rId3"/>
          <a:stretch/>
        </p:blipFill>
        <p:spPr>
          <a:xfrm>
            <a:off x="5567400" y="1268280"/>
            <a:ext cx="3468600" cy="266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2" name="Picture 31" descr="опера сидней"/>
          <p:cNvPicPr/>
          <p:nvPr/>
        </p:nvPicPr>
        <p:blipFill>
          <a:blip r:embed="rId4"/>
          <a:stretch/>
        </p:blipFill>
        <p:spPr>
          <a:xfrm>
            <a:off x="179280" y="4076640"/>
            <a:ext cx="3492720" cy="2587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3" name="Picture 32" descr="uk-london-ev-bigben-Lon_21"/>
          <p:cNvPicPr/>
          <p:nvPr/>
        </p:nvPicPr>
        <p:blipFill>
          <a:blip r:embed="rId5"/>
          <a:stretch/>
        </p:blipFill>
        <p:spPr>
          <a:xfrm>
            <a:off x="3081240" y="3032280"/>
            <a:ext cx="3219480" cy="24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4" name="Text Box 33"/>
          <p:cNvSpPr/>
          <p:nvPr/>
        </p:nvSpPr>
        <p:spPr>
          <a:xfrm>
            <a:off x="17928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324000" y="6302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5703840" y="1474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5796000" y="638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320364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558000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6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 the English c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55640" y="1628640"/>
            <a:ext cx="748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The Black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London E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The Strait of Pas de Cala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ch the writers to their literary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412640"/>
            <a:ext cx="4281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vanho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Charlie and the Chocolate Fact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Othel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appy Pri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Alice’s Adventures in Wonder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 Lord of the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179280" y="1413000"/>
            <a:ext cx="47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J.R.R. Tolk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illiam Shakespe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ewis Car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oald D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scar W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r Walter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45:14Z</dcterms:created>
  <dc:creator/>
  <dc:description/>
  <dc:language>en-US</dc:language>
  <cp:lastModifiedBy>Level</cp:lastModifiedBy>
  <dcterms:modified xsi:type="dcterms:W3CDTF">2012-06-18T03:55:1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