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gif" ContentType="image/gif"/>
  <Override PartName="/ppt/media/image9.gif" ContentType="image/gif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2.gif" ContentType="image/gif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1988-BD0D-4840-B1B9-A87672E90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8FA1-27FA-4C4B-9B97-CD7E20DF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48E3-E258-42C5-9234-660D03199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924D-E6C3-455F-95F0-D516D961C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5CC1-844D-4592-B99D-E48DBBC2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38B2-2655-4197-BDAC-E07F2753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8CF5-077B-4523-8EC4-2AF6626A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B7E3-DD23-4BB1-A034-E21B8B21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888E-E806-40D5-AD2A-242F114D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D256-593E-400A-B09B-48FF4FE3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C640-B7E8-48BC-A1B2-E0EA8960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AD4E-4355-4A2E-AA8A-D357150E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3B70-7A2D-42E0-BD70-323444223E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Пиломатериалы 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и древесные материал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выполнила учитель ГОУ СОШ № 380 Красносельского района г. Санкт-Петербург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рова М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ревесные материал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не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СП (древесностружечные плиты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П (древесноволокнистые плит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138"/>
          <p:cNvPicPr/>
          <p:nvPr/>
        </p:nvPicPr>
        <p:blipFill>
          <a:blip r:embed="rId1"/>
          <a:stretch/>
        </p:blipFill>
        <p:spPr>
          <a:xfrm>
            <a:off x="3124080" y="3200400"/>
            <a:ext cx="312444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Копия Копия 20111007_224603"/>
          <p:cNvPicPr/>
          <p:nvPr/>
        </p:nvPicPr>
        <p:blipFill>
          <a:blip r:embed="rId1"/>
          <a:stretch/>
        </p:blipFill>
        <p:spPr>
          <a:xfrm>
            <a:off x="1219320" y="304920"/>
            <a:ext cx="6904080" cy="37209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80880" y="44197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ане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искусственный древесный материал, состоящий из трех или более листов шп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по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тонкий слой древесины, который срезается ножом специального станка с бревна, предварительно пропаренного в горячей в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по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учают двумя способами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рога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ущ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строгании бревно неподвижно, а нож движется вперед и назад и слой за слоем срезает древес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лущении бревно приводят во вращение и неподвижный нож, подводимый к бревну, срезает тонкий слой древес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Копия (3) Копия 20111007_225136"/>
          <p:cNvPicPr/>
          <p:nvPr/>
        </p:nvPicPr>
        <p:blipFill>
          <a:blip r:embed="rId1"/>
          <a:stretch/>
        </p:blipFill>
        <p:spPr>
          <a:xfrm>
            <a:off x="1752480" y="2895480"/>
            <a:ext cx="5486400" cy="33768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2"/>
          <p:cNvSpPr/>
          <p:nvPr/>
        </p:nvSpPr>
        <p:spPr>
          <a:xfrm>
            <a:off x="1832760" y="6247800"/>
            <a:ext cx="54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ение шпона: а – строганного, б – луще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оганый шпон используют для облицовки меб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Анимация ДВЕРЬ И КОТЕНОК"/>
          <p:cNvPicPr/>
          <p:nvPr/>
        </p:nvPicPr>
        <p:blipFill>
          <a:blip r:embed="rId1"/>
          <a:stretch/>
        </p:blipFill>
        <p:spPr>
          <a:xfrm>
            <a:off x="4419720" y="129528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28600" y="914040"/>
            <a:ext cx="4572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щеный шпон используют для изготовления многослойной фанеры. Фанеру делают в основном из древесины бере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сты шпона укладывают друг на друга так, чтобы направление волокон в них было перпендикулярно друг другу. Это делает фанеру прочным материалом.  Листы шпона равномерно намазывают клеем и сжимают под прессом определен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Копия (4) Копия 20111007_225136"/>
          <p:cNvPicPr/>
          <p:nvPr/>
        </p:nvPicPr>
        <p:blipFill>
          <a:blip r:embed="rId1"/>
          <a:stretch/>
        </p:blipFill>
        <p:spPr>
          <a:xfrm>
            <a:off x="4876920" y="609480"/>
            <a:ext cx="3941640" cy="45259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5029200" y="55620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оложение шпона в фане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СП (древесностружечные плиты) получают путем прессования и склеивания измельченной древесины в виде стружек, опилок, древесной пыли. Для производства древесностружечных плит используют в основном древесные отходы и даже кору. Они прочны, почти не коробятся, хорошо обрабатываются режущими инструментами. Из них изготавливают мебель, двери, перегородки, стены, полы. Однако с течением времени они выделяют вредные для здоровья вещества, поэтому их нежелательно применять в жилых помеще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П (древесноволокнистые плиты прессуют в виде листов из пропаренной и измельченной до отдельных волокон древесной массы. Они имеют приятный серый цвет, ровные поверхности, хорошо гнутся, как и фанера. Применяют для внутренней отделки помещений: облицовывания стен, потолков, полов, в производстве мебели, две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достатком фанеры, ДСП и ДВП является то, что они боятся сырости. Под действием воды и влаги фанера расслаивается, а плиты разбухают, теряют прочность и рассыпа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8080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04"/>
          <p:cNvPicPr/>
          <p:nvPr/>
        </p:nvPicPr>
        <p:blipFill>
          <a:blip r:embed="rId1"/>
          <a:stretch/>
        </p:blipFill>
        <p:spPr>
          <a:xfrm>
            <a:off x="2514600" y="2133720"/>
            <a:ext cx="4114800" cy="4005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40384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заготовке древесины лесорубы при помощи специальных механических пил спиливают деревья. Операторы сучкорезных машин обрезают ветви и сучья. Полученные бревна отправляют на лесопильные рамы (пилорам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Копия (2) Копия 20111007_225136"/>
          <p:cNvPicPr/>
          <p:nvPr/>
        </p:nvPicPr>
        <p:blipFill>
          <a:blip r:embed="rId1"/>
          <a:stretch/>
        </p:blipFill>
        <p:spPr>
          <a:xfrm>
            <a:off x="4648320" y="304920"/>
            <a:ext cx="4128840" cy="6248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3520" y="45716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родольном распиливании стволов деревьев на лесопильных рамах получают различные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иломатериал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брусья, бруски, доски, пластины, четвертины и горбы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Копия Копия 20111007_225136"/>
          <p:cNvPicPr/>
          <p:nvPr/>
        </p:nvPicPr>
        <p:blipFill>
          <a:blip r:embed="rId1"/>
          <a:stretch/>
        </p:blipFill>
        <p:spPr>
          <a:xfrm>
            <a:off x="2752560" y="228600"/>
            <a:ext cx="4203720" cy="4343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ру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иломатериал толщиной и шириной более 100 м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Копия Копия 20111007_224450"/>
          <p:cNvPicPr/>
          <p:nvPr/>
        </p:nvPicPr>
        <p:blipFill>
          <a:blip r:embed="rId1"/>
          <a:stretch/>
        </p:blipFill>
        <p:spPr>
          <a:xfrm>
            <a:off x="990720" y="1523880"/>
            <a:ext cx="7391160" cy="40244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1066680" y="6010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- брус четырехкантный;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– брус двухкан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рус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иломатериал толщиной менее          100 мм и шириной менее двойной толщ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Копия (2) Копия 20111007_224450"/>
          <p:cNvPicPr/>
          <p:nvPr/>
        </p:nvPicPr>
        <p:blipFill>
          <a:blip r:embed="rId1"/>
          <a:stretch/>
        </p:blipFill>
        <p:spPr>
          <a:xfrm>
            <a:off x="1600200" y="1600200"/>
            <a:ext cx="5867280" cy="44704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3886200" y="6247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бру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ос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иломатериал толщиной до 100 мм и шириной более двойной толщ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Копия (3) Копия 20111007_224450"/>
          <p:cNvPicPr/>
          <p:nvPr/>
        </p:nvPicPr>
        <p:blipFill>
          <a:blip r:embed="rId1"/>
          <a:stretch/>
        </p:blipFill>
        <p:spPr>
          <a:xfrm>
            <a:off x="533520" y="2438280"/>
            <a:ext cx="8304120" cy="25686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8"/>
          <p:cNvSpPr/>
          <p:nvPr/>
        </p:nvSpPr>
        <p:spPr>
          <a:xfrm>
            <a:off x="1749960" y="5409000"/>
            <a:ext cx="63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- доски обрезные;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доски необрез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ластин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лучают при продольном распиливании бревна пополам, а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етвертин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на четыре ч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Копия (4) Копия 20111007_224450"/>
          <p:cNvPicPr/>
          <p:nvPr/>
        </p:nvPicPr>
        <p:blipFill>
          <a:blip r:embed="rId1"/>
          <a:stretch/>
        </p:blipFill>
        <p:spPr>
          <a:xfrm>
            <a:off x="990720" y="1981080"/>
            <a:ext cx="7543800" cy="33912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0"/>
          <p:cNvSpPr/>
          <p:nvPr/>
        </p:nvSpPr>
        <p:spPr>
          <a:xfrm>
            <a:off x="2589480" y="5866200"/>
            <a:ext cx="44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ластина;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четвер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орбыле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блап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зывают выпиленную боковую часть брев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Копия (5) Копия 20111007_224450"/>
          <p:cNvPicPr/>
          <p:nvPr/>
        </p:nvPicPr>
        <p:blipFill>
          <a:blip r:embed="rId1"/>
          <a:stretch/>
        </p:blipFill>
        <p:spPr>
          <a:xfrm>
            <a:off x="4191120" y="1143000"/>
            <a:ext cx="4724280" cy="34210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>
            <a:off x="4876920" y="544104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горбы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Копия (6) Копия 20111007_224450"/>
          <p:cNvPicPr/>
          <p:nvPr/>
        </p:nvPicPr>
        <p:blipFill>
          <a:blip r:embed="rId1"/>
          <a:stretch/>
        </p:blipFill>
        <p:spPr>
          <a:xfrm>
            <a:off x="133200" y="762120"/>
            <a:ext cx="4935600" cy="52480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181120" y="228600"/>
            <a:ext cx="35053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иломатериал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ют следующие элементы: пласти, кромки, ребра и тор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ласть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ют широкую плоскость пиломатериала, а кромкой – узкую плоск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бр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вляется линия пересечения этих двух плоск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оре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оперечная (торцовая) плоскость пиломатери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0-08T08:25:26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