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4494-EB0F-4258-8884-54530C01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E3B-BAC5-46D1-AE0A-A7576339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C37-6455-4EF4-B509-66341D1C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663-C11F-4E4B-B0AD-27D0020D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A36-0BE4-4C52-B814-DC8BFC1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0E2-58D0-4058-99A1-9F5E7E8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4D1-904B-42BA-9607-BA7EDE8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DBE-67F4-4279-B059-8429BD31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327-EEB8-49BA-BB8C-437631A5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C19-A616-41F7-BDCC-95636E6D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EA7-C86C-42CD-8EA2-D81F885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A09-80EF-49DE-8A8F-B33024B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B0A6-FAF6-4218-89B5-B8C56C3A5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иломатериал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и древесные материал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ГОУ СОШ № 380 Красносельского района г. Санкт-Петербур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ова М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евесные материа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не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СП (древесностружечные плит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П (древесноволокнистые пли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138"/>
          <p:cNvPicPr/>
          <p:nvPr/>
        </p:nvPicPr>
        <p:blipFill>
          <a:blip r:embed="rId1"/>
          <a:stretch/>
        </p:blipFill>
        <p:spPr>
          <a:xfrm>
            <a:off x="3124080" y="3200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Копия Копия 20111007_224603"/>
          <p:cNvPicPr/>
          <p:nvPr/>
        </p:nvPicPr>
        <p:blipFill>
          <a:blip r:embed="rId1"/>
          <a:stretch/>
        </p:blipFill>
        <p:spPr>
          <a:xfrm>
            <a:off x="1219320" y="304920"/>
            <a:ext cx="6904080" cy="37209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880" y="44197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ан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искусственный древесный материал, состоящий из трех или более листов шп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п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онкий слой древесины, который срезается ножом специального станка с бревна, предварительно пропаренного в горячей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п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учают двумя способами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ог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щ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трогании бревно неподвижно, а нож движется вперед и назад и слой за слоем срезает древес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ущении бревно приводят во вращение и неподвижный нож, подводимый к бревну, срезает тонкий слой древес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Копия (3) Копия 20111007_225136"/>
          <p:cNvPicPr/>
          <p:nvPr/>
        </p:nvPicPr>
        <p:blipFill>
          <a:blip r:embed="rId1"/>
          <a:stretch/>
        </p:blipFill>
        <p:spPr>
          <a:xfrm>
            <a:off x="1752480" y="2895480"/>
            <a:ext cx="5486400" cy="3376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2"/>
          <p:cNvSpPr/>
          <p:nvPr/>
        </p:nvSpPr>
        <p:spPr>
          <a:xfrm>
            <a:off x="1832760" y="6247800"/>
            <a:ext cx="54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ение шпона: а – строганного, б – луще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аный шпон используют для облицовки меб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Анимация ДВЕРЬ И КОТЕНОК"/>
          <p:cNvPicPr/>
          <p:nvPr/>
        </p:nvPicPr>
        <p:blipFill>
          <a:blip r:embed="rId1"/>
          <a:stretch/>
        </p:blipFill>
        <p:spPr>
          <a:xfrm>
            <a:off x="4419720" y="12952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щеный шпон используют для изготовления многослойной фанеры. Фанеру делают в основном из древесины бер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сты шпона укладывают друг на друга так, чтобы направление волокон в них было перпендикулярно друг другу. Это делает фанеру прочным материалом.  Листы шпона равномерно намазывают клеем и сжимают под прессом определенн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опия (4) Копия 20111007_225136"/>
          <p:cNvPicPr/>
          <p:nvPr/>
        </p:nvPicPr>
        <p:blipFill>
          <a:blip r:embed="rId1"/>
          <a:stretch/>
        </p:blipFill>
        <p:spPr>
          <a:xfrm>
            <a:off x="4876920" y="609480"/>
            <a:ext cx="394164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5029200" y="5562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ие шпона в фан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СП (древесностружечные плиты) получают путем прессования и склеивания измельченной древесины в виде стружек, опилок, древесной пыли. Для производства древесностружечных плит используют в основном древесные отходы и даже кору. Они прочны, почти не коробятся, хорошо обрабатываются режущими инструментами. Из них изготавливают мебель, двери, перегородки, стены, полы. Однако с течением времени они выделяют вредные для здоровья вещества, поэтому их нежелательно применять в жилых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П (древесноволокнистые плиты прессуют в виде листов из пропаренной и измельченной до отдельных волокон древесной массы. Они имеют приятный серый цвет, ровные поверхности, хорошо гнутся, как и фанера. Применяют для внутренней отделки помещений: облицовывания стен, потолков, полов, в производстве мебели, д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ом фанеры, ДСП и ДВП является то, что они боятся сырости. Под действием воды и влаги фанера расслаивается, а плиты разбухают, теряют прочность и рассып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04"/>
          <p:cNvPicPr/>
          <p:nvPr/>
        </p:nvPicPr>
        <p:blipFill>
          <a:blip r:embed="rId1"/>
          <a:stretch/>
        </p:blipFill>
        <p:spPr>
          <a:xfrm>
            <a:off x="2514600" y="2133720"/>
            <a:ext cx="4114800" cy="400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заготовке древесины лесорубы при помощи специальных механических пил спиливают деревья. Операторы сучкорезных машин обрезают ветви и сучья. Полученные бревна отправляют на лесопильные рамы (пилора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Копия (2) Копия 20111007_225136"/>
          <p:cNvPicPr/>
          <p:nvPr/>
        </p:nvPicPr>
        <p:blipFill>
          <a:blip r:embed="rId1"/>
          <a:stretch/>
        </p:blipFill>
        <p:spPr>
          <a:xfrm>
            <a:off x="4648320" y="304920"/>
            <a:ext cx="412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4571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дольном распиливании стволов деревьев на лесопильных рамах получают различны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ломатериа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брусья, бруски, доски, пластины, четвертины и гор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Копия Копия 20111007_225136"/>
          <p:cNvPicPr/>
          <p:nvPr/>
        </p:nvPicPr>
        <p:blipFill>
          <a:blip r:embed="rId1"/>
          <a:stretch/>
        </p:blipFill>
        <p:spPr>
          <a:xfrm>
            <a:off x="2752560" y="228600"/>
            <a:ext cx="42037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ру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и шириной более 100 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Копия Копия 20111007_224450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024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066680" y="6010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брус четырехкантный;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брус двухка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ру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менее          100 мм и шириной менее двойной тол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Копия (2) Копия 20111007_224450"/>
          <p:cNvPicPr/>
          <p:nvPr/>
        </p:nvPicPr>
        <p:blipFill>
          <a:blip r:embed="rId1"/>
          <a:stretch/>
        </p:blipFill>
        <p:spPr>
          <a:xfrm>
            <a:off x="1600200" y="1600200"/>
            <a:ext cx="5867280" cy="4470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886200" y="6247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бру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иломатериал толщиной до 100 мм и шириной более двойной тол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Копия (3) Копия 20111007_224450"/>
          <p:cNvPicPr/>
          <p:nvPr/>
        </p:nvPicPr>
        <p:blipFill>
          <a:blip r:embed="rId1"/>
          <a:stretch/>
        </p:blipFill>
        <p:spPr>
          <a:xfrm>
            <a:off x="533520" y="2438280"/>
            <a:ext cx="8304120" cy="2568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1749960" y="5409000"/>
            <a:ext cx="63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доски обрезные;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ски необрез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ст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лучают при продольном распиливании бревна пополам, 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четверт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четыре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Копия (4) Копия 20111007_224450"/>
          <p:cNvPicPr/>
          <p:nvPr/>
        </p:nvPicPr>
        <p:blipFill>
          <a:blip r:embed="rId1"/>
          <a:stretch/>
        </p:blipFill>
        <p:spPr>
          <a:xfrm>
            <a:off x="990720" y="1981080"/>
            <a:ext cx="7543800" cy="3391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2589480" y="58662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ластина;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етвер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рбыл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лап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выпиленную боковую часть бре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Копия (5) Копия 20111007_224450"/>
          <p:cNvPicPr/>
          <p:nvPr/>
        </p:nvPicPr>
        <p:blipFill>
          <a:blip r:embed="rId1"/>
          <a:stretch/>
        </p:blipFill>
        <p:spPr>
          <a:xfrm>
            <a:off x="4191120" y="1143000"/>
            <a:ext cx="4724280" cy="3421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76920" y="544104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орбы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Копия (6) Копия 20111007_224450"/>
          <p:cNvPicPr/>
          <p:nvPr/>
        </p:nvPicPr>
        <p:blipFill>
          <a:blip r:embed="rId1"/>
          <a:stretch/>
        </p:blipFill>
        <p:spPr>
          <a:xfrm>
            <a:off x="133200" y="762120"/>
            <a:ext cx="4935600" cy="5248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181120" y="228600"/>
            <a:ext cx="35053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ломатериа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следующие элементы: пласти, кромки, ребра и тор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ла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 широкую плоскость пиломатериала, а кромкой – узкую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б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линия пересечения этих двух плоск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ор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перечная (торцовая) плоскость пило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0-08T08:25:2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