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3A0-DBD6-4540-B03F-4A106FFB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CE8-F24B-44D5-8723-36E319A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EA4-4746-4911-AFBA-EE56D3D9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008-B398-49E4-9E1F-2C6D3BF8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0ED-21C3-4D31-B34B-A93B878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B1E-EEEA-4135-A17D-367DA2A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16F-F16F-448D-8A1D-9B102D0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7FF-DF68-4DBF-A348-C8B6D7EC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C0F-59E1-47B6-9CC7-C2D66A9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CFD-B7C1-45AE-8591-9296C38B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46B-1343-447E-B337-98605B0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79F-F294-421E-AB2F-F7FC4CA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EFCD-DA57-4D3F-8E2A-1A363BCDB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авиток.jpg"/>
          <p:cNvPicPr/>
          <p:nvPr/>
        </p:nvPicPr>
        <p:blipFill>
          <a:blip r:embed="rId4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azdnichek.info/uploads/posts/2010-04/1271883550_img219.jpg" TargetMode="External"/><Relationship Id="rId2" Type="http://schemas.openxmlformats.org/officeDocument/2006/relationships/hyperlink" Target="http://www.stihi.ru/2011/07/24/6234" TargetMode="External"/><Relationship Id="rId3" Type="http://schemas.openxmlformats.org/officeDocument/2006/relationships/hyperlink" Target="http://adgustum.ru/products_pictures/04-039.jpg" TargetMode="External"/><Relationship Id="rId4" Type="http://schemas.openxmlformats.org/officeDocument/2006/relationships/hyperlink" Target="http://www.drawinghowtodraw.com/drawing-lessons/drawing-animals-creatures-lessons/images/howto-draw-penguins-tutorials_html_5e15db1a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Пингви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270828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00360" y="33336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771640" y="551664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1271883550_img219.jpg"/>
          <p:cNvPicPr/>
          <p:nvPr/>
        </p:nvPicPr>
        <p:blipFill>
          <a:blip r:embed="rId1"/>
          <a:stretch/>
        </p:blipFill>
        <p:spPr>
          <a:xfrm>
            <a:off x="1979640" y="3068640"/>
            <a:ext cx="53658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prazdnichek.info/uploads/posts/2010-04/1271883550_img21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ы с рыб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stihi.ru/2011/07/24/623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adgustum.ru/products_pictures/04-03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www.drawinghowtodraw.com/drawing-lessons/drawing-animals-creatures-lessons/images/howto-draw-penguins-tutorials_html_5e15db1a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980058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2867892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1155949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0545398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012188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04640"/>
            <a:ext cx="53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етающая пти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ь камней она гнездитс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ыряльщик, и пловец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нчоусов лове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евалочку поход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акул она находк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пособленность к во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не вез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й ей  не страшен хол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согреться, те, кто мол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аршим жмутся неспрост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чась в складках живо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 с гор кататься птиц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трела на брюхе мчит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лавать, как дельфи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овут е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04-039.jpg"/>
          <p:cNvPicPr/>
          <p:nvPr/>
        </p:nvPicPr>
        <p:blipFill>
          <a:blip r:embed="rId1"/>
          <a:stretch/>
        </p:blipFill>
        <p:spPr>
          <a:xfrm>
            <a:off x="4932360" y="1844640"/>
            <a:ext cx="370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348000" y="549360"/>
            <a:ext cx="55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пингви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owto-draw-penguins-tutorials_html_5e15db1a.jpg"/>
          <p:cNvPicPr/>
          <p:nvPr/>
        </p:nvPicPr>
        <p:blipFill>
          <a:blip r:embed="rId1"/>
          <a:stretch/>
        </p:blipFill>
        <p:spPr>
          <a:xfrm>
            <a:off x="250920" y="907920"/>
            <a:ext cx="3384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33336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исте бумаги рисуем два овала: большой – это туловище пингвина, маленький – его гол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s49800585.jpg"/>
          <p:cNvPicPr/>
          <p:nvPr/>
        </p:nvPicPr>
        <p:blipFill>
          <a:blip r:embed="rId1"/>
          <a:stretch/>
        </p:blipFill>
        <p:spPr>
          <a:xfrm>
            <a:off x="5508720" y="206280"/>
            <a:ext cx="30956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427640" y="40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2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ечаем место расположения клюва, живота и ла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s28678925.jpg"/>
          <p:cNvPicPr/>
          <p:nvPr/>
        </p:nvPicPr>
        <p:blipFill>
          <a:blip r:embed="rId1"/>
          <a:stretch/>
        </p:blipFill>
        <p:spPr>
          <a:xfrm>
            <a:off x="826920" y="333360"/>
            <a:ext cx="36007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643280" y="333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ыми линиями соединяем голову с туловищем. Эта получилась шея нашего пингвина. По бокам рисуем крыл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s11559490.jpg"/>
          <p:cNvPicPr/>
          <p:nvPr/>
        </p:nvPicPr>
        <p:blipFill>
          <a:blip r:embed="rId1"/>
          <a:stretch/>
        </p:blipFill>
        <p:spPr>
          <a:xfrm>
            <a:off x="468360" y="231840"/>
            <a:ext cx="4248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716360" y="62064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Прорисовываем детали клюва и лапок. Добавляем глаза, брови и хохолок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05453986.jpg"/>
          <p:cNvPicPr/>
          <p:nvPr/>
        </p:nvPicPr>
        <p:blipFill>
          <a:blip r:embed="rId1"/>
          <a:stretch/>
        </p:blipFill>
        <p:spPr>
          <a:xfrm>
            <a:off x="539640" y="184320"/>
            <a:ext cx="410364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260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пингви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40121888.jpg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owto-draw-penguins-tutorials_html_5e15db1a.jpg"/>
          <p:cNvPicPr/>
          <p:nvPr/>
        </p:nvPicPr>
        <p:blipFill>
          <a:blip r:embed="rId1"/>
          <a:stretch/>
        </p:blipFill>
        <p:spPr>
          <a:xfrm>
            <a:off x="2700360" y="1268280"/>
            <a:ext cx="3384360" cy="5442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пингви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9:24:15Z</dcterms:created>
  <dc:creator>Компас</dc:creator>
  <dc:description/>
  <dc:language>en-US</dc:language>
  <cp:lastModifiedBy>Компас</cp:lastModifiedBy>
  <dcterms:modified xsi:type="dcterms:W3CDTF">2012-06-18T15:47:03Z</dcterms:modified>
  <cp:revision>5</cp:revision>
  <dc:subject/>
  <dc:title>Пингвин</dc:title>
</cp:coreProperties>
</file>