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97F-82F0-4365-9821-F2AECB9E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B1F-F381-410B-9A86-7095E205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1DB-C028-4D6A-90C6-77F6E679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2B4-A1BE-4888-A616-06F4A762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781-6E60-4731-A931-971AE906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8BAB-7621-4619-8889-5519C8ED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9F4-4511-482C-B580-E7847AF6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4FE9-3A42-4AA8-ADFC-772AC5A0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62A-3B3C-4AB1-BD82-C59C4E9A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792-8FF6-49A4-BC5F-7662874E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65F8-F606-4042-8DA0-17A0B99B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736-F6A6-47E6-B3F0-76AFC68D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D5FA-D957-4EE0-A911-89C8F47CC8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завиток.jpg"/>
          <p:cNvPicPr/>
          <p:nvPr/>
        </p:nvPicPr>
        <p:blipFill>
          <a:blip r:embed="rId4"/>
          <a:stretch/>
        </p:blipFill>
        <p:spPr>
          <a:xfrm>
            <a:off x="158760" y="171360"/>
            <a:ext cx="8802720" cy="651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razdnichek.info/uploads/posts/2010-04/1271883550_img219.jpg" TargetMode="External"/><Relationship Id="rId2" Type="http://schemas.openxmlformats.org/officeDocument/2006/relationships/hyperlink" Target="http://www.stihi.ru/2011/07/24/6234" TargetMode="External"/><Relationship Id="rId3" Type="http://schemas.openxmlformats.org/officeDocument/2006/relationships/hyperlink" Target="http://adgustum.ru/products_pictures/04-039.jpg" TargetMode="External"/><Relationship Id="rId4" Type="http://schemas.openxmlformats.org/officeDocument/2006/relationships/hyperlink" Target="http://www.drawinghowtodraw.com/drawing-lessons/drawing-animals-creatures-lessons/images/howto-draw-penguins-tutorials_html_5e15db1a.jp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011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Monotype Corsiva"/>
                <a:ea typeface="Arial"/>
              </a:rPr>
              <a:t>Пингвин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95640" y="2708280"/>
            <a:ext cx="47527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2700360" y="333360"/>
            <a:ext cx="38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МК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Искитим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Новосиби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771640" y="5516640"/>
            <a:ext cx="39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Автор - 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6" descr="1271883550_img219.jpg"/>
          <p:cNvPicPr/>
          <p:nvPr/>
        </p:nvPicPr>
        <p:blipFill>
          <a:blip r:embed="rId1"/>
          <a:stretch/>
        </p:blipFill>
        <p:spPr>
          <a:xfrm>
            <a:off x="1979640" y="3068640"/>
            <a:ext cx="53658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Используемые 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prazdnichek.info/uploads/posts/2010-04/1271883550_img219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пингвины с рыб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2"/>
              </a:rPr>
              <a:t>http://www.stihi.ru/2011/07/24/6234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загад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3"/>
              </a:rPr>
              <a:t>http://adgustum.ru/products_pictures/04-039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пингв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Monotype Corsiva"/>
                <a:hlinkClick r:id="rId4"/>
              </a:rPr>
              <a:t>http://www.drawinghowtodraw.com/drawing-lessons/drawing-animals-creatures-lessons/images/howto-draw-penguins-tutorials_html_5e15db1a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пингвин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49800585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28678925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11559490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05453986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ttp://andrew-dev.ucoz.ru/_nw/0/s40121888.jpg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этап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24000" y="404640"/>
            <a:ext cx="531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етающая птиц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ь камней она гнездится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ыряльщик, и пловец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анчоусов ловец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евалочку поход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акул она находка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пособленность к вод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ет не везд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рослой ей  не страшен холо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 согреться, те, кто молод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старшим жмутся неспрост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чась в складках живот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ит с гор кататься птица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стрела на брюхе мчится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плавать, как дельфи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овут е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04-039.jpg"/>
          <p:cNvPicPr/>
          <p:nvPr/>
        </p:nvPicPr>
        <p:blipFill>
          <a:blip r:embed="rId1"/>
          <a:stretch/>
        </p:blipFill>
        <p:spPr>
          <a:xfrm>
            <a:off x="4932360" y="1844640"/>
            <a:ext cx="37036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348000" y="549360"/>
            <a:ext cx="554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пингвина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howto-draw-penguins-tutorials_html_5e15db1a.jpg"/>
          <p:cNvPicPr/>
          <p:nvPr/>
        </p:nvPicPr>
        <p:blipFill>
          <a:blip r:embed="rId1"/>
          <a:stretch/>
        </p:blipFill>
        <p:spPr>
          <a:xfrm>
            <a:off x="250920" y="907920"/>
            <a:ext cx="33843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333360"/>
            <a:ext cx="52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Этап 1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листе бумаги рисуем два овала: большой – это туловище пингвина, маленький – его голов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s49800585.jpg"/>
          <p:cNvPicPr/>
          <p:nvPr/>
        </p:nvPicPr>
        <p:blipFill>
          <a:blip r:embed="rId1"/>
          <a:stretch/>
        </p:blipFill>
        <p:spPr>
          <a:xfrm>
            <a:off x="5508720" y="206280"/>
            <a:ext cx="309564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427640" y="404640"/>
            <a:ext cx="432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Этап 2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мечаем место расположения клюва, живота и лап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s28678925.jpg"/>
          <p:cNvPicPr/>
          <p:nvPr/>
        </p:nvPicPr>
        <p:blipFill>
          <a:blip r:embed="rId1"/>
          <a:stretch/>
        </p:blipFill>
        <p:spPr>
          <a:xfrm>
            <a:off x="826920" y="333360"/>
            <a:ext cx="360072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643280" y="333360"/>
            <a:ext cx="41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Этап 3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ными линиями соединяем голову с туловищем. Эта получилась шея нашего пингвина. По бокам рисуем крылья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s11559490.jpg"/>
          <p:cNvPicPr/>
          <p:nvPr/>
        </p:nvPicPr>
        <p:blipFill>
          <a:blip r:embed="rId1"/>
          <a:stretch/>
        </p:blipFill>
        <p:spPr>
          <a:xfrm>
            <a:off x="468360" y="231840"/>
            <a:ext cx="4248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4716360" y="620640"/>
            <a:ext cx="403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Этап 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ин из наиболее важных. Прорисовываем детали клюва и лапок. Добавляем глаза, брови и хохолок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s05453986.jpg"/>
          <p:cNvPicPr/>
          <p:nvPr/>
        </p:nvPicPr>
        <p:blipFill>
          <a:blip r:embed="rId1"/>
          <a:stretch/>
        </p:blipFill>
        <p:spPr>
          <a:xfrm>
            <a:off x="539640" y="184320"/>
            <a:ext cx="410364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324000" y="26028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Этап 5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ираем все вспомогательные и уже не нужные нам линии. Теперь можно обвести пингвина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2" descr="s40121888.jpg"/>
          <p:cNvPicPr/>
          <p:nvPr/>
        </p:nvPicPr>
        <p:blipFill>
          <a:blip r:embed="rId1"/>
          <a:stretch/>
        </p:blipFill>
        <p:spPr>
          <a:xfrm>
            <a:off x="2843280" y="1557360"/>
            <a:ext cx="33130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howto-draw-penguins-tutorials_html_5e15db1a.jpg"/>
          <p:cNvPicPr/>
          <p:nvPr/>
        </p:nvPicPr>
        <p:blipFill>
          <a:blip r:embed="rId1"/>
          <a:stretch/>
        </p:blipFill>
        <p:spPr>
          <a:xfrm>
            <a:off x="2700360" y="1268280"/>
            <a:ext cx="3384360" cy="54421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1403280" y="404640"/>
            <a:ext cx="65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пингвин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09:24:15Z</dcterms:created>
  <dc:creator>Компас</dc:creator>
  <dc:description/>
  <dc:language>en-US</dc:language>
  <cp:lastModifiedBy>Компас</cp:lastModifiedBy>
  <dcterms:modified xsi:type="dcterms:W3CDTF">2012-06-18T15:47:03Z</dcterms:modified>
  <cp:revision>5</cp:revision>
  <dc:subject/>
  <dc:title>Пингвин</dc:title>
</cp:coreProperties>
</file>