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3.png" ContentType="image/png"/>
  <Override PartName="/ppt/media/image2.png" ContentType="image/png"/>
  <Override PartName="/ppt/media/image25.png" ContentType="image/png"/>
  <Override PartName="/ppt/media/image26.wmf" ContentType="image/x-wmf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F64C-157A-43DE-8F06-36DEFA86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071A-3F49-404B-AB85-235CB968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4AE-A9C2-4F30-8D6D-1D6F6A38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E8FE-06EA-44AC-B53E-F83C9B688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ECC7-620A-408E-AC0F-BD307133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A3A3-05B9-4E84-BCB1-5A9438A8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E0BD-9604-4AE4-989D-97331CBB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8415-DBE6-44F7-873B-E67FB015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F8BF-0853-4C99-B7D0-7665B39E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2005-5E3F-45A3-8521-F7ED1A0C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28A7-7E44-451F-9954-10CC205A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DE1F-C762-4223-A68A-144CC198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BF30-B939-4554-9E3E-7C5B1D53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E733-E2F0-48CE-AC7B-0E5EC3B8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69EF-23AE-4294-AF07-E024D54B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E989-B516-4AD2-9123-45F10C5C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C023-7342-4C07-A013-D6030300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BE20-B435-40DC-921A-5B9C69D2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D4BC-7E11-4D84-9B10-4C7B1BBA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3144-B957-4837-90B4-F8A38B88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8A0F-CC56-471E-8644-B9AE59A3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FF8A-3AFB-4A39-B2D4-CCF93D14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54F0-5148-4214-843F-CB33E1E5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ADEA-CAAE-4A5E-B7EC-1ABAD046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6923-9E7C-4AFF-B28D-0DBA39495A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29A7-C249-4641-B69C-498EAA5E62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3" descr=""/>
          <p:cNvPicPr/>
          <p:nvPr/>
        </p:nvPicPr>
        <p:blipFill>
          <a:blip r:embed="rId1"/>
          <a:stretch/>
        </p:blipFill>
        <p:spPr>
          <a:xfrm>
            <a:off x="341280" y="920880"/>
            <a:ext cx="8053560" cy="20844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57120" y="285480"/>
            <a:ext cx="8429760" cy="61434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ОЧНЫЙ КОНКУРС ЭЛЕКТРОННЫХ ПРЕЗЕНТАЦ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тор: Кузнецова Софья, ученица  4 «Б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У-СОШ №2 г. Петровск Саратовска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уководитель: Просвирнина Наталья Пет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10 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Прямоугольник 7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729640" cy="19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38188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Возникает вопрос:     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3059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Не спрятано ли в слове по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год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а слово «год»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38080" y="4419720"/>
            <a:ext cx="2133720" cy="15508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1981080" cy="1586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324480" y="4419720"/>
            <a:ext cx="1828800" cy="1692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7086600" y="533520"/>
            <a:ext cx="1752480" cy="14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Воспользуемся этимологическими словарями, среди которых наиболее известны словари Фасмера и Шанского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ловаре Фасмера нет слова  «погод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то у Шанского происхождение слова погода объясняется следующим образом. Это слово общеславянское, образовано от исчезнувшего слова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д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первичное значение которого было именно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хорошая погод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7010280" y="5257800"/>
            <a:ext cx="18288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380520"/>
            <a:ext cx="83818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т какое извилистое и живописное путешествие совершило слово погода от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этимологических истоков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до более или менее определенного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метеорологического термин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04920" y="5334120"/>
            <a:ext cx="1189080" cy="1199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1143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Жизнь слова «погода» в фольклоре, в песнях, стихах,  рисунках.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6705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Ждать у моря погоды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Ветреного человека и в тихую погоду узнать можно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Горе поверху плыло, погодой к берегу прибило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ушкин писал, скучая в Одессе: «Брожу над морем, жду погоды, маню ветрила кораблей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У природы нет плохой пого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ждая погода благодать…»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Андрей Петр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7086600" y="1752480"/>
            <a:ext cx="1600200" cy="15192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7467480" y="3352680"/>
            <a:ext cx="1300320" cy="17528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6629400" y="5257800"/>
            <a:ext cx="198108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ворческое задание .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Кроссворд на тему «Погода»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33520" y="1676520"/>
          <a:ext cx="4114800" cy="452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41148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4724280" y="1676520"/>
            <a:ext cx="3810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800600" y="2133720"/>
            <a:ext cx="35053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о горизонтал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Её узнать поможет нам термометр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Снег, дождь, град – это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Лежало одеяло мягкое, белое, землю    грел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Ветер подул, одеяло сдул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Солнце припекло, одеяло потекл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Небо чистое, солнечно. Мы говорим: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Он идет, а мы бежим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Он догонит все равно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В дом укрыться мы спешим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Будет к нам стучать в окно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И по крыше тук да тук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Нет, не впустим, милый друг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Нашумела, нагремел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Всё промыла и уш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И сады, и огор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Все округи поли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твет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Температура. 2. Осадки. 3. Снег. 4. Ясно. 5. Дождь. 6. Гроз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Литература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ль В. Толковый словарь живого великорусского языка. М., 195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жегов С.И. Словарь русского языка. М., 195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асмер М. Этимологический словарь русского языка (пер.с нем). М., 198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ромов С.П., Мамонтова Л.И. Метеорологический словарь. Л., 197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анский И.М. и др. Краткий этимологический словарь русского языка. М., 196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54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Цель проекта – создать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энциклопедию слова «погода»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Содержимое 2" descr=""/>
          <p:cNvPicPr/>
          <p:nvPr/>
        </p:nvPicPr>
        <p:blipFill>
          <a:blip r:embed="rId1"/>
          <a:stretch/>
        </p:blipFill>
        <p:spPr>
          <a:xfrm>
            <a:off x="450720" y="1932120"/>
            <a:ext cx="8242560" cy="93348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5"/>
          <p:cNvSpPr/>
          <p:nvPr/>
        </p:nvSpPr>
        <p:spPr>
          <a:xfrm>
            <a:off x="571680" y="500040"/>
            <a:ext cx="785808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828800" y="3276720"/>
            <a:ext cx="5181480" cy="21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ecff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428400"/>
            <a:ext cx="8229600" cy="58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5"/>
          <p:cNvSpPr/>
          <p:nvPr/>
        </p:nvSpPr>
        <p:spPr>
          <a:xfrm>
            <a:off x="2714760" y="500040"/>
            <a:ext cx="3643200" cy="642960"/>
          </a:xfrm>
          <a:prstGeom prst="rect">
            <a:avLst/>
          </a:prstGeom>
          <a:solidFill>
            <a:srgbClr val="e6b9b8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Овал 6"/>
          <p:cNvSpPr/>
          <p:nvPr/>
        </p:nvSpPr>
        <p:spPr>
          <a:xfrm>
            <a:off x="428760" y="1500120"/>
            <a:ext cx="2928960" cy="185760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исследовать слово с научной точки зрения ( с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точки зрения разделов науки о язык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Овал 7"/>
          <p:cNvSpPr/>
          <p:nvPr/>
        </p:nvSpPr>
        <p:spPr>
          <a:xfrm>
            <a:off x="3286080" y="2643120"/>
            <a:ext cx="3357720" cy="192888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понаблюдать, как живет слово в фольклоре, в песнях, стихах,  рисунк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Овал 9"/>
          <p:cNvSpPr/>
          <p:nvPr/>
        </p:nvSpPr>
        <p:spPr>
          <a:xfrm>
            <a:off x="5286240" y="4572000"/>
            <a:ext cx="3429000" cy="18572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выполнить творческие задания с этим слов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3" name="Прямая со стрелкой 11"/>
          <p:cNvCxnSpPr/>
          <p:nvPr/>
        </p:nvCxnSpPr>
        <p:spPr>
          <a:xfrm flipH="1">
            <a:off x="2928600" y="1214280"/>
            <a:ext cx="1000800" cy="501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4" name="Прямая со стрелкой 13"/>
          <p:cNvCxnSpPr/>
          <p:nvPr/>
        </p:nvCxnSpPr>
        <p:spPr>
          <a:xfrm>
            <a:off x="4500720" y="1213920"/>
            <a:ext cx="72000" cy="1429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25" name="Прямая со стрелкой 16" descr=""/>
          <p:cNvPicPr/>
          <p:nvPr/>
        </p:nvPicPr>
        <p:blipFill>
          <a:blip r:embed="rId1"/>
          <a:stretch/>
        </p:blipFill>
        <p:spPr>
          <a:xfrm>
            <a:off x="5694480" y="1195560"/>
            <a:ext cx="1858680" cy="32907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162920" y="762120"/>
            <a:ext cx="1655640" cy="2286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838080" y="4267080"/>
            <a:ext cx="2057400" cy="153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3"/>
          <p:cNvSpPr/>
          <p:nvPr/>
        </p:nvSpPr>
        <p:spPr>
          <a:xfrm>
            <a:off x="3643200" y="571680"/>
            <a:ext cx="2357640" cy="914400"/>
          </a:xfrm>
          <a:prstGeom prst="rect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Наш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действ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Овал 4"/>
          <p:cNvSpPr/>
          <p:nvPr/>
        </p:nvSpPr>
        <p:spPr>
          <a:xfrm>
            <a:off x="142920" y="1714680"/>
            <a:ext cx="3500280" cy="142848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составление плана-сх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Овал 5"/>
          <p:cNvSpPr/>
          <p:nvPr/>
        </p:nvSpPr>
        <p:spPr>
          <a:xfrm>
            <a:off x="285840" y="5072040"/>
            <a:ext cx="3000240" cy="157176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сбор информации (библиотека, интерне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Овал 6"/>
          <p:cNvSpPr/>
          <p:nvPr/>
        </p:nvSpPr>
        <p:spPr>
          <a:xfrm>
            <a:off x="6000840" y="1571760"/>
            <a:ext cx="3000240" cy="157140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систематизация собранного матери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Овал 7"/>
          <p:cNvSpPr/>
          <p:nvPr/>
        </p:nvSpPr>
        <p:spPr>
          <a:xfrm>
            <a:off x="6000840" y="5000760"/>
            <a:ext cx="3000240" cy="157140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mbria"/>
              </a:rPr>
              <a:t>выполнение творческих зад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Шестиугольник 8"/>
          <p:cNvSpPr/>
          <p:nvPr/>
        </p:nvSpPr>
        <p:spPr>
          <a:xfrm>
            <a:off x="2357280" y="3143160"/>
            <a:ext cx="4643640" cy="192888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e6b9b8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Энциклопедия слова «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погода</a:t>
            </a: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»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Стрелка углом вверх 9"/>
          <p:cNvSpPr/>
          <p:nvPr/>
        </p:nvSpPr>
        <p:spPr>
          <a:xfrm flipH="1" flipV="1">
            <a:off x="1285920" y="928800"/>
            <a:ext cx="2286000" cy="714240"/>
          </a:xfrm>
          <a:prstGeom prst="pi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Стрелка вниз 10"/>
          <p:cNvSpPr/>
          <p:nvPr/>
        </p:nvSpPr>
        <p:spPr>
          <a:xfrm>
            <a:off x="1571760" y="3286080"/>
            <a:ext cx="484200" cy="164304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Стрелка вправо 11"/>
          <p:cNvSpPr/>
          <p:nvPr/>
        </p:nvSpPr>
        <p:spPr>
          <a:xfrm>
            <a:off x="3429000" y="5500800"/>
            <a:ext cx="2428920" cy="484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Стрелка вверх 12"/>
          <p:cNvSpPr/>
          <p:nvPr/>
        </p:nvSpPr>
        <p:spPr>
          <a:xfrm>
            <a:off x="7358040" y="3286080"/>
            <a:ext cx="428760" cy="1571760"/>
          </a:xfrm>
          <a:prstGeom prst="upArrow">
            <a:avLst>
              <a:gd name="adj1" fmla="val 50000"/>
              <a:gd name="adj2" fmla="val 49981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Стрелка углом вверх 13"/>
          <p:cNvSpPr/>
          <p:nvPr/>
        </p:nvSpPr>
        <p:spPr>
          <a:xfrm flipH="1" flipV="1">
            <a:off x="4428360" y="2286000"/>
            <a:ext cx="1428840" cy="714240"/>
          </a:xfrm>
          <a:prstGeom prst="pi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01000" cy="12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Начнём с метеорологического термина «погода»: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1760" y="2742840"/>
            <a:ext cx="79246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словарю Хромова и Мамонтовой от 1974 г.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огода- это «непрерывно меняющееся состояние атмосферы», характеризуемое «совокупностью значений метеорологических элементов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1428840" cy="9334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6629400" y="1600200"/>
            <a:ext cx="14000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277560"/>
            <a:ext cx="815364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Словарь Ожегова от 1953 г. дает более короткое и менее двусмысленное определение: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года - это «состояние атмосферы в данном месте, в данное врем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514600" y="3886200"/>
            <a:ext cx="2971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38188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Посмотрим теперь, каким образом «толкуется» это слово в словаре Даля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чальное определение то же самое, что и в предыдущих источниках: погода – это «состояние мироколицы (атмосферы), воздуха». Но тут же, через запятую, добавляется уточнение этого состояния: «…относительно тепла и холода, ветра и затиши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553080" y="5105520"/>
            <a:ext cx="2133720" cy="14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Даль отмечает, что на юге и западе России погода означает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3059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хорошее, ясное, сухое время»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ударила погодка, началась молотьба»; «посеешь в погоду, больше приплоду»; «шубе верь, а погоде (теплу) не верь…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сюда также прилагательное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огожий, погожий день, погожий (пригожий) парен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391520" y="1676520"/>
            <a:ext cx="1295280" cy="12729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1428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А в других местах России под погодой понимают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как раз «непогоду, ненастье, дождь, снег, метель…»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на море погода поднялась»; «семь погод на дворе – сеет, веет, крутит, мутит»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914400" y="4495680"/>
            <a:ext cx="1104840" cy="1133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352680" y="441972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858000" y="4495680"/>
            <a:ext cx="13525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10-12T17:50:5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