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C92-1FA2-4E01-A309-7D6ADA03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9CD-AE02-4596-8E22-42F0EAEF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107-DBC6-4782-85FE-BC02AACF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E7F-9695-4614-8EEE-DAB8DA61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91DC-1D98-4D76-AB79-98A1AC8A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C670-0BF6-4E63-A876-F4DB34C0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20D8-3204-4741-A313-37CEEA57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7794-FB08-4498-B586-3D7D8C8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2D76-D7A4-4786-96A6-CDDC00B3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7396-94D6-4E9E-A3BC-AC526C47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DBCA-21D1-4681-A0C1-F158CC52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B21-D2FE-4546-89C3-2C662CA8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12B0-EF6E-415B-879C-E136EE30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B898-1EDD-43DD-A095-B5748CA1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E95A-2C86-464E-9744-C46B52D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E2EC-B123-4C1B-AAAB-BA8DC32C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DA4-96CD-4361-B448-831FBCD4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443-F831-44C9-A152-387DD196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8FA-30AE-41FF-8C7B-6D64433D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B06-96A4-4594-AC22-CB0CFAA5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57A-2024-4C49-9DF6-14971E89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ED2-D38E-4085-8D72-6ACF87B0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49D-C01A-4795-9C7C-0291CC75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429-60BA-40F3-8CD3-7CB6F257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2709-F0F9-418F-91AF-B6B304D9D2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141E-28A7-48CD-9EF1-D92417DE70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3" descr=""/>
          <p:cNvPicPr/>
          <p:nvPr/>
        </p:nvPicPr>
        <p:blipFill>
          <a:blip r:embed="rId1"/>
          <a:stretch/>
        </p:blipFill>
        <p:spPr>
          <a:xfrm>
            <a:off x="341280" y="920880"/>
            <a:ext cx="8053560" cy="2084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ОЧНЫЙ КОНКУРС ЭЛЕКТРОННЫХ ПРЕЗЕНТ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: Кузнецова Софья, ученица  4 «Б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-СОШ №2 г. Петровск Саратов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: Просвирнина Наталья Пет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0 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Прямоугольник 7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72964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Возникает вопрос:     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 спрятано ли в слове по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од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а слово «год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2133720" cy="1550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1981080" cy="1586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828800" cy="1692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086600" y="533520"/>
            <a:ext cx="175248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оспользуемся этимологическими словарями, среди которых наиболее известны словари Фасмера и Шанског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ловаре Фасмера нет слова  «погод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о у Шанского происхождение слова погода объясняется следующим образом. Это слово общеславянское, образовано от исчезнувшего слова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ервичное значение которого было именно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хорошая погод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010280" y="5257800"/>
            <a:ext cx="18288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т какое извилистое и живописное путешествие совершило слово погода от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этимологических истоков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до более или менее определенного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етеорологического терми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189080" cy="119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Жизнь слова «погода» в фольклоре, в песнях, стихах,  рисунках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6705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Ждать у моря погод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Ветреного человека и в тихую погоду узнать можн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Горе поверху плыло, погодой к берегу прибил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шкин писал, скучая в Одессе: «Брожу над морем, жду погоды, маню ветрила корабле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 природы нет плохой по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ждая погода благодать…»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Андрей Петр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086600" y="1752480"/>
            <a:ext cx="1600200" cy="151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7467480" y="3352680"/>
            <a:ext cx="1300320" cy="1752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19810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ворческое задание 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Кроссворд на тему «Погода»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520" y="1676520"/>
          <a:ext cx="4114800" cy="45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4114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4724280" y="1676520"/>
            <a:ext cx="381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2133720"/>
            <a:ext cx="35053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 горизонт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Её узнать поможет нам термомет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Снег, дождь, град – это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Лежало одеяло мягкое, белое, землю    грел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етер подул, одеяло сду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олнце припекло, одеяло потекл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Небо чистое, солнечно. Мы говорим: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Он идет, а мы бежи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Он догонит все равн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дом укрыться мы спеши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Будет к нам стучать в окн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 по крыше тук да тук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ет, не впустим, милый друг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Нашумела, нагремел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сё промыла и уш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 сады, и огор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се округи поли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Температура. 2. Осадки. 3. Снег. 4. Ясно. 5. Дождь. 6. Гроз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итератур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ь В. Толковый словарь живого великорусского языка. М., 195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жегов С.И. Словарь русского языка. М., 195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смер М. Этимологический словарь русского языка (пер.с нем). М., 198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мов С.П., Мамонтова Л.И. Метеорологический словарь. Л., 197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нский И.М. и др. Краткий этимологический словарь русского языка. М., 196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Цель проекта – создать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энциклопедию слова «погода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Содержимое 2" descr=""/>
          <p:cNvPicPr/>
          <p:nvPr/>
        </p:nvPicPr>
        <p:blipFill>
          <a:blip r:embed="rId1"/>
          <a:stretch/>
        </p:blipFill>
        <p:spPr>
          <a:xfrm>
            <a:off x="450720" y="1932120"/>
            <a:ext cx="8242560" cy="9334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571680" y="500040"/>
            <a:ext cx="78580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518148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ecff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428400"/>
            <a:ext cx="8229600" cy="58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5"/>
          <p:cNvSpPr/>
          <p:nvPr/>
        </p:nvSpPr>
        <p:spPr>
          <a:xfrm>
            <a:off x="2714760" y="500040"/>
            <a:ext cx="3643200" cy="642960"/>
          </a:xfrm>
          <a:prstGeom prst="rect">
            <a:avLst/>
          </a:prstGeom>
          <a:solidFill>
            <a:srgbClr val="e6b9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 6"/>
          <p:cNvSpPr/>
          <p:nvPr/>
        </p:nvSpPr>
        <p:spPr>
          <a:xfrm>
            <a:off x="428760" y="1500120"/>
            <a:ext cx="2928960" cy="18576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сследовать слово с научной точки зрения ( с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чки зрения разделов науки о язык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Овал 7"/>
          <p:cNvSpPr/>
          <p:nvPr/>
        </p:nvSpPr>
        <p:spPr>
          <a:xfrm>
            <a:off x="3286080" y="2643120"/>
            <a:ext cx="3357720" cy="19288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понаблюдать, как живет слово в фольклоре, в песнях, стихах,  рисунк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Овал 9"/>
          <p:cNvSpPr/>
          <p:nvPr/>
        </p:nvSpPr>
        <p:spPr>
          <a:xfrm>
            <a:off x="5286240" y="4572000"/>
            <a:ext cx="3429000" cy="18572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ыполнить творческие задания с этим сло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3" name="Прямая со стрелкой 11"/>
          <p:cNvCxnSpPr/>
          <p:nvPr/>
        </p:nvCxnSpPr>
        <p:spPr>
          <a:xfrm flipH="1">
            <a:off x="2928600" y="1214280"/>
            <a:ext cx="1000800" cy="501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Прямая со стрелкой 13"/>
          <p:cNvCxnSpPr/>
          <p:nvPr/>
        </p:nvCxnSpPr>
        <p:spPr>
          <a:xfrm>
            <a:off x="4500720" y="1213920"/>
            <a:ext cx="72000" cy="1429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25" name="Прямая со стрелкой 16" descr=""/>
          <p:cNvPicPr/>
          <p:nvPr/>
        </p:nvPicPr>
        <p:blipFill>
          <a:blip r:embed="rId1"/>
          <a:stretch/>
        </p:blipFill>
        <p:spPr>
          <a:xfrm>
            <a:off x="5694480" y="1195560"/>
            <a:ext cx="1858680" cy="3290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162920" y="762120"/>
            <a:ext cx="165564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38080" y="4267080"/>
            <a:ext cx="205740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3643200" y="571680"/>
            <a:ext cx="2357640" cy="9144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На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действ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142920" y="1714680"/>
            <a:ext cx="3500280" cy="1428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составление плана-сх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285840" y="5072040"/>
            <a:ext cx="3000240" cy="157176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сбор информации (библиотека, интерн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Овал 6"/>
          <p:cNvSpPr/>
          <p:nvPr/>
        </p:nvSpPr>
        <p:spPr>
          <a:xfrm>
            <a:off x="6000840" y="1571760"/>
            <a:ext cx="3000240" cy="1571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систематизация собранного 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Овал 7"/>
          <p:cNvSpPr/>
          <p:nvPr/>
        </p:nvSpPr>
        <p:spPr>
          <a:xfrm>
            <a:off x="6000840" y="5000760"/>
            <a:ext cx="3000240" cy="1571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выполнение творческих за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Шестиугольник 8"/>
          <p:cNvSpPr/>
          <p:nvPr/>
        </p:nvSpPr>
        <p:spPr>
          <a:xfrm>
            <a:off x="2357280" y="3143160"/>
            <a:ext cx="4643640" cy="192888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Энциклопедия слова «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огода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»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Стрелка углом вверх 9"/>
          <p:cNvSpPr/>
          <p:nvPr/>
        </p:nvSpPr>
        <p:spPr>
          <a:xfrm flipH="1" flipV="1">
            <a:off x="1285920" y="928800"/>
            <a:ext cx="2286000" cy="714240"/>
          </a:xfrm>
          <a:prstGeom prst="pi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Стрелка вниз 10"/>
          <p:cNvSpPr/>
          <p:nvPr/>
        </p:nvSpPr>
        <p:spPr>
          <a:xfrm>
            <a:off x="1571760" y="3286080"/>
            <a:ext cx="484200" cy="16430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Стрелка вправо 11"/>
          <p:cNvSpPr/>
          <p:nvPr/>
        </p:nvSpPr>
        <p:spPr>
          <a:xfrm>
            <a:off x="3429000" y="5500800"/>
            <a:ext cx="242892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Стрелка вверх 12"/>
          <p:cNvSpPr/>
          <p:nvPr/>
        </p:nvSpPr>
        <p:spPr>
          <a:xfrm>
            <a:off x="7358040" y="3286080"/>
            <a:ext cx="428760" cy="157176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Стрелка углом вверх 13"/>
          <p:cNvSpPr/>
          <p:nvPr/>
        </p:nvSpPr>
        <p:spPr>
          <a:xfrm flipH="1" flipV="1">
            <a:off x="4428360" y="2286000"/>
            <a:ext cx="1428840" cy="714240"/>
          </a:xfrm>
          <a:prstGeom prst="pi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10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Начнём с метеорологического термина «погода»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274284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словарю Хромова и Мамонтовой от 1974 г.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года- это «непрерывно меняющееся состояние атмосферы», характеризуемое «совокупностью значений метеорологических элементов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629400" y="1600200"/>
            <a:ext cx="14000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277560"/>
            <a:ext cx="815364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ловарь Ожегова от 1953 г. дает более короткое и менее двусмысленное определение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года - это «состояние атмосферы в данном месте, в данное врем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2971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осмотрим теперь, каким образом «толкуется» это слово в словаре Даля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ьное определение то же самое, что и в предыдущих источниках: погода – это «состояние мироколицы (атмосферы), воздуха». Но тут же, через запятую, добавляется уточнение этого состояния: «…относительно тепла и холода, ветра и затиши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213372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Даль отмечает, что на юге и западе России погода означает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хорошее, ясное, сухое время»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дарила погодка, началась молотьба»; «посеешь в погоду, больше приплоду»; «шубе верь, а погоде (теплу) не верь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сюда также прилагательное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гожий, погожий день, погожий (пригожий) парен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391520" y="1676520"/>
            <a:ext cx="1295280" cy="1272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428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 в других местах России под погодой понимают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как раз «непогоду, ненастье, дождь, снег, метель…»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а море погода поднялась»; «семь погод на дворе – сеет, веет, крутит, мутит»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1104840" cy="113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858000" y="4495680"/>
            <a:ext cx="1352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12T17:50:5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