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45A-E47D-4169-80AA-186AF7C6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A01-44D1-452B-84EF-9E84D09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501-F49B-439D-9F4E-AC031F4F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AEB-7C53-4D7C-8B4C-86EE884E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FEA2-4ACB-4207-BDFE-FD4964E1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2814-1140-4185-87F2-33DA076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AB3-B484-4F32-839C-9058B08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99CE-B220-4A3A-814A-331C2BAF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97E-4D74-4059-8D59-9BFF037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DE7-11D2-4887-89CE-706EE90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322-761C-4674-B427-768444C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8F2-C341-4CFA-9353-85F6742B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3E3-9DAF-4095-80E3-36D36DE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7FA-BDF2-47C8-B1D5-E94318C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C9D4-D2FB-47B4-B830-317E00B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05EC-1E0F-4DB5-80A7-731F119C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068-034E-48DC-B9E3-F58014B9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1EA-7762-4078-A140-348F6C7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5A1-AAFC-4BF1-BCE6-395C5D3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B60-6B7F-4F8F-86EC-546DD305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FBD-B649-40AA-BFD4-C3802B9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A15-4FAF-4D9C-8C56-DF1278C5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C6C-AA3C-48B4-A9C7-E701924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6B6-11F0-48D1-8960-C1EB5AB3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BC3A-7D0C-4E2C-84C3-547D1C5958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F3A-0AE4-4543-858B-788F81252A8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111640" cy="41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M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y 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F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a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v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o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u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r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i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t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e S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e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a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s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o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7640" y="5229000"/>
            <a:ext cx="3097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9" descr="46"/>
          <p:cNvPicPr/>
          <p:nvPr/>
        </p:nvPicPr>
        <p:blipFill>
          <a:blip r:embed="rId1"/>
          <a:stretch/>
        </p:blipFill>
        <p:spPr>
          <a:xfrm>
            <a:off x="5292720" y="1484280"/>
            <a:ext cx="350532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loud-picture-color"/>
          <p:cNvPicPr/>
          <p:nvPr/>
        </p:nvPicPr>
        <p:blipFill>
          <a:blip r:embed="rId2"/>
          <a:stretch/>
        </p:blipFill>
        <p:spPr>
          <a:xfrm>
            <a:off x="4211640" y="-316080"/>
            <a:ext cx="2665440" cy="259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048240d35f90b8a29b59888f8e8e2c2a"/>
          <p:cNvPicPr/>
          <p:nvPr/>
        </p:nvPicPr>
        <p:blipFill>
          <a:blip r:embed="rId3"/>
          <a:stretch/>
        </p:blipFill>
        <p:spPr>
          <a:xfrm>
            <a:off x="1258920" y="4508640"/>
            <a:ext cx="349236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42483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My father and I like fishing very much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have a fishing rod and I can fish myself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каменн-город 008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каменн-город 018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3570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I have a bicycle and I can ride it well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My mother and I play badminton</a:t>
            </a:r>
            <a:r>
              <a:rPr b="1" lang="ru-RU" sz="2800" spc="-1" strike="noStrike">
                <a:solidFill>
                  <a:srgbClr val="ff6702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11" descr="1422083_20111102171444"/>
          <p:cNvPicPr/>
          <p:nvPr/>
        </p:nvPicPr>
        <p:blipFill>
          <a:blip r:embed="rId1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bike-kid"/>
          <p:cNvPicPr/>
          <p:nvPr/>
        </p:nvPicPr>
        <p:blipFill>
          <a:blip r:embed="rId2"/>
          <a:stretch/>
        </p:blipFill>
        <p:spPr>
          <a:xfrm>
            <a:off x="4643280" y="333360"/>
            <a:ext cx="45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367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took a picture of a lizard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t runs fast.</a:t>
            </a: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3" descr="ИЗО07 2010 008"/>
          <p:cNvPicPr/>
          <p:nvPr/>
        </p:nvPicPr>
        <p:blipFill>
          <a:blip r:embed="rId1"/>
          <a:stretch/>
        </p:blipFill>
        <p:spPr>
          <a:xfrm>
            <a:off x="4356000" y="549360"/>
            <a:ext cx="478800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5219640" y="476280"/>
            <a:ext cx="302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43560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Strawberries ripen in summer. They are deliciou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9" descr="klubnika_5"/>
          <p:cNvPicPr/>
          <p:nvPr/>
        </p:nvPicPr>
        <p:blipFill>
          <a:blip r:embed="rId1"/>
          <a:stretch/>
        </p:blipFill>
        <p:spPr>
          <a:xfrm>
            <a:off x="4356000" y="404640"/>
            <a:ext cx="424836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mages"/>
          <p:cNvPicPr/>
          <p:nvPr/>
        </p:nvPicPr>
        <p:blipFill>
          <a:blip r:embed="rId2"/>
          <a:stretch/>
        </p:blipFill>
        <p:spPr>
          <a:xfrm>
            <a:off x="324000" y="3573360"/>
            <a:ext cx="3743280" cy="2951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1"/>
          <p:cNvSpPr/>
          <p:nvPr/>
        </p:nvSpPr>
        <p:spPr>
          <a:xfrm>
            <a:off x="4284720" y="3716280"/>
            <a:ext cx="446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love summer! It is the best time of the year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Give me the joys of summer,</a:t>
            </a:r>
            <a:br>
              <a:rPr sz="4500"/>
            </a:b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Of SUMMER QUEEN so fair,</a:t>
            </a:r>
            <a:br>
              <a:rPr sz="4500"/>
            </a:b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With wealth of lovely flowers</a:t>
            </a:r>
            <a:br>
              <a:rPr sz="4500"/>
            </a:b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And fruits and sun-kissed air</a:t>
            </a:r>
            <a:r>
              <a:rPr b="0" lang="en-US" sz="4500" spc="-1" strike="noStrike">
                <a:solidFill>
                  <a:srgbClr val="ff6702"/>
                </a:solidFill>
                <a:latin typeface="Arial"/>
              </a:rPr>
              <a:t>!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345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Summer is my favourite seaso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7" descr="14812810_4989904_976616978_"/>
          <p:cNvPicPr/>
          <p:nvPr/>
        </p:nvPicPr>
        <p:blipFill>
          <a:blip r:embed="rId1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игорь 090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4500720" y="3716280"/>
            <a:ext cx="410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like it because there are holidays in summer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3287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Nature is beautiful and colourfu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1"/>
          <a:stretch/>
        </p:blipFill>
        <p:spPr>
          <a:xfrm>
            <a:off x="0" y="306864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G_8456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068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4716360" y="3357720"/>
            <a:ext cx="398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Birds are singing in the forest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357012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n summer we have a rest at the Black sea.</a:t>
            </a: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лазаревское 2011 059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39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самсунг 199"/>
          <p:cNvPicPr/>
          <p:nvPr/>
        </p:nvPicPr>
        <p:blipFill>
          <a:blip r:embed="rId2"/>
          <a:stretch/>
        </p:blipFill>
        <p:spPr>
          <a:xfrm>
            <a:off x="0" y="3789360"/>
            <a:ext cx="4716360" cy="3068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4932360" y="4292640"/>
            <a:ext cx="36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We build castles on the sand</a:t>
            </a:r>
            <a:r>
              <a:rPr b="1" lang="ru-RU" sz="4000" spc="-1" strike="noStrike">
                <a:solidFill>
                  <a:srgbClr val="ff6702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60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swim, visit an aquapark,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a dolphinarium and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an oceanarium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6" descr="самсунг 396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Ofhwn6DfvLs"/>
          <p:cNvPicPr/>
          <p:nvPr/>
        </p:nvPicPr>
        <p:blipFill>
          <a:blip r:embed="rId2"/>
          <a:stretch/>
        </p:blipFill>
        <p:spPr>
          <a:xfrm>
            <a:off x="395280" y="4076640"/>
            <a:ext cx="411156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1251846399_ryby"/>
          <p:cNvPicPr/>
          <p:nvPr/>
        </p:nvPicPr>
        <p:blipFill>
          <a:blip r:embed="rId3"/>
          <a:stretch/>
        </p:blipFill>
        <p:spPr>
          <a:xfrm>
            <a:off x="4932360" y="4076640"/>
            <a:ext cx="4211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357012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6702"/>
                </a:solidFill>
                <a:latin typeface="Arial"/>
              </a:rPr>
              <a:t>In the evening we look at sunset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6" descr="414_anapa_big"/>
          <p:cNvPicPr/>
          <p:nvPr/>
        </p:nvPicPr>
        <p:blipFill>
          <a:blip r:embed="rId1"/>
          <a:stretch/>
        </p:blipFill>
        <p:spPr>
          <a:xfrm>
            <a:off x="4643280" y="260280"/>
            <a:ext cx="4500720" cy="309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турция 185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"/>
          <p:cNvSpPr/>
          <p:nvPr/>
        </p:nvSpPr>
        <p:spPr>
          <a:xfrm>
            <a:off x="4716360" y="3716280"/>
            <a:ext cx="417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Once we saw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a thunderstorm at the sea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35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702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like to spend my time in my native town Gubakha, too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6" descr="1а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979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4427640" y="3573360"/>
            <a:ext cx="4392360" cy="26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My brother Igor and my sister Yulya visit me in summer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Picture 13" descr="ИЗОБРАЖ 07 2010 005"/>
          <p:cNvPicPr/>
          <p:nvPr/>
        </p:nvPicPr>
        <p:blipFill>
          <a:blip r:embed="rId2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71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My grandfather and I go to Krestovaya mountain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6" descr="ИЗО07 2010 055"/>
          <p:cNvPicPr/>
          <p:nvPr/>
        </p:nvPicPr>
        <p:blipFill>
          <a:blip r:embed="rId1"/>
          <a:stretch/>
        </p:blipFill>
        <p:spPr>
          <a:xfrm>
            <a:off x="5105520" y="333360"/>
            <a:ext cx="403848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игорь 132"/>
          <p:cNvPicPr/>
          <p:nvPr/>
        </p:nvPicPr>
        <p:blipFill>
          <a:blip r:embed="rId2"/>
          <a:stretch/>
        </p:blipFill>
        <p:spPr>
          <a:xfrm>
            <a:off x="395280" y="3828960"/>
            <a:ext cx="4753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5076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We fry sausages, drink water from the spring and fly a kite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6" descr="игорь 023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412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%D0%B2%D0%BE%D0%B7%D0%B4%D1%83%D1%88%D0%BD%D1%8B%D0%B9_%D0%B7%D0%BC%D0%B5%D0%B9_%D0%B5%D0%B3%D0%BE_%D0%BF%D0%BE%D0%BB%D0%B5%D1%82_%D0%B2%D1%8B%D1%81%D0%BE%D0%BA_"/>
          <p:cNvPicPr/>
          <p:nvPr/>
        </p:nvPicPr>
        <p:blipFill>
          <a:blip r:embed="rId2"/>
          <a:stretch/>
        </p:blipFill>
        <p:spPr>
          <a:xfrm>
            <a:off x="468360" y="3789360"/>
            <a:ext cx="44640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5651640" y="2852640"/>
            <a:ext cx="3024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219640" y="4365720"/>
            <a:ext cx="3924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00:21Z</dcterms:created>
  <dc:creator>XTreme</dc:creator>
  <dc:description/>
  <cp:keywords/>
  <dc:language>en-US</dc:language>
  <cp:lastModifiedBy>PUTNIK OS</cp:lastModifiedBy>
  <dcterms:modified xsi:type="dcterms:W3CDTF">2012-06-16T10:25:19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