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667D-F25E-429B-B6B4-3C6EC82286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1B51-986B-4CC8-BA3F-ADD97B547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8D6-AAE3-481D-AB3E-7BE4805C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B81-68B9-412F-AB3E-D39C8B9C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240-B835-4360-B812-62C0FE8C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AC4-9FFA-49CE-9ED0-57CD3EE9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C718-09FF-4D56-B899-5B1E6B0E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7F55-DA82-49A1-8109-8300FE5C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6D56-5B3D-41C0-B8BD-DB97E20F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F2C7-9966-4217-A08E-759EFC8D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C824-70C3-4FFA-936B-7BA61557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5147-67DF-4C5C-AC2D-D2168B6F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B952-0CD7-493E-B7F9-06D4EA66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367-F53D-48C0-A031-8952EDA1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2B98-399F-4CF0-9E7D-DA91F7CA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2F20-8F32-4222-AC5D-318CE214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722F-D59D-4256-A577-428CD9F1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05F5-6638-47D1-9614-5FB8E005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15CA-204C-4D2F-9113-219C1D10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A892-4807-4BE4-905D-B9CEA7F8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0FCA-7EA1-4DE8-AB1E-2F33659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C1A2-0458-4575-B527-49F67A48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3EDB-EF9A-4969-87AB-316357DB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B902-401C-4761-A179-E3C7C473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50A-97E7-426C-8193-C9314AC3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31DF-D63B-438A-BA72-BE526A81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F58E-478C-4C49-BDAB-C38DAE46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21B8-CAD0-4378-8A44-7D30AB85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7D11-5C1F-4465-A4FB-0D2896E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C632-7B1A-476B-B3C2-E6E9CFCA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B8BE-CCA8-46A9-BA5C-44727EE6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0DD6-2992-469E-9BFC-15D45023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F49-F93B-4383-8C04-33BEF9AD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FEC-B68A-4D23-8C7F-F4718F80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4B7-5FA8-4C4C-A521-BC53FDDE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9F1-9C0D-45A0-8A6D-B97BEDE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4B8-FC56-4224-91C0-04260D12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E79-F1EA-4196-880E-9CA44D4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8100-1146-4D41-AFDD-3D68259A1AD3}" type="slidenum">
              <a:rPr b="0" lang="en-US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7594-175A-443A-92B7-801511D56A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915E-5E19-4D44-8B2D-49A02F328B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7186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4104"/>
                </a:solidFill>
                <a:latin typeface="Arial"/>
              </a:rPr>
              <a:t>Модель урока на основе коммуникативно-деятельностного подх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Актуализация зн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696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Основные задачи учител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ктуализация имеющихся знаний, способов действия в новых условиях; формирование умения задавать вопросы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звитие произвольного внимания и памяти, познавательных интересов и инициативы учащихся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коммуникативных умений, культуры общения, сотрудничества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280" y="3500280"/>
          <a:ext cx="8209080" cy="183852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оставление материала, позволяющего осуществить переход к изучению нового материал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споминают соответствующие учебные задачи, делают содержательные обобщ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п целеполагани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696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рефлексивных умений определять границу между знанием и незнанием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владение обобщенными способами приобретения новых знаний: приемами постановки и определения проблемы, формулировки частной познавательной задачи, выделения в задаче известных и новых компонентов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познавательных мотивов учебной деятельности: стремления открыть знания, приобрести умения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3500280"/>
          <a:ext cx="8209080" cy="29368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оставляет “конфликтный” материал, создает готовность к предстояще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являют познавательную инициативу. Главное – осознание возникшего интеллектуального затруднения, противоречия, дефицита знаний, формулировка эвристических вопросов, заданий. Осознание цели предстояще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Этап планир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7696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анализировать, сравнивать имеющийся учебный материал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еделять содержание и последовательность действий для решения поставленной задач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ание культуры делового общения, положительного отношения учеников к мнению одноклассников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каждого ученика к участию в работе в малых группах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4000" y="3068640"/>
          <a:ext cx="8208720" cy="244332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оставляет достаточное количество материала, побуждающего к высказыванию предложений о способах изучения данного объекта, предложение учащимся самим составить пл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бота в группах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общение результатов наблюдения, составление плана предстоящей деятельности, выбор средств, необходимых для открытия “нового”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“Открытие” нового зн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основ теоретического мышления, развитие умений находить общее, закономерности, отличное; развитие способности к обобщению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ание способности высказывать свою точку зрения о способах решения практической задач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определять содержание и последовательность действий для решения поставленной задач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сравнивать свое планирование с итоговым коллективно составленным алгоритмом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владение приемами самоконтроля правильности полученных результатов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каждого ученика к участию в работе в малых группах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ание культуры делового общения, положительного отношения учеников к мнению одноклассников, умения оказывать и принимать помощь;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50920" y="620640"/>
          <a:ext cx="8066160" cy="5400360"/>
        </p:xfrm>
        <a:graphic>
          <a:graphicData uri="http://schemas.openxmlformats.org/drawingml/2006/table">
            <a:tbl>
              <a:tblPr/>
              <a:tblGrid>
                <a:gridCol w="3600360"/>
                <a:gridCol w="446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буждает учащихся к теоретическому объяснению фактов, противоречий между ними. Стимулирует активное участие всех детей в поисковой дея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улирует обобщенные вопросы: Что мы узнали нового? Отличается ли наш вывод от правила в учебнике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полнение, каких действий приведет нас к решению учебной задачи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монстрирует коллективно составленный алгорит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ают в группах варианты решения учебной задачи. Обосновывают выбор общего решения или несогласия с мнением других. Представители от групп сообщают о результатах коллективной поисковой работы, отвечают на вопросы учеников из других групп. Фиксируют на бумаге, доске свое “открытие”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ценивают правильность своих выводов, решений. Осуществляют самопроверку, самооценку полученных результа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наруживают закономерности, обобщают результаты наблюдения, составляют план действий – алгоритм. Представляют составленный алгоритм от групп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воды о полноте и правильности, сравнение с правилом в учебнике. Внесение изменений в индивидуальные алгорит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883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Учебные действия по реализации пла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7696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общеучебных умений и навыков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способности к комментированию, обоснованию своих действи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владение умениями соотносить свои действия с планом – осуществлять самоконтроль, корректировку действи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стимулирует доброжелательное взаимодействие учащихся при выполнении учебных действ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0" y="2781360"/>
          <a:ext cx="8893080" cy="3652920"/>
        </p:xfrm>
        <a:graphic>
          <a:graphicData uri="http://schemas.openxmlformats.org/drawingml/2006/table">
            <a:tbl>
              <a:tblPr/>
              <a:tblGrid>
                <a:gridCol w="5580000"/>
                <a:gridCol w="331308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лагает задания на “новое” знание, побуждает учеников к определению и выбору видов работы по достижению целей урока, помогает комментировать учебные действия “ведущему” (сильному ученику), поддерживает интерес и познавательную активность учащихся. Создает условия для сотрудничества – работы в парах, группах. Создание ситуации успеха для каждого. Индивидуальная работа по устранению ошибо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говаривание вслух алгоритма действий в ходе совместного выполнения типовых задан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рабатывают действия, соответствующие мыслительным операциям анализа, синтеза, сравнения, обобщ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существляют работу в малых групп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Рефлексия (итог урока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7696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объективно оценивать меру своего продвижения к цели уро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зывать сопереживания в связи с успехом или неудачей товарищ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8000" y="2492280"/>
          <a:ext cx="8785080" cy="4276800"/>
        </p:xfrm>
        <a:graphic>
          <a:graphicData uri="http://schemas.openxmlformats.org/drawingml/2006/table">
            <a:tbl>
              <a:tblPr/>
              <a:tblGrid>
                <a:gridCol w="4103640"/>
                <a:gridCol w="4681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лагает вспомнить тему и задачи урока, соотнести с планом работы, записанным на доске, и оценить меру своего личного продвижения к цели и успехи класса в цело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жно предложить ребятам назвать наиболее понравившиеся вопросы, ответы уче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яют степень соответствия поставленной цели и результатов деятельност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ывают тему и задачи урока, отмечают наиболее трудные и наиболее понравившиеся эпизоды урока, высказывают оценочные суждения. Определяют степень своего продвижения к це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мечают успешные ответы, интересные вопросы одноклассников, участников группы. Могут отметить продуктивную работу групп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964720" cy="4103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личие учебных мотивов на уроках, ситуаций или проблем, которые приводят к постановке учебных задач, активность учащихся, направленная на их решение, дают знания, которые помогают учащимся выстроить новые знания, в своем опыте и изменить прежний опыт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они (знания) являются средством изменения самого ученика.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8:29:50Z</dcterms:created>
  <dc:creator/>
  <dc:description/>
  <cp:keywords/>
  <dc:language>en-US</dc:language>
  <cp:lastModifiedBy/>
  <dcterms:modified xsi:type="dcterms:W3CDTF">2011-04-03T12:21:17Z</dcterms:modified>
  <cp:revision>3</cp:revision>
  <dc:subject/>
  <dc:title>Слайд 1</dc:title>
</cp:coreProperties>
</file>