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4104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9650-1011-41FD-9312-1EDFE48C10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2483-459F-4652-9F64-9BD3FEBF95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3F54-B44D-432E-AEE1-6327311B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4761-60FC-4BE6-A223-39A8582A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E084-584C-4018-A384-347758F0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9963-78A7-4E94-B9C9-448C13A6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824C-8340-4895-BB70-B76B4B5F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A947-BCC6-4F32-ACC3-D6558028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0CD7-5035-4DAB-89D7-C7834E3C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2B72-AC6B-42F3-9037-54C868BF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0DB5-51F5-4D7E-B165-A85257E2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A617-9A75-4CD0-902F-F9B1A3B6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131F-FB0F-4F00-99D2-24CEC28E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C04-B713-4E4A-BB66-76943F05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0616-A046-4A7A-8264-BCFF0AE9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8EA9-4EC1-4B70-A44C-9466BC2C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3F64-8ABE-4C22-AC41-D6289242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8C8C-0461-4802-A715-CBCD68D2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ED50-B2C3-4263-8088-1F0B2C69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216A5-087E-4FA7-B8D9-51DF08330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17122-F43B-44EF-A12D-7426650A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5AB6F-416B-4DC3-A231-62B7E20A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7CA2B-0A62-42B4-8E04-AE1B91C1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F67E1-23EC-4EBE-B470-E09955FD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BBF7-98CD-4E9A-A3A4-29A9FC00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7AC7F-012B-4677-A102-D5C13E88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4D74D-8696-4D50-B8C1-84BB2C95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0B5DC-D1B5-48CE-8BCB-220310F1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5A1E9-E3AD-4747-BF3E-5D913454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F3C65-8D4E-41B6-9FE2-F268BDA1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CA3BB-5233-4928-83B0-9D151393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5DB9C-776F-4B78-B821-CACED24B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6638-9540-4FEE-A708-0C230D5F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BC5F-B83E-4664-A560-C0869AF5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B387-3894-44BF-9314-BEE77961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7CC-22DE-4B92-AE35-4C639866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0B5-3C51-4F5C-9893-28B73F27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5B2-5064-4F1A-A809-868C43C0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410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41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174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f174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12d1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12d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F9C6-13C3-463F-924A-F92946A2FD8C}" type="slidenum">
              <a:rPr b="0" lang="en-US" sz="1200" spc="-1" strike="noStrike">
                <a:solidFill>
                  <a:srgbClr val="712d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2189-D516-4F16-AB76-90FFB1DF528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5708-02D4-42E2-9BB8-24955E034F9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171864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24104"/>
                </a:solidFill>
                <a:latin typeface="Arial"/>
              </a:rPr>
              <a:t>Модель урока на основе коммуникативно-деятельностного подх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Актуализация зна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7696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Основные задачи учител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ктуализация имеющихся знаний, способов действия в новых условиях; формирование умения задавать вопросы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азвитие произвольного внимания и памяти, познавательных интересов и инициативы учащихся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ормирование коммуникативных умений, культуры общения, сотрудничества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95280" y="3500280"/>
          <a:ext cx="8209080" cy="183852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ител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ащихс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доставление материала, позволяющего осуществить переход к изучению нового материал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споминают соответствующие учебные задачи, делают содержательные обобщ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п целеполагания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7696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Основные задачи учител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ормирование рефлексивных умений определять границу между знанием и незнанием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владение обобщенными способами приобретения новых знаний: приемами постановки и определения проблемы, формулировки частной познавательной задачи, выделения в задаче известных и новых компонентов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ормирование познавательных мотивов учебной деятельности: стремления открыть знания, приобрести умения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95280" y="3500280"/>
          <a:ext cx="8209080" cy="29368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ител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ащихс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доставляет “конфликтный” материал, создает готовность к предстояще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являют познавательную инициативу. Главное – осознание возникшего интеллектуального затруднения, противоречия, дефицита знаний, формулировка эвристических вопросов, заданий. Осознание цели предстояще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Этап планиро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7696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Основные задачи учител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ормирование способности анализировать, сравнивать имеющийся учебный материал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пределять содержание и последовательность действий для решения поставленной задачи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оспитание культуры делового общения, положительного отношения учеников к мнению одноклассников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ормирование способности каждого ученика к участию в работе в малых группах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24000" y="3068640"/>
          <a:ext cx="8208720" cy="2443320"/>
        </p:xfrm>
        <a:graphic>
          <a:graphicData uri="http://schemas.openxmlformats.org/drawingml/2006/table">
            <a:tbl>
              <a:tblPr/>
              <a:tblGrid>
                <a:gridCol w="4105080"/>
                <a:gridCol w="410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ител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ащихс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доставляет достаточное количество материала, побуждающего к высказыванию предложений о способах изучения данного объекта, предложение учащимся самим составить пла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абота в группах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общение результатов наблюдения, составление плана предстоящей деятельности, выбор средств, необходимых для открытия “нового” зн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“Открытие” нового зн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7696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Основные задачи учител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ормирование основ теоретического мышления, развитие умений находить общее, закономерности, отличное; развитие способности к обобщению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оспитание способности высказывать свою точку зрения о способах решения практической задачи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ормирование способности определять содержание и последовательность действий для решения поставленной задачи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ормирование способности сравнивать свое планирование с итоговым коллективно составленным алгоритмом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владение приемами самоконтроля правильности полученных результатов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ормирование способности каждого ученика к участию в работе в малых группах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оспитание культуры делового общения, положительного отношения учеников к мнению одноклассников, умения оказывать и принимать помощь;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50920" y="620640"/>
          <a:ext cx="8066160" cy="5400360"/>
        </p:xfrm>
        <a:graphic>
          <a:graphicData uri="http://schemas.openxmlformats.org/drawingml/2006/table">
            <a:tbl>
              <a:tblPr/>
              <a:tblGrid>
                <a:gridCol w="3600360"/>
                <a:gridCol w="446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ител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ащихс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буждает учащихся к теоретическому объяснению фактов, противоречий между ними. Стимулирует активное участие всех детей в поисковой деятельност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ормулирует обобщенные вопросы: Что мы узнали нового? Отличается ли наш вывод от правила в учебнике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ыполнение, каких действий приведет нас к решению учебной задачи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монстрирует коллективно составленный алгорит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суждают в группах варианты решения учебной задачи. Обосновывают выбор общего решения или несогласия с мнением других. Представители от групп сообщают о результатах коллективной поисковой работы, отвечают на вопросы учеников из других групп. Фиксируют на бумаге, доске свое “открытие”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ценивают правильность своих выводов, решений. Осуществляют самопроверку, самооценку полученных результат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наруживают закономерности, обобщают результаты наблюдения, составляют план действий – алгоритм. Представляют составленный алгоритм от групп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ыводы о полноте и правильности, сравнение с правилом в учебнике. Внесение изменений в индивидуальные алгоритм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38836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Учебные действия по реализации пла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76960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Основные задачи учител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тие общеучебных умений и навыков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итие способности к комментированию, обоснованию своих действий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владение умениями соотносить свои действия с планом – осуществлять самоконтроль, корректировку действий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 стимулирует доброжелательное взаимодействие учащихся при выполнении учебных действи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0" y="2781360"/>
          <a:ext cx="8893080" cy="3652920"/>
        </p:xfrm>
        <a:graphic>
          <a:graphicData uri="http://schemas.openxmlformats.org/drawingml/2006/table">
            <a:tbl>
              <a:tblPr/>
              <a:tblGrid>
                <a:gridCol w="5580000"/>
                <a:gridCol w="331308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ител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ащихс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длагает задания на “новое” знание, побуждает учеников к определению и выбору видов работы по достижению целей урока, помогает комментировать учебные действия “ведущему” (сильному ученику), поддерживает интерес и познавательную активность учащихся. Создает условия для сотрудничества – работы в парах, группах. Создание ситуации успеха для каждого. Индивидуальная работа по устранению ошибо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говаривание вслух алгоритма действий в ходе совместного выполнения типовых задани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рабатывают действия, соответствующие мыслительным операциям анализа, синтеза, сравнения, обобщ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существляют работу в малых групп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Рефлексия (итог урока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7696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Основные задачи учител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Формирование способности объективно оценивать меру своего продвижения к цели урок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ызывать сопереживания в связи с успехом или неудачей товарищ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08000" y="2492280"/>
          <a:ext cx="8785080" cy="4276800"/>
        </p:xfrm>
        <a:graphic>
          <a:graphicData uri="http://schemas.openxmlformats.org/drawingml/2006/table">
            <a:tbl>
              <a:tblPr/>
              <a:tblGrid>
                <a:gridCol w="4103640"/>
                <a:gridCol w="4681440"/>
              </a:tblGrid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ител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ащихс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длагает вспомнить тему и задачи урока, соотнести с планом работы, записанным на доске, и оценить меру своего личного продвижения к цели и успехи класса в целом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жно предложить ребятам назвать наиболее понравившиеся вопросы, ответы уче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пределяют степень соответствия поставленной цели и результатов деятельности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зывают тему и задачи урока, отмечают наиболее трудные и наиболее понравившиеся эпизоды урока, высказывают оценочные суждения. Определяют степень своего продвижения к цел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мечают успешные ответы, интересные вопросы одноклассников, участников группы. Могут отметить продуктивную работу групп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8964720" cy="4103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личие учебных мотивов на уроках, ситуаций или проблем, которые приводят к постановке учебных задач, активность учащихся, направленная на их решение, дают знания, которые помогают учащимся выстроить новые знания, в своем опыте и изменить прежний опыт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они (знания) являются средством изменения самого ученика.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08:29:50Z</dcterms:created>
  <dc:creator/>
  <dc:description/>
  <cp:keywords/>
  <dc:language>en-US</dc:language>
  <cp:lastModifiedBy/>
  <dcterms:modified xsi:type="dcterms:W3CDTF">2011-04-03T12:21:17Z</dcterms:modified>
  <cp:revision>3</cp:revision>
  <dc:subject/>
  <dc:title>Слайд 1</dc:title>
</cp:coreProperties>
</file>