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0.jpeg" ContentType="image/jpeg"/>
  <Override PartName="/ppt/media/image5.png" ContentType="image/png"/>
  <Override PartName="/ppt/media/image8.png" ContentType="image/pn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7.png" ContentType="image/png"/>
  <Override PartName="/ppt/media/image2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21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4.png" ContentType="image/pn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9863-4D9A-4960-A287-E150010D94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B9A6-0BBD-46B6-B3C5-D7A948A24E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5BCC-8BA2-4E13-8A2A-AE75532BE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DECE-913C-4635-A399-0391181A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2C06-75CB-4CE1-9488-6F9F4057F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D916-C5FA-4FED-9142-3C599CF11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B47B-3D37-42D6-8962-BC9058D2C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B363-F468-424B-8EE0-1E1E9A14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E509-8BBB-4C25-8090-984D4102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A6DC-0A19-4A59-87BB-3484B02A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E295-DBCA-4846-9E64-D2527B03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68B7-8152-486B-8B43-C888900A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8DA9-36E9-4D13-B413-0D63C653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B097-0206-47CD-97B6-E064B735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8D2E-250C-470D-8D8E-FD6E8947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A542-6F0E-4353-A059-632541A1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A880-DD66-4F78-86ED-D20B759A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4B18-B527-4064-BC71-D3F712370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E030-F09E-4C47-9875-DDC227A7F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51150-6909-4F7E-B8F7-619809B2C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729EC-F20D-4A0F-A3D3-48A9D281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0B12E-C64D-4B37-94BF-0858E225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4348A-32C0-495E-84C7-B27E3B37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F983A-DA2D-4BE0-8E8E-9EAB2979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D2B7-67FD-4E31-97B2-7EDEBB39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DF5B3-F459-4206-971D-E6988EF4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64145-627E-462E-A7CF-BB574F36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8762C-3DAC-43EC-9312-AC156CFF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56F35-7317-4F97-A37E-1F90DA96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801BB-A588-4DB4-AC8F-348B2AA5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EAEF7-6EFE-484B-83B5-862A19601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C9D1F-381F-4A4B-95CE-625EA8C87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3B748-0C25-4D55-A806-5F81E4470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090E4-DE96-47FF-BB83-75D3DCC7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A4E07-D3E5-40D7-9427-87BBC2AF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D25B-7887-449D-9468-D002967A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A6127-587D-46FA-A425-6984050C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F426E-1352-4A5C-A06F-D2F3774D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FA695-F6F7-44B2-9B98-0023E5D3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D557A-E0D6-4163-9E53-60D72791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119B1-AC88-42C6-9924-3C1D6ECF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DA792-F951-4139-8E23-CAAA57E4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6BA85-F0D9-4203-9F38-09AC2C6F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27F7B-2938-4379-AABF-699E156E7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3F2B8-8AD6-4D2D-9C03-85B93833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03E4-A231-426A-A992-3CCF721E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4AE9-2485-4381-B2F6-68232227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B35B-E44B-43A3-BE5A-1C6C2F6A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CE11-655F-446A-825A-A652FE6C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6FBC-36BA-417B-91B1-746D3D87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F0AE-A43C-487F-BAD7-14FC4E06C54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0385-C714-4235-A7B7-B4A75C32146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0AC5-41A0-4173-99BB-A1DE896B46B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91B4-67DD-4E96-B9EF-7D08F90ABE3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Рисунок 34" descr="http://shkolazhizni.ru/img/content/i45/45839.jpg"/>
          <p:cNvPicPr/>
          <p:nvPr/>
        </p:nvPicPr>
        <p:blipFill>
          <a:blip r:embed="rId1"/>
          <a:stretch/>
        </p:blipFill>
        <p:spPr>
          <a:xfrm>
            <a:off x="357120" y="2943360"/>
            <a:ext cx="3857760" cy="29145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214200" y="1642680"/>
            <a:ext cx="83584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                            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Авторы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стрейко Алексей</a:t>
            </a: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ченик 4 «Б» класса,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стрейко Анастасия,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ченица 4 «Б» класса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Руководитель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зической культуры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стрейко Т.М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Москва</a:t>
            </a:r>
            <a:r>
              <a:rPr b="1" lang="ru-RU" sz="1800" spc="-1" strike="noStrike">
                <a:solidFill>
                  <a:srgbClr val="40404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2011г</a:t>
            </a:r>
            <a:r>
              <a:rPr b="1" lang="ru-RU" sz="1800" spc="-1" strike="noStrike">
                <a:solidFill>
                  <a:srgbClr val="40404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Заголовок 4" descr=""/>
          <p:cNvPicPr/>
          <p:nvPr/>
        </p:nvPicPr>
        <p:blipFill>
          <a:blip r:embed="rId2"/>
          <a:stretch/>
        </p:blipFill>
        <p:spPr>
          <a:xfrm>
            <a:off x="444600" y="1249200"/>
            <a:ext cx="8364600" cy="14511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50920" y="41832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У СОШ №1905 г.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353880" y="-6480"/>
            <a:ext cx="7783560" cy="10000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3071880" y="928440"/>
            <a:ext cx="5857920" cy="4714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9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tantia"/>
              </a:rPr>
              <a:t>   </a:t>
            </a:r>
            <a:r>
              <a:rPr b="1" lang="en-US" sz="2200" spc="-1" strike="noStrike">
                <a:solidFill>
                  <a:srgbClr val="404040"/>
                </a:solidFill>
                <a:latin typeface="Constantia"/>
              </a:rPr>
              <a:t>В Беларуси от мала до велика знают, что зубр (европейский бизон) – животное вымирающего вида, занесено в красную книгу и находится под защитой закона. Многие наслышаны о </a:t>
            </a:r>
            <a:r>
              <a:rPr b="1" lang="en-US" sz="2200" spc="-1" strike="noStrike" u="sng">
                <a:solidFill>
                  <a:srgbClr val="404040"/>
                </a:solidFill>
                <a:uFillTx/>
                <a:latin typeface="Constantia"/>
              </a:rPr>
              <a:t>печальной истории полного истребления</a:t>
            </a:r>
            <a:r>
              <a:rPr b="1" lang="en-US" sz="2200" spc="-1" strike="noStrike">
                <a:solidFill>
                  <a:srgbClr val="404040"/>
                </a:solidFill>
                <a:latin typeface="Constantia"/>
              </a:rPr>
              <a:t>. И о той благородной научной работе по восстановлению исчезнувшего вида, что вернула стада европейских бизонов в белорусские лес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onstantia"/>
                <a:ea typeface="Times New Roman"/>
              </a:rPr>
              <a:t>   </a:t>
            </a:r>
            <a:r>
              <a:rPr b="1" lang="en-US" sz="2200" spc="-1" strike="noStrike">
                <a:solidFill>
                  <a:srgbClr val="404040"/>
                </a:solidFill>
                <a:latin typeface="Constantia"/>
                <a:ea typeface="Times New Roman"/>
              </a:rPr>
              <a:t>Зубра в Беларуси любят. Он – символ страны. Его изображение встречается на каждом шагу: от миниатюрного и стилизованного на спичечных коробках до гигантского и реалистичного на винилах наружных конструкций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6" name="Рисунок 3" descr="http://im8-tub.yandex.ru/i?id=241167956-01&amp;tov=8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428760" y="4214880"/>
            <a:ext cx="2571480" cy="21430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4" descr="http://im2-tub.yandex.ru/i?id=114103497-00&amp;tov=2"/>
          <p:cNvPicPr/>
          <p:nvPr/>
        </p:nvPicPr>
        <p:blipFill>
          <a:blip r:embed="rId3">
            <a:lum contrast="-12000"/>
          </a:blip>
          <a:stretch/>
        </p:blipFill>
        <p:spPr>
          <a:xfrm>
            <a:off x="357120" y="1428840"/>
            <a:ext cx="26431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566640" y="1311120"/>
            <a:ext cx="80838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Рисунок 3" descr="http://im4-tub.yandex.ru/i?id=5463569-06&amp;tov=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Заголовок 1"/>
          <p:cNvSpPr/>
          <p:nvPr/>
        </p:nvSpPr>
        <p:spPr>
          <a:xfrm>
            <a:off x="500040" y="357120"/>
            <a:ext cx="785196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Цель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onstantia"/>
              </a:rPr>
              <a:t>познакомить с историческими фактами по восстановлению популяции зубров на территории Белару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одзаголовок 2"/>
          <p:cNvSpPr/>
          <p:nvPr/>
        </p:nvSpPr>
        <p:spPr>
          <a:xfrm>
            <a:off x="428760" y="1785960"/>
            <a:ext cx="8286480" cy="27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onstantia"/>
              </a:rPr>
              <a:t>1.   Изучить научно-познавательную литературу по 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onstantia"/>
              </a:rPr>
              <a:t>2.   Изучить причины исчезновения зубров 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onstantia"/>
              </a:rPr>
              <a:t>       </a:t>
            </a:r>
            <a:r>
              <a:rPr b="1" lang="en-US" sz="2400" spc="-1" strike="noStrike">
                <a:solidFill>
                  <a:srgbClr val="404040"/>
                </a:solidFill>
                <a:latin typeface="Constantia"/>
              </a:rPr>
              <a:t>белорусских лесов и пути возрождения реликтового зве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onstantia"/>
              </a:rPr>
              <a:t>3.    Развивать мыслительные, творческие, коммуникативные способности, умение исследовать, анализировать, систематизировать  изученный материал и делать 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onstantia"/>
              </a:rPr>
              <a:t>4.    Воспитывать бережное отношение к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Беловежская пуща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357360" y="1356840"/>
            <a:ext cx="5429160" cy="5286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5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onstantia"/>
              </a:rPr>
              <a:t>    </a:t>
            </a:r>
            <a:r>
              <a:rPr b="1" lang="ru-RU" sz="2000" spc="-1" strike="noStrike">
                <a:solidFill>
                  <a:srgbClr val="404040"/>
                </a:solidFill>
                <a:latin typeface="Constantia"/>
              </a:rPr>
              <a:t>Историки и археологи выяснили, что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Constantia"/>
              </a:rPr>
              <a:t>впервые человек в этих местах появился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Constantia"/>
              </a:rPr>
              <a:t>более 14 тысяч лет назад. Люди жили с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Constantia"/>
              </a:rPr>
              <a:t>охоты. Охранять же древний лес, по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Constantia"/>
              </a:rPr>
              <a:t>которому много веков текут, неспешно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Constantia"/>
              </a:rPr>
              <a:t>унося годы в историю, реки Нарев и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Constantia"/>
              </a:rPr>
              <a:t>Наревка, Лесная и Соломенка, Рудавка и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Constantia"/>
              </a:rPr>
              <a:t>Друнювка, начали более 600 лет назад. В 1409 году польский король Ягайло, в частных владениях которого тогда находилась пуща, издал указ, по которому охота на крупного зверя разрешалась лишь ему и литовскому князю Витовту. Ограничивались валка леса, вход в пущу. С этого указа и начинался охранный статус </a:t>
            </a: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Беловежской пущи..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0" name="Заголовок 4" descr=""/>
          <p:cNvPicPr/>
          <p:nvPr/>
        </p:nvPicPr>
        <p:blipFill>
          <a:blip r:embed="rId1"/>
          <a:stretch/>
        </p:blipFill>
        <p:spPr>
          <a:xfrm>
            <a:off x="633240" y="128520"/>
            <a:ext cx="7712280" cy="100512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7"/>
          <p:cNvSpPr/>
          <p:nvPr/>
        </p:nvSpPr>
        <p:spPr>
          <a:xfrm>
            <a:off x="428760" y="528624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2009 год ЮНЕСКО  объявило Годом Беловежской пущ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Рисунок 5" descr="Б1"/>
          <p:cNvPicPr/>
          <p:nvPr/>
        </p:nvPicPr>
        <p:blipFill>
          <a:blip r:embed="rId2"/>
          <a:stretch/>
        </p:blipFill>
        <p:spPr>
          <a:xfrm>
            <a:off x="357120" y="1357200"/>
            <a:ext cx="29354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7" descr="http://www.wwf.ru/pic/species/new/zubr_3.jpg"/>
          <p:cNvPicPr/>
          <p:nvPr/>
        </p:nvPicPr>
        <p:blipFill>
          <a:blip r:embed="rId1"/>
          <a:stretch/>
        </p:blipFill>
        <p:spPr>
          <a:xfrm>
            <a:off x="214200" y="1428840"/>
            <a:ext cx="2714760" cy="2214360"/>
          </a:xfrm>
          <a:prstGeom prst="rect">
            <a:avLst/>
          </a:prstGeom>
          <a:ln w="0">
            <a:noFill/>
          </a:ln>
        </p:spPr>
      </p:pic>
      <p:pic>
        <p:nvPicPr>
          <p:cNvPr id="224" name="Заголовок 1" descr=""/>
          <p:cNvPicPr/>
          <p:nvPr/>
        </p:nvPicPr>
        <p:blipFill>
          <a:blip r:embed="rId2"/>
          <a:stretch/>
        </p:blipFill>
        <p:spPr>
          <a:xfrm>
            <a:off x="633240" y="55440"/>
            <a:ext cx="7785360" cy="10051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928600" y="1714320"/>
            <a:ext cx="6000840" cy="4857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onstantia"/>
              </a:rPr>
              <a:t>                                 </a:t>
            </a:r>
            <a:endParaRPr b="0" lang="en-US" sz="4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6" name="Прямоугольник 4"/>
          <p:cNvSpPr/>
          <p:nvPr/>
        </p:nvSpPr>
        <p:spPr>
          <a:xfrm>
            <a:off x="3000240" y="1357200"/>
            <a:ext cx="5857920" cy="67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Arial Black"/>
              </a:rPr>
              <a:t>Зубр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- единственный дикий вид крупных быков  Европы, уцелевший до наших дней. Для большинства  народов зубр служил не только объектом охоты. Этот  мощный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красивый зверь олицетворял силы  природы, имел традиционное культовое значение,  ему поклонялись как одному из символов родной  земли. Наиболее крупные быки могут достигать веса 850 кг, а иногда - до 1200 кг! А чисто внешне массивность зверя усугубляется очень массивной передней частью тела, с высокой холкой и горбом, крупной головой (с относит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некрупными рогами), к тому же покрытой длинной густой шерстью. У крупных быков грива - иному льву впору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Рисунок 19" descr="http://www.wwf.ru/pic/help_us/zubr/zubr063.jpg"/>
          <p:cNvPicPr/>
          <p:nvPr/>
        </p:nvPicPr>
        <p:blipFill>
          <a:blip r:embed="rId3"/>
          <a:stretch/>
        </p:blipFill>
        <p:spPr>
          <a:xfrm>
            <a:off x="285840" y="4071960"/>
            <a:ext cx="271440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22" descr="http://www.wwf.ru/pic/help_us/zubr/p156.jpg"/>
          <p:cNvPicPr/>
          <p:nvPr/>
        </p:nvPicPr>
        <p:blipFill>
          <a:blip r:embed="rId1"/>
          <a:stretch/>
        </p:blipFill>
        <p:spPr>
          <a:xfrm>
            <a:off x="428760" y="1643040"/>
            <a:ext cx="2714400" cy="2928960"/>
          </a:xfrm>
          <a:prstGeom prst="rect">
            <a:avLst/>
          </a:prstGeom>
          <a:ln w="0">
            <a:noFill/>
          </a:ln>
        </p:spPr>
      </p:pic>
      <p:pic>
        <p:nvPicPr>
          <p:cNvPr id="229" name="Заголовок 1" descr=""/>
          <p:cNvPicPr/>
          <p:nvPr/>
        </p:nvPicPr>
        <p:blipFill>
          <a:blip r:embed="rId2"/>
          <a:stretch/>
        </p:blipFill>
        <p:spPr>
          <a:xfrm>
            <a:off x="493560" y="55440"/>
            <a:ext cx="7785360" cy="10051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357360" y="1642680"/>
            <a:ext cx="5500440" cy="3071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Только человек виноват в  исчезновении  зубра в дикой природе. Браконьерство,  уничтожение мест  обитания  вырубка и выжигание лесов), ничем не ограниченный   отстрел животных в периоды войн, народных волнений и революций - все это вместе привело к тому, что к 1927 г. в природе зубр был полностью истреблен.</a:t>
            </a:r>
            <a:r>
              <a:rPr b="0" lang="en-US" sz="2000" spc="-1" strike="noStrike">
                <a:solidFill>
                  <a:srgbClr val="40404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1" name="Рисунок 4" descr="http://im4-tub.yandex.ru/i?id=208699945-02&amp;tov=4"/>
          <p:cNvPicPr/>
          <p:nvPr/>
        </p:nvPicPr>
        <p:blipFill>
          <a:blip r:embed="rId3">
            <a:lum contrast="14000"/>
          </a:blip>
          <a:stretch/>
        </p:blipFill>
        <p:spPr>
          <a:xfrm>
            <a:off x="6286680" y="4797360"/>
            <a:ext cx="2286000" cy="1446120"/>
          </a:xfrm>
          <a:prstGeom prst="rect">
            <a:avLst/>
          </a:prstGeom>
          <a:ln w="9360">
            <a:solidFill>
              <a:srgbClr val="0f6fc6">
                <a:alpha val="90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3" descr="Из-за кризиса зубры Беларуси не получат генетических паспортов"/>
          <p:cNvPicPr/>
          <p:nvPr/>
        </p:nvPicPr>
        <p:blipFill>
          <a:blip r:embed="rId1"/>
          <a:stretch/>
        </p:blipFill>
        <p:spPr>
          <a:xfrm>
            <a:off x="642960" y="2000160"/>
            <a:ext cx="3143160" cy="2928960"/>
          </a:xfrm>
          <a:prstGeom prst="rect">
            <a:avLst/>
          </a:prstGeom>
          <a:ln w="0">
            <a:noFill/>
          </a:ln>
        </p:spPr>
      </p:pic>
      <p:pic>
        <p:nvPicPr>
          <p:cNvPr id="233" name="Заголовок 1" descr=""/>
          <p:cNvPicPr/>
          <p:nvPr/>
        </p:nvPicPr>
        <p:blipFill>
          <a:blip r:embed="rId2"/>
          <a:stretch/>
        </p:blipFill>
        <p:spPr>
          <a:xfrm>
            <a:off x="633240" y="-30240"/>
            <a:ext cx="7785360" cy="173664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642600" y="1785960"/>
            <a:ext cx="8001000" cy="428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                                                             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В 1929 году были сделаны первые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                                                        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шаги по возрождению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                                                        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реликтового зверя. Закупили и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                                                        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завезли в пущу 7 зубров,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                                                        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пригодных для племенной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                                                        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работы. Позже к ним добавили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                                                        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ещё троих. От них и происходит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                                                        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нынешнее поголовье.  В 1939 году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                                                        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в пуще проживало 19 животных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  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Очередным испытанием стала война. В Беларуси не оказалось ни одного зубра.  В 1946 году  из Польши завезли 5 зубров. К 1953 году в пуще насчитывалось 18 особей. В настоящее время в Беларуси обитает 864 зубр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imgslist_Curimg_img" descr="http://www.colibri.ru/photos/2008/155640.gif"/>
          <p:cNvPicPr/>
          <p:nvPr/>
        </p:nvPicPr>
        <p:blipFill>
          <a:blip r:embed="rId1"/>
          <a:stretch/>
        </p:blipFill>
        <p:spPr>
          <a:xfrm>
            <a:off x="357120" y="1285920"/>
            <a:ext cx="2143080" cy="2786040"/>
          </a:xfrm>
          <a:prstGeom prst="rect">
            <a:avLst/>
          </a:prstGeom>
          <a:ln w="0">
            <a:noFill/>
          </a:ln>
        </p:spPr>
      </p:pic>
      <p:pic>
        <p:nvPicPr>
          <p:cNvPr id="236" name="Заголовок 1" descr=""/>
          <p:cNvPicPr/>
          <p:nvPr/>
        </p:nvPicPr>
        <p:blipFill>
          <a:blip r:embed="rId2"/>
          <a:stretch/>
        </p:blipFill>
        <p:spPr>
          <a:xfrm>
            <a:off x="122400" y="-103320"/>
            <a:ext cx="8777160" cy="17370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642960" y="157140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8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                              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Красная книга Республики Беларусь </a:t>
            </a: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-         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                               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список, в котором определено современное     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                               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состояние редких и находящихся под угрозой 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                               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исчезновения видов диких животных на 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                               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территории Беларуси, на основании 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                               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которого о   осуществляется долгосрочное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                              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прогнозирование и разработка практических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мер,  направленных на их  охрану, воспроизводство и  рациональное использование.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   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Сегодня зубр включен в Красную книгу Беларуси, а также Красные книги соседних стран - Литвы, Польши, России, Украины. Зубр занесен и в Красный список Международного союза охраны природы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16" descr="http://www.wwf.ru/pic/help_us/zubr/zubr-family1.jpg"/>
          <p:cNvPicPr/>
          <p:nvPr/>
        </p:nvPicPr>
        <p:blipFill>
          <a:blip r:embed="rId1"/>
          <a:stretch/>
        </p:blipFill>
        <p:spPr>
          <a:xfrm>
            <a:off x="500040" y="1928880"/>
            <a:ext cx="2571840" cy="2143080"/>
          </a:xfrm>
          <a:prstGeom prst="rect">
            <a:avLst/>
          </a:prstGeom>
          <a:ln w="0">
            <a:noFill/>
          </a:ln>
        </p:spPr>
      </p:pic>
      <p:pic>
        <p:nvPicPr>
          <p:cNvPr id="239" name="Заголовок 1" descr=""/>
          <p:cNvPicPr/>
          <p:nvPr/>
        </p:nvPicPr>
        <p:blipFill>
          <a:blip r:embed="rId2"/>
          <a:stretch/>
        </p:blipFill>
        <p:spPr>
          <a:xfrm>
            <a:off x="208080" y="-176040"/>
            <a:ext cx="8680320" cy="17366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713880" y="1928520"/>
            <a:ext cx="7588440" cy="4500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                                     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Целенаправленное разведение в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                                        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зоологических садах, парках и лесных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                                        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резерватах, создание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                                        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специализированных питомников и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                                        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выпуск молодых животных в природу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                                       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позволили значительно увеличить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численность зубров. При этом, поскольку каждый зубр был, что называется, «на перечет», для того, чтобы не просто отслеживать влияние близкородственного разведения, а максимально избегать его начали вести Международную племенную книгу, по которой можно было проследить родословную и перемещения каждого зверя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Рисунок 1" descr="http://www.wwf.ru/pic/species/new/zubr_4.jpg"/>
          <p:cNvPicPr/>
          <p:nvPr/>
        </p:nvPicPr>
        <p:blipFill>
          <a:blip r:embed="rId1"/>
          <a:stretch/>
        </p:blipFill>
        <p:spPr>
          <a:xfrm>
            <a:off x="357120" y="1785960"/>
            <a:ext cx="2357640" cy="1928880"/>
          </a:xfrm>
          <a:prstGeom prst="rect">
            <a:avLst/>
          </a:prstGeom>
          <a:ln w="0">
            <a:noFill/>
          </a:ln>
        </p:spPr>
      </p:pic>
      <p:pic>
        <p:nvPicPr>
          <p:cNvPr id="242" name="Заголовок 1" descr=""/>
          <p:cNvPicPr/>
          <p:nvPr/>
        </p:nvPicPr>
        <p:blipFill>
          <a:blip r:embed="rId2"/>
          <a:stretch/>
        </p:blipFill>
        <p:spPr>
          <a:xfrm>
            <a:off x="566640" y="-30240"/>
            <a:ext cx="7785360" cy="17366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28400" y="1500120"/>
            <a:ext cx="7900920" cy="421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1" lang="en-US" sz="2200" spc="-1" strike="noStrike">
                <a:solidFill>
                  <a:srgbClr val="404040"/>
                </a:solidFill>
                <a:latin typeface="Constantia"/>
              </a:rPr>
              <a:t>Первый генетический паспорт для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onstantia"/>
              </a:rPr>
              <a:t>                                      </a:t>
            </a:r>
            <a:r>
              <a:rPr b="1" lang="en-US" sz="2200" spc="-1" strike="noStrike">
                <a:solidFill>
                  <a:srgbClr val="404040"/>
                </a:solidFill>
                <a:latin typeface="Constantia"/>
              </a:rPr>
              <a:t>зубра в Беларуси будет составлен в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onstantia"/>
              </a:rPr>
              <a:t>                                     </a:t>
            </a:r>
            <a:r>
              <a:rPr b="1" lang="en-US" sz="2200" spc="-1" strike="noStrike">
                <a:solidFill>
                  <a:srgbClr val="404040"/>
                </a:solidFill>
                <a:latin typeface="Constantia"/>
              </a:rPr>
              <a:t>2010  году. Со временем все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onstantia"/>
              </a:rPr>
              <a:t>                                     </a:t>
            </a:r>
            <a:r>
              <a:rPr b="1" lang="en-US" sz="2200" spc="-1" strike="noStrike">
                <a:solidFill>
                  <a:srgbClr val="404040"/>
                </a:solidFill>
                <a:latin typeface="Constantia"/>
              </a:rPr>
              <a:t>белорусские  зубры "получат" такие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onstantia"/>
              </a:rPr>
              <a:t>                                      </a:t>
            </a:r>
            <a:r>
              <a:rPr b="1" lang="en-US" sz="2200" spc="-1" strike="noStrike">
                <a:solidFill>
                  <a:srgbClr val="404040"/>
                </a:solidFill>
                <a:latin typeface="Constantia"/>
              </a:rPr>
              <a:t>документы. Генетическая паспортизация необходима для оздоровления белорусской популяции зубров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onstantia"/>
              </a:rPr>
              <a:t>   </a:t>
            </a:r>
            <a:r>
              <a:rPr b="1" lang="en-US" sz="2200" spc="-1" strike="noStrike">
                <a:solidFill>
                  <a:srgbClr val="404040"/>
                </a:solidFill>
                <a:latin typeface="Constantia"/>
              </a:rPr>
              <a:t>Близкородственное скрещивание животных ослабляет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onstantia"/>
              </a:rPr>
              <a:t>их иммунитет, повышает заболеваемость. Новые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onstantia"/>
              </a:rPr>
              <a:t>технологии помогут решить эту проблему, формировать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Constantia"/>
              </a:rPr>
              <a:t>генетически здоровые пары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1:38:54Z</dcterms:created>
  <dc:creator>VAL</dc:creator>
  <dc:description/>
  <dc:language>en-US</dc:language>
  <cp:lastModifiedBy>Танюха</cp:lastModifiedBy>
  <dcterms:modified xsi:type="dcterms:W3CDTF">2012-06-17T18:20:31Z</dcterms:modified>
  <cp:revision>46</cp:revision>
  <dc:subject/>
  <dc:title>УО «Полоцкая государственная общеобразовательная средняя школа № 2»</dc:title>
</cp:coreProperties>
</file>