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56C-036E-474F-B3BA-D3833F95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E16-681D-4A56-A39B-F83F34E9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B1868-87C5-4EA4-B21A-6687ADE9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45CEA-8111-41B2-8E9D-574E188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9C65-A795-4F78-87DE-EA99256F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97C45-3DDC-4E44-AD21-CCCFE2C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95F0E-123A-478C-954C-2BD38729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79837-67FB-48E2-A7FB-8FEA3C4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49AC1-A968-438A-B9C5-B3711A7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EDFA1-E53C-44C0-A434-F6029870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21B24-EA0F-4C02-8D95-75BDD01A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10561-A9A8-4DF6-B16A-21AE0685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5D4-61AF-4EE3-B185-29229A8B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30171-4FC8-4856-B959-729CDAAA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B584B-E5E0-419D-8D71-FC59E724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3EA0B-203F-41C6-8F35-4CDC2432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AED51-48B7-4A39-B24C-1F49757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F0667-B0A3-43B1-9C03-C2EB6F4B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10DC9-17E2-4A05-B03B-CACAD054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407F2-FBBB-40C6-838B-BD8663C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31885-0EA0-448E-AC5F-D2F435A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76801-2EEB-4632-9D64-8D336422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420EC-04CE-4360-AE53-A3F7BC1E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02E-AD30-4446-BB6A-EB1E9036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9305F-1EB5-46C9-A7AB-CD9F233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581D6-F112-400B-97C9-46FC1ED2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1D2F5-F39B-47A2-833D-53798D37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66B20-5035-456F-B8AD-BD5855D6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FFA5E-F436-4881-9EBD-BFAF32EC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A826-FB11-42E3-8F62-A867BFE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FBEC-81B4-4323-AA57-E675491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CB1AF-3D2D-4BE6-B3B2-029EFCC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9144-F620-43F9-B546-25F5100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07432-9172-4A65-8F73-FCF71DC3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BDFF-1F58-4C5B-AB99-1D045297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3BB24-0380-4D2A-9FC4-3008492F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F2EB4-3382-414E-A46D-260D142D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DE88A-F52C-430F-AF00-C62CE14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6B4F-7156-43CA-9145-E78A0D93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F229-8199-45A4-ACFF-D4E67FB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915B-13E7-4275-9533-595B5925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96C-925F-4E15-B558-474A1F9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4765-300C-409C-B78E-C4EC0557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5142-C0C6-4401-A5AA-3961736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66C-7A92-4A55-A609-259A965C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6F2B-9E65-4248-9210-F75A5AE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6328-A4CC-469B-8010-94FB48E4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390-DA09-46F0-BFAA-99431C87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29DB-3032-45A6-A8B4-B7ED27BD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D4FB-86AD-47A3-81FC-7FDA36D9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0B40-187E-4209-A464-E2B2585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FEE69-20DE-4AC0-82F2-87792AF6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24C0-680E-4A20-B209-9F8B7DD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54848-7A15-4D3E-B28F-953AD3E3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4AFC-6413-4AAB-86BD-C196B80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FA9-4AAE-478A-9B5D-6BDBD0EE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4696-B35C-46F1-ADE6-7CE4EB7A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E611-00EC-42E5-8B0B-DC3D20E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1A1E-D823-4527-89D6-25A21D4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F7C0-5BFF-4A6E-BB22-1689BC4D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0D1C-6AC0-41EF-96D6-26FB8C49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2826-BDFC-4547-A0EC-4D350388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970B-6D8F-43C0-8DEE-641E160A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5EEE2-B985-43C4-B221-585D8315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699E-E450-429F-BC32-DA66356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61978-67EB-41B9-9E58-9B6AD4C9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FDC-A919-453D-9ED3-47FF28AE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09F1-D592-44C3-BE56-873C555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17B8-C2A0-49AF-8690-B17BB8F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49DB-BED0-4097-AD2C-DFEB0A67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BAC95-5814-47B0-BA0C-54A9CC4B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93431-4C3B-4AA1-9CA1-1B0C7AB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7121-4C28-425E-A8DD-29B48D6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1C86-8070-4AEB-AC1D-5A0B3771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47BF-AA78-44F2-BA0A-A3634886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4676-8349-449B-BF4D-B19DAD57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AF25-2850-4336-A0FD-B584C6E9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1F0-DE97-4D93-90D7-B57F3F62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58825-77AE-4575-885F-E5369037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25A6-CA5D-46B5-A306-932A410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F4A49-785A-4027-AE3B-E5D6B955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71B9-CB9C-4BF0-BC6B-05EE3862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CD917-CCA8-4077-9745-8CBF9E47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DB225-8100-47BF-A5D7-133E4FB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65E41-4A99-48A5-953D-2FBB671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2F70-D2F2-47AA-9538-157BE86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CEE47-CAE8-4BB5-AF1A-75F38DA6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736B-509B-470A-930C-3CF50B07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758-6CDF-4E93-BC91-0AEBF443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FC8D-F4F5-4FA0-BC87-FF73B126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CBDF4-9D1A-4203-A2FD-4B69BA53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ABAEA-953F-4936-80F0-A715EE2E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CA79A-6CA6-4704-8361-B2EF0D13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CC8E-0292-4922-95CB-396899AD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DA6E4-C218-464E-AA87-BEACA23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3392-CF64-47FF-9E9A-A5BE1C9A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7C15-D895-40B6-8FD1-3718EE8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5869-78FC-4369-BDED-B611A0AC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2FF0-DF57-409C-B1A5-D14259DE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784-E0D6-4F43-87D2-62A6BFD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15C30-0090-465E-9CBE-A0F51ED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E583-FE76-4E22-8164-8550C478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D61ED-EAA9-456E-AC95-36079A64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1907-B6E8-4941-9B98-CCA2A273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BD532-8F55-416C-94D8-DF32262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FFA32-F8C2-4ACD-8DDE-70DC4D4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A55B-BE53-4010-A8B3-37BC4AC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9749-84EE-4C37-8E07-FEDAA42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649F-5653-4DB3-96E2-80986E0F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E237-694F-41F9-BDFF-60E278D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62D-3E9F-4297-8690-B99A94A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7E39-A481-4CB1-9736-CA5DC91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CCE98-9ED5-4FEC-A195-B612B1D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5FF57-58C9-4845-A46A-F4E6DBC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EC8D-CF29-4341-9975-3E72A8D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FA7D-FCC5-4FCF-B96F-C2E93E4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26A3-1D56-439B-B790-43705643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13D64-AABE-47C5-BB00-B5744FC2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591DC-C104-4DC1-9AA3-C39E64FC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CA29F-5B50-491E-9F30-F94BCDD1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66F44-CD02-4D4E-9DC1-36AF2E67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E49-6051-4001-9F71-D9BBDFE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8CFC9-78A9-465A-A6C5-16CDA82F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8E69E-7FFE-4EF5-90CC-8D3F379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B115-E569-4376-80B6-48F81135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3D4F1-8B26-4DA3-BEE5-370B7C2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DFBF2-D06D-43E2-94AD-4FFFAA82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4348B-91C7-46B9-9262-F04A4881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8D5DA-04C6-4649-8F22-C7BBDE25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8EEA0-5C4B-4F20-9B8D-9D3957E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CA965-29DA-4A0F-8E59-3E1DD08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26DA6-02C3-462C-A6F0-A7BB5FA4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0AC-6C5F-48F3-A7C9-5D171FF466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8FA3-1F61-40C2-916E-04345C8C76C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A7BD-1767-4FEC-B517-B07059561E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51E-13AE-49D3-9DD0-0EC66CC8412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6BB9-CC22-4ADE-8B07-8382DE7677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2B1F-2E44-44A3-B6EE-7B7D7E0A86E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16B-5F7B-4508-8B2B-3B324D28973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030-75AA-4AE0-90E9-EA92DB0198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0473-2E41-4F99-985C-DED0E56978A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DC62-F0C1-4FEA-8F41-1C5483D5FBD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CE00-E30D-4920-977B-8734059ADF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0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0.xml"/><Relationship Id="rId18" Type="http://schemas.openxmlformats.org/officeDocument/2006/relationships/slide" Target="slide11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0000"/>
            </a:gs>
            <a:gs pos="100000">
              <a:srgbClr val="ffe5d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Баскетбол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Тема урока: правила игр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AutoShape 7">
            <a:hlinkClick r:id="rId1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5" descr="Голубые холмы"/>
          <p:cNvPicPr/>
          <p:nvPr/>
        </p:nvPicPr>
        <p:blipFill>
          <a:blip r:embed="rId1"/>
          <a:stretch/>
        </p:blipFill>
        <p:spPr>
          <a:xfrm>
            <a:off x="3811680" y="262908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22"/>
          <p:cNvPicPr/>
          <p:nvPr/>
        </p:nvPicPr>
        <p:blipFill>
          <a:blip r:embed="rId2"/>
          <a:stretch/>
        </p:blipFill>
        <p:spPr>
          <a:xfrm>
            <a:off x="1908000" y="692280"/>
            <a:ext cx="3456000" cy="5257800"/>
          </a:xfrm>
          <a:prstGeom prst="rect">
            <a:avLst/>
          </a:prstGeom>
          <a:ln w="0">
            <a:noFill/>
          </a:ln>
        </p:spPr>
      </p:pic>
      <p:sp>
        <p:nvSpPr>
          <p:cNvPr id="529" name="AutoShape 10"/>
          <p:cNvSpPr/>
          <p:nvPr/>
        </p:nvSpPr>
        <p:spPr>
          <a:xfrm>
            <a:off x="4356000" y="404640"/>
            <a:ext cx="4537080" cy="3672000"/>
          </a:xfrm>
          <a:prstGeom prst="cloudCallout">
            <a:avLst>
              <a:gd name="adj1" fmla="val -45277"/>
              <a:gd name="adj2" fmla="val 5669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еди здоровы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нимайся спорто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1"/>
          <p:cNvSpPr/>
          <p:nvPr/>
        </p:nvSpPr>
        <p:spPr>
          <a:xfrm>
            <a:off x="8172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80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6178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1" action="ppaction://hlinksldjump"/>
              </a:rPr>
              <a:t>1. Площадка, корзина и мяч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2" action="ppaction://hlinksldjump"/>
              </a:rPr>
              <a:t>2.  Начало игры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3" action="ppaction://hlinksldjump"/>
              </a:rPr>
              <a:t>3. Броски в корзину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4" action="ppaction://hlinksldjump"/>
              </a:rPr>
              <a:t>4. Ведение мяча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5" action="ppaction://hlinksldjump"/>
              </a:rPr>
              <a:t>5. Номера игроков_x000b_</a:t>
            </a: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 u="sng">
                <a:solidFill>
                  <a:srgbClr val="6b9f25"/>
                </a:solidFill>
                <a:uFillTx/>
                <a:latin typeface="Monotype Corsiva"/>
                <a:hlinkClick r:id="rId6" action="ppaction://hlinksldjump"/>
              </a:rPr>
              <a:t>6. Нарушения в игр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4" name="AutoShape 6">
            <a:hlinkClick r:id="rId7" action="ppaction://hlinksldjump"/>
          </p:cNvPr>
          <p:cNvSpPr/>
          <p:nvPr/>
        </p:nvSpPr>
        <p:spPr>
          <a:xfrm>
            <a:off x="8604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8" action="ppaction://hlinksldjump"/>
          </p:cNvPr>
          <p:cNvSpPr/>
          <p:nvPr/>
        </p:nvSpPr>
        <p:spPr>
          <a:xfrm>
            <a:off x="824400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Площадка, корзина и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97" name="Picture 8" descr="ljames_2_400_070825"/>
          <p:cNvPicPr/>
          <p:nvPr/>
        </p:nvPicPr>
        <p:blipFill>
          <a:blip r:embed="rId1"/>
          <a:stretch/>
        </p:blipFill>
        <p:spPr>
          <a:xfrm>
            <a:off x="666720" y="1600200"/>
            <a:ext cx="3619440" cy="452592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Игра проходит на прямоугольной площадке длиной 28 и шириной 15 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Корзина (металлическое кольцо диаметром 45 см с натянутой на нем сеткой без дна) крепится на высоте 3,05 м на щите, установленном на стойке параллельно лицевым линиям площад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Масса мяча 567–650 грамм, окружность 749–780 мм.</a:t>
            </a: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AutoShape 10">
            <a:hlinkClick r:id="rId2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Начало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 игр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1" name="Picture 7" descr="пароапрпрвапрпар"/>
          <p:cNvPicPr/>
          <p:nvPr/>
        </p:nvPicPr>
        <p:blipFill>
          <a:blip r:embed="rId1"/>
          <a:stretch/>
        </p:blipFill>
        <p:spPr>
          <a:xfrm>
            <a:off x="2932200" y="1600200"/>
            <a:ext cx="3279600" cy="218592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Матч начинается в центре площадки. Судья подбрасывает мяч строго вверх между двумя игроками команд-соперниц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Матч состоит из четырех таймов по 10 м с 2-минутными перерывами, перерыв в середине матча – 15 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Verdana"/>
              </a:rPr>
              <a:t>На атаку командам также отводится не более 24 секунд.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9">
            <a:hlinkClick r:id="rId2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роски в корзин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очный бросок в корзину с позиции за дугой, проведенной на расстоянии 6,25 м от щита, оценивается в три очка. Эта дуга называется также «трехочковой линией». Все остальные броски (в том числе и из-под щита) оцениваются в два очка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6" name="Picture 7" descr="mredd_400_070825"/>
          <p:cNvPicPr/>
          <p:nvPr/>
        </p:nvPicPr>
        <p:blipFill>
          <a:blip r:embed="rId1"/>
          <a:stretch/>
        </p:blipFill>
        <p:spPr>
          <a:xfrm>
            <a:off x="4500720" y="1268280"/>
            <a:ext cx="3674880" cy="504036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9">
            <a:hlinkClick r:id="rId2" action="ppaction://hlinksldjump"/>
          </p:cNvPr>
          <p:cNvSpPr/>
          <p:nvPr/>
        </p:nvSpPr>
        <p:spPr>
          <a:xfrm>
            <a:off x="250920" y="6381720"/>
            <a:ext cx="288720" cy="2890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1600" h="21627">
                <a:moveTo>
                  <a:pt x="0" y="0"/>
                </a:moveTo>
                <a:lnTo>
                  <a:pt x="21600" y="0"/>
                </a:lnTo>
                <a:lnTo>
                  <a:pt x="21600" y="21627"/>
                </a:lnTo>
                <a:lnTo>
                  <a:pt x="0" y="21627"/>
                </a:lnTo>
                <a:close/>
              </a:path>
              <a:path fill="lightenLess" w="21600" h="216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7">
                <a:moveTo>
                  <a:pt x="21600" y="0"/>
                </a:moveTo>
                <a:lnTo>
                  <a:pt x="21600" y="21627"/>
                </a:lnTo>
                <a:lnTo>
                  <a:pt x="20200" y="20227"/>
                </a:lnTo>
                <a:lnTo>
                  <a:pt x="20200" y="1400"/>
                </a:lnTo>
                <a:close/>
              </a:path>
              <a:path fill="darkenLess" w="21600" h="21627">
                <a:moveTo>
                  <a:pt x="21600" y="21627"/>
                </a:moveTo>
                <a:lnTo>
                  <a:pt x="0" y="21627"/>
                </a:lnTo>
                <a:lnTo>
                  <a:pt x="1400" y="20227"/>
                </a:lnTo>
                <a:lnTo>
                  <a:pt x="20200" y="20227"/>
                </a:lnTo>
                <a:close/>
              </a:path>
              <a:path fill="lighten" w="21600" h="21627">
                <a:moveTo>
                  <a:pt x="0" y="216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7"/>
                </a:lnTo>
                <a:close/>
              </a:path>
              <a:path fill="darken" w="21600" h="21627">
                <a:moveTo>
                  <a:pt x="10800" y="3850"/>
                </a:moveTo>
                <a:lnTo>
                  <a:pt x="13376" y="6462"/>
                </a:ln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3"/>
                </a:lnTo>
                <a:lnTo>
                  <a:pt x="5491" y="18003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7">
                <a:moveTo>
                  <a:pt x="13376" y="6462"/>
                </a:moveTo>
                <a:lnTo>
                  <a:pt x="13376" y="4721"/>
                </a:lnTo>
                <a:lnTo>
                  <a:pt x="15152" y="4721"/>
                </a:lnTo>
                <a:lnTo>
                  <a:pt x="15152" y="8237"/>
                </a:lnTo>
                <a:close/>
              </a:path>
              <a:path fill="darkenLess" w="21600" h="21627">
                <a:moveTo>
                  <a:pt x="9877" y="14312"/>
                </a:moveTo>
                <a:lnTo>
                  <a:pt x="11723" y="14312"/>
                </a:lnTo>
                <a:lnTo>
                  <a:pt x="11723" y="18003"/>
                </a:lnTo>
                <a:lnTo>
                  <a:pt x="16109" y="18003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3"/>
                </a:lnTo>
                <a:lnTo>
                  <a:pt x="9877" y="1800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Ведение мяч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09" name="Picture 14" descr="cbillups_400_070825"/>
          <p:cNvPicPr/>
          <p:nvPr/>
        </p:nvPicPr>
        <p:blipFill>
          <a:blip r:embed="rId1"/>
          <a:stretch/>
        </p:blipFill>
        <p:spPr>
          <a:xfrm>
            <a:off x="1601640" y="1600200"/>
            <a:ext cx="174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jkidd_400_070825"/>
          <p:cNvPicPr/>
          <p:nvPr/>
        </p:nvPicPr>
        <p:blipFill>
          <a:blip r:embed="rId2"/>
          <a:stretch/>
        </p:blipFill>
        <p:spPr>
          <a:xfrm>
            <a:off x="4572000" y="1268280"/>
            <a:ext cx="3529080" cy="3816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Игрок, владеющий мячом, может останавливаться и затем снова продолжать движение при условии, что во время остановки он продолжал постукивать мячом о пол. Мяч в баскетболе можно вести поочередно то одной, то другой рукой, но не двумя руками сразу.</a:t>
            </a: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8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омера игро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14" name="Picture 8" descr="stoudemire_400_070825"/>
          <p:cNvPicPr/>
          <p:nvPr/>
        </p:nvPicPr>
        <p:blipFill>
          <a:blip r:embed="rId1"/>
          <a:stretch/>
        </p:blipFill>
        <p:spPr>
          <a:xfrm>
            <a:off x="1601640" y="1600200"/>
            <a:ext cx="1749600" cy="2185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2" descr="teamusa_600_070825"/>
          <p:cNvPicPr/>
          <p:nvPr/>
        </p:nvPicPr>
        <p:blipFill>
          <a:blip r:embed="rId2"/>
          <a:stretch/>
        </p:blipFill>
        <p:spPr>
          <a:xfrm>
            <a:off x="4572000" y="1341360"/>
            <a:ext cx="3735360" cy="38451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о правилам ФИБА, на официальных соревнованиях игроки выступают под номерами с 4-го по 15-й. Числа «1», «2» и «3» в качестве номеров в настоящее время не используются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AutoShape 14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рушения в игр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519" name="Picture 11" descr="canthony_400_070825"/>
          <p:cNvPicPr/>
          <p:nvPr/>
        </p:nvPicPr>
        <p:blipFill>
          <a:blip r:embed="rId1"/>
          <a:stretch/>
        </p:blipFill>
        <p:spPr>
          <a:xfrm>
            <a:off x="1116000" y="1197000"/>
            <a:ext cx="3311640" cy="2592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howard-melo-tiago_625_07082"/>
          <p:cNvPicPr/>
          <p:nvPr/>
        </p:nvPicPr>
        <p:blipFill>
          <a:blip r:embed="rId2"/>
          <a:stretch/>
        </p:blipFill>
        <p:spPr>
          <a:xfrm>
            <a:off x="1109520" y="3938760"/>
            <a:ext cx="2733840" cy="21873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Правилами баскетбола запрещается бить соперника по рукам, толкать его, держать руками, наступать на ноги, встречать ногой (и прямой, и согнутой в колене). Игроку, допустившему любое из подобных нарушений, объявляется персональное замечание (фол). Если спортсмен получил в течение матча пять фолов (в НБА – шесть), его удаляют с поля до конца встречи и заменяют одним из запасных игроков.</a:t>
            </a:r>
            <a:r>
              <a:rPr b="0" lang="ru-RU" sz="1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4">
            <a:hlinkClick r:id="rId3" action="ppaction://hlinksldjump"/>
          </p:cNvPr>
          <p:cNvSpPr/>
          <p:nvPr/>
        </p:nvSpPr>
        <p:spPr>
          <a:xfrm>
            <a:off x="25092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0854" y="3837"/>
                </a:moveTo>
                <a:lnTo>
                  <a:pt x="13430" y="6448"/>
                </a:ln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lnTo>
                  <a:pt x="17817" y="10800"/>
                </a:lnTo>
                <a:lnTo>
                  <a:pt x="16163" y="10800"/>
                </a:lnTo>
                <a:lnTo>
                  <a:pt x="16163" y="17989"/>
                </a:lnTo>
                <a:lnTo>
                  <a:pt x="5545" y="17989"/>
                </a:lnTo>
                <a:lnTo>
                  <a:pt x="5545" y="10800"/>
                </a:lnTo>
                <a:lnTo>
                  <a:pt x="3891" y="10800"/>
                </a:lnTo>
                <a:close/>
              </a:path>
              <a:path fill="darkenLess" w="21708" h="21600">
                <a:moveTo>
                  <a:pt x="13430" y="6448"/>
                </a:moveTo>
                <a:lnTo>
                  <a:pt x="13430" y="4707"/>
                </a:lnTo>
                <a:lnTo>
                  <a:pt x="15206" y="4707"/>
                </a:lnTo>
                <a:lnTo>
                  <a:pt x="15206" y="8224"/>
                </a:lnTo>
                <a:close/>
              </a:path>
              <a:path fill="darkenLess" w="21708" h="21600">
                <a:moveTo>
                  <a:pt x="9931" y="14299"/>
                </a:moveTo>
                <a:lnTo>
                  <a:pt x="11777" y="14299"/>
                </a:lnTo>
                <a:lnTo>
                  <a:pt x="11777" y="17989"/>
                </a:lnTo>
                <a:lnTo>
                  <a:pt x="16163" y="17989"/>
                </a:lnTo>
                <a:lnTo>
                  <a:pt x="16163" y="10800"/>
                </a:lnTo>
                <a:lnTo>
                  <a:pt x="5545" y="10800"/>
                </a:lnTo>
                <a:lnTo>
                  <a:pt x="5545" y="17989"/>
                </a:lnTo>
                <a:lnTo>
                  <a:pt x="9931" y="17989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Баске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6000"/>
          </a:bodyPr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1. Длина  площадки?  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" action="ppaction://hlinksldjump"/>
              </a:rPr>
              <a:t>28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2" action="ppaction://hlinksldjump"/>
              </a:rPr>
              <a:t>26м; 25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2. Ширина площадки?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3" action="ppaction://hlinksldjump"/>
              </a:rPr>
              <a:t>10м; 20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4" action="ppaction://hlinksldjump"/>
              </a:rPr>
              <a:t>15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3. Масса мяча?      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5" action="ppaction://hlinksldjump"/>
              </a:rPr>
              <a:t>500г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6" action="ppaction://hlinksldjump"/>
              </a:rPr>
              <a:t>567-650г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7" action="ppaction://hlinksldjump"/>
              </a:rPr>
              <a:t>700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4. Диаметр корзины?       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8" action="ppaction://hlinksldjump"/>
              </a:rPr>
              <a:t>50с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9" action="ppaction://hlinksldjump"/>
              </a:rPr>
              <a:t>45с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0" action="ppaction://hlinksldjump"/>
              </a:rPr>
              <a:t>40с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5. На какой высоте крепится корзина?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1" action="ppaction://hlinksldjump"/>
              </a:rPr>
              <a:t>3.05м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2" action="ppaction://hlinksldjump"/>
              </a:rPr>
              <a:t>3м; 4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6. Из сколки таймов состоит матч?                              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3" action="ppaction://hlinksldjump"/>
              </a:rPr>
              <a:t>6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4" action="ppaction://hlinksldjump"/>
              </a:rPr>
              <a:t>4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5" action="ppaction://hlinksldjump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7. Сколько времени длится один тайм?     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6" action="ppaction://hlinksldjump"/>
              </a:rPr>
              <a:t>15мин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7" action="ppaction://hlinksldjump"/>
              </a:rPr>
              <a:t>10 мин; 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Monotype Corsiva"/>
                <a:hlinkClick r:id="rId18" action="ppaction://hlinksldjump"/>
              </a:rPr>
              <a:t>5м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8. Под какими номерами выступают игроки?  1-15; 4-15; 1-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01240" indent="-2012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9. Сколько времени отводится на атаку?     24 сек; 25 сек; 20 се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8604360" y="638172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3794"/>
                </a:moveTo>
                <a:lnTo>
                  <a:pt x="20399" y="10800"/>
                </a:lnTo>
                <a:lnTo>
                  <a:pt x="6386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7"/>
          <p:cNvSpPr/>
          <p:nvPr/>
        </p:nvSpPr>
        <p:spPr>
          <a:xfrm>
            <a:off x="8244000" y="6381720"/>
            <a:ext cx="358560" cy="289080"/>
          </a:xfrm>
          <a:custGeom>
            <a:avLst/>
            <a:gdLst>
              <a:gd name="textAreaLeft" fmla="*/ 18720 w 358560"/>
              <a:gd name="textAreaRight" fmla="*/ 339840 w 3585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785" h="21600">
                <a:moveTo>
                  <a:pt x="0" y="0"/>
                </a:moveTo>
                <a:lnTo>
                  <a:pt x="26785" y="0"/>
                </a:lnTo>
                <a:lnTo>
                  <a:pt x="26785" y="21600"/>
                </a:lnTo>
                <a:lnTo>
                  <a:pt x="0" y="21600"/>
                </a:lnTo>
                <a:close/>
              </a:path>
              <a:path fill="lightenLess" w="26785" h="21600">
                <a:moveTo>
                  <a:pt x="0" y="0"/>
                </a:moveTo>
                <a:lnTo>
                  <a:pt x="26785" y="0"/>
                </a:lnTo>
                <a:lnTo>
                  <a:pt x="25385" y="1400"/>
                </a:lnTo>
                <a:lnTo>
                  <a:pt x="1400" y="1400"/>
                </a:lnTo>
                <a:close/>
              </a:path>
              <a:path fill="darken" w="26785" h="21600">
                <a:moveTo>
                  <a:pt x="26785" y="0"/>
                </a:moveTo>
                <a:lnTo>
                  <a:pt x="26785" y="21600"/>
                </a:lnTo>
                <a:lnTo>
                  <a:pt x="25385" y="20200"/>
                </a:lnTo>
                <a:lnTo>
                  <a:pt x="25385" y="1400"/>
                </a:lnTo>
                <a:close/>
              </a:path>
              <a:path fill="darkenLess" w="26785" h="21600">
                <a:moveTo>
                  <a:pt x="26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85" y="20200"/>
                </a:lnTo>
                <a:close/>
              </a:path>
              <a:path fill="lighten" w="26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85" h="21600">
                <a:moveTo>
                  <a:pt x="6386" y="10800"/>
                </a:moveTo>
                <a:lnTo>
                  <a:pt x="20399" y="3794"/>
                </a:lnTo>
                <a:lnTo>
                  <a:pt x="20399" y="17806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9:05:29Z</dcterms:created>
  <dc:creator>mmc9</dc:creator>
  <dc:description/>
  <dc:language>en-US</dc:language>
  <cp:lastModifiedBy>Андрей</cp:lastModifiedBy>
  <dcterms:modified xsi:type="dcterms:W3CDTF">2012-06-19T15:05:41Z</dcterms:modified>
  <cp:revision>14</cp:revision>
  <dc:subject/>
  <dc:title>Баскетбол</dc:title>
</cp:coreProperties>
</file>