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applause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75FB-81CB-4154-A86E-E5A822DAD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0872-6C89-4B78-BDDD-6499FBE0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E6503-D628-4134-AFC3-7A679542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1DB75-C080-45DD-A6B7-32B5C068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12D5D5-7275-4DBC-B277-CC14C0DA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1DB1B9-25B4-459E-AD8B-2470E0D6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980592-3E16-41BD-9BC4-9C25C9A3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38F330-56DB-4CD7-87B0-E470D57D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3C34A0-CEA2-4313-B26B-C6A4D768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678572-706D-44D1-BB67-60F027EE8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1ED296-A0B0-48BC-8FB3-BCEACC716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760B0F-DF5C-4736-A5CC-68A7810CD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5368-AFFE-4183-91F6-007E18DCE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7F0CFE-4E67-4157-AEFF-A3FDDBC0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A07E6-6216-41CA-9985-FB39512C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862934-9DB8-4602-A12E-8C57DC14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DA9D5B-1911-4D71-9284-27917DF7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24EF46-1558-4915-BED9-D39D9C6D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89106E-3697-4E89-9B02-1FE579CC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C60187-A826-4E30-AC00-C2CEF9DB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A2847-482E-404D-A96A-37080584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22DEDA-398D-4DC6-AAC8-DF259ADB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C8E91B-CE21-41A6-BCFA-F0902E9C9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9F30-68B4-499B-9020-712ACC3A2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A20DAC-67E4-4591-A622-77E1948D1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7748E-C1E5-4759-B90B-C7028104C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9E1ACE-16F8-41CB-852C-04DD00DE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C1AD6-E263-41F9-BE60-EFDF76BB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8811C-7F0B-4405-B8AC-2D7865A6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A9228-BA47-49E7-BC06-AEBD39DC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398EFD-3BF1-4B9B-9363-C94631F9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A7CB6-10A3-4FD2-961A-933319B9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D2128-E24A-41A3-BBD3-401E536D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7EB2C-093F-4EDB-987B-BEDB3528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8FF8-6E67-4A3E-BC8F-952C529E1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112A6-16F6-4D04-BA0D-0EB40BA1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411D2-4192-4104-A05D-626AB245D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21B4C-354E-468F-9738-779454A45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7B12-3D48-4AF5-B323-F0F8B5BE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6753-0664-4BBF-A2FF-AE9298F0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FDE8-CC91-4B82-9C31-B943B167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1F5A-9C35-42E7-B382-FD3B7BB2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6692-23FB-425D-9BE6-1EE36900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B348-CFE0-4652-83B2-E1173E3C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CB60-581A-4A00-ADFD-278D4900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B750-E052-4F05-BBC2-AB81EB97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3885-5F86-4AE9-B712-9AF847E9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FA7D-1CD5-4C44-9027-38578D4A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E5F8-6F4A-49F7-B696-FB6BCCEB3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8F18-7A07-4EEF-946B-19F9B4861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2D46F-5A4E-4265-9C56-6C5548256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BE274-F5B6-474A-B8E5-D9BF76FB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336D0-E667-4328-9C24-8547087C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29DD7-C771-46D0-A8BA-9C8A0C5C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6151A-ACAB-460F-B8A2-6BCA60FB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D11E-88BA-4031-86A9-0CDD695E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F48CE-D833-4F08-A9AB-2EB8E951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463C6-AF76-4F0E-AF65-E8EADBD0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E7FD2-8F4B-4A28-A48B-98E41BFA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A2574-237C-4B28-AFE1-8EF090F0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5D723-E929-4AF2-8A5E-65A5B35A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CC76B-5F5C-4F7B-9E3A-A1FF7A51F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B0018-2630-4D7B-9357-2DAD19D10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5D499-27F6-402F-8211-456C9D80D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0FB84-174D-4890-BFD6-655CD48A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8A95C-0051-4359-A08D-E9B5FB13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B105-484A-47FA-9E3C-7B27CCEB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3FD3D-173E-4DD0-AB1F-CA60E8C2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3BEF6-F319-4814-A50B-627B5D46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E79E9-C333-4FDA-8C26-8A500E5B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460EA-288B-43F8-8E20-B5C0FA4A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727B0-D46D-4B09-91FB-B0157E10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38152-131F-469C-ADC1-76AD2CF2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45C56-A3FC-4DB7-B2F0-D357FE32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46650-F0C3-4851-9E6D-392335C24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E2C0C-44B7-4042-B751-D8163BCAF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D017D-3D8B-41AB-B88F-5DCEE881D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4F4E-EF09-4072-8AFB-9B968504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2BF20-1677-41CE-AFAE-DCFEC19C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E42FF-1704-4FD4-905A-8F15B1A2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D7616-F210-4736-9096-6B6F5538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7E848-D57D-47F7-A663-9C06E5E7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7589F-B74D-4493-9D10-113D6344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68863-C913-446E-BDEC-59AB5201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4A1B8-1B41-4378-8C21-E24A7B0E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EED45-C379-482C-8EB0-743D0FED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5B7D2-86BB-4F95-BC86-C6800A99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9B76F-42F7-4F2B-B756-B3BD9EBB1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205B-788C-4219-8E06-979495AA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47A65-B9E4-466B-BD54-689AA63BD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9E042-BDE3-44BB-897B-6400EB6DF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24A3C-A3FC-428C-BEDD-59CCDFE6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E774A-C9DC-4D65-8D75-36EEF395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ED24A-FE69-478B-AAC4-F67EAEEE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EDBE3-B7CE-4FF1-8C8D-12DFD47D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26F78-7214-4235-A368-8AEAE4F9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CEA79-1A7D-4CA4-8C8A-BC01C1D9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53231-6890-4833-BF55-8A463ED4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1D533-3823-44BE-A64A-7EA07951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BB79-9CA2-411D-87F6-E36904B9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CD904-55F4-4BFA-9D11-19599DD5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F24E1-E049-40B1-BAF4-8135DFF6E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E4741-1A18-4CD3-A56F-23FEF5540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38580-FC9F-4BB0-9650-B7659003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0CC1D-D467-4AA3-A338-1A39E75F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C4973-E2D0-4FDB-8573-9D07F9DD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D87BC-1E7E-4107-A7E5-DB1E7F64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0B819-7E28-479A-9FDD-85A203E4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48611-ACF5-4345-9221-678C9079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485DE-9D2D-45CF-A3F6-E56250C2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370C-A4CB-4AC1-B0BD-04A92635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D5DD9-39E8-4BA3-84C7-4F6754C4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18E84-47BD-42C3-8018-5EB2359F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6CA14-289F-4B38-976B-754B0E2F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42589-7C9B-43F8-AF43-9003D75FF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DD886-94B0-46E5-A745-509FB8A9E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740F2-D4E5-47D6-9AD2-0EAF08B33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ECF1F-27F1-4856-9DA1-359FFBBB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C2CDC-7670-46D8-93F0-CC41C916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F3FCD-A5A4-431B-9E97-EB5B94CB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7D515-1543-4640-9BF9-79AA5F6D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7A51-8C05-4673-8674-AE2CDA2D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D048B-46EB-4EE1-A864-B9FD240C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9C080-C257-4FDD-8F35-4BC2A4C3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EF05A-9BE1-4757-A441-CFFBCBB0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9A137-EB85-4E22-9A57-EF20DED2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7B1EB-3BDE-45CE-BD8D-30216443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5BAA8-D26E-41F3-81C5-CA87539F5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9E2BA-0539-4DAD-A2AE-D8DE11AB2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9F87E3-8E24-40E5-ADAE-0E7170674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01D718-8EE3-41C5-8AB6-640B2C0A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FCD8F3-493E-488C-9D27-B3998D47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56F5-D228-4FDA-8442-85933863567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0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9862-92E4-458D-9E90-B576E82105C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9AF0-AD98-452B-A231-58871E730B8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DD82-E241-44B4-9B54-7F412491309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0C45-5BE3-430C-AC47-ED8013EAE97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E9DF-85FD-4258-A442-DD10DF86E9E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9F3B-FCF7-4724-A558-B9187133419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741A-07B4-4144-8083-5F6F44E07D3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6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ACBA-C175-4E96-B6E0-927FC57EB0A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1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33CB-1ED6-4146-B63C-734AE44D553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5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4454-9ADA-4AA6-8FD2-2EE97E2B384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.xm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1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1.xml"/><Relationship Id="rId14" Type="http://schemas.openxmlformats.org/officeDocument/2006/relationships/slide" Target="slide10.xml"/><Relationship Id="rId15" Type="http://schemas.openxmlformats.org/officeDocument/2006/relationships/slide" Target="slide11.xml"/><Relationship Id="rId16" Type="http://schemas.openxmlformats.org/officeDocument/2006/relationships/slide" Target="slide11.xml"/><Relationship Id="rId17" Type="http://schemas.openxmlformats.org/officeDocument/2006/relationships/slide" Target="slide10.xml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100000">
              <a:srgbClr val="ffe5d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Verdana"/>
              </a:rPr>
              <a:t>Баскетбол</a:t>
            </a:r>
            <a:endParaRPr b="1" lang="en-US" sz="6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140328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Тема урока: правила игры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AutoShape 7">
            <a:hlinkClick r:id="rId1" action="ppaction://hlinksldjump"/>
          </p:cNvPr>
          <p:cNvSpPr/>
          <p:nvPr/>
        </p:nvSpPr>
        <p:spPr>
          <a:xfrm>
            <a:off x="8604360" y="6381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5" descr="Голубые холмы"/>
          <p:cNvPicPr/>
          <p:nvPr/>
        </p:nvPicPr>
        <p:blipFill>
          <a:blip r:embed="rId1"/>
          <a:stretch/>
        </p:blipFill>
        <p:spPr>
          <a:xfrm>
            <a:off x="3811680" y="2629080"/>
            <a:ext cx="1520640" cy="1143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6" descr="22"/>
          <p:cNvPicPr/>
          <p:nvPr/>
        </p:nvPicPr>
        <p:blipFill>
          <a:blip r:embed="rId2"/>
          <a:stretch/>
        </p:blipFill>
        <p:spPr>
          <a:xfrm>
            <a:off x="1908000" y="692280"/>
            <a:ext cx="3456000" cy="5257800"/>
          </a:xfrm>
          <a:prstGeom prst="rect">
            <a:avLst/>
          </a:prstGeom>
          <a:ln w="0">
            <a:noFill/>
          </a:ln>
        </p:spPr>
      </p:pic>
      <p:sp>
        <p:nvSpPr>
          <p:cNvPr id="529" name="AutoShape 10"/>
          <p:cNvSpPr/>
          <p:nvPr/>
        </p:nvSpPr>
        <p:spPr>
          <a:xfrm>
            <a:off x="4356000" y="404640"/>
            <a:ext cx="4537080" cy="3672000"/>
          </a:xfrm>
          <a:prstGeom prst="cloudCallout">
            <a:avLst>
              <a:gd name="adj1" fmla="val -45277"/>
              <a:gd name="adj2" fmla="val 5669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Веди здоровый образ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Занимайся спортом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11"/>
          <p:cNvSpPr/>
          <p:nvPr/>
        </p:nvSpPr>
        <p:spPr>
          <a:xfrm>
            <a:off x="8172360" y="6381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800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6178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3200" spc="-1" strike="noStrike" u="sng">
                <a:solidFill>
                  <a:srgbClr val="6b9f25"/>
                </a:solidFill>
                <a:uFillTx/>
                <a:latin typeface="Monotype Corsiva"/>
                <a:hlinkClick r:id="rId1" action="ppaction://hlinksldjump"/>
              </a:rPr>
              <a:t>1. Площадка, корзина и мяч_x000b_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3200" spc="-1" strike="noStrike" u="sng">
                <a:solidFill>
                  <a:srgbClr val="6b9f25"/>
                </a:solidFill>
                <a:uFillTx/>
                <a:latin typeface="Monotype Corsiva"/>
                <a:hlinkClick r:id="rId2" action="ppaction://hlinksldjump"/>
              </a:rPr>
              <a:t>2.  Начало игры_x000b_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3200" spc="-1" strike="noStrike" u="sng">
                <a:solidFill>
                  <a:srgbClr val="6b9f25"/>
                </a:solidFill>
                <a:uFillTx/>
                <a:latin typeface="Monotype Corsiva"/>
                <a:hlinkClick r:id="rId3" action="ppaction://hlinksldjump"/>
              </a:rPr>
              <a:t>3. Броски в корзину_x000b_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3200" spc="-1" strike="noStrike" u="sng">
                <a:solidFill>
                  <a:srgbClr val="6b9f25"/>
                </a:solidFill>
                <a:uFillTx/>
                <a:latin typeface="Monotype Corsiva"/>
                <a:hlinkClick r:id="rId4" action="ppaction://hlinksldjump"/>
              </a:rPr>
              <a:t>4. Ведение мяча_x000b_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3200" spc="-1" strike="noStrike" u="sng">
                <a:solidFill>
                  <a:srgbClr val="6b9f25"/>
                </a:solidFill>
                <a:uFillTx/>
                <a:latin typeface="Monotype Corsiva"/>
                <a:hlinkClick r:id="rId5" action="ppaction://hlinksldjump"/>
              </a:rPr>
              <a:t>5. Номера игроков_x000b_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3200" spc="-1" strike="noStrike" u="sng">
                <a:solidFill>
                  <a:srgbClr val="6b9f25"/>
                </a:solidFill>
                <a:uFillTx/>
                <a:latin typeface="Monotype Corsiva"/>
                <a:hlinkClick r:id="rId6" action="ppaction://hlinksldjump"/>
              </a:rPr>
              <a:t>6. Нарушения в игре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4" name="AutoShape 6">
            <a:hlinkClick r:id="rId7" action="ppaction://hlinksldjump"/>
          </p:cNvPr>
          <p:cNvSpPr/>
          <p:nvPr/>
        </p:nvSpPr>
        <p:spPr>
          <a:xfrm>
            <a:off x="8604360" y="6381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7">
            <a:hlinkClick r:id="rId8" action="ppaction://hlinksldjump"/>
          </p:cNvPr>
          <p:cNvSpPr/>
          <p:nvPr/>
        </p:nvSpPr>
        <p:spPr>
          <a:xfrm>
            <a:off x="8244000" y="6381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Monotype Corsiva"/>
              </a:rPr>
              <a:t>Площадка, корзина и мяч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97" name="Picture 8" descr="ljames_2_400_070825"/>
          <p:cNvPicPr/>
          <p:nvPr/>
        </p:nvPicPr>
        <p:blipFill>
          <a:blip r:embed="rId1"/>
          <a:stretch/>
        </p:blipFill>
        <p:spPr>
          <a:xfrm>
            <a:off x="666720" y="1600200"/>
            <a:ext cx="3619440" cy="4525920"/>
          </a:xfrm>
          <a:prstGeom prst="rect">
            <a:avLst/>
          </a:prstGeom>
          <a:ln w="0">
            <a:noFill/>
          </a:ln>
        </p:spPr>
      </p:pic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Игра проходит на прямоугольной площадке длиной 28 и шириной 15 м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Корзина (металлическое кольцо диаметром 45 см с натянутой на нем сеткой без дна) крепится на высоте 3,05 м на щите, установленном на стойке параллельно лицевым линиям площадк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Масса мяча 567–650 грамм, окружность 749–780 мм.</a:t>
            </a:r>
            <a:r>
              <a:rPr b="0" lang="ru-RU" sz="19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AutoShape 10">
            <a:hlinkClick r:id="rId2" action="ppaction://hlinksldjump"/>
          </p:cNvPr>
          <p:cNvSpPr/>
          <p:nvPr/>
        </p:nvSpPr>
        <p:spPr>
          <a:xfrm>
            <a:off x="250920" y="6381720"/>
            <a:ext cx="288720" cy="287280"/>
          </a:xfrm>
          <a:custGeom>
            <a:avLst/>
            <a:gdLst>
              <a:gd name="textAreaLeft" fmla="*/ 18360 w 288720"/>
              <a:gd name="textAreaRight" fmla="*/ 270360 w 288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10854" y="3837"/>
                </a:moveTo>
                <a:lnTo>
                  <a:pt x="13430" y="6448"/>
                </a:ln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lnTo>
                  <a:pt x="17817" y="10800"/>
                </a:lnTo>
                <a:lnTo>
                  <a:pt x="16163" y="10800"/>
                </a:lnTo>
                <a:lnTo>
                  <a:pt x="16163" y="17989"/>
                </a:lnTo>
                <a:lnTo>
                  <a:pt x="5545" y="17989"/>
                </a:lnTo>
                <a:lnTo>
                  <a:pt x="5545" y="10800"/>
                </a:lnTo>
                <a:lnTo>
                  <a:pt x="3891" y="10800"/>
                </a:lnTo>
                <a:close/>
              </a:path>
              <a:path fill="darkenLess" w="21708" h="21600">
                <a:moveTo>
                  <a:pt x="13430" y="6448"/>
                </a:move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close/>
              </a:path>
              <a:path fill="darkenLess" w="21708" h="21600">
                <a:moveTo>
                  <a:pt x="9931" y="14299"/>
                </a:moveTo>
                <a:lnTo>
                  <a:pt x="11777" y="14299"/>
                </a:lnTo>
                <a:lnTo>
                  <a:pt x="11777" y="17989"/>
                </a:lnTo>
                <a:lnTo>
                  <a:pt x="16163" y="17989"/>
                </a:lnTo>
                <a:lnTo>
                  <a:pt x="16163" y="10800"/>
                </a:lnTo>
                <a:lnTo>
                  <a:pt x="5545" y="10800"/>
                </a:lnTo>
                <a:lnTo>
                  <a:pt x="5545" y="17989"/>
                </a:lnTo>
                <a:lnTo>
                  <a:pt x="9931" y="17989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Начало</a:t>
            </a: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 игр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501" name="Picture 7" descr="пароапрпрвапрпар"/>
          <p:cNvPicPr/>
          <p:nvPr/>
        </p:nvPicPr>
        <p:blipFill>
          <a:blip r:embed="rId1"/>
          <a:stretch/>
        </p:blipFill>
        <p:spPr>
          <a:xfrm>
            <a:off x="2932200" y="1600200"/>
            <a:ext cx="3279600" cy="218592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48690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Verdana"/>
              </a:rPr>
              <a:t>Матч начинается в центре площадки. Судья подбрасывает мяч строго вверх между двумя игроками команд-соперниц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Verdana"/>
              </a:rPr>
              <a:t>Матч состоит из четырех таймов по 10 м с 2-минутными перерывами, перерыв в середине матча – 15 м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Verdana"/>
              </a:rPr>
              <a:t>На атаку командам также отводится не более 24 секунд.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AutoShape 9">
            <a:hlinkClick r:id="rId2" action="ppaction://hlinksldjump"/>
          </p:cNvPr>
          <p:cNvSpPr/>
          <p:nvPr/>
        </p:nvSpPr>
        <p:spPr>
          <a:xfrm>
            <a:off x="250920" y="6381720"/>
            <a:ext cx="288720" cy="287280"/>
          </a:xfrm>
          <a:custGeom>
            <a:avLst/>
            <a:gdLst>
              <a:gd name="textAreaLeft" fmla="*/ 18360 w 288720"/>
              <a:gd name="textAreaRight" fmla="*/ 270360 w 288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10854" y="3837"/>
                </a:moveTo>
                <a:lnTo>
                  <a:pt x="13430" y="6448"/>
                </a:ln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lnTo>
                  <a:pt x="17817" y="10800"/>
                </a:lnTo>
                <a:lnTo>
                  <a:pt x="16163" y="10800"/>
                </a:lnTo>
                <a:lnTo>
                  <a:pt x="16163" y="17989"/>
                </a:lnTo>
                <a:lnTo>
                  <a:pt x="5545" y="17989"/>
                </a:lnTo>
                <a:lnTo>
                  <a:pt x="5545" y="10800"/>
                </a:lnTo>
                <a:lnTo>
                  <a:pt x="3891" y="10800"/>
                </a:lnTo>
                <a:close/>
              </a:path>
              <a:path fill="darkenLess" w="21708" h="21600">
                <a:moveTo>
                  <a:pt x="13430" y="6448"/>
                </a:move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close/>
              </a:path>
              <a:path fill="darkenLess" w="21708" h="21600">
                <a:moveTo>
                  <a:pt x="9931" y="14299"/>
                </a:moveTo>
                <a:lnTo>
                  <a:pt x="11777" y="14299"/>
                </a:lnTo>
                <a:lnTo>
                  <a:pt x="11777" y="17989"/>
                </a:lnTo>
                <a:lnTo>
                  <a:pt x="16163" y="17989"/>
                </a:lnTo>
                <a:lnTo>
                  <a:pt x="16163" y="10800"/>
                </a:lnTo>
                <a:lnTo>
                  <a:pt x="5545" y="10800"/>
                </a:lnTo>
                <a:lnTo>
                  <a:pt x="5545" y="17989"/>
                </a:lnTo>
                <a:lnTo>
                  <a:pt x="9931" y="17989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Броски в корзину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Точный бросок в корзину с позиции за дугой, проведенной на расстоянии 6,25 м от щита, оценивается в три очка. Эта дуга называется также «трехочковой линией». Все остальные броски (в том числе и из-под щита) оцениваются в два очка.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6" name="Picture 7" descr="mredd_400_070825"/>
          <p:cNvPicPr/>
          <p:nvPr/>
        </p:nvPicPr>
        <p:blipFill>
          <a:blip r:embed="rId1"/>
          <a:stretch/>
        </p:blipFill>
        <p:spPr>
          <a:xfrm>
            <a:off x="4500720" y="1268280"/>
            <a:ext cx="3674880" cy="5040360"/>
          </a:xfrm>
          <a:prstGeom prst="rect">
            <a:avLst/>
          </a:prstGeom>
          <a:ln w="0">
            <a:noFill/>
          </a:ln>
        </p:spPr>
      </p:pic>
      <p:sp>
        <p:nvSpPr>
          <p:cNvPr id="507" name="AutoShape 9">
            <a:hlinkClick r:id="rId2" action="ppaction://hlinksldjump"/>
          </p:cNvPr>
          <p:cNvSpPr/>
          <p:nvPr/>
        </p:nvSpPr>
        <p:spPr>
          <a:xfrm>
            <a:off x="250920" y="6381720"/>
            <a:ext cx="288720" cy="2890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  <a:path fill="darken" w="21600" h="21627">
                <a:moveTo>
                  <a:pt x="10800" y="3850"/>
                </a:moveTo>
                <a:lnTo>
                  <a:pt x="13376" y="6462"/>
                </a:lnTo>
                <a:lnTo>
                  <a:pt x="13376" y="4721"/>
                </a:lnTo>
                <a:lnTo>
                  <a:pt x="15152" y="4721"/>
                </a:lnTo>
                <a:lnTo>
                  <a:pt x="15152" y="8237"/>
                </a:lnTo>
                <a:lnTo>
                  <a:pt x="17763" y="10813"/>
                </a:lnTo>
                <a:lnTo>
                  <a:pt x="16109" y="10813"/>
                </a:lnTo>
                <a:lnTo>
                  <a:pt x="16109" y="18003"/>
                </a:lnTo>
                <a:lnTo>
                  <a:pt x="5491" y="18003"/>
                </a:lnTo>
                <a:lnTo>
                  <a:pt x="5491" y="10813"/>
                </a:lnTo>
                <a:lnTo>
                  <a:pt x="3837" y="10813"/>
                </a:lnTo>
                <a:close/>
              </a:path>
              <a:path fill="darkenLess" w="21600" h="21627">
                <a:moveTo>
                  <a:pt x="13376" y="6462"/>
                </a:moveTo>
                <a:lnTo>
                  <a:pt x="13376" y="4721"/>
                </a:lnTo>
                <a:lnTo>
                  <a:pt x="15152" y="4721"/>
                </a:lnTo>
                <a:lnTo>
                  <a:pt x="15152" y="8237"/>
                </a:lnTo>
                <a:close/>
              </a:path>
              <a:path fill="darkenLess" w="21600" h="21627">
                <a:moveTo>
                  <a:pt x="9877" y="14312"/>
                </a:moveTo>
                <a:lnTo>
                  <a:pt x="11723" y="14312"/>
                </a:lnTo>
                <a:lnTo>
                  <a:pt x="11723" y="18003"/>
                </a:lnTo>
                <a:lnTo>
                  <a:pt x="16109" y="18003"/>
                </a:lnTo>
                <a:lnTo>
                  <a:pt x="16109" y="10813"/>
                </a:lnTo>
                <a:lnTo>
                  <a:pt x="5491" y="10813"/>
                </a:lnTo>
                <a:lnTo>
                  <a:pt x="5491" y="18003"/>
                </a:lnTo>
                <a:lnTo>
                  <a:pt x="9877" y="18003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Ведение мяч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509" name="Picture 14" descr="cbillups_400_070825"/>
          <p:cNvPicPr/>
          <p:nvPr/>
        </p:nvPicPr>
        <p:blipFill>
          <a:blip r:embed="rId1"/>
          <a:stretch/>
        </p:blipFill>
        <p:spPr>
          <a:xfrm>
            <a:off x="1601640" y="1600200"/>
            <a:ext cx="1749600" cy="21859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5" descr="jkidd_400_070825"/>
          <p:cNvPicPr/>
          <p:nvPr/>
        </p:nvPicPr>
        <p:blipFill>
          <a:blip r:embed="rId2"/>
          <a:stretch/>
        </p:blipFill>
        <p:spPr>
          <a:xfrm>
            <a:off x="4572000" y="1268280"/>
            <a:ext cx="3529080" cy="381636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68360" y="5157720"/>
            <a:ext cx="8229600" cy="147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Игрок, владеющий мячом, может останавливаться и затем снова продолжать движение при условии, что во время остановки он продолжал постукивать мячом о пол. Мяч в баскетболе можно вести поочередно то одной, то другой рукой, но не двумя руками сразу.</a:t>
            </a:r>
            <a:r>
              <a:rPr b="0" lang="ru-RU" sz="19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AutoShape 18">
            <a:hlinkClick r:id="rId3" action="ppaction://hlinksldjump"/>
          </p:cNvPr>
          <p:cNvSpPr/>
          <p:nvPr/>
        </p:nvSpPr>
        <p:spPr>
          <a:xfrm>
            <a:off x="250920" y="6381720"/>
            <a:ext cx="288720" cy="287280"/>
          </a:xfrm>
          <a:custGeom>
            <a:avLst/>
            <a:gdLst>
              <a:gd name="textAreaLeft" fmla="*/ 18360 w 288720"/>
              <a:gd name="textAreaRight" fmla="*/ 270360 w 288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10854" y="3837"/>
                </a:moveTo>
                <a:lnTo>
                  <a:pt x="13430" y="6448"/>
                </a:ln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lnTo>
                  <a:pt x="17817" y="10800"/>
                </a:lnTo>
                <a:lnTo>
                  <a:pt x="16163" y="10800"/>
                </a:lnTo>
                <a:lnTo>
                  <a:pt x="16163" y="17989"/>
                </a:lnTo>
                <a:lnTo>
                  <a:pt x="5545" y="17989"/>
                </a:lnTo>
                <a:lnTo>
                  <a:pt x="5545" y="10800"/>
                </a:lnTo>
                <a:lnTo>
                  <a:pt x="3891" y="10800"/>
                </a:lnTo>
                <a:close/>
              </a:path>
              <a:path fill="darkenLess" w="21708" h="21600">
                <a:moveTo>
                  <a:pt x="13430" y="6448"/>
                </a:move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close/>
              </a:path>
              <a:path fill="darkenLess" w="21708" h="21600">
                <a:moveTo>
                  <a:pt x="9931" y="14299"/>
                </a:moveTo>
                <a:lnTo>
                  <a:pt x="11777" y="14299"/>
                </a:lnTo>
                <a:lnTo>
                  <a:pt x="11777" y="17989"/>
                </a:lnTo>
                <a:lnTo>
                  <a:pt x="16163" y="17989"/>
                </a:lnTo>
                <a:lnTo>
                  <a:pt x="16163" y="10800"/>
                </a:lnTo>
                <a:lnTo>
                  <a:pt x="5545" y="10800"/>
                </a:lnTo>
                <a:lnTo>
                  <a:pt x="5545" y="17989"/>
                </a:lnTo>
                <a:lnTo>
                  <a:pt x="9931" y="17989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Номера игрок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514" name="Picture 8" descr="stoudemire_400_070825"/>
          <p:cNvPicPr/>
          <p:nvPr/>
        </p:nvPicPr>
        <p:blipFill>
          <a:blip r:embed="rId1"/>
          <a:stretch/>
        </p:blipFill>
        <p:spPr>
          <a:xfrm>
            <a:off x="1601640" y="1600200"/>
            <a:ext cx="1749600" cy="21859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2" descr="teamusa_600_070825"/>
          <p:cNvPicPr/>
          <p:nvPr/>
        </p:nvPicPr>
        <p:blipFill>
          <a:blip r:embed="rId2"/>
          <a:stretch/>
        </p:blipFill>
        <p:spPr>
          <a:xfrm>
            <a:off x="4572000" y="1341360"/>
            <a:ext cx="3735360" cy="384516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68360" y="537336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9000"/>
          </a:bodyPr>
          <a:p>
            <a:pPr marL="262080" indent="-2620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о правилам ФИБА, на официальных соревнованиях игроки выступают под номерами с 4-го по 15-й. Числа «1», «2» и «3» в качестве номеров в настоящее время не используются.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AutoShape 14">
            <a:hlinkClick r:id="rId3" action="ppaction://hlinksldjump"/>
          </p:cNvPr>
          <p:cNvSpPr/>
          <p:nvPr/>
        </p:nvSpPr>
        <p:spPr>
          <a:xfrm>
            <a:off x="250920" y="6381720"/>
            <a:ext cx="288720" cy="287280"/>
          </a:xfrm>
          <a:custGeom>
            <a:avLst/>
            <a:gdLst>
              <a:gd name="textAreaLeft" fmla="*/ 18360 w 288720"/>
              <a:gd name="textAreaRight" fmla="*/ 270360 w 288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10854" y="3837"/>
                </a:moveTo>
                <a:lnTo>
                  <a:pt x="13430" y="6448"/>
                </a:ln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lnTo>
                  <a:pt x="17817" y="10800"/>
                </a:lnTo>
                <a:lnTo>
                  <a:pt x="16163" y="10800"/>
                </a:lnTo>
                <a:lnTo>
                  <a:pt x="16163" y="17989"/>
                </a:lnTo>
                <a:lnTo>
                  <a:pt x="5545" y="17989"/>
                </a:lnTo>
                <a:lnTo>
                  <a:pt x="5545" y="10800"/>
                </a:lnTo>
                <a:lnTo>
                  <a:pt x="3891" y="10800"/>
                </a:lnTo>
                <a:close/>
              </a:path>
              <a:path fill="darkenLess" w="21708" h="21600">
                <a:moveTo>
                  <a:pt x="13430" y="6448"/>
                </a:move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close/>
              </a:path>
              <a:path fill="darkenLess" w="21708" h="21600">
                <a:moveTo>
                  <a:pt x="9931" y="14299"/>
                </a:moveTo>
                <a:lnTo>
                  <a:pt x="11777" y="14299"/>
                </a:lnTo>
                <a:lnTo>
                  <a:pt x="11777" y="17989"/>
                </a:lnTo>
                <a:lnTo>
                  <a:pt x="16163" y="17989"/>
                </a:lnTo>
                <a:lnTo>
                  <a:pt x="16163" y="10800"/>
                </a:lnTo>
                <a:lnTo>
                  <a:pt x="5545" y="10800"/>
                </a:lnTo>
                <a:lnTo>
                  <a:pt x="5545" y="17989"/>
                </a:lnTo>
                <a:lnTo>
                  <a:pt x="9931" y="17989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Нарушения в игр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519" name="Picture 11" descr="canthony_400_070825"/>
          <p:cNvPicPr/>
          <p:nvPr/>
        </p:nvPicPr>
        <p:blipFill>
          <a:blip r:embed="rId1"/>
          <a:stretch/>
        </p:blipFill>
        <p:spPr>
          <a:xfrm>
            <a:off x="1116000" y="1197000"/>
            <a:ext cx="3311640" cy="259236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2" descr="howard-melo-tiago_625_07082"/>
          <p:cNvPicPr/>
          <p:nvPr/>
        </p:nvPicPr>
        <p:blipFill>
          <a:blip r:embed="rId2"/>
          <a:stretch/>
        </p:blipFill>
        <p:spPr>
          <a:xfrm>
            <a:off x="1109520" y="3938760"/>
            <a:ext cx="2733840" cy="21873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Правилами баскетбола запрещается бить соперника по рукам, толкать его, держать руками, наступать на ноги, встречать ногой (и прямой, и согнутой в колене). Игроку, допустившему любое из подобных нарушений, объявляется персональное замечание (фол). Если спортсмен получил в течение матча пять фолов (в НБА – шесть), его удаляют с поля до конца встречи и заменяют одним из запасных игроков.</a:t>
            </a:r>
            <a:r>
              <a:rPr b="0" lang="ru-RU" sz="17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AutoShape 14">
            <a:hlinkClick r:id="rId3" action="ppaction://hlinksldjump"/>
          </p:cNvPr>
          <p:cNvSpPr/>
          <p:nvPr/>
        </p:nvSpPr>
        <p:spPr>
          <a:xfrm>
            <a:off x="250920" y="6381720"/>
            <a:ext cx="288720" cy="287280"/>
          </a:xfrm>
          <a:custGeom>
            <a:avLst/>
            <a:gdLst>
              <a:gd name="textAreaLeft" fmla="*/ 18360 w 288720"/>
              <a:gd name="textAreaRight" fmla="*/ 270360 w 288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10854" y="3837"/>
                </a:moveTo>
                <a:lnTo>
                  <a:pt x="13430" y="6448"/>
                </a:ln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lnTo>
                  <a:pt x="17817" y="10800"/>
                </a:lnTo>
                <a:lnTo>
                  <a:pt x="16163" y="10800"/>
                </a:lnTo>
                <a:lnTo>
                  <a:pt x="16163" y="17989"/>
                </a:lnTo>
                <a:lnTo>
                  <a:pt x="5545" y="17989"/>
                </a:lnTo>
                <a:lnTo>
                  <a:pt x="5545" y="10800"/>
                </a:lnTo>
                <a:lnTo>
                  <a:pt x="3891" y="10800"/>
                </a:lnTo>
                <a:close/>
              </a:path>
              <a:path fill="darkenLess" w="21708" h="21600">
                <a:moveTo>
                  <a:pt x="13430" y="6448"/>
                </a:move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close/>
              </a:path>
              <a:path fill="darkenLess" w="21708" h="21600">
                <a:moveTo>
                  <a:pt x="9931" y="14299"/>
                </a:moveTo>
                <a:lnTo>
                  <a:pt x="11777" y="14299"/>
                </a:lnTo>
                <a:lnTo>
                  <a:pt x="11777" y="17989"/>
                </a:lnTo>
                <a:lnTo>
                  <a:pt x="16163" y="17989"/>
                </a:lnTo>
                <a:lnTo>
                  <a:pt x="16163" y="10800"/>
                </a:lnTo>
                <a:lnTo>
                  <a:pt x="5545" y="10800"/>
                </a:lnTo>
                <a:lnTo>
                  <a:pt x="5545" y="17989"/>
                </a:lnTo>
                <a:lnTo>
                  <a:pt x="9931" y="17989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Баскетбо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76000"/>
          </a:bodyPr>
          <a:p>
            <a:pPr marL="201240" indent="-2012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1. Длина  площадки?                                                 </a:t>
            </a:r>
            <a:r>
              <a:rPr b="0" lang="ru-RU" sz="2800" spc="-1" strike="noStrike" u="sng">
                <a:solidFill>
                  <a:srgbClr val="6b9f25"/>
                </a:solidFill>
                <a:uFillTx/>
                <a:latin typeface="Monotype Corsiva"/>
                <a:hlinkClick r:id="rId1" action="ppaction://hlinksldjump"/>
              </a:rPr>
              <a:t>28м; </a:t>
            </a:r>
            <a:r>
              <a:rPr b="0" lang="ru-RU" sz="2800" spc="-1" strike="noStrike" u="sng">
                <a:solidFill>
                  <a:srgbClr val="6b9f25"/>
                </a:solidFill>
                <a:uFillTx/>
                <a:latin typeface="Monotype Corsiva"/>
                <a:hlinkClick r:id="rId2" action="ppaction://hlinksldjump"/>
              </a:rPr>
              <a:t>26м; 25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01240" indent="-2012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2. Ширина площадки?                                               </a:t>
            </a:r>
            <a:r>
              <a:rPr b="0" lang="ru-RU" sz="2800" spc="-1" strike="noStrike" u="sng">
                <a:solidFill>
                  <a:srgbClr val="6b9f25"/>
                </a:solidFill>
                <a:uFillTx/>
                <a:latin typeface="Monotype Corsiva"/>
                <a:hlinkClick r:id="rId3" action="ppaction://hlinksldjump"/>
              </a:rPr>
              <a:t>10м; 20м; </a:t>
            </a:r>
            <a:r>
              <a:rPr b="0" lang="ru-RU" sz="2800" spc="-1" strike="noStrike" u="sng">
                <a:solidFill>
                  <a:srgbClr val="6b9f25"/>
                </a:solidFill>
                <a:uFillTx/>
                <a:latin typeface="Monotype Corsiva"/>
                <a:hlinkClick r:id="rId4" action="ppaction://hlinksldjump"/>
              </a:rPr>
              <a:t>15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01240" indent="-2012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3. Масса мяча?                                                 </a:t>
            </a:r>
            <a:r>
              <a:rPr b="0" lang="ru-RU" sz="2800" spc="-1" strike="noStrike" u="sng">
                <a:solidFill>
                  <a:srgbClr val="6b9f25"/>
                </a:solidFill>
                <a:uFillTx/>
                <a:latin typeface="Monotype Corsiva"/>
                <a:hlinkClick r:id="rId5" action="ppaction://hlinksldjump"/>
              </a:rPr>
              <a:t>500г; </a:t>
            </a:r>
            <a:r>
              <a:rPr b="0" lang="ru-RU" sz="2800" spc="-1" strike="noStrike" u="sng">
                <a:solidFill>
                  <a:srgbClr val="6b9f25"/>
                </a:solidFill>
                <a:uFillTx/>
                <a:latin typeface="Monotype Corsiva"/>
                <a:hlinkClick r:id="rId6" action="ppaction://hlinksldjump"/>
              </a:rPr>
              <a:t>567-650г; </a:t>
            </a:r>
            <a:r>
              <a:rPr b="0" lang="ru-RU" sz="2800" spc="-1" strike="noStrike" u="sng">
                <a:solidFill>
                  <a:srgbClr val="6b9f25"/>
                </a:solidFill>
                <a:uFillTx/>
                <a:latin typeface="Monotype Corsiva"/>
                <a:hlinkClick r:id="rId7" action="ppaction://hlinksldjump"/>
              </a:rPr>
              <a:t>700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01240" indent="-2012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4. Диаметр корзины?                                           </a:t>
            </a:r>
            <a:r>
              <a:rPr b="0" lang="ru-RU" sz="2800" spc="-1" strike="noStrike" u="sng">
                <a:solidFill>
                  <a:srgbClr val="6b9f25"/>
                </a:solidFill>
                <a:uFillTx/>
                <a:latin typeface="Monotype Corsiva"/>
                <a:hlinkClick r:id="rId8" action="ppaction://hlinksldjump"/>
              </a:rPr>
              <a:t>50см; </a:t>
            </a:r>
            <a:r>
              <a:rPr b="0" lang="ru-RU" sz="2800" spc="-1" strike="noStrike" u="sng">
                <a:solidFill>
                  <a:srgbClr val="6b9f25"/>
                </a:solidFill>
                <a:uFillTx/>
                <a:latin typeface="Monotype Corsiva"/>
                <a:hlinkClick r:id="rId9" action="ppaction://hlinksldjump"/>
              </a:rPr>
              <a:t>45см; </a:t>
            </a:r>
            <a:r>
              <a:rPr b="0" lang="ru-RU" sz="2800" spc="-1" strike="noStrike" u="sng">
                <a:solidFill>
                  <a:srgbClr val="6b9f25"/>
                </a:solidFill>
                <a:uFillTx/>
                <a:latin typeface="Monotype Corsiva"/>
                <a:hlinkClick r:id="rId10" action="ppaction://hlinksldjump"/>
              </a:rPr>
              <a:t>40с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01240" indent="-2012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5. На какой высоте крепится корзина?                   </a:t>
            </a:r>
            <a:r>
              <a:rPr b="0" lang="ru-RU" sz="2800" spc="-1" strike="noStrike" u="sng">
                <a:solidFill>
                  <a:srgbClr val="6b9f25"/>
                </a:solidFill>
                <a:uFillTx/>
                <a:latin typeface="Monotype Corsiva"/>
                <a:hlinkClick r:id="rId11" action="ppaction://hlinksldjump"/>
              </a:rPr>
              <a:t>3.05м; </a:t>
            </a:r>
            <a:r>
              <a:rPr b="0" lang="ru-RU" sz="2800" spc="-1" strike="noStrike" u="sng">
                <a:solidFill>
                  <a:srgbClr val="6b9f25"/>
                </a:solidFill>
                <a:uFillTx/>
                <a:latin typeface="Monotype Corsiva"/>
                <a:hlinkClick r:id="rId12" action="ppaction://hlinksldjump"/>
              </a:rPr>
              <a:t>3м; 4м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01240" indent="-2012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6. Из сколки таймов состоит матч?                                    </a:t>
            </a:r>
            <a:r>
              <a:rPr b="0" lang="ru-RU" sz="2800" spc="-1" strike="noStrike" u="sng">
                <a:solidFill>
                  <a:srgbClr val="6b9f25"/>
                </a:solidFill>
                <a:uFillTx/>
                <a:latin typeface="Monotype Corsiva"/>
                <a:hlinkClick r:id="rId13" action="ppaction://hlinksldjump"/>
              </a:rPr>
              <a:t>6; </a:t>
            </a:r>
            <a:r>
              <a:rPr b="0" lang="ru-RU" sz="2800" spc="-1" strike="noStrike" u="sng">
                <a:solidFill>
                  <a:srgbClr val="6b9f25"/>
                </a:solidFill>
                <a:uFillTx/>
                <a:latin typeface="Monotype Corsiva"/>
                <a:hlinkClick r:id="rId14" action="ppaction://hlinksldjump"/>
              </a:rPr>
              <a:t>4; </a:t>
            </a:r>
            <a:r>
              <a:rPr b="0" lang="ru-RU" sz="2800" spc="-1" strike="noStrike" u="sng">
                <a:solidFill>
                  <a:srgbClr val="6b9f25"/>
                </a:solidFill>
                <a:uFillTx/>
                <a:latin typeface="Monotype Corsiva"/>
                <a:hlinkClick r:id="rId15" action="ppaction://hlinksldjump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01240" indent="-2012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7. Сколько времени длится один тайм?      </a:t>
            </a:r>
            <a:r>
              <a:rPr b="0" lang="ru-RU" sz="2800" spc="-1" strike="noStrike" u="sng">
                <a:solidFill>
                  <a:srgbClr val="6b9f25"/>
                </a:solidFill>
                <a:uFillTx/>
                <a:latin typeface="Monotype Corsiva"/>
                <a:hlinkClick r:id="rId16" action="ppaction://hlinksldjump"/>
              </a:rPr>
              <a:t>15мин; </a:t>
            </a:r>
            <a:r>
              <a:rPr b="0" lang="ru-RU" sz="2800" spc="-1" strike="noStrike" u="sng">
                <a:solidFill>
                  <a:srgbClr val="6b9f25"/>
                </a:solidFill>
                <a:uFillTx/>
                <a:latin typeface="Monotype Corsiva"/>
                <a:hlinkClick r:id="rId17" action="ppaction://hlinksldjump"/>
              </a:rPr>
              <a:t>10 мин; </a:t>
            </a:r>
            <a:r>
              <a:rPr b="0" lang="ru-RU" sz="2800" spc="-1" strike="noStrike" u="sng">
                <a:solidFill>
                  <a:srgbClr val="6b9f25"/>
                </a:solidFill>
                <a:uFillTx/>
                <a:latin typeface="Monotype Corsiva"/>
                <a:hlinkClick r:id="rId18" action="ppaction://hlinksldjump"/>
              </a:rPr>
              <a:t>5ми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01240" indent="-2012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8. Под какими номерами выступают игроки?  1-15; 4-15; 1-1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01240" indent="-2012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9. Сколько времени отводится на атаку?     24 сек; 25 сек; 20 се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AutoShape 6"/>
          <p:cNvSpPr/>
          <p:nvPr/>
        </p:nvSpPr>
        <p:spPr>
          <a:xfrm>
            <a:off x="8604360" y="6381720"/>
            <a:ext cx="358560" cy="289080"/>
          </a:xfrm>
          <a:custGeom>
            <a:avLst/>
            <a:gdLst>
              <a:gd name="textAreaLeft" fmla="*/ 18720 w 358560"/>
              <a:gd name="textAreaRight" fmla="*/ 339840 w 3585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785" h="21600">
                <a:moveTo>
                  <a:pt x="0" y="0"/>
                </a:moveTo>
                <a:lnTo>
                  <a:pt x="26785" y="0"/>
                </a:lnTo>
                <a:lnTo>
                  <a:pt x="26785" y="21600"/>
                </a:lnTo>
                <a:lnTo>
                  <a:pt x="0" y="21600"/>
                </a:lnTo>
                <a:close/>
              </a:path>
              <a:path fill="lightenLess" w="26785" h="21600">
                <a:moveTo>
                  <a:pt x="0" y="0"/>
                </a:moveTo>
                <a:lnTo>
                  <a:pt x="26785" y="0"/>
                </a:lnTo>
                <a:lnTo>
                  <a:pt x="25385" y="1400"/>
                </a:lnTo>
                <a:lnTo>
                  <a:pt x="1400" y="1400"/>
                </a:lnTo>
                <a:close/>
              </a:path>
              <a:path fill="darken" w="26785" h="21600">
                <a:moveTo>
                  <a:pt x="26785" y="0"/>
                </a:moveTo>
                <a:lnTo>
                  <a:pt x="26785" y="21600"/>
                </a:lnTo>
                <a:lnTo>
                  <a:pt x="25385" y="20200"/>
                </a:lnTo>
                <a:lnTo>
                  <a:pt x="25385" y="1400"/>
                </a:lnTo>
                <a:close/>
              </a:path>
              <a:path fill="darkenLess" w="26785" h="21600">
                <a:moveTo>
                  <a:pt x="267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85" y="20200"/>
                </a:lnTo>
                <a:close/>
              </a:path>
              <a:path fill="lighten" w="267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785" h="21600">
                <a:moveTo>
                  <a:pt x="6386" y="3794"/>
                </a:moveTo>
                <a:lnTo>
                  <a:pt x="20399" y="10800"/>
                </a:lnTo>
                <a:lnTo>
                  <a:pt x="6386" y="17806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7"/>
          <p:cNvSpPr/>
          <p:nvPr/>
        </p:nvSpPr>
        <p:spPr>
          <a:xfrm>
            <a:off x="8244000" y="6381720"/>
            <a:ext cx="358560" cy="289080"/>
          </a:xfrm>
          <a:custGeom>
            <a:avLst/>
            <a:gdLst>
              <a:gd name="textAreaLeft" fmla="*/ 18720 w 358560"/>
              <a:gd name="textAreaRight" fmla="*/ 339840 w 3585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785" h="21600">
                <a:moveTo>
                  <a:pt x="0" y="0"/>
                </a:moveTo>
                <a:lnTo>
                  <a:pt x="26785" y="0"/>
                </a:lnTo>
                <a:lnTo>
                  <a:pt x="26785" y="21600"/>
                </a:lnTo>
                <a:lnTo>
                  <a:pt x="0" y="21600"/>
                </a:lnTo>
                <a:close/>
              </a:path>
              <a:path fill="lightenLess" w="26785" h="21600">
                <a:moveTo>
                  <a:pt x="0" y="0"/>
                </a:moveTo>
                <a:lnTo>
                  <a:pt x="26785" y="0"/>
                </a:lnTo>
                <a:lnTo>
                  <a:pt x="25385" y="1400"/>
                </a:lnTo>
                <a:lnTo>
                  <a:pt x="1400" y="1400"/>
                </a:lnTo>
                <a:close/>
              </a:path>
              <a:path fill="darken" w="26785" h="21600">
                <a:moveTo>
                  <a:pt x="26785" y="0"/>
                </a:moveTo>
                <a:lnTo>
                  <a:pt x="26785" y="21600"/>
                </a:lnTo>
                <a:lnTo>
                  <a:pt x="25385" y="20200"/>
                </a:lnTo>
                <a:lnTo>
                  <a:pt x="25385" y="1400"/>
                </a:lnTo>
                <a:close/>
              </a:path>
              <a:path fill="darkenLess" w="26785" h="21600">
                <a:moveTo>
                  <a:pt x="267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85" y="20200"/>
                </a:lnTo>
                <a:close/>
              </a:path>
              <a:path fill="lighten" w="267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785" h="21600">
                <a:moveTo>
                  <a:pt x="6386" y="10800"/>
                </a:moveTo>
                <a:lnTo>
                  <a:pt x="20399" y="3794"/>
                </a:lnTo>
                <a:lnTo>
                  <a:pt x="20399" y="17806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9:05:29Z</dcterms:created>
  <dc:creator>mmc9</dc:creator>
  <dc:description/>
  <dc:language>en-US</dc:language>
  <cp:lastModifiedBy>Андрей</cp:lastModifiedBy>
  <dcterms:modified xsi:type="dcterms:W3CDTF">2012-06-19T15:05:41Z</dcterms:modified>
  <cp:revision>14</cp:revision>
  <dc:subject/>
  <dc:title>Баскетбол</dc:title>
</cp:coreProperties>
</file>