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gif" ContentType="image/gi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6C6-5F98-4DDB-9957-0A79ED2E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7B80-D28F-467D-9B13-C7E3443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B4F91-234E-4BB9-9060-6E47F1A7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9403-A039-49AB-8296-47342708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D8F53-120A-45DE-99B0-D1E5F1E9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CB7F2-C88C-41D2-A091-BAF01E60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89C76-66D8-4225-80AA-6A3B8BC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D803D-41D6-401B-9929-7517A87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E405C-0F69-410B-A356-5BDAB589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79BF0-3D67-4B76-8DBC-AC5F579B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6D566-1BC3-4445-9D55-1FFB3B80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FB8-8ECC-48AD-A9B7-A342F4EC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0EA-FF04-435C-988A-57F84970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A98D-E556-40F4-9044-3337A14D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DBC4-51A7-4AE9-A93F-948EF772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18D9-8CDC-4D08-957E-8D31C82E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B88E-20EF-4780-8563-55442929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7019-9342-4B19-B235-0FF0DB28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113-E0D8-4123-89C6-09E31696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D055-CC7B-4EDD-B1ED-C7AE1010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379-7F74-4EA0-BAA2-BC3293F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DCD5-D61C-4A6B-BF93-4A81D1E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A9A2-D8E1-443A-B4EB-108B739F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ED37-0F1C-4D62-A755-C9216FB3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17D1-1F9B-46D7-8BD1-B3F1FC56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4F63-2756-4249-8B43-72B2389D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C1E4-9337-4ACD-9AC3-C064766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654D-8E88-4DDE-96B0-8D80EB68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9142-2776-4F36-8B4D-493207FB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8FA9-2E75-4F46-94B8-E6911E02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738C-FDBC-48C0-B8F7-6425FEC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C56-7853-4A78-9BF7-E4BF7099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0837-616C-4D41-A489-AB159F30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1E49-919B-45DF-B92D-66519B2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2109-2D96-4D98-867F-0A00B87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DE80-1632-43F8-ADEB-BB2BE31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E03F-8B9A-4F97-A8B0-580B7D1A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6BED-84EA-47CF-B61F-C0F88FAF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77B9-1C51-4F85-B288-229EC546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53DD-8A63-4229-90F0-714154C6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E448A-1924-47A0-B262-9DC14499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71E95-2F5F-4B53-832B-D312BCB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96B-DDA3-4B03-8631-4E8076B2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E1D2-4D4F-4642-83C8-9E3B1360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6557-FB18-422A-9A9F-5A8A1985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57364-6E46-4C8D-BD01-7A0C7EB9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A7AE-00BF-43DA-A784-BD604F3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B743-D1C4-4BB2-9958-25246CA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91E2C-29A3-4A9A-8864-BEF5649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A4BC-B98E-496F-86A4-C1A87D29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969D-6535-4492-9AE4-273638A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033C4-11D0-4186-AAE7-30BFC70D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FB01E-452F-41C1-BCEA-4B1BAEE1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AC0-2AA9-4CDA-9573-50E57E2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D0750-F0F9-4F5B-B777-55A4A593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6835-7521-414A-9DF2-1347A190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5366D-19B3-4A5E-ADCC-49598526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B772B-4A11-42E2-B5E2-661D4B49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32B2-6561-480B-A855-A0AC92B7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1401F-C34A-4B6E-8371-743B63B9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C77A3-6526-484C-A299-3AC0FF8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84925-6EE5-44AA-B630-872F163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7E4E3-3B07-4C45-B150-4CA6FBFA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D42F-3B3F-4190-8DC6-B7238676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241-0FC3-44EE-8167-283F0B94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CBA5-30DA-4442-8E89-61C81624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1495B-BBA6-47C4-9B27-B528AB8B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376F0-6E6D-49BB-AE6A-7961F86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6184-7A04-4738-961C-2883B3F5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1D4A-4162-4E99-80C8-3C6F4065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AB327-5A7D-4B35-B5FC-9D573C08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CB36-99B3-4549-8C82-713503C7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D97A0-0712-4E4B-8557-AA8005B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CF93-5CA0-4655-9BD6-6BF9012F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EBDEB-CB75-4B78-9D3A-99C7160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23A-6335-4090-8046-BFB83CC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6AE9F-3E66-4B4F-B67F-1F204C8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81B7E-D28E-4DB2-851A-F052A580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36CA7-5202-4AE9-AF46-2AB5E187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D5F2-CEA8-48C2-A5B4-3D134FAA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D589E-0230-4BE5-849E-E007B795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998DF-D476-411B-8183-9C77CE7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8AAA2-1AEC-42D4-AA71-120D081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8CADE-C77F-4490-8DEB-1832371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6E111-1316-4D74-877B-E63B231A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B361E-3067-4DDF-95DF-72CCEA10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9B45-78A3-42BD-A865-47A73F4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BAE4D-D82D-44CC-830C-5020A57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535BD-82E9-421C-9A3C-C2FF21E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28F3-CBE6-4600-952E-78599A08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4DC5-6B24-40FF-B998-A4452C4F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78B4E-C4E7-457B-8393-4357471B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7DB1C-99AF-4E94-966B-515475B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64FB6-C12F-4B88-BA3F-1E50B921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D07B-228B-4DB7-9207-977BFB2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9DD8D-8219-4075-BE46-1C47B8E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CB396-9E77-4D4D-A862-C81AC306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005-5B88-4E32-97DA-8F70A2FB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D184-B8CD-4066-B2C0-6BE5CB7A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42DCE-CAEF-439E-B3E1-AB9A1083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99B2F-FE2C-45B1-B7AE-90CFBCA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5FE2B-75AE-4304-8356-795E0E7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7EBDB-1948-4788-86F5-AD6D7C5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68A50-7B26-42F5-9679-BB11EC10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25631-7D68-4EE2-B274-2301D83A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99EF4-E932-4F12-BA1B-F4F4CAE8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3ACE-7271-4F9F-9361-5282260E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73176-21F9-49A7-9543-2CF2B7B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D11-8BBF-4EB7-8983-4355B7DE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3CA2-172D-44A0-A1AE-B9AC92158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6881-7A54-455B-A8E0-6D8366476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E37-022B-4BDE-A1F2-DA629871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2FF6-B509-44B4-B9F9-4B0AD4D5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1A8E-3D5B-437E-9044-5B6FFA13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3E6-B548-44EC-88D5-376F3DAEA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07480" indent="-189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E6C-FAD7-4529-8D73-E257A8459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1F1-E89E-4AEC-928D-AEE55CFCB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d/Lithuania_Vilnius_St.Peter%2BSt.Paul_church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r_litv2.wav" descr=""/>
          <p:cNvPicPr/>
          <p:nvPr/>
        </p:nvPicPr>
        <p:blipFill>
          <a:blip r:embed="rId1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tr_litv2.wav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8"/>
          <p:cNvSpPr/>
          <p:nvPr/>
        </p:nvSpPr>
        <p:spPr>
          <a:xfrm>
            <a:off x="1116000" y="515772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Литва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76000" y="5105520"/>
            <a:ext cx="676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у выполнила Талова О.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У лицей № 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0" descr="Изображение:Coat of Arms of Lithuania.svg"/>
          <p:cNvPicPr/>
          <p:nvPr/>
        </p:nvPicPr>
        <p:blipFill>
          <a:blip r:embed="rId3"/>
          <a:stretch/>
        </p:blipFill>
        <p:spPr>
          <a:xfrm>
            <a:off x="6012000" y="2349360"/>
            <a:ext cx="2022480" cy="2303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c14 copy"/>
          <p:cNvPicPr/>
          <p:nvPr/>
        </p:nvPicPr>
        <p:blipFill>
          <a:blip r:embed="rId4"/>
          <a:stretch/>
        </p:blipFill>
        <p:spPr>
          <a:xfrm>
            <a:off x="0" y="3141720"/>
            <a:ext cx="1695600" cy="3716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c80 copy"/>
          <p:cNvPicPr/>
          <p:nvPr/>
        </p:nvPicPr>
        <p:blipFill>
          <a:blip r:embed="rId5"/>
          <a:stretch/>
        </p:blipFill>
        <p:spPr>
          <a:xfrm>
            <a:off x="7943760" y="2832120"/>
            <a:ext cx="1200240" cy="4025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Lituanie"/>
          <p:cNvPicPr/>
          <p:nvPr/>
        </p:nvPicPr>
        <p:blipFill>
          <a:blip r:embed="rId6"/>
          <a:stretch/>
        </p:blipFill>
        <p:spPr>
          <a:xfrm>
            <a:off x="755640" y="907920"/>
            <a:ext cx="25718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Изображение:Flag of Lithuania.svg"/>
          <p:cNvPicPr/>
          <p:nvPr/>
        </p:nvPicPr>
        <p:blipFill>
          <a:blip r:embed="rId1"/>
          <a:stretch/>
        </p:blipFill>
        <p:spPr>
          <a:xfrm>
            <a:off x="1116000" y="907920"/>
            <a:ext cx="7129440" cy="45370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1403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7"/>
          <p:cNvSpPr/>
          <p:nvPr/>
        </p:nvSpPr>
        <p:spPr>
          <a:xfrm>
            <a:off x="1042920" y="522936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8"/>
          <p:cNvSpPr/>
          <p:nvPr/>
        </p:nvSpPr>
        <p:spPr>
          <a:xfrm>
            <a:off x="1187280" y="53737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 состоит из трех горизонтальных полос - желтой, зеленой и красной. Желтый символизирует благородство и честь; зеленый - жизнь, надежду и свободу; красный - любовь, храбрость и кровь, пролитая за Род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9" descr="c18 copy"/>
          <p:cNvPicPr/>
          <p:nvPr/>
        </p:nvPicPr>
        <p:blipFill>
          <a:blip r:embed="rId2"/>
          <a:stretch/>
        </p:blipFill>
        <p:spPr>
          <a:xfrm>
            <a:off x="0" y="2205000"/>
            <a:ext cx="16066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10"/>
          <p:cNvSpPr/>
          <p:nvPr/>
        </p:nvSpPr>
        <p:spPr>
          <a:xfrm>
            <a:off x="1042920" y="5229360"/>
            <a:ext cx="7561440" cy="1368360"/>
          </a:xfrm>
          <a:prstGeom prst="wedgeRoundRectCallout">
            <a:avLst>
              <a:gd name="adj1" fmla="val -54935"/>
              <a:gd name="adj2" fmla="val 73087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763640" y="33336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ый гер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1763640" y="54450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ербе изображен белый рыцарь на коне (Витязь), который держит меч над головой. Этот герб считается одним из самых древних в Евро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2" descr="c13 copy"/>
          <p:cNvPicPr/>
          <p:nvPr/>
        </p:nvPicPr>
        <p:blipFill>
          <a:blip r:embed="rId1"/>
          <a:stretch/>
        </p:blipFill>
        <p:spPr>
          <a:xfrm>
            <a:off x="0" y="2924280"/>
            <a:ext cx="1665360" cy="39337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Изображение:Coat of Arms of Lithuania.svg"/>
          <p:cNvPicPr/>
          <p:nvPr/>
        </p:nvPicPr>
        <p:blipFill>
          <a:blip r:embed="rId2"/>
          <a:stretch/>
        </p:blipFill>
        <p:spPr>
          <a:xfrm>
            <a:off x="2700360" y="907920"/>
            <a:ext cx="39844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AutoShape 8"/>
          <p:cNvSpPr/>
          <p:nvPr/>
        </p:nvSpPr>
        <p:spPr>
          <a:xfrm>
            <a:off x="611280" y="4724280"/>
            <a:ext cx="8353440" cy="1800360"/>
          </a:xfrm>
          <a:prstGeom prst="wedgeRoundRectCallout">
            <a:avLst>
              <a:gd name="adj1" fmla="val -39814"/>
              <a:gd name="adj2" fmla="val 67638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403280" y="4797000"/>
            <a:ext cx="792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ва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фициальное название Лито́вская Респу́блика- государство в Европе, на восточном побережье Балтийского моря. Территория государства составляет 65 300 к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аселение – около 3,6 млн. жителей. Кроме литовцев (80 %) здесь проживают так же русские (8,6 %), поляки (7,7 %), белорусы (1,5 %) и украинцы (1,2 %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Литва"/>
          <p:cNvPicPr/>
          <p:nvPr/>
        </p:nvPicPr>
        <p:blipFill>
          <a:blip r:embed="rId1"/>
          <a:stretch/>
        </p:blipFill>
        <p:spPr>
          <a:xfrm>
            <a:off x="1908000" y="620640"/>
            <a:ext cx="5139000" cy="40561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c19 copy"/>
          <p:cNvPicPr/>
          <p:nvPr/>
        </p:nvPicPr>
        <p:blipFill>
          <a:blip r:embed="rId2"/>
          <a:stretch/>
        </p:blipFill>
        <p:spPr>
          <a:xfrm>
            <a:off x="0" y="2565360"/>
            <a:ext cx="148608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liv_04"/>
          <p:cNvPicPr/>
          <p:nvPr/>
        </p:nvPicPr>
        <p:blipFill>
          <a:blip r:embed="rId1"/>
          <a:stretch/>
        </p:blipFill>
        <p:spPr>
          <a:xfrm>
            <a:off x="900000" y="476280"/>
            <a:ext cx="7417080" cy="559764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6"/>
          <p:cNvSpPr/>
          <p:nvPr/>
        </p:nvSpPr>
        <p:spPr>
          <a:xfrm>
            <a:off x="826920" y="5300640"/>
            <a:ext cx="7777440" cy="1081080"/>
          </a:xfrm>
          <a:prstGeom prst="wedgeRoundRectCallout">
            <a:avLst>
              <a:gd name="adj1" fmla="val -45550"/>
              <a:gd name="adj2" fmla="val 92583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Столица- Вильнюс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26560" y="5661000"/>
            <a:ext cx="79916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19 по 1939 столицей был Каунас. Столица современной Литвы — Вильнюс (с 1939 по настоящее врем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c80 copy"/>
          <p:cNvPicPr/>
          <p:nvPr/>
        </p:nvPicPr>
        <p:blipFill>
          <a:blip r:embed="rId2"/>
          <a:stretch/>
        </p:blipFill>
        <p:spPr>
          <a:xfrm>
            <a:off x="0" y="2925720"/>
            <a:ext cx="1173240" cy="393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8" descr="P6250324"/>
          <p:cNvPicPr/>
          <p:nvPr/>
        </p:nvPicPr>
        <p:blipFill>
          <a:blip r:embed="rId1"/>
          <a:stretch/>
        </p:blipFill>
        <p:spPr>
          <a:xfrm>
            <a:off x="4500720" y="11592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парк неринга"/>
          <p:cNvPicPr/>
          <p:nvPr/>
        </p:nvPicPr>
        <p:blipFill>
          <a:blip r:embed="rId2"/>
          <a:stretch/>
        </p:blipFill>
        <p:spPr>
          <a:xfrm>
            <a:off x="250920" y="11592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c1c1c"/>
                </a:solidFill>
                <a:latin typeface="Arial"/>
              </a:rPr>
              <a:t>Достопримечательности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971640" y="5805360"/>
            <a:ext cx="7489800" cy="649440"/>
          </a:xfrm>
          <a:prstGeom prst="wedgeRoundRectCallout">
            <a:avLst>
              <a:gd name="adj1" fmla="val -45379"/>
              <a:gd name="adj2" fmla="val 120902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1332000" y="5950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льптуры из парка Нерин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c77 copy"/>
          <p:cNvPicPr/>
          <p:nvPr/>
        </p:nvPicPr>
        <p:blipFill>
          <a:blip r:embed="rId3"/>
          <a:stretch/>
        </p:blipFill>
        <p:spPr>
          <a:xfrm>
            <a:off x="0" y="2997360"/>
            <a:ext cx="162072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Изображение:Lithuania Vilnius St.Peter+St.Paul churc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15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liv_05"/>
          <p:cNvPicPr/>
          <p:nvPr/>
        </p:nvPicPr>
        <p:blipFill>
          <a:blip r:embed="rId3"/>
          <a:stretch/>
        </p:blipFill>
        <p:spPr>
          <a:xfrm>
            <a:off x="3059280" y="620640"/>
            <a:ext cx="3501720" cy="56023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5"/>
          <p:cNvSpPr/>
          <p:nvPr/>
        </p:nvSpPr>
        <p:spPr>
          <a:xfrm>
            <a:off x="826920" y="5877000"/>
            <a:ext cx="4392720" cy="647640"/>
          </a:xfrm>
          <a:prstGeom prst="wedgeRoundRectCallout">
            <a:avLst>
              <a:gd name="adj1" fmla="val -44939"/>
              <a:gd name="adj2" fmla="val 86273"/>
              <a:gd name="adj3" fmla="val 16667"/>
            </a:avLst>
          </a:prstGeom>
          <a:gradFill rotWithShape="0">
            <a:gsLst>
              <a:gs pos="0">
                <a:srgbClr val="996633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048680" y="5950080"/>
            <a:ext cx="41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стел Петра и Павла в Вильню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c68 copy"/>
          <p:cNvPicPr/>
          <p:nvPr/>
        </p:nvPicPr>
        <p:blipFill>
          <a:blip r:embed="rId4"/>
          <a:stretch/>
        </p:blipFill>
        <p:spPr>
          <a:xfrm>
            <a:off x="0" y="3141720"/>
            <a:ext cx="136692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3:00:38Z</dcterms:created>
  <dc:creator>Olga</dc:creator>
  <dc:description/>
  <dc:language>en-US</dc:language>
  <cp:lastModifiedBy>Юлия Викторовна</cp:lastModifiedBy>
  <dcterms:modified xsi:type="dcterms:W3CDTF">2012-06-19T12:11:06Z</dcterms:modified>
  <cp:revision>102</cp:revision>
  <dc:subject/>
  <dc:title>Слайд 1</dc:title>
</cp:coreProperties>
</file>