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gif" ContentType="image/gif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185-42D1-4E31-BD1F-6A53223C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041-51A1-4666-8E8D-14DB315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64DB2-6DE4-4A30-BFCE-B613799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FF3B6-EB92-4666-AC61-0BA9AA2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12BF9-1957-4368-AAAB-3713FE75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9821A-DC39-486D-8151-F3B5743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48DF3-9448-4002-B4AD-51DC733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C7406-6D46-4AB2-AAB1-1E065E5B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FEEE4-760A-4C62-AD33-F0ADAB88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54D11-5511-4B93-B296-EECFF529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58610-5DE3-49F2-9242-770CD5CA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F82-51D4-4240-80DF-91D588DA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258-EF79-4530-B7DB-65F3A70E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7CB3-77A3-4261-9340-47654B7A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F8F3-39F6-4E2F-B772-0D1CBB2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F0D8-519A-45F8-A581-CDC9089F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CAEF-D574-4D06-9834-9C91ED4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6BDA-CED6-4F16-80DC-4159EDD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9BE5-154C-4813-9C63-35BBF4BA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4E20-E070-422C-9ADA-5A001C6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C95-ADCF-45F8-B5E7-732D6280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0B46-0ADB-4E00-9CEB-2E9ACB4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5A63-1B5F-4AEB-8109-32C07E82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E07-49D6-44D2-8688-AF83C9F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D5FB-4D4C-4CDB-8E18-F8375F26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E15F-7A3E-49C9-ACC2-85673A0E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DE9A-CD97-4441-8941-249FE6AF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C6F1-40BF-4F84-99FB-7F3E161C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0644-D738-41B6-865A-6C81C2F2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FCF0-656A-4A6C-9EC7-69D0909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8A20-ECB0-4BC1-B735-17AD091F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BF4-BDAB-4A68-B435-68401697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615D-4688-45C0-9CBC-0F0DB9BC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AA6B-81D8-4FA2-A6D5-9083CCA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DF75-AC21-4B0E-8603-DBBB7E7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4243-7F7B-4E9D-A46B-D22D217C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1F99-67A4-4AB1-A3DC-0AFBBCEB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5458-37AC-40EB-9383-7CF280FB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AF0B-BD16-447D-89B6-DD584FCE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073D-686B-4C5F-A811-7232BB28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66D1-5CCE-4A29-92A9-5A43EAD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5AE7-7984-42A0-9471-C5ACDFF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1F9-C62E-4EA5-8BBA-379C284D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F1C5-1420-40C6-9E44-FE38B9CD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AEF4-BD4F-4993-AFB2-B6533B94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6366-72C2-413D-9C50-C3A6B410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0110-4C38-4CAB-B48A-EEA717A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79E7-1DFD-45E8-8606-B3C4C4A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C8B98-A6E8-488C-9297-2BEA2EE5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5943-DC67-49BC-9CA8-6CCCD0B8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3BEB-A43E-4C37-8E0B-72FD1C7A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668D-6FA7-456B-A6E2-DF352AAD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00DA7-7D67-4EE9-B62A-E280B98A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D1D-A445-4FDD-A4E2-BE563AD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299E-237D-48A7-98EF-389E5F30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A79D-5EBC-4CEF-A0DC-A36EECCE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308C-A7AA-4091-B8AD-70C60A80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1698-E93A-43DA-A188-6559C2B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02BAA-63BF-4C8E-835C-BA542C7B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995A-A567-4DCC-89BF-67E6CBE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2C59-EBC6-4FCC-95DA-255BC027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29FF-B13F-4929-A521-51DA8E40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095B-3FF0-4FB2-ABBF-84CBECF2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75D8-EB24-46D6-A03F-3494EEE7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4F9-AF9A-4425-9242-8E45887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B209A-C80B-4EFF-A28B-9C809393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80B4-EB6A-4E9E-B7C1-D8C38D7E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507E-8AAC-4D41-B589-6CBAC521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B583-9A81-468F-BB1E-C0514B47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2604-4696-4D44-9D43-89B0AF5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74138-AC4F-4313-9B3C-EA39A3F2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FCC6E-0FEB-4B1F-9CA2-804D8378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6E82E-9277-420F-9E53-7DB1147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8B0F7-AC65-4BE3-ACED-570F455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4E058-CF62-4855-B028-26815AA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3C5-D479-4A78-8D2D-BA7CE07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AD813-4CF6-4190-A1CA-E967D242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B18F-18EE-48D2-87A9-4F3757DB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CFB88-A7A2-4051-8A63-43B9940B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AE1B-79B8-4D1B-860A-B401C810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B582F-E8A2-41CF-BEBC-981E4F14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83C2-15DF-4B21-9F89-27979D28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3389-400B-4704-AB8F-C5CA361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627FB-7735-4BA4-BB3C-F5F00F0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88E6-0605-4F1D-923F-DE3215F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79054-B946-4B97-A8EF-6FD9882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56F-BA32-45AB-9CE5-A0A1092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185A5-59A7-47F6-B0B6-EE99B32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F3CD7-8E06-49BA-9E03-D41C630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744B4-513B-4456-B71F-52731354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881BC-2569-48F9-A0F9-37230ED6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F4967-B383-4015-908F-C55D7A6C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C4591-AECB-4EB1-BA01-C930EC93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5BCA6-D9B1-4B4E-A9C8-404BF5E9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8B4A6-EE64-4A7A-B5A9-FBFEE0B8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BDAA-388B-4B84-AD79-034F9E26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A8011-D924-4747-A052-9E4955B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DD5-2800-48A7-A193-B2798A7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C183-F3B7-41F4-A43C-6C1E0D6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15DEA-75E0-426D-A044-35C7242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0FD37-525B-4552-B166-A5A1B29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7310-7E0C-4848-BC4F-32A3830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9F6F3-9E3C-4E8D-9061-3772FFE5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1BC5-EB6D-4E35-9508-13F17DC0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B4B9-BF95-4B57-8531-F45B4F97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7847A-F933-4743-8E05-B8ADDA3F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D1504-5200-4568-BB42-4AE69F7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6244A-C028-4A94-9D84-5433B2C1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50E7-B901-46B9-973F-9201A21E1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7212-A885-46FE-94EE-721D308C1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C610-74B1-43B1-8049-17D173F74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249-AB67-4791-AB88-174AD68B3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CBB-8E67-4FC3-82B7-BF06AD44A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B641-9652-40B9-8F74-E3E662614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C068-825F-4413-9763-929B48B8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BDF-5553-4570-8249-8D6D3D65D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5CF8-AF30-4476-A364-04577C8A4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Lithuania_Vilnius_St.Peter%2BSt.Paul_church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r_litv2.wav" descr=""/>
          <p:cNvPicPr/>
          <p:nvPr/>
        </p:nvPicPr>
        <p:blipFill>
          <a:blip r:embed="rId1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0" name="tr_litv2.wav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8"/>
          <p:cNvSpPr/>
          <p:nvPr/>
        </p:nvSpPr>
        <p:spPr>
          <a:xfrm>
            <a:off x="1116000" y="5157720"/>
            <a:ext cx="7561440" cy="1368360"/>
          </a:xfrm>
          <a:prstGeom prst="wedgeRoundRectCallout">
            <a:avLst>
              <a:gd name="adj1" fmla="val -54935"/>
              <a:gd name="adj2" fmla="val 73087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Литв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76000" y="5105520"/>
            <a:ext cx="67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у выполнила Талова О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У лицей № 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0" descr="Изображение:Coat of Arms of Lithuania.svg"/>
          <p:cNvPicPr/>
          <p:nvPr/>
        </p:nvPicPr>
        <p:blipFill>
          <a:blip r:embed="rId3"/>
          <a:stretch/>
        </p:blipFill>
        <p:spPr>
          <a:xfrm>
            <a:off x="6012000" y="2349360"/>
            <a:ext cx="2022480" cy="2303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c14 copy"/>
          <p:cNvPicPr/>
          <p:nvPr/>
        </p:nvPicPr>
        <p:blipFill>
          <a:blip r:embed="rId4"/>
          <a:stretch/>
        </p:blipFill>
        <p:spPr>
          <a:xfrm>
            <a:off x="0" y="3141720"/>
            <a:ext cx="1695600" cy="3716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c80 copy"/>
          <p:cNvPicPr/>
          <p:nvPr/>
        </p:nvPicPr>
        <p:blipFill>
          <a:blip r:embed="rId5"/>
          <a:stretch/>
        </p:blipFill>
        <p:spPr>
          <a:xfrm>
            <a:off x="7943760" y="2832120"/>
            <a:ext cx="1200240" cy="4025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Lituanie"/>
          <p:cNvPicPr/>
          <p:nvPr/>
        </p:nvPicPr>
        <p:blipFill>
          <a:blip r:embed="rId6"/>
          <a:stretch/>
        </p:blipFill>
        <p:spPr>
          <a:xfrm>
            <a:off x="755640" y="907920"/>
            <a:ext cx="25718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Изображение:Flag of Lithuania.svg"/>
          <p:cNvPicPr/>
          <p:nvPr/>
        </p:nvPicPr>
        <p:blipFill>
          <a:blip r:embed="rId1"/>
          <a:stretch/>
        </p:blipFill>
        <p:spPr>
          <a:xfrm>
            <a:off x="1116000" y="907920"/>
            <a:ext cx="7129440" cy="45370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140328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7"/>
          <p:cNvSpPr/>
          <p:nvPr/>
        </p:nvSpPr>
        <p:spPr>
          <a:xfrm>
            <a:off x="1042920" y="5229360"/>
            <a:ext cx="7561440" cy="1368360"/>
          </a:xfrm>
          <a:prstGeom prst="wedgeRoundRectCallout">
            <a:avLst>
              <a:gd name="adj1" fmla="val -54935"/>
              <a:gd name="adj2" fmla="val 73087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1187280" y="53737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 состоит из трех горизонтальных полос - желтой, зеленой и красной. Желтый символизирует благородство и честь; зеленый - жизнь, надежду и свободу; красный - любовь, храбрость и кровь, пролитая за Род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9" descr="c18 copy"/>
          <p:cNvPicPr/>
          <p:nvPr/>
        </p:nvPicPr>
        <p:blipFill>
          <a:blip r:embed="rId2"/>
          <a:stretch/>
        </p:blipFill>
        <p:spPr>
          <a:xfrm>
            <a:off x="0" y="2205000"/>
            <a:ext cx="16066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0"/>
          <p:cNvSpPr/>
          <p:nvPr/>
        </p:nvSpPr>
        <p:spPr>
          <a:xfrm>
            <a:off x="1042920" y="5229360"/>
            <a:ext cx="7561440" cy="1368360"/>
          </a:xfrm>
          <a:prstGeom prst="wedgeRoundRectCallout">
            <a:avLst>
              <a:gd name="adj1" fmla="val -54935"/>
              <a:gd name="adj2" fmla="val 73087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763640" y="333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енный гер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1763640" y="54450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гербе изображен белый рыцарь на коне (Витязь), который держит меч над головой. Этот герб считается одним из самых древних в Евро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2" descr="c13 copy"/>
          <p:cNvPicPr/>
          <p:nvPr/>
        </p:nvPicPr>
        <p:blipFill>
          <a:blip r:embed="rId1"/>
          <a:stretch/>
        </p:blipFill>
        <p:spPr>
          <a:xfrm>
            <a:off x="0" y="2924280"/>
            <a:ext cx="1665360" cy="3933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Изображение:Coat of Arms of Lithuania.svg"/>
          <p:cNvPicPr/>
          <p:nvPr/>
        </p:nvPicPr>
        <p:blipFill>
          <a:blip r:embed="rId2"/>
          <a:stretch/>
        </p:blipFill>
        <p:spPr>
          <a:xfrm>
            <a:off x="2700360" y="907920"/>
            <a:ext cx="39844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8"/>
          <p:cNvSpPr/>
          <p:nvPr/>
        </p:nvSpPr>
        <p:spPr>
          <a:xfrm>
            <a:off x="611280" y="4724280"/>
            <a:ext cx="8353440" cy="1800360"/>
          </a:xfrm>
          <a:prstGeom prst="wedgeRoundRectCallout">
            <a:avLst>
              <a:gd name="adj1" fmla="val -39814"/>
              <a:gd name="adj2" fmla="val 67638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403280" y="4797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ва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фициальное название Лито́вская Респу́блика- государство в Европе, на восточном побережье Балтийского моря. Территория государства составляет 65 300 к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аселение – около 3,6 млн. жителей. Кроме литовцев (80 %) здесь проживают так же русские (8,6 %), поляки (7,7 %), белорусы (1,5 %) и украинцы (1,2 %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Литва"/>
          <p:cNvPicPr/>
          <p:nvPr/>
        </p:nvPicPr>
        <p:blipFill>
          <a:blip r:embed="rId1"/>
          <a:stretch/>
        </p:blipFill>
        <p:spPr>
          <a:xfrm>
            <a:off x="1908000" y="620640"/>
            <a:ext cx="5139000" cy="4056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c19 copy"/>
          <p:cNvPicPr/>
          <p:nvPr/>
        </p:nvPicPr>
        <p:blipFill>
          <a:blip r:embed="rId2"/>
          <a:stretch/>
        </p:blipFill>
        <p:spPr>
          <a:xfrm>
            <a:off x="0" y="2565360"/>
            <a:ext cx="148608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8" descr="liv_04"/>
          <p:cNvPicPr/>
          <p:nvPr/>
        </p:nvPicPr>
        <p:blipFill>
          <a:blip r:embed="rId1"/>
          <a:stretch/>
        </p:blipFill>
        <p:spPr>
          <a:xfrm>
            <a:off x="900000" y="476280"/>
            <a:ext cx="7417080" cy="559764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6"/>
          <p:cNvSpPr/>
          <p:nvPr/>
        </p:nvSpPr>
        <p:spPr>
          <a:xfrm>
            <a:off x="826920" y="5300640"/>
            <a:ext cx="7777440" cy="1081080"/>
          </a:xfrm>
          <a:prstGeom prst="wedgeRoundRectCallout">
            <a:avLst>
              <a:gd name="adj1" fmla="val -45550"/>
              <a:gd name="adj2" fmla="val 92583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Столица- Вильнюс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26560" y="5661000"/>
            <a:ext cx="7991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19 по 1939 столицей был Каунас. Столица современной Литвы — Вильнюс (с 1939 по настоящее врем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c80 copy"/>
          <p:cNvPicPr/>
          <p:nvPr/>
        </p:nvPicPr>
        <p:blipFill>
          <a:blip r:embed="rId2"/>
          <a:stretch/>
        </p:blipFill>
        <p:spPr>
          <a:xfrm>
            <a:off x="0" y="2925720"/>
            <a:ext cx="1173240" cy="39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8" descr="P6250324"/>
          <p:cNvPicPr/>
          <p:nvPr/>
        </p:nvPicPr>
        <p:blipFill>
          <a:blip r:embed="rId1"/>
          <a:stretch/>
        </p:blipFill>
        <p:spPr>
          <a:xfrm>
            <a:off x="4500720" y="11592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парк неринга"/>
          <p:cNvPicPr/>
          <p:nvPr/>
        </p:nvPicPr>
        <p:blipFill>
          <a:blip r:embed="rId2"/>
          <a:stretch/>
        </p:blipFill>
        <p:spPr>
          <a:xfrm>
            <a:off x="250920" y="11592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Достопримечательност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971640" y="5805360"/>
            <a:ext cx="7489800" cy="649440"/>
          </a:xfrm>
          <a:prstGeom prst="wedgeRoundRectCallout">
            <a:avLst>
              <a:gd name="adj1" fmla="val -45379"/>
              <a:gd name="adj2" fmla="val 120902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1332000" y="5950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ульптуры из парка Нер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c77 copy"/>
          <p:cNvPicPr/>
          <p:nvPr/>
        </p:nvPicPr>
        <p:blipFill>
          <a:blip r:embed="rId3"/>
          <a:stretch/>
        </p:blipFill>
        <p:spPr>
          <a:xfrm>
            <a:off x="0" y="2997360"/>
            <a:ext cx="162072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Изображение:Lithuania Vilnius St.Peter+St.Paul chur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15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liv_05"/>
          <p:cNvPicPr/>
          <p:nvPr/>
        </p:nvPicPr>
        <p:blipFill>
          <a:blip r:embed="rId3"/>
          <a:stretch/>
        </p:blipFill>
        <p:spPr>
          <a:xfrm>
            <a:off x="3059280" y="620640"/>
            <a:ext cx="3501720" cy="56023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5"/>
          <p:cNvSpPr/>
          <p:nvPr/>
        </p:nvSpPr>
        <p:spPr>
          <a:xfrm>
            <a:off x="826920" y="5877000"/>
            <a:ext cx="4392720" cy="647640"/>
          </a:xfrm>
          <a:prstGeom prst="wedgeRoundRectCallout">
            <a:avLst>
              <a:gd name="adj1" fmla="val -44939"/>
              <a:gd name="adj2" fmla="val 86273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048680" y="595008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тел Петра и Павла в Вильню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9" descr="c68 copy"/>
          <p:cNvPicPr/>
          <p:nvPr/>
        </p:nvPicPr>
        <p:blipFill>
          <a:blip r:embed="rId4"/>
          <a:stretch/>
        </p:blipFill>
        <p:spPr>
          <a:xfrm>
            <a:off x="0" y="3141720"/>
            <a:ext cx="136692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3:00:38Z</dcterms:created>
  <dc:creator>Olga</dc:creator>
  <dc:description/>
  <dc:language>en-US</dc:language>
  <cp:lastModifiedBy>Юлия Викторовна</cp:lastModifiedBy>
  <dcterms:modified xsi:type="dcterms:W3CDTF">2012-06-19T12:11:06Z</dcterms:modified>
  <cp:revision>102</cp:revision>
  <dc:subject/>
  <dc:title>Слайд 1</dc:title>
</cp:coreProperties>
</file>