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6E74-859E-4654-9DB2-CED14CF4B5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дней осенью, в ночь на 28 октября 1910 года Л.Н. Толстой, выполняя своё решение прожить последние годы соответственно своим взглядам, тайно покинул Ясную Поляну в сопровождении своего врача Д.П. Маковицкого.  Своё последнее путешествие он начал на станци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Щёки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 сожалению дорога оказалась для него непосильной. По дороге Л. Н. Толстой заболел воспалением лёгких и вынужден был выйти из поезда на первой большой станции рядом с населённым пунктом. Этой станцией оказалось Астапово. Здесь, в доме начальника станции он провел последние семь дней своей жизни. За сообщениями о здоровье Толстого, который к этому времени приобрел уже мировую известность следила вся Росс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B39D-744F-4968-9E97-D6D4D055E8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AC41-473C-419B-ACE3-C799F4F4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900E-0BC4-43C4-A801-D1F59861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EF3-A786-4CA2-93BD-AC168A9F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848B-4273-478D-B010-AC47FE40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8D039-16FE-4564-AA67-6A19A86F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83ACD-1B13-4C20-94AC-6CB7F8E6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FF09A-D994-4EA2-A781-E986110C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951CB-D1A2-467E-8600-B9648CC7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3186E-73DF-45CE-B0D3-D0E541E2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7222F-BADB-4B9D-8490-36233EFE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67409-C622-4620-A911-E932797A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771-1CB9-47AD-AABC-6B835683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4A055-0C94-49F7-B32D-BC85B024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759A9-95AB-4DAC-9122-565A36BA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855DC-867C-4872-BDBF-2612A019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E7D67-C4AA-465C-8ED3-4C0AC5BD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886CD-4709-4A29-AF68-96441AAB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5343F-F5EB-48C4-99D1-2B127E3A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4FA92-4664-4B15-8EF9-C11FEEF4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B4FF5-A326-4BB5-BD11-AF3162B2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B031F-42E0-433F-9E2B-8AF692BC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3078E-7F7D-4DC2-93B6-72C2B698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2600-E529-4E94-BAA9-63A9C5DC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6716F-EEE0-4BCF-9D20-79A6C50D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56551-FE06-486F-AB5A-56240A18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0C5A4-83A1-467E-9743-B65FA836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99FD5-759C-43AE-A6B3-632BE865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19A65-3702-4B52-8EC6-8FB426B3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FC1A9-7E97-40D9-A834-0DF604F4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9B4EE-AC1F-4AFC-9632-8B56AC70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5E5CE6-49AC-4DF7-B1B8-D1ED086E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0FE4E9-7AE5-4609-B4F5-5BAA0916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AE1013-6EC8-471A-94CD-5A4FCFB7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8E19-EFC5-4129-9DFB-7A87C9A6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EC49B-9DDB-4D71-BABC-66D1DB5F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DE5290-45C9-436C-AEEC-0EE2FB7D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E3D5B5-0D7E-4F1D-8CBF-8834F0DB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EFDFB5-0E02-4E12-A04B-9F0E850F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03FBF8-39DC-412C-8F28-E1289F29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6B7101-A05A-41ED-8C0F-F6703106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339754-E298-4721-B36C-B9979E34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6E94F7-EAA4-4F67-97B2-EAEA9354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15DFD3-F67E-4DAD-9AF8-6B329214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5E4-A3ED-4C7F-92D2-75C25A9B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4C08-B46B-450C-B326-E00B8FB0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6C69-C764-4F60-AD41-2472DF64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7A1D-DF20-480C-984D-35841E0E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0979-5473-480D-AE72-B4A535A6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479F-6031-46E7-BCC9-6A6B7136EA0B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736F-C14B-4B7A-A686-653AD6410B64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708E-4478-4D28-A499-CAA612B57994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FE25-FD9C-488C-B12E-8ED5FBC47C07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C:\Users\Магомед\Desktop\repin44b.jpg"/>
          <p:cNvPicPr/>
          <p:nvPr/>
        </p:nvPicPr>
        <p:blipFill>
          <a:blip r:embed="rId1"/>
          <a:stretch/>
        </p:blipFill>
        <p:spPr>
          <a:xfrm>
            <a:off x="714240" y="428760"/>
            <a:ext cx="5143680" cy="585792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6"/>
          <p:cNvSpPr/>
          <p:nvPr/>
        </p:nvSpPr>
        <p:spPr>
          <a:xfrm>
            <a:off x="5572080" y="2071800"/>
            <a:ext cx="357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траницы биограф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4000680" y="5780160"/>
            <a:ext cx="7572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d9263"/>
                </a:solidFill>
                <a:latin typeface="Constantia"/>
              </a:rPr>
              <a:t>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d9263"/>
                </a:solidFill>
                <a:latin typeface="Constantia"/>
              </a:rPr>
              <a:t>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d9263"/>
                </a:solidFill>
                <a:latin typeface="Constantia"/>
              </a:rPr>
              <a:t>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d9263"/>
                </a:solidFill>
                <a:latin typeface="Constantia"/>
              </a:rPr>
              <a:t>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8"/>
          <p:cNvSpPr/>
          <p:nvPr/>
        </p:nvSpPr>
        <p:spPr>
          <a:xfrm>
            <a:off x="500040" y="285840"/>
            <a:ext cx="557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Лев Николаевич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Толсто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10"/>
          <p:cNvSpPr/>
          <p:nvPr/>
        </p:nvSpPr>
        <p:spPr>
          <a:xfrm>
            <a:off x="7295400" y="5572080"/>
            <a:ext cx="15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йса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нсур 7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2"/>
          <p:cNvSpPr/>
          <p:nvPr/>
        </p:nvSpPr>
        <p:spPr>
          <a:xfrm>
            <a:off x="785880" y="28584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ентябре 1862 Лев Толстой женился на Софье Андреевне. В течение первых 12 лет после женитьбы он создаёт «Войну и мир» и «Анну Каренину». На рубеже этой второй эпохи литературной жизни Толстого стоят задуманные ещё в 1852 г. и законченные в 1861—1862 гг. «Казаки», первое из произведений, в которых наиболее реализовался талант Толст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785880" y="1928880"/>
            <a:ext cx="478620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«Война и мир»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Небывалый успех выпал на долю «Войны и мира». Отрывок из романа под названием «1805 год» появился в «Русском вестнике»1865 года; в 1868 году вышли три его части, за которыми вскоре последовали остальные две. Выходу «Войны и мира» предшествовал роман «Декабристы» (1860—1861), к которому автор неоднократно возвращался, но который остался незаконченным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 романе Толстого представлены все классы общества, от императоров и королей до последнего солдата, все возрасты и все темпераменты на пространстве целого царствования Александра I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5" descr="http://upload.wikimedia.org/wikipedia/ru/thumb/4/41/War-and-peace_1873.gif/140px-War-and-peace_1873.gif"/>
          <p:cNvPicPr/>
          <p:nvPr/>
        </p:nvPicPr>
        <p:blipFill>
          <a:blip r:embed="rId1"/>
          <a:stretch/>
        </p:blipFill>
        <p:spPr>
          <a:xfrm>
            <a:off x="5572080" y="2071800"/>
            <a:ext cx="2933640" cy="4357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500040" y="142920"/>
            <a:ext cx="821520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Анна Каренин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сконечно радостного упоения блаженством бытия уже нет в «Анне Карениной», относящейся к 1873—1876 годам. Есть ещё много отрадного переживания в почти автобиографическом романе Лёвина и Кити, но уже столько горечи в изображении семейной жизни Долли, в несчастном завершении любви Анны Карениной и Вронского, столько тревоги в душевной жизни Лёвина, что в общем этот роман является уже переходом к третьему периоду литературной деятельности Толсто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январе 1871 года Толстой отправил А. А. Фету письмо: 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«Как я счастлив… что писать дребедени многословной вроде „Войны“ я больше никогда не стану»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6 декабря 1908 года Толстой записал в дневнике: 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«Люди любят меня за те пустяки — „Война и мир“ и т. п., которые им кажутся очень важными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ом 1909 года один из посетителей Ясной Поляны выражал свой восторг и благодарность за создание «Войны и мира» и «Анны Карениной». Толстой ответил: 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«Это всё равно, что к Эдисону кто-нибудь пришёл и сказал бы: „Я очень уважаю вас за то, что вы хорошо танцуете мазурку“. Я приписываю значение совсем другим своим книгам (религиозным!)»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 марте 1879 года, в городе Москве, Лев Толстой познакомился с Василием Петровичем Щеголёнком и в том же году, по его приглашению тот приехал в Ясную Поляну, где пробыл около месяца-полутора. Щеголёнок поведал Толстому множество народных сказаний и былин, из которых более двадцати были записаны Толстым, а сюжеты некоторых, Толстой, если и не записал на бумагу, то запомнил. Шесть написанных Толстым произведений имеют источником легенды и рассказы Щеголёнка (1881 — «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Чем люди жив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, 1885 — «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ва старик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 и «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ри старц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, 1905 — «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Корней Васильев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 и «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Молитв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, 1907 — «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Старик в церкв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). Помимо этого, граф Толстой усердно записал много поговорок, пословиц, отдельных выражений и слов рассказанных Щеголёнк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714240" y="3000240"/>
            <a:ext cx="4921560" cy="25005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7"/>
          <p:cNvSpPr/>
          <p:nvPr/>
        </p:nvSpPr>
        <p:spPr>
          <a:xfrm>
            <a:off x="1285920" y="5643720"/>
            <a:ext cx="37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танция Астапо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4"/>
          <p:cNvSpPr/>
          <p:nvPr/>
        </p:nvSpPr>
        <p:spPr>
          <a:xfrm>
            <a:off x="1643040" y="214200"/>
            <a:ext cx="61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следнее путешествие, смерть и похор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5"/>
          <p:cNvSpPr/>
          <p:nvPr/>
        </p:nvSpPr>
        <p:spPr>
          <a:xfrm>
            <a:off x="428760" y="500040"/>
            <a:ext cx="8429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здней осенью, в ночь на 28 октября 1910 года Л.Н. Толстой, выполняя своё решение прожить последние годы соответственно своим взглядам, тайно покинул Ясную Поляну в сопровождении своего врача Д.П. Маковицкого.  Своё последнее путешествие он начал на станции Щёкино. К сожалению дорога оказалась для него непосильной. По дороге Л. Н. Толстой заболел воспалением лёгких и вынужден был выйти из поезда на первой большой станции рядом с населённым пунктом. Этой станцией оказалось Астапово. Здесь, в доме начальника станции он провел последние семь дней своей жизни. За сообщениями о здоровье Толстого, который к этому времени приобрел уже мировую известность следила вся Росс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428840" y="492912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0 ноября 1910 г. писателя похоронили в Ясной Полян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лесу, на краю овраг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де в детстве он вместе с братом искал "зеленую палочку"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хранившую "секрет", как сделать всех людей счастливы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2500200" y="673200"/>
            <a:ext cx="4167360" cy="4041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2786040" y="2357280"/>
            <a:ext cx="385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Конец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500120" y="2286000"/>
            <a:ext cx="621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хочу рассказать вам о жизни великого русского писателя Льва Николаевича Толстого. Я выбрал эту тему потому, что я с детства увлекаюсь творчеством Толстого, и я надеюсь, что мне удастся рассказать вам много нового и интересн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3357720" y="428760"/>
            <a:ext cx="30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ступ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3"/>
          <p:cNvSpPr/>
          <p:nvPr/>
        </p:nvSpPr>
        <p:spPr>
          <a:xfrm>
            <a:off x="50720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ев Николаевич Толст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1828-1910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усский писател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ра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143000" y="642960"/>
            <a:ext cx="3786120" cy="480852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5"/>
          <p:cNvSpPr/>
          <p:nvPr/>
        </p:nvSpPr>
        <p:spPr>
          <a:xfrm>
            <a:off x="1143000" y="550080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2"/>
          <p:cNvSpPr/>
          <p:nvPr/>
        </p:nvSpPr>
        <p:spPr>
          <a:xfrm>
            <a:off x="428760" y="5643720"/>
            <a:ext cx="65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Ясная Поля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десь прошло все детство Толстого, его трех братьев и младшей сестры, здесь писатель прожил большую часть своей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428760" y="571680"/>
            <a:ext cx="7500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Родился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Лев Николаевич Толст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28 августа 1828 года в Крапивенском уезде Тульской губернии, в наследственном имении матери – Ясной Поляне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 Отец - граф Николай Ильич Толстой (1794 - 1837); мать - Мария Николаевна, урожденная Волконская. Лев Толстой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Был четвёртым ребёнком; у него было три старших брата: Николай, Сергей (1826—1904) и Дмитрий. В 1830 году родилась сестра Мария (1830—1912). Его мать умерла с рождением последней дочери, когда ему не было ещё 2-х л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428760" y="2714760"/>
            <a:ext cx="4857480" cy="2950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357120" y="357120"/>
            <a:ext cx="4857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анием осиротевших детей занялась дальняя родственница Т. А. Ергольская. В 1837 году семья переехала в Москву, поселившись на Плющихе, потому что старшему сыну надо было готовиться к поступлению в университет. Но вскоре внезапно умер отец, оставив дела (в том числе некоторые, связанные с имуществом семьи, тяжбы) в незаконченном состоянии, и трое младших детей снова поселились в Ясной Поляне под наблюдением Ергольской и тётки по отцу, графини А. М. Остен-Сакен, назначенной опекуншей детей. Здесь Лев Николаевич оставался до 1840 года, когда умерла графиня Остен-Сакен, и дети переселились в Казань, к новому опекуну — сестре отца П. И. Юшков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4" descr="Картинка 1 из 160"/>
          <p:cNvPicPr/>
          <p:nvPr/>
        </p:nvPicPr>
        <p:blipFill>
          <a:blip r:embed="rId1"/>
          <a:stretch/>
        </p:blipFill>
        <p:spPr>
          <a:xfrm>
            <a:off x="5643720" y="357120"/>
            <a:ext cx="2786040" cy="38908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3"/>
          <p:cNvSpPr/>
          <p:nvPr/>
        </p:nvSpPr>
        <p:spPr>
          <a:xfrm>
            <a:off x="5643720" y="428616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.И. Юшкова – тётя Л.Н. Толст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7"/>
          <p:cNvSpPr/>
          <p:nvPr/>
        </p:nvSpPr>
        <p:spPr>
          <a:xfrm>
            <a:off x="642960" y="78588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го образование шло сначала под руководством гувернёра-француза Сен-Тома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841 году П. И. Юшкова, взяв на себя роль опекунши своих несовершеннолетних племянников и племянницы, привезла их в Казань. Вслед за братьями Лев решил поступить в Императорский Казанский университет, где работали на математическом факультете Лобачевский, а на Восточном —Ковалевский. 3 октября 1844 года Лев Толстой был зачислен студентом разряда восточной словесности в качестве своекоштного. На вступительных экзаменах он, в частности, показал отличные результаты по обязательному для поступления «турецко-татарскому языку». Из-за конфликта его домашних с преподавателем российской и всеобщей истории и истории философии, профессором Н. А. Ивановым, по результатам года имел неуспеваемость по соответствующим предметам и должен был заново пройти программу первого курса. Во избежание полного повторения курса он перешёл на юридический факультет, где его проблемы с оценками по российской истории и немецкому продолжали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642960" y="4287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юридическом факультете Лев Толстой пробыл менее двух лет: Всегда ему было трудно всякое навязанное другими образование, и всему, чему он в жизни выучился, он выучился сам, вдруг, быстро, усиленным трудом. В 1904 году он вспоминал: «…я первый год ничего не делал. На второй год я стал заниматься … там был профессор Мейер, который дал мне работу «сравнение „Наказа“ Екатерины с „Esprit des lois“ Монтескьё». … меня эта работа увлекла, я уехал в деревню, стал читать Монтескьё, это чтение открыло мне бесконечные горизонты; я стал читать Руссо и бросил университет, именно потому, что захотел заниматьс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5"/>
          <p:cNvSpPr/>
          <p:nvPr/>
        </p:nvSpPr>
        <p:spPr>
          <a:xfrm>
            <a:off x="642960" y="32148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ходясь в казанском госпитале, начал вести дневник, где, подражая Франклину, ставил себе цели и правила по самосовершенствованию и отмечал успехи и неудачи в выполнении этих заданий, анализировал свои недостатки и ход мыслей, мотивы своих поступ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2" descr="http://upload.wikimedia.org/wikipedia/commons/thumb/e/e2/Diary_of_Leo_Tolstoy.jpg/225px-Diary_of_Leo_Tolstoy.jpg"/>
          <p:cNvPicPr/>
          <p:nvPr/>
        </p:nvPicPr>
        <p:blipFill>
          <a:blip r:embed="rId1"/>
          <a:stretch/>
        </p:blipFill>
        <p:spPr>
          <a:xfrm>
            <a:off x="5357880" y="3071880"/>
            <a:ext cx="2928960" cy="2143080"/>
          </a:xfrm>
          <a:prstGeom prst="rect">
            <a:avLst/>
          </a:prstGeom>
          <a:ln w="0">
            <a:noFill/>
          </a:ln>
        </p:spPr>
      </p:pic>
      <p:sp>
        <p:nvSpPr>
          <p:cNvPr id="197" name="TextBox 7"/>
          <p:cNvSpPr/>
          <p:nvPr/>
        </p:nvSpPr>
        <p:spPr>
          <a:xfrm>
            <a:off x="5429160" y="55008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невник Л.Н. Толст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642960" y="428760"/>
            <a:ext cx="8001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сной 1848 уезжает в Петербург держать экзамен на кандидата прав, но сдача экзаменов ему надоела и он уехал в деревню. Много времени уходило на кутежи, игру и охоту. Весной 1851, по совету приехавшего брата Николая, Толстой торопливо уехал из Москвы на Кавказ, чтобы сократить расходы и расплатиться с крупным долгом. Около 5 месяцев прожил в Пятигорске, в простой избе. Осенью 1851, сдав в Тифлисе экзамен, поступил юнкером в 4-ю батарею 20-й артиллерийской бригады, стоявшей в казацкой станице Старогладове под Кизляром. Литературные интересы всегда стояли у Толстого на втором плане: он писал, когда хотелось высказаться и никогда не нуждался в обществе литераторов. Первое произведение, "Детство", было напечатано в "Современнике" в 1852, и подписано скромными инициалами Л. Н. Т. На Кавказе Толстой, произведенный в офицеры, оставался два года, участвуя во многих стычках. Имел права на Георгиевский крест, но не получил его. В конце 1853 перевелся в Дунайскую армию и участвовал в сражении при Ольтенице и в осаде Силистрии. С ноября 1854 по конец августа 1855 был в Севастополе: командовал батареей в сражении при Черной, был при бомбардировке во время штурма Малахова Кургана. Там же был написан первый из трех "Севастопольских рассказов" и отправлен в петербургский журнал "Современник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785880" y="642960"/>
            <a:ext cx="76438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ле штурма 27 августа Толстой был послан курьером в Петербург, где зажил шумной жизнью: "на попойки, карты и кутежи с цыганами уходили целые дни и ночи" (Левенфельд). В Петербурге сблизился с сотрудниками "Современника", познакомился с Н.А. Некрасовым, И.С. Тургеневым, И.А. Гончаровым, Н.Г. Чернышевским. 1857 году, оставив Петербург, отправился за границу. Вернувшись в Россию занялся устройством школ в своей Ясной Поляне и во всем Крапивенском уезде. В Яснополянской школе дети сидели кто где хотел, кто сколько хотел и кто как хотел. Никакой определенной программы преподавания не было. Единственная задача учителя заключалась в том, чтобы заинтересовать класс. Несмотря на этот крайний педагогический анархизм, занятия шли прекрасно. Их вел сам Толстой, при помощи нескольких постоянных учителей и нескольких случайных, из ближайших знакомых и приезжих. С 1862 Толстой стал издавать педагогический журнал "Ясная Поляна". Соединенные вместе, педагогические статьи Толстого составили целый том собрания его сочинений. Радушно встретив дебюты Толстого, признав в нем великую надежду русской литературы, критика затем лет на 10 - 12 охладевает к нему. В начале 70-х гг. писателя снова захватывают педагогические интересы; он пишет "Азбуку" (1871-1872) и "Новую азбуку" (1874-1875), для которых сочиняет оригинальные рассказы и переложения сказок и басен, составившие четыре "Русские книги для чт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4:59:21Z</dcterms:created>
  <dc:creator>Дима</dc:creator>
  <dc:description/>
  <dc:language>en-US</dc:language>
  <cp:lastModifiedBy>Marina</cp:lastModifiedBy>
  <dcterms:modified xsi:type="dcterms:W3CDTF">2012-06-19T15:31:52Z</dcterms:modified>
  <cp:revision>163</cp:revision>
  <dc:subject/>
  <dc:title>Слайд 1</dc:title>
</cp:coreProperties>
</file>