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3B71-66FB-423D-B71B-166F075471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й осенью, в ночь на 28 октября 1910 года Л.Н. Толстой, выполняя своё решение прожить последние годы соответственно своим взглядам, тайно покинул Ясную Поляну в сопровождении своего врача Д.П. Маковицкого.  Своё последнее путешествие он начал на станци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Щёки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 сожалению дорога оказалась для него непосильной. По дороге Л. Н. Толстой заболел воспалением лёгких и вынужден был выйти из поезда на первой большой станции рядом с населённым пунктом. Этой станцией оказалось Астапово. Здесь, в доме начальника станции он провел последние семь дней своей жизни. За сообщениями о здоровье Толстого, который к этому времени приобрел уже мировую известность следила вся Рос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364A-5AEC-460B-8028-F00BB7937C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536-36C5-4863-9E23-139A4385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003-63A1-49E4-96AF-A2438D0C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283-B1D9-4CF1-A794-22027DA8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B41-C8F0-4668-8425-EAE008D8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82AE0-E9E2-486F-878B-C3A42FEC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34599-1B08-4CF0-9FB9-E312CFF6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7FAF0-6A8F-46CA-BAD7-FD9350EB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6EC27-1711-41F2-8D5C-BB75E063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05E54-17D7-4222-9552-DC696C5E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562A-DAC6-468E-B073-3515B344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7AA91-D581-43E0-8DC3-33DAE640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8DA-9C7F-4156-B8D2-6324AA0F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2D7FF-FD21-4DD3-A469-80108364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E0E43-C379-44DE-84B0-9117003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7CADA-CCD0-42B9-8999-256E1DF3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B983E-5537-4AB7-897B-07D6B606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976DE-6638-474F-9B58-CBEAD55D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844B-10E4-4E43-9E33-08EA9157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BDF5-1130-4C95-998F-E28957FA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E767-1792-406F-AE3F-2C378AC6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1F16D-29D7-472F-8B9E-6E935564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B782C-4D41-4900-B423-D3B8BF23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848-60B3-4EBF-833B-584C6BB9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EEB7C-816F-4F48-A62F-7AA9F845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031A2-C66C-4BF0-8CB2-BA67B66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B518-331D-4B9A-B99A-666436A5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14DB-8B58-44A0-B781-6897B030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4C942-D207-4961-BC37-823CF2B3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70CDE-0A77-41E0-A11C-8D09B432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AFD44-31D8-45C5-8210-FB157EF1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1DE5E-8FCD-40AA-9C3F-6F8D88FF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3DA63-19E1-430E-967A-28CE6F82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128A8-B9C9-42B9-8849-B7BBD7E0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D12-095D-4598-A64F-929F2022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509D60-76E3-41DF-8763-DD261E13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42C16-D4A0-48FF-8CBA-707D00AC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AAC1B-BD9E-4CA1-B11D-C0EB3AFD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EC45C-0971-431E-AD39-5F68BEF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25D32-D92F-4369-B75E-A602937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31E5D9-1D9C-41B6-B01B-B276A7AB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641B2-DB99-407F-B7CC-664CED5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8CD9A-8AC3-4412-A79C-2C858ACC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FCE01-B629-4550-A73F-8556BF09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63E-9547-4D07-9AB1-ABA95CC6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13A-E16C-4C3C-90A6-88F92B03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1C2-0907-4124-8F65-98CD84B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3F1-CE35-4372-86A2-C1648F05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9FC-FCD6-4DE3-A8B6-09551B82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1CA9-8937-4B32-8A61-27C80DDA20D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040C-8523-49C0-BF15-659FDC9DBA5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A9E1-4F5E-44CD-826D-27B2D5E842E7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2B86-CBEF-4B04-8265-CBFF9AAD44E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C:\Users\Магомед\Desktop\repin44b.jpg"/>
          <p:cNvPicPr/>
          <p:nvPr/>
        </p:nvPicPr>
        <p:blipFill>
          <a:blip r:embed="rId1"/>
          <a:stretch/>
        </p:blipFill>
        <p:spPr>
          <a:xfrm>
            <a:off x="714240" y="428760"/>
            <a:ext cx="5143680" cy="585792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6"/>
          <p:cNvSpPr/>
          <p:nvPr/>
        </p:nvSpPr>
        <p:spPr>
          <a:xfrm>
            <a:off x="5572080" y="2071800"/>
            <a:ext cx="357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аницы биограф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4000680" y="5780160"/>
            <a:ext cx="7572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d9263"/>
                </a:solidFill>
                <a:latin typeface="Constantia"/>
              </a:rPr>
              <a:t>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d9263"/>
                </a:solidFill>
                <a:latin typeface="Constantia"/>
              </a:rPr>
              <a:t>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d9263"/>
                </a:solidFill>
                <a:latin typeface="Constantia"/>
              </a:rPr>
              <a:t>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d9263"/>
                </a:solidFill>
                <a:latin typeface="Constantia"/>
              </a:rPr>
              <a:t>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500040" y="28584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Лев Николаевич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Толст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7295400" y="5572080"/>
            <a:ext cx="15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йса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нсур 7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2"/>
          <p:cNvSpPr/>
          <p:nvPr/>
        </p:nvSpPr>
        <p:spPr>
          <a:xfrm>
            <a:off x="785880" y="2858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ентябре 1862 Лев Толстой женился на Софье Андреевне. В течение первых 12 лет после женитьбы он создаёт «Войну и мир» и «Анну Каренину». На рубеже этой второй эпохи литературной жизни Толстого стоят задуманные ещё в 1852 г. и законченные в 1861—1862 гг. «Казаки», первое из произведений, в которых наиболее реализовался талант Толст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785880" y="1928880"/>
            <a:ext cx="478620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«Война и мир»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Небывалый успех выпал на долю «Войны и мира». Отрывок из романа под названием «1805 год» появился в «Русском вестнике»1865 года; в 1868 году вышли три его части, за которыми вскоре последовали остальные две. Выходу «Войны и мира» предшествовал роман «Декабристы» (1860—1861), к которому автор неоднократно возвращался, но который остался незаконченным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 романе Толстого представлены все классы общества, от императоров и королей до последнего солдата, все возрасты и все темпераменты на пространстве целого царствования Александра I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http://upload.wikimedia.org/wikipedia/ru/thumb/4/41/War-and-peace_1873.gif/140px-War-and-peace_1873.gif"/>
          <p:cNvPicPr/>
          <p:nvPr/>
        </p:nvPicPr>
        <p:blipFill>
          <a:blip r:embed="rId1"/>
          <a:stretch/>
        </p:blipFill>
        <p:spPr>
          <a:xfrm>
            <a:off x="5572080" y="2071800"/>
            <a:ext cx="2933640" cy="4357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00040" y="142920"/>
            <a:ext cx="82152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нна Карени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сконечно радостного упоения блаженством бытия уже нет в «Анне Карениной», относящейся к 1873—1876 годам. Есть ещё много отрадного переживания в почти автобиографическом романе Лёвина и Кити, но уже столько горечи в изображении семейной жизни Долли, в несчастном завершении любви Анны Карениной и Вронского, столько тревоги в душевной жизни Лёвина, что в общем этот роман является уже переходом к третьему периоду литературной деятельности Толст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январе 1871 года Толстой отправил А. А. Фету письмо: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«Как я счастлив… что писать дребедени многословной вроде „Войны“ я больше никогда не стану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6 декабря 1908 года Толстой записал в дневнике: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«Люди любят меня за те пустяки — „Война и мир“ и т. п., которые им кажутся очень важными»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том 1909 года один из посетителей Ясной Поляны выражал свой восторг и благодарность за создание «Войны и мира» и «Анны Карениной». Толстой ответил: 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«Это всё равно, что к Эдисону кто-нибудь пришёл и сказал бы: „Я очень уважаю вас за то, что вы хорошо танцуете мазурку“. Я приписываю значение совсем другим своим книгам (религиозным!)»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 марте 1879 года, в городе Москве, Лев Толстой познакомился с Василием Петровичем Щеголёнком и в том же году, по его приглашению тот приехал в Ясную Поляну, где пробыл около месяца-полутора. Щеголёнок поведал Толстому множество народных сказаний и былин, из которых более двадцати были записаны Толстым, а сюжеты некоторых, Толстой, если и не записал на бумагу, то запомнил. Шесть написанных Толстым произведений имеют источником легенды и рассказы Щеголёнка (1881 —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м люди жив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 1885 —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ва старик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 и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и старц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 1905 —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орней Василье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 и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олитв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 1907 — «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Старик в церкв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). Помимо этого, граф Толстой усердно записал много поговорок, пословиц, отдельных выражений и слов рассказанных Щеголёнк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714240" y="3000240"/>
            <a:ext cx="4921560" cy="2500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1285920" y="5643720"/>
            <a:ext cx="37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нция Астапо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1643040" y="21420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следнее путешествие, смерть и похор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428760" y="500040"/>
            <a:ext cx="842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оздней осенью, в ночь на 28 октября 1910 года Л.Н. Толстой, выполняя своё решение прожить последние годы соответственно своим взглядам, тайно покинул Ясную Поляну в сопровождении своего врача Д.П. Маковицкого.  Своё последнее путешествие он начал на станции Щёкино. К сожалению дорога оказалась для него непосильной. По дороге Л. Н. Толстой заболел воспалением лёгких и вынужден был выйти из поезда на первой большой станции рядом с населённым пунктом. Этой станцией оказалось Астапово. Здесь, в доме начальника станции он провел последние семь дней своей жизни. За сообщениями о здоровье Толстого, который к этому времени приобрел уже мировую известность следила вся Росс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428840" y="492912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0 ноября 1910 г. писателя похоронили в Ясной Полян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лесу, на краю овраг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де в детстве он вместе с братом искал "зеленую палочку"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ранившую "секрет", как сделать всех людей счастлив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2500200" y="673200"/>
            <a:ext cx="4167360" cy="404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786040" y="2357280"/>
            <a:ext cx="385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Конец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1500120" y="2286000"/>
            <a:ext cx="621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хочу рассказать вам о жизни великого русского писателя Льва Николаевича Толстого. Я выбрал эту тему потому, что я с детства увлекаюсь творчеством Толстого, и я надеюсь, что мне удастся рассказать вам много нового и интерес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357720" y="42876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ступ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3"/>
          <p:cNvSpPr/>
          <p:nvPr/>
        </p:nvSpPr>
        <p:spPr>
          <a:xfrm>
            <a:off x="50720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ев Николаевич Толст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1828-1910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усский писате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а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3786120" cy="48085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1143000" y="550080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"/>
          <p:cNvSpPr/>
          <p:nvPr/>
        </p:nvSpPr>
        <p:spPr>
          <a:xfrm>
            <a:off x="428760" y="5643720"/>
            <a:ext cx="65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сная Поля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десь прошло все детство Толстого, его трех братьев и младшей сестры, здесь писатель прожил большую часть своей жизн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428760" y="571680"/>
            <a:ext cx="7500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Родилс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Лев Николаевич Толс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28 августа 1828 года в Крапивенском уезде Тульской губернии, в наследственном имении матери – Ясной Поляне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 Отец - граф Николай Ильич Толстой (1794 - 1837); мать - Мария Николаевна, урожденная Волконская. Лев Толст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ыл четвёртым ребёнком; у него было три старших брата: Николай, Сергей (1826—1904) и Дмитрий. В 1830 году родилась сестра Мария (1830—1912). Его мать умерла с рождением последней дочери, когда ему не было ещё 2-х л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428760" y="2714760"/>
            <a:ext cx="4857480" cy="2950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357120" y="357120"/>
            <a:ext cx="4857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нием осиротевших детей занялась дальняя родственница Т. А. Ергольская. В 1837 году семья переехала в Москву, поселившись на Плющихе, потому что старшему сыну надо было готовиться к поступлению в университет. Но вскоре внезапно умер отец, оставив дела (в том числе некоторые, связанные с имуществом семьи, тяжбы) в незаконченном состоянии, и трое младших детей снова поселились в Ясной Поляне под наблюдением Ергольской и тётки по отцу, графини А. М. Остен-Сакен, назначенной опекуншей детей. Здесь Лев Николаевич оставался до 1840 года, когда умерла графиня Остен-Сакен, и дети переселились в Казань, к новому опекуну — сестре отца П. И. Юшк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Картинка 1 из 160"/>
          <p:cNvPicPr/>
          <p:nvPr/>
        </p:nvPicPr>
        <p:blipFill>
          <a:blip r:embed="rId1"/>
          <a:stretch/>
        </p:blipFill>
        <p:spPr>
          <a:xfrm>
            <a:off x="5643720" y="357120"/>
            <a:ext cx="2786040" cy="38908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5643720" y="42861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.И. Юшкова – тётя Л.Н. Толс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7"/>
          <p:cNvSpPr/>
          <p:nvPr/>
        </p:nvSpPr>
        <p:spPr>
          <a:xfrm>
            <a:off x="642960" y="78588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о образование шло сначала под руководством гувернёра-француза Сен-Тома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841 году П. И. Юшкова, взяв на себя роль опекунши своих несовершеннолетних племянников и племянницы, привезла их в Казань. Вслед за братьями Лев решил поступить в Императорский Казанский университет, где работали на математическом факультете Лобачевский, а на Восточном —Ковалевский. 3 октября 1844 года Лев Толстой был зачислен студентом разряда восточной словесности в качестве своекоштного. На вступительных экзаменах он, в частности, показал отличные результаты по обязательному для поступления «турецко-татарскому языку». Из-за конфликта его домашних с преподавателем российской и всеобщей истории и истории философии, профессором Н. А. Ивановым, по результатам года имел неуспеваемость по соответствующим предметам и должен был заново пройти программу первого курса. Во избежание полного повторения курса он перешёл на юридический факультет, где его проблемы с оценками по российской истории и немецкому продолжалис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Прямоугольник 1"/>
          <p:cNvSpPr/>
          <p:nvPr/>
        </p:nvSpPr>
        <p:spPr>
          <a:xfrm>
            <a:off x="642960" y="4287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юридическом факультете Лев Толстой пробыл менее двух лет: Всегда ему было трудно всякое навязанное другими образование, и всему, чему он в жизни выучился, он выучился сам, вдруг, быстро, усиленным трудом. В 1904 году он вспоминал: «…я первый год ничего не делал. На второй год я стал заниматься … там был профессор Мейер, который дал мне работу «сравнение „Наказа“ Екатерины с „Esprit des lois“ Монтескьё». … меня эта работа увлекла, я уехал в деревню, стал читать Монтескьё, это чтение открыло мне бесконечные горизонты; я стал читать Руссо и бросил университет, именно потому, что захотел заниматьс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642960" y="32148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ходясь в казанском госпитале, начал вести дневник, где, подражая Франклину, ставил себе цели и правила по самосовершенствованию и отмечал успехи и неудачи в выполнении этих заданий, анализировал свои недостатки и ход мыслей, мотивы своих поступ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http://upload.wikimedia.org/wikipedia/commons/thumb/e/e2/Diary_of_Leo_Tolstoy.jpg/225px-Diary_of_Leo_Tolstoy.jpg"/>
          <p:cNvPicPr/>
          <p:nvPr/>
        </p:nvPicPr>
        <p:blipFill>
          <a:blip r:embed="rId1"/>
          <a:stretch/>
        </p:blipFill>
        <p:spPr>
          <a:xfrm>
            <a:off x="5357880" y="3071880"/>
            <a:ext cx="2928960" cy="214308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5429160" y="55008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невник Л.Н. Толс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642960" y="428760"/>
            <a:ext cx="8001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сной 1848 уезжает в Петербург держать экзамен на кандидата прав, но сдача экзаменов ему надоела и он уехал в деревню. Много времени уходило на кутежи, игру и охоту. Весной 1851, по совету приехавшего брата Николая, Толстой торопливо уехал из Москвы на Кавказ, чтобы сократить расходы и расплатиться с крупным долгом. Около 5 месяцев прожил в Пятигорске, в простой избе. Осенью 1851, сдав в Тифлисе экзамен, поступил юнкером в 4-ю батарею 20-й артиллерийской бригады, стоявшей в казацкой станице Старогладове под Кизляром. Литературные интересы всегда стояли у Толстого на втором плане: он писал, когда хотелось высказаться и никогда не нуждался в обществе литераторов. Первое произведение, "Детство", было напечатано в "Современнике" в 1852, и подписано скромными инициалами Л. Н. Т. На Кавказе Толстой, произведенный в офицеры, оставался два года, участвуя во многих стычках. Имел права на Георгиевский крест, но не получил его. В конце 1853 перевелся в Дунайскую армию и участвовал в сражении при Ольтенице и в осаде Силистрии. С ноября 1854 по конец августа 1855 был в Севастополе: командовал батареей в сражении при Черной, был при бомбардировке во время штурма Малахова Кургана. Там же был написан первый из трех "Севастопольских рассказов" и отправлен в петербургский журнал "Современник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785880" y="642960"/>
            <a:ext cx="7643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 штурма 27 августа Толстой был послан курьером в Петербург, где зажил шумной жизнью: "на попойки, карты и кутежи с цыганами уходили целые дни и ночи" (Левенфельд). В Петербурге сблизился с сотрудниками "Современника", познакомился с Н.А. Некрасовым, И.С. Тургеневым, И.А. Гончаровым, Н.Г. Чернышевским. 1857 году, оставив Петербург, отправился за границу. Вернувшись в Россию занялся устройством школ в своей Ясной Поляне и во всем Крапивенском уезде. В Яснополянской школе дети сидели кто где хотел, кто сколько хотел и кто как хотел. Никакой определенной программы преподавания не было. Единственная задача учителя заключалась в том, чтобы заинтересовать класс. Несмотря на этот крайний педагогический анархизм, занятия шли прекрасно. Их вел сам Толстой, при помощи нескольких постоянных учителей и нескольких случайных, из ближайших знакомых и приезжих. С 1862 Толстой стал издавать педагогический журнал "Ясная Поляна". Соединенные вместе, педагогические статьи Толстого составили целый том собрания его сочинений. Радушно встретив дебюты Толстого, признав в нем великую надежду русской литературы, критика затем лет на 10 - 12 охладевает к нему. В начале 70-х гг. писателя снова захватывают педагогические интересы; он пишет "Азбуку" (1871-1872) и "Новую азбуку" (1874-1875), для которых сочиняет оригинальные рассказы и переложения сказок и басен, составившие четыре "Русские книги для чт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4:59:21Z</dcterms:created>
  <dc:creator>Дима</dc:creator>
  <dc:description/>
  <dc:language>en-US</dc:language>
  <cp:lastModifiedBy>Marina</cp:lastModifiedBy>
  <dcterms:modified xsi:type="dcterms:W3CDTF">2012-06-19T15:31:52Z</dcterms:modified>
  <cp:revision>163</cp:revision>
  <dc:subject/>
  <dc:title>Слайд 1</dc:title>
</cp:coreProperties>
</file>