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  <p:custShowLst>
    <p:custShow name="Произвольный показ 1-20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3B7-6F2B-4E1D-A773-112C3376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D78-C69E-4D00-86B7-D464636F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D43-0C15-4CD3-A0F9-20E2A009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9413-CC46-4F5A-BE73-397B2D67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92D0-28A5-4005-AC8A-272B2EFE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4397-89AA-4BB7-A1DC-0CB80EA9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C6E9-AA92-4FDE-9BF2-6F7A118E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3C46-6FF2-407C-AEDD-437F6707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65B7-47F7-45B6-B84D-76F96076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24FF-9A83-48E6-B2BE-CCD5DD2F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9C43-329E-4344-8EE4-4A220345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6E0-610C-45FD-B6ED-36E7F612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C502-9885-4698-8380-B9E7FDA1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81FD-03B2-4EB5-8415-E1DEFFE5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4758-783D-41C6-867C-E659F4C3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A813-186C-4DC4-98A3-8F50CB18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8E9C-3784-468D-B56C-D0BA34AF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6C2-38B5-45D9-8343-55FA3BB7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1198-66E7-46DB-8BDB-C1C2244B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7700-4CF2-4CCC-BC0B-6DB3D009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761F-13F7-4F21-89AA-CEBB84B6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75B0-EB2C-4670-81B0-3BAB85AB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B9CF-B139-47D1-AD09-6D244215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0C0-4D38-4412-8B80-011E80FF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DCBA-21A2-4865-BFA8-81965D36923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68FB-047E-4743-A460-A80A249C166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Метод проектов как средство развития творческих способносте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00720" y="4357440"/>
            <a:ext cx="4171680" cy="1600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Выполнила: воспитатель ЧДО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Ченченко О.Н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971640" y="1773360"/>
            <a:ext cx="2952720" cy="431640"/>
          </a:xfrm>
          <a:prstGeom prst="rect">
            <a:avLst/>
          </a:prstGeom>
          <a:solidFill>
            <a:srgbClr val="a3b2c1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Этапы методики организации проек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2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Высказывание пожеланий и возможных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утей разрешения спорных вопросов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971640" y="2349360"/>
            <a:ext cx="2952720" cy="287640"/>
          </a:xfrm>
          <a:prstGeom prst="rect">
            <a:avLst/>
          </a:prstGeom>
          <a:solidFill>
            <a:srgbClr val="a3b2c1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бсужд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озникших иде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971640" y="2852640"/>
            <a:ext cx="2952720" cy="360360"/>
          </a:xfrm>
          <a:prstGeom prst="rect">
            <a:avLst/>
          </a:prstGeom>
          <a:solidFill>
            <a:srgbClr val="a3b2c1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ечисление интересующих учащихся тем проек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971640" y="3429000"/>
            <a:ext cx="2952720" cy="360360"/>
          </a:xfrm>
          <a:prstGeom prst="rect">
            <a:avLst/>
          </a:prstGeom>
          <a:solidFill>
            <a:srgbClr val="a3b2c1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ормулирование темы проекта для класс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ли группы учащих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5651640" y="1773360"/>
            <a:ext cx="571320" cy="2376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 rot="5400000">
            <a:off x="4693680" y="2660400"/>
            <a:ext cx="23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ирование рабо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д проек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4"/>
          <p:cNvSpPr/>
          <p:nvPr/>
        </p:nvSpPr>
        <p:spPr>
          <a:xfrm flipH="1" flipV="1">
            <a:off x="3924360" y="1989000"/>
            <a:ext cx="17272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5"/>
          <p:cNvSpPr/>
          <p:nvPr/>
        </p:nvSpPr>
        <p:spPr>
          <a:xfrm flipH="1" flipV="1">
            <a:off x="3924360" y="2492280"/>
            <a:ext cx="172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 flipH="1">
            <a:off x="3924360" y="270828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7"/>
          <p:cNvSpPr/>
          <p:nvPr/>
        </p:nvSpPr>
        <p:spPr>
          <a:xfrm flipH="1">
            <a:off x="3924360" y="544500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971640" y="4365720"/>
            <a:ext cx="2952720" cy="215640"/>
          </a:xfrm>
          <a:prstGeom prst="rect">
            <a:avLst/>
          </a:prstGeom>
          <a:solidFill>
            <a:srgbClr val="a3b2c1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точнение намеченной цели и задач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971640" y="4797360"/>
            <a:ext cx="2952720" cy="719280"/>
          </a:xfrm>
          <a:prstGeom prst="rect">
            <a:avLst/>
          </a:prstGeom>
          <a:solidFill>
            <a:srgbClr val="a3b2c1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иск и сбор информации с помощью специальной литературы, средств массовой информации, сети Интернет, использование собственных знаний и опыта учащих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2"/>
          <p:cNvSpPr/>
          <p:nvPr/>
        </p:nvSpPr>
        <p:spPr>
          <a:xfrm>
            <a:off x="971640" y="5734080"/>
            <a:ext cx="2950920" cy="217440"/>
          </a:xfrm>
          <a:prstGeom prst="rect">
            <a:avLst/>
          </a:prstGeom>
          <a:solidFill>
            <a:srgbClr val="a3b2c1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терпретация данных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971640" y="6165720"/>
            <a:ext cx="2952720" cy="360360"/>
          </a:xfrm>
          <a:prstGeom prst="rect">
            <a:avLst/>
          </a:prstGeom>
          <a:solidFill>
            <a:srgbClr val="a3b2c1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равнение полученных данных и отбор наиболее значимых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4"/>
          <p:cNvSpPr/>
          <p:nvPr/>
        </p:nvSpPr>
        <p:spPr>
          <a:xfrm rot="5400000">
            <a:off x="4908240" y="5267520"/>
            <a:ext cx="2089080" cy="5713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налитический  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5"/>
          <p:cNvSpPr/>
          <p:nvPr/>
        </p:nvSpPr>
        <p:spPr>
          <a:xfrm flipH="1">
            <a:off x="3924360" y="270828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6"/>
          <p:cNvSpPr/>
          <p:nvPr/>
        </p:nvSpPr>
        <p:spPr>
          <a:xfrm flipH="1" flipV="1">
            <a:off x="3924360" y="4437000"/>
            <a:ext cx="1727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7"/>
          <p:cNvSpPr/>
          <p:nvPr/>
        </p:nvSpPr>
        <p:spPr>
          <a:xfrm flipH="1" flipV="1">
            <a:off x="3924360" y="508428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8"/>
          <p:cNvSpPr/>
          <p:nvPr/>
        </p:nvSpPr>
        <p:spPr>
          <a:xfrm flipH="1">
            <a:off x="3924360" y="5445000"/>
            <a:ext cx="1727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3024360" cy="360360"/>
          </a:xfrm>
          <a:prstGeom prst="rect">
            <a:avLst/>
          </a:prstGeom>
          <a:solidFill>
            <a:srgbClr val="a3b2c1">
              <a:alpha val="32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Систематизация полученных данных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900000" y="2349360"/>
            <a:ext cx="3024360" cy="936720"/>
          </a:xfrm>
          <a:prstGeom prst="rect">
            <a:avLst/>
          </a:prstGeom>
          <a:solidFill>
            <a:srgbClr val="a3b2c1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строение общей логической схемы выводов для подведения итогов (в виде рефератов, конференций, видеофильмов, мультимедийной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 rot="5400000">
            <a:off x="5181120" y="2387520"/>
            <a:ext cx="1800000" cy="5713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ап   обоб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"/>
          <p:cNvSpPr/>
          <p:nvPr/>
        </p:nvSpPr>
        <p:spPr>
          <a:xfrm flipH="1" flipV="1">
            <a:off x="3924000" y="1989000"/>
            <a:ext cx="187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 flipH="1">
            <a:off x="3924360" y="2492280"/>
            <a:ext cx="179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971640" y="4437000"/>
            <a:ext cx="3024000" cy="457200"/>
          </a:xfrm>
          <a:prstGeom prst="rect">
            <a:avLst/>
          </a:prstGeom>
          <a:solidFill>
            <a:srgbClr val="a3b2c1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смысление полученных данных и способов достижения результа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971640" y="5157720"/>
            <a:ext cx="3024000" cy="685800"/>
          </a:xfrm>
          <a:prstGeom prst="rect">
            <a:avLst/>
          </a:prstGeom>
          <a:solidFill>
            <a:srgbClr val="a3b2c1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бсуждение и организация презентации результатов работы над проектом (на уровне школы, округа, города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5796000" y="4005360"/>
            <a:ext cx="576360" cy="2376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 rot="5400000">
            <a:off x="4996800" y="5086800"/>
            <a:ext cx="2149560" cy="27648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зентация результ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7"/>
          <p:cNvSpPr/>
          <p:nvPr/>
        </p:nvSpPr>
        <p:spPr>
          <a:xfrm flipH="1">
            <a:off x="3995640" y="5084640"/>
            <a:ext cx="179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8"/>
          <p:cNvSpPr/>
          <p:nvPr/>
        </p:nvSpPr>
        <p:spPr>
          <a:xfrm flipH="1" flipV="1">
            <a:off x="3995640" y="4652640"/>
            <a:ext cx="179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2"/>
          <p:cNvSpPr/>
          <p:nvPr/>
        </p:nvSpPr>
        <p:spPr>
          <a:xfrm>
            <a:off x="3780000" y="2349360"/>
            <a:ext cx="4039920" cy="2519640"/>
          </a:xfrm>
          <a:prstGeom prst="flowChartMultidocumen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ДОМИНИРУЮЩ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 ПРОЕКТ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ДЕЯТЕЛЬНОС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8"/>
          <p:cNvSpPr/>
          <p:nvPr/>
        </p:nvSpPr>
        <p:spPr>
          <a:xfrm>
            <a:off x="3492360" y="2565360"/>
            <a:ext cx="4040280" cy="2519280"/>
          </a:xfrm>
          <a:prstGeom prst="flowChartMultidocumen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Ролев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ДОМИНИРУЮЩ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 ПРОЕКТ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ДЕЯТЕЛЬНОС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Классификация проек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626920" y="3632400"/>
            <a:ext cx="3479400" cy="16812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ДОМИНИРУЮЩАЯ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 ПРОЕКТ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ДЕЯТЕЛЬНОСТЬ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AutoShape 14"/>
          <p:cNvSpPr/>
          <p:nvPr/>
        </p:nvSpPr>
        <p:spPr>
          <a:xfrm>
            <a:off x="1403280" y="2143080"/>
            <a:ext cx="811440" cy="3429000"/>
          </a:xfrm>
          <a:custGeom>
            <a:avLst/>
            <a:gdLst>
              <a:gd name="textAreaLeft" fmla="*/ 108720 w 811440"/>
              <a:gd name="textAreaRight" fmla="*/ 702720 w 811440"/>
              <a:gd name="textAreaTop" fmla="*/ 593640 h 3429000"/>
              <a:gd name="textAreaBottom" fmla="*/ 24840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79" stAng="-5400000" swAng="-5400000"/>
                <a:lnTo>
                  <a:pt x="0" y="11908"/>
                </a:lnTo>
                <a:arcTo wR="21600" hR="7479" stAng="10800000" swAng="-2664009"/>
                <a:lnTo>
                  <a:pt x="14400" y="21172"/>
                </a:lnTo>
                <a:lnTo>
                  <a:pt x="21600" y="17172"/>
                </a:lnTo>
                <a:lnTo>
                  <a:pt x="14400" y="12315"/>
                </a:lnTo>
                <a:lnTo>
                  <a:pt x="14400" y="14529"/>
                </a:lnTo>
                <a:arcTo wR="21600" hR="7479" stAng="8135991" swAng="2296419"/>
                <a:lnTo>
                  <a:pt x="969" y="9693"/>
                </a:lnTo>
                <a:arcTo wR="21600" hR="7479" stAng="-10432410" swAng="5032410"/>
                <a:close/>
              </a:path>
              <a:path fill="darkenLess" w="21600" h="21600">
                <a:moveTo>
                  <a:pt x="21600" y="0"/>
                </a:moveTo>
                <a:arcTo wR="21600" hR="7479" stAng="-5400000" swAng="-5400000"/>
                <a:lnTo>
                  <a:pt x="0" y="7479"/>
                </a:lnTo>
                <a:arcTo wR="21600" hR="7479" stAng="10800000" swAng="-367590"/>
                <a:lnTo>
                  <a:pt x="969" y="9693"/>
                </a:lnTo>
                <a:arcTo wR="21600" hR="7479" stAng="-10432410" swAng="503241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2917800" y="342900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следовательск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3759120" y="3089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205440" y="321300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ворческ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3782160" y="278136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клад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4069440" y="256536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исков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358160" y="2349360"/>
            <a:ext cx="240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знакомительно ориентировоч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5"/>
          <p:cNvSpPr/>
          <p:nvPr/>
        </p:nvSpPr>
        <p:spPr>
          <a:xfrm>
            <a:off x="4140360" y="2565360"/>
            <a:ext cx="4105080" cy="2376360"/>
          </a:xfrm>
          <a:prstGeom prst="flowChartMultidocumen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3059280" y="3213000"/>
            <a:ext cx="4105080" cy="2376720"/>
          </a:xfrm>
          <a:prstGeom prst="flowChartMultidocumen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265640" y="419256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3492360" y="3429000"/>
            <a:ext cx="139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нтеллектуаль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3781440" y="321300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атериаль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4212360" y="299736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Экологическ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4503240" y="2781360"/>
            <a:ext cx="84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рвис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4791240" y="2565360"/>
            <a:ext cx="9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плекс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Выгнутая влево стрелка 12"/>
          <p:cNvSpPr/>
          <p:nvPr/>
        </p:nvSpPr>
        <p:spPr>
          <a:xfrm>
            <a:off x="1000080" y="2428920"/>
            <a:ext cx="1643040" cy="2571840"/>
          </a:xfrm>
          <a:custGeom>
            <a:avLst/>
            <a:gdLst>
              <a:gd name="textAreaLeft" fmla="*/ 219960 w 1643040"/>
              <a:gd name="textAreaRight" fmla="*/ 1423080 w 1643040"/>
              <a:gd name="textAreaTop" fmla="*/ 488880 h 2571840"/>
              <a:gd name="textAreaBottom" fmla="*/ 187776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13" stAng="-5400000" swAng="-5400000"/>
                <a:lnTo>
                  <a:pt x="0" y="11663"/>
                </a:lnTo>
                <a:arcTo wR="21600" hR="8213" stAng="10800000" swAng="-3349178"/>
                <a:lnTo>
                  <a:pt x="16200" y="21339"/>
                </a:lnTo>
                <a:lnTo>
                  <a:pt x="21600" y="18150"/>
                </a:lnTo>
                <a:lnTo>
                  <a:pt x="16200" y="14439"/>
                </a:lnTo>
                <a:lnTo>
                  <a:pt x="16200" y="16164"/>
                </a:lnTo>
                <a:arcTo wR="21600" hR="8213" stAng="7450822" swAng="3068993"/>
                <a:lnTo>
                  <a:pt x="482" y="9938"/>
                </a:lnTo>
                <a:arcTo wR="21600" hR="8213" stAng="-10519815" swAng="5119815"/>
                <a:close/>
              </a:path>
              <a:path fill="darkenLess" w="21600" h="21600">
                <a:moveTo>
                  <a:pt x="21600" y="0"/>
                </a:moveTo>
                <a:arcTo wR="21600" hR="8213" stAng="-5400000" swAng="-5400000"/>
                <a:lnTo>
                  <a:pt x="0" y="8213"/>
                </a:lnTo>
                <a:arcTo wR="21600" hR="8213" stAng="10800000" swAng="-280185"/>
                <a:lnTo>
                  <a:pt x="482" y="9938"/>
                </a:lnTo>
                <a:arcTo wR="21600" hR="8213" stAng="-10519815" swAng="511981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a3b2c1">
              <a:alpha val="48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Анализ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ализируя, психолого-педагогическую и методическую литературы выявила, что большое место в учебном процессе занимает проектный метод обуч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нятие по методу проектов, положительно влияют на развитие творческих способностей учеников, повышается положительная мотивация к учению, выражается стремление к независимости,  самосто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«Проект - великое дело! Мы песню о нем по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Его от души воспеваем, значенье его призна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ду слагаем проектам, не в силах мы им изменить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ни помогут нам с вами к прекрасному свет пролить…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66280" y="475920"/>
            <a:ext cx="8001000" cy="554364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Цель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явить эффективность влияния проектного метода на развитие творческих способностей учащих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125360"/>
            <a:ext cx="8001000" cy="504216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Verdana"/>
              </a:rPr>
              <a:t>Задачи исследования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анализировать научно-методическую литератур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методическое пособие, позволяющее использовать применение проектного метода для развития творческого мышления учащих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следовать зависимость развития творческих способностей учащихся от применения на занятиях метода проек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921440" cy="1081080"/>
          </a:xfrm>
          <a:prstGeom prst="rect">
            <a:avLst/>
          </a:prstGeom>
          <a:solidFill>
            <a:srgbClr val="a3b2c1">
              <a:alpha val="48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сихолого-педагогические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особенности подросткового возрас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цесс обучения в среднем звене имеет ряд специфических особенностей, характеризующий его как сложный, противоречивый период, требующий от педагога методической гибкости, психологической грамотности, педагогического так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течение подросткового возраста происходит бурное стремление развития лич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арших подростков отличает ярко выраженное стремление к самостоятельности и независимости, стремление к творчеств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a3b2c1">
              <a:alpha val="48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Актуальность проектной деятельност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информационной компетенции у уча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ение знаний на практик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тность в отношениях учитель – учени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новационный поиск средств,  форм и методов обуч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915920"/>
            <a:ext cx="8001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ора на раннее усвоенный материал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мостоятельность уча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ворческая активность уча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явления интересов де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ктическая осуществляемость проект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ь с потребностями обще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571680" y="357120"/>
            <a:ext cx="8229600" cy="1139760"/>
          </a:xfrm>
          <a:prstGeom prst="rect">
            <a:avLst/>
          </a:prstGeom>
          <a:solidFill>
            <a:srgbClr val="a3b2c1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сновные принципы проект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0"/>
          <p:cNvSpPr/>
          <p:nvPr/>
        </p:nvSpPr>
        <p:spPr>
          <a:xfrm>
            <a:off x="6516720" y="1628640"/>
            <a:ext cx="1693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079280"/>
          </a:xfrm>
          <a:prstGeom prst="rect">
            <a:avLst/>
          </a:prstGeom>
          <a:solidFill>
            <a:srgbClr val="a3b2c1">
              <a:alpha val="48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одходы к определению метода проек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3276720" y="3284640"/>
            <a:ext cx="2374920" cy="79200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900000" y="1700280"/>
            <a:ext cx="1714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673200" y="1844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лат Е.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195640" y="1773360"/>
            <a:ext cx="2031840" cy="13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П – способ достижения дидактической цели через детальную разработку проблемы, которая должна завершиться вполне реальным, осязаемым практическим результатом, оформленным тем или иным образо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4788000" y="1773360"/>
            <a:ext cx="2016000" cy="133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П – это система обучения, при которой учащиеся приобретают знания в процессе планирования и выполнения постепенно усложняющихся практических задан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1"/>
          <p:cNvSpPr/>
          <p:nvPr/>
        </p:nvSpPr>
        <p:spPr>
          <a:xfrm rot="8820600">
            <a:off x="5580000" y="299556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"/>
          <p:cNvSpPr/>
          <p:nvPr/>
        </p:nvSpPr>
        <p:spPr>
          <a:xfrm rot="2155200">
            <a:off x="2916000" y="299700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8"/>
              <p:cNvSpPr txBox="1"/>
              <p:nvPr/>
            </p:nvSpPr>
            <p:spPr>
              <a:xfrm>
                <a:off x="6732720" y="1628640"/>
                <a:ext cx="15048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Г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КРУГЛИКО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7" name="Text Box 22"/>
          <p:cNvSpPr/>
          <p:nvPr/>
        </p:nvSpPr>
        <p:spPr>
          <a:xfrm>
            <a:off x="6948360" y="1700280"/>
            <a:ext cx="884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395280" y="4076640"/>
            <a:ext cx="1714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5"/>
              <p:cNvSpPr txBox="1"/>
              <p:nvPr/>
            </p:nvSpPr>
            <p:spPr>
              <a:xfrm>
                <a:off x="539640" y="4076640"/>
                <a:ext cx="1524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ИМОНЕНКО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" name="Rectangle 23"/>
          <p:cNvSpPr/>
          <p:nvPr/>
        </p:nvSpPr>
        <p:spPr>
          <a:xfrm>
            <a:off x="1835280" y="4365720"/>
            <a:ext cx="2519280" cy="14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П – способность организации познавательно- трудовой деятельности учащихся. Он предусматривает определение потребностей людей, разработку идеи изготовления изделия или услуги по удовлетворению этой потребности, проектирование и создание изделия или оказание услуги, оценку их качества, определение реального спроса на рынке товар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4932360" y="4365720"/>
            <a:ext cx="21718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П – всякое действие, индивидуальное или групповое, совершаемое от всего сердц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 rot="18952800">
            <a:off x="2842920" y="407664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0"/>
          <p:cNvSpPr/>
          <p:nvPr/>
        </p:nvSpPr>
        <p:spPr>
          <a:xfrm rot="13589400">
            <a:off x="5579280" y="407700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8"/>
          <p:cNvSpPr/>
          <p:nvPr/>
        </p:nvSpPr>
        <p:spPr>
          <a:xfrm>
            <a:off x="6732720" y="4076640"/>
            <a:ext cx="1714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9"/>
              <p:cNvSpPr txBox="1"/>
              <p:nvPr/>
            </p:nvSpPr>
            <p:spPr>
              <a:xfrm>
                <a:off x="6877080" y="4149720"/>
                <a:ext cx="15238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КИЛПАТРИК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6"/>
          <p:cNvSpPr/>
          <p:nvPr/>
        </p:nvSpPr>
        <p:spPr>
          <a:xfrm>
            <a:off x="611280" y="1557360"/>
            <a:ext cx="7416720" cy="4535640"/>
          </a:xfrm>
          <a:prstGeom prst="upArrowCallout">
            <a:avLst>
              <a:gd name="adj1" fmla="val 40884"/>
              <a:gd name="adj2" fmla="val 40880"/>
              <a:gd name="adj3" fmla="val 16667"/>
              <a:gd name="adj4" fmla="val 4927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рганизовать проектную деятельность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через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73360"/>
            <a:ext cx="80010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знообразные формы занятий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общение учащихся к исследованию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ешение проблемных задач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боту с источнико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рганизацию рефлекси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зработка разных вариантов изучения предметного материал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58"/>
          <p:cNvSpPr/>
          <p:nvPr/>
        </p:nvSpPr>
        <p:spPr>
          <a:xfrm>
            <a:off x="2124000" y="177336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01000" cy="747720"/>
          </a:xfrm>
          <a:prstGeom prst="rect">
            <a:avLst/>
          </a:prstGeom>
          <a:solidFill>
            <a:srgbClr val="a3b2c1">
              <a:alpha val="48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Для организации проекта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необходимо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2556000" y="2060640"/>
            <a:ext cx="504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цели и задачи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2571840" y="4714920"/>
            <a:ext cx="50292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консультировать каждую группу по источникам информации, необходимой для решения поставленных задач, способа их анализа, синтеза, обобщения, получения конкретных результ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7"/>
          <p:cNvSpPr/>
          <p:nvPr/>
        </p:nvSpPr>
        <p:spPr>
          <a:xfrm rot="10800000">
            <a:off x="2987640" y="1772640"/>
            <a:ext cx="4114800" cy="228600"/>
          </a:xfrm>
          <a:prstGeom prst="triangle">
            <a:avLst>
              <a:gd name="adj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2556000" y="2492280"/>
            <a:ext cx="50292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область исслед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54200" y="2852280"/>
            <a:ext cx="50421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судить это с учащимися и разбить их на групп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2556000" y="3213000"/>
            <a:ext cx="50292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ить конкретные задачи перед каждой групп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56000" y="3573360"/>
            <a:ext cx="50292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временные интервалы для выполнения каждой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3"/>
          <p:cNvSpPr/>
          <p:nvPr/>
        </p:nvSpPr>
        <p:spPr>
          <a:xfrm>
            <a:off x="2571840" y="4143240"/>
            <a:ext cx="50292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овать проведение промежуточных тематических дискуссий и критического анализа работы каждой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2571840" y="5500800"/>
            <a:ext cx="50292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орректировать задачи групп с учетом уже полученных результ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2571840" y="6072120"/>
            <a:ext cx="50292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овать представление конечных результатов работы (презента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>
            <a:off x="2124000" y="1773360"/>
            <a:ext cx="52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2268360" y="22766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8"/>
          <p:cNvSpPr/>
          <p:nvPr/>
        </p:nvSpPr>
        <p:spPr>
          <a:xfrm>
            <a:off x="2268360" y="26370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2268360" y="30686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0"/>
          <p:cNvSpPr/>
          <p:nvPr/>
        </p:nvSpPr>
        <p:spPr>
          <a:xfrm>
            <a:off x="2268360" y="33577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2268360" y="37893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2"/>
          <p:cNvSpPr/>
          <p:nvPr/>
        </p:nvSpPr>
        <p:spPr>
          <a:xfrm>
            <a:off x="2268360" y="42926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3"/>
          <p:cNvSpPr/>
          <p:nvPr/>
        </p:nvSpPr>
        <p:spPr>
          <a:xfrm>
            <a:off x="2286000" y="56437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4"/>
          <p:cNvSpPr/>
          <p:nvPr/>
        </p:nvSpPr>
        <p:spPr>
          <a:xfrm>
            <a:off x="2214720" y="500076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6"/>
          <p:cNvSpPr/>
          <p:nvPr/>
        </p:nvSpPr>
        <p:spPr>
          <a:xfrm>
            <a:off x="2286000" y="62150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7"/>
          <p:cNvSpPr/>
          <p:nvPr/>
        </p:nvSpPr>
        <p:spPr>
          <a:xfrm>
            <a:off x="1979640" y="2133720"/>
            <a:ext cx="288720" cy="287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8"/>
          <p:cNvSpPr/>
          <p:nvPr/>
        </p:nvSpPr>
        <p:spPr>
          <a:xfrm>
            <a:off x="1979640" y="2492280"/>
            <a:ext cx="288720" cy="287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49"/>
          <p:cNvSpPr/>
          <p:nvPr/>
        </p:nvSpPr>
        <p:spPr>
          <a:xfrm>
            <a:off x="1979640" y="2924280"/>
            <a:ext cx="288720" cy="287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0"/>
          <p:cNvSpPr/>
          <p:nvPr/>
        </p:nvSpPr>
        <p:spPr>
          <a:xfrm>
            <a:off x="1979640" y="3284640"/>
            <a:ext cx="288720" cy="287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1"/>
          <p:cNvSpPr/>
          <p:nvPr/>
        </p:nvSpPr>
        <p:spPr>
          <a:xfrm>
            <a:off x="1979640" y="3645000"/>
            <a:ext cx="288720" cy="287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2"/>
          <p:cNvSpPr/>
          <p:nvPr/>
        </p:nvSpPr>
        <p:spPr>
          <a:xfrm>
            <a:off x="1979640" y="4149720"/>
            <a:ext cx="288720" cy="287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3"/>
          <p:cNvSpPr/>
          <p:nvPr/>
        </p:nvSpPr>
        <p:spPr>
          <a:xfrm>
            <a:off x="2000160" y="4857840"/>
            <a:ext cx="289080" cy="287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5"/>
          <p:cNvSpPr/>
          <p:nvPr/>
        </p:nvSpPr>
        <p:spPr>
          <a:xfrm>
            <a:off x="2000160" y="5500800"/>
            <a:ext cx="289080" cy="287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6"/>
          <p:cNvSpPr/>
          <p:nvPr/>
        </p:nvSpPr>
        <p:spPr>
          <a:xfrm>
            <a:off x="2000160" y="6072120"/>
            <a:ext cx="289080" cy="287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8:05:50Z</dcterms:created>
  <dc:creator>Сергей</dc:creator>
  <dc:description/>
  <dc:language>en-US</dc:language>
  <cp:lastModifiedBy>Пользователь</cp:lastModifiedBy>
  <dcterms:modified xsi:type="dcterms:W3CDTF">2012-06-18T15:47:23Z</dcterms:modified>
  <cp:revision>27</cp:revision>
  <dc:subject/>
  <dc:title>Метод проектов как средство формирования творческих способностей</dc:title>
</cp:coreProperties>
</file>