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Произвольный показ 1-20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F65-FD7B-4DCF-879A-71FC46BC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E0F-0190-49C8-A6B1-8E2158A8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772-62FD-47BF-95E5-1D4B53B4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A6E-90A5-4728-88E2-6B1E504F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835F-38A8-47CD-A88A-964E13AD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2F0E-CCD1-486A-9275-62F33D4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9943-E38D-4C8B-BEED-AD067647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5C08-ECA1-47C7-B1BD-ABA4D422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E44C-4BC7-45D6-AD08-51FB2E7A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43F8-1073-468D-A096-53FDC1B8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B5D8-AAA3-4404-A6D3-EF03E87F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C9E-9212-4D3F-8370-C699A53D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6689-75A5-40CE-B18E-5D5DC556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DA2C-0FCD-44AF-A073-B7B0167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EFFE-5A55-4F7A-BDDA-194DADEA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E63E-E4CF-4736-918F-CE267D03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F94D-4C2C-4805-B871-62574C0C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EA7-9D2C-4FE2-A097-31AD2AA9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951C-B3A2-4F98-945D-BFAB46D9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2A25-A4ED-4CBF-9A03-64A76FDB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A1C-E98C-4E36-8D12-0152EE61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76E9-D540-435D-888E-2A70C7CE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010-E436-405B-BC38-B1564D09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DA7-5392-461D-ABA6-DC96BDF6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ACEF-FFE4-4ABD-8AC1-7AFEBEF760A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0C21-C08A-42ED-8118-6DAECE971A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Метод проектов как средство развития творческих способносте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00720" y="4357440"/>
            <a:ext cx="4171680" cy="1600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Выполнила: воспитатель ЧДО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Ченченко О.Н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971640" y="1773360"/>
            <a:ext cx="2952720" cy="43164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Этапы методики организации прое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2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Высказывание пожеланий и возможных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2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путей разрешения спорных вопросов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71640" y="2349360"/>
            <a:ext cx="2952720" cy="287640"/>
          </a:xfrm>
          <a:prstGeom prst="rect">
            <a:avLst/>
          </a:prstGeom>
          <a:solidFill>
            <a:srgbClr val="a3b2c1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суж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зникших ид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971640" y="2852640"/>
            <a:ext cx="2952720" cy="360360"/>
          </a:xfrm>
          <a:prstGeom prst="rect">
            <a:avLst/>
          </a:prstGeom>
          <a:solidFill>
            <a:srgbClr val="a3b2c1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числение интересующих учащихся тем проек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971640" y="3429000"/>
            <a:ext cx="2952720" cy="36036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ормулирование темы проекта для класс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ли группы учащих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651640" y="1773360"/>
            <a:ext cx="571320" cy="23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 rot="5400000">
            <a:off x="4693680" y="266040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ирование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д про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 flipH="1" flipV="1">
            <a:off x="3924360" y="1989000"/>
            <a:ext cx="1727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 flipH="1" flipV="1">
            <a:off x="3924360" y="2492280"/>
            <a:ext cx="172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3924360" y="2708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3924360" y="544500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971640" y="4365720"/>
            <a:ext cx="2952720" cy="21564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точнение намеченной цели и задач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971640" y="4797360"/>
            <a:ext cx="2952720" cy="71928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иск и сбор информации с помощью специальной литературы, средств массовой информации, сети Интернет, использование собственных знаний и опыта учащих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971640" y="5734080"/>
            <a:ext cx="2950920" cy="21744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терпретация дан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971640" y="6165720"/>
            <a:ext cx="2952720" cy="36036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равнение полученных данных и отбор наиболее значим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4"/>
          <p:cNvSpPr/>
          <p:nvPr/>
        </p:nvSpPr>
        <p:spPr>
          <a:xfrm rot="5400000">
            <a:off x="4908240" y="5267520"/>
            <a:ext cx="2089080" cy="571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алитический  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3924360" y="270828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3924360" y="4437000"/>
            <a:ext cx="172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 flipV="1">
            <a:off x="3924360" y="50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 flipH="1">
            <a:off x="3924360" y="5445000"/>
            <a:ext cx="1727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3024360" cy="36036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истематизация полученных данных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00000" y="2349360"/>
            <a:ext cx="3024360" cy="93672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строение общей логической схемы выводов для подведения итогов (в виде рефератов, конференций, видеофильмов, мультимедийной презен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 rot="5400000">
            <a:off x="5181120" y="2387520"/>
            <a:ext cx="1800000" cy="5713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ап   обоб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 flipH="1" flipV="1">
            <a:off x="3924000" y="1989000"/>
            <a:ext cx="187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 flipH="1">
            <a:off x="3924360" y="2492280"/>
            <a:ext cx="179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971640" y="4437000"/>
            <a:ext cx="3024000" cy="45720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смысление полученных данных и способов достижения результа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971640" y="5157720"/>
            <a:ext cx="3024000" cy="685800"/>
          </a:xfrm>
          <a:prstGeom prst="rect">
            <a:avLst/>
          </a:prstGeom>
          <a:solidFill>
            <a:srgbClr val="a3b2c1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суждение и организация презентации результатов работы над проектом (на уровне школы, округа, города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5796000" y="4005360"/>
            <a:ext cx="576360" cy="2376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 rot="5400000">
            <a:off x="4996800" y="5086800"/>
            <a:ext cx="2149560" cy="27648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зентация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7"/>
          <p:cNvSpPr/>
          <p:nvPr/>
        </p:nvSpPr>
        <p:spPr>
          <a:xfrm flipH="1">
            <a:off x="3995640" y="5084640"/>
            <a:ext cx="179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8"/>
          <p:cNvSpPr/>
          <p:nvPr/>
        </p:nvSpPr>
        <p:spPr>
          <a:xfrm flipH="1" flipV="1">
            <a:off x="3995640" y="4652640"/>
            <a:ext cx="179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2"/>
          <p:cNvSpPr/>
          <p:nvPr/>
        </p:nvSpPr>
        <p:spPr>
          <a:xfrm>
            <a:off x="3780000" y="2349360"/>
            <a:ext cx="4039920" cy="2519640"/>
          </a:xfrm>
          <a:prstGeom prst="flowChartMultidocumen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ОМИНИРУЮЩ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 ПРОЕКТ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3492360" y="2565360"/>
            <a:ext cx="4040280" cy="2519280"/>
          </a:xfrm>
          <a:prstGeom prst="flowChartMultidocumen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Ролев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ОМИНИРУЮЩ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 ПРОЕКТ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лассификация проек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626920" y="3632400"/>
            <a:ext cx="3479400" cy="1681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ОМИНИРУЮЩА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  ПРОЕКТ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ЕЯТЕЛЬНОСТЬ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403280" y="2143080"/>
            <a:ext cx="811440" cy="3429000"/>
          </a:xfrm>
          <a:custGeom>
            <a:avLst/>
            <a:gdLst>
              <a:gd name="textAreaLeft" fmla="*/ 108720 w 811440"/>
              <a:gd name="textAreaRight" fmla="*/ 702720 w 811440"/>
              <a:gd name="textAreaTop" fmla="*/ 593640 h 3429000"/>
              <a:gd name="textAreaBottom" fmla="*/ 24840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79" stAng="-5400000" swAng="-5400000"/>
                <a:lnTo>
                  <a:pt x="0" y="11908"/>
                </a:lnTo>
                <a:arcTo wR="21600" hR="7479" stAng="10800000" swAng="-2664009"/>
                <a:lnTo>
                  <a:pt x="14400" y="21172"/>
                </a:lnTo>
                <a:lnTo>
                  <a:pt x="21600" y="17172"/>
                </a:lnTo>
                <a:lnTo>
                  <a:pt x="14400" y="12315"/>
                </a:lnTo>
                <a:lnTo>
                  <a:pt x="14400" y="14529"/>
                </a:lnTo>
                <a:arcTo wR="21600" hR="7479" stAng="8135991" swAng="2296419"/>
                <a:lnTo>
                  <a:pt x="969" y="9693"/>
                </a:lnTo>
                <a:arcTo wR="21600" hR="7479" stAng="-10432410" swAng="5032410"/>
                <a:close/>
              </a:path>
              <a:path fill="darkenLess" w="21600" h="21600">
                <a:moveTo>
                  <a:pt x="21600" y="0"/>
                </a:moveTo>
                <a:arcTo wR="21600" hR="7479" stAng="-5400000" swAng="-5400000"/>
                <a:lnTo>
                  <a:pt x="0" y="7479"/>
                </a:lnTo>
                <a:arcTo wR="21600" hR="7479" stAng="10800000" swAng="-367590"/>
                <a:lnTo>
                  <a:pt x="969" y="9693"/>
                </a:lnTo>
                <a:arcTo wR="21600" hR="7479" stAng="-10432410" swAng="503241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917800" y="342900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следовательск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3759120" y="308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205440" y="321300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ворческ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3782160" y="278136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иклад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069440" y="256536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исков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358160" y="234936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знакомительно ориентировоч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5"/>
          <p:cNvSpPr/>
          <p:nvPr/>
        </p:nvSpPr>
        <p:spPr>
          <a:xfrm>
            <a:off x="4140360" y="2565360"/>
            <a:ext cx="4105080" cy="2376360"/>
          </a:xfrm>
          <a:prstGeom prst="flowChartMultidocumen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3059280" y="3213000"/>
            <a:ext cx="4105080" cy="2376720"/>
          </a:xfrm>
          <a:prstGeom prst="flowChartMultidocumen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265640" y="419256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492360" y="3429000"/>
            <a:ext cx="139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781440" y="321300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териаль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4212360" y="299736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Эколог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503240" y="2781360"/>
            <a:ext cx="84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рвис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4791240" y="256536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лекс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Выгнутая влево стрелка 12"/>
          <p:cNvSpPr/>
          <p:nvPr/>
        </p:nvSpPr>
        <p:spPr>
          <a:xfrm>
            <a:off x="1000080" y="2428920"/>
            <a:ext cx="1643040" cy="2571840"/>
          </a:xfrm>
          <a:custGeom>
            <a:avLst/>
            <a:gdLst>
              <a:gd name="textAreaLeft" fmla="*/ 219960 w 1643040"/>
              <a:gd name="textAreaRight" fmla="*/ 1423080 w 1643040"/>
              <a:gd name="textAreaTop" fmla="*/ 488880 h 2571840"/>
              <a:gd name="textAreaBottom" fmla="*/ 187776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13" stAng="-5400000" swAng="-5400000"/>
                <a:lnTo>
                  <a:pt x="0" y="11663"/>
                </a:lnTo>
                <a:arcTo wR="21600" hR="8213" stAng="10800000" swAng="-3349178"/>
                <a:lnTo>
                  <a:pt x="16200" y="21339"/>
                </a:lnTo>
                <a:lnTo>
                  <a:pt x="21600" y="18150"/>
                </a:lnTo>
                <a:lnTo>
                  <a:pt x="16200" y="14439"/>
                </a:lnTo>
                <a:lnTo>
                  <a:pt x="16200" y="16164"/>
                </a:lnTo>
                <a:arcTo wR="21600" hR="8213" stAng="7450822" swAng="3068993"/>
                <a:lnTo>
                  <a:pt x="482" y="9938"/>
                </a:lnTo>
                <a:arcTo wR="21600" hR="8213" stAng="-10519815" swAng="5119815"/>
                <a:close/>
              </a:path>
              <a:path fill="darkenLess" w="21600" h="21600">
                <a:moveTo>
                  <a:pt x="21600" y="0"/>
                </a:moveTo>
                <a:arcTo wR="21600" hR="8213" stAng="-5400000" swAng="-5400000"/>
                <a:lnTo>
                  <a:pt x="0" y="8213"/>
                </a:lnTo>
                <a:arcTo wR="21600" hR="8213" stAng="10800000" swAng="-280185"/>
                <a:lnTo>
                  <a:pt x="482" y="9938"/>
                </a:lnTo>
                <a:arcTo wR="21600" hR="8213" stAng="-10519815" swAng="5119815"/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Анализ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зируя, психолого-педагогическую и методическую литературы выявила, что большое место в учебном процессе занимает проектный метод обуч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нятие по методу проектов, положительно влияют на развитие творческих способностей учеников, повышается положительная мотивация к учению, выражается стремление к независимости,  самосто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«Проект - великое дело! Мы песню о нем по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Его от души воспеваем, значенье его призна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ду слагаем проектам, не в силах мы им изменить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Они помогут нам с вами к прекрасному свет пролить…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475920"/>
            <a:ext cx="8001000" cy="554364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Цель исследования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ить эффективность влияния проектного метода на развитие творческих способностей учащих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125360"/>
            <a:ext cx="8001000" cy="504216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Verdana"/>
              </a:rPr>
              <a:t>Задачи исследования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анализировать научно-методическую литератур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методическое пособие, позволяющее использовать применение проектного метода для развития творческого мышления учащих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следовать зависимость развития творческих способностей учащихся от применения на занятиях метода проек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108108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сихолого-педагогические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особенности подросткового возрас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цесс обучения в среднем звене имеет ряд специфических особенностей, характеризующий его как сложный, противоречивый период, требующий от педагога методической гибкости, психологической грамотности, педагогического так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ечение подросткового возраста происходит бурное стремление развития лич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рших подростков отличает ярко выраженное стремление к самостоятельности и независимости, стремление к творчеств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Актуальность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информационной компетенции у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ение знаний на практик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тность в отношениях учитель – учени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новационный поиск средств,  форм и методов обуч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ора на раннее усвоенный материа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сть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ворческая активность уча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я интересов де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ктическая осуществляемость проект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ь с потребностями обще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571680" y="357120"/>
            <a:ext cx="8229600" cy="113976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сновные принципы проектир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0"/>
          <p:cNvSpPr/>
          <p:nvPr/>
        </p:nvSpPr>
        <p:spPr>
          <a:xfrm>
            <a:off x="6516720" y="1628640"/>
            <a:ext cx="1693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07928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одходы к определению метода проек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3276720" y="3284640"/>
            <a:ext cx="237492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900000" y="1700280"/>
            <a:ext cx="1714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73200" y="1844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ат Е.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195640" y="1773360"/>
            <a:ext cx="2031840" cy="13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П – способ достижения дидактической цели через детальную разработку проблемы, которая должна завершиться вполне реальным, осязаемым практическим результатом, оформленным тем или иным образо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788000" y="1773360"/>
            <a:ext cx="2016000" cy="13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П – это система обучения, при которой учащиеся приобретают знания в процессе планирования и выполнения постепенно усложняющихся практических задан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 rot="8820600">
            <a:off x="5580000" y="299556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2155200">
            <a:off x="2916000" y="299700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8"/>
              <p:cNvSpPr txBox="1"/>
              <p:nvPr/>
            </p:nvSpPr>
            <p:spPr>
              <a:xfrm>
                <a:off x="6732720" y="1628640"/>
                <a:ext cx="1504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КРУГЛИКО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7" name="Text Box 22"/>
          <p:cNvSpPr/>
          <p:nvPr/>
        </p:nvSpPr>
        <p:spPr>
          <a:xfrm>
            <a:off x="6948360" y="1700280"/>
            <a:ext cx="884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395280" y="4076640"/>
            <a:ext cx="1714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5"/>
              <p:cNvSpPr txBox="1"/>
              <p:nvPr/>
            </p:nvSpPr>
            <p:spPr>
              <a:xfrm>
                <a:off x="539640" y="4076640"/>
                <a:ext cx="1524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Д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ИМОНЕНКО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Rectangle 23"/>
          <p:cNvSpPr/>
          <p:nvPr/>
        </p:nvSpPr>
        <p:spPr>
          <a:xfrm>
            <a:off x="1835280" y="4365720"/>
            <a:ext cx="2519280" cy="14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П – способность организации познавательно- трудовой деятельности учащихся. Он предусматривает определение потребностей людей, разработку идеи изготовления изделия или услуги по удовлетворению этой потребности, проектирование и создание изделия или оказание услуги, оценку их качества, определение реального спроса на рынке товара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932360" y="4365720"/>
            <a:ext cx="21718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П – всякое действие, индивидуальное или групповое, совершаемое от всего сердц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 rot="18952800">
            <a:off x="2842920" y="407664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 rot="13589400">
            <a:off x="5579280" y="407700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6732720" y="4076640"/>
            <a:ext cx="1714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9"/>
              <p:cNvSpPr txBox="1"/>
              <p:nvPr/>
            </p:nvSpPr>
            <p:spPr>
              <a:xfrm>
                <a:off x="6877080" y="4149720"/>
                <a:ext cx="15238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КИЛПАТРИК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6"/>
          <p:cNvSpPr/>
          <p:nvPr/>
        </p:nvSpPr>
        <p:spPr>
          <a:xfrm>
            <a:off x="611280" y="1557360"/>
            <a:ext cx="7416720" cy="4535640"/>
          </a:xfrm>
          <a:prstGeom prst="upArrowCallout">
            <a:avLst>
              <a:gd name="adj1" fmla="val 40884"/>
              <a:gd name="adj2" fmla="val 40880"/>
              <a:gd name="adj3" fmla="val 16667"/>
              <a:gd name="adj4" fmla="val 4927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Организовать проектную деятельност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через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73360"/>
            <a:ext cx="80010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нообразные формы занят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общение учащихся к исследованию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шение проблемных задач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у с источнико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рганизацию рефлекси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работка разных вариантов изучения предметного материал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58"/>
          <p:cNvSpPr/>
          <p:nvPr/>
        </p:nvSpPr>
        <p:spPr>
          <a:xfrm>
            <a:off x="2124000" y="177336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01000" cy="747720"/>
          </a:xfrm>
          <a:prstGeom prst="rect">
            <a:avLst/>
          </a:prstGeom>
          <a:solidFill>
            <a:srgbClr val="a3b2c1">
              <a:alpha val="48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Для организации проекта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еобходимо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2556000" y="2060640"/>
            <a:ext cx="504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2571840" y="4714920"/>
            <a:ext cx="50292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консультировать каждую группу по источникам информации, необходимой для решения поставленных задач, способа их анализа, синтеза, обобщения, получения конкретных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7"/>
          <p:cNvSpPr/>
          <p:nvPr/>
        </p:nvSpPr>
        <p:spPr>
          <a:xfrm rot="10800000">
            <a:off x="2987640" y="1772640"/>
            <a:ext cx="4114800" cy="228600"/>
          </a:xfrm>
          <a:prstGeom prst="triangle">
            <a:avLst>
              <a:gd name="adj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2556000" y="2492280"/>
            <a:ext cx="5029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область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54200" y="2852280"/>
            <a:ext cx="50421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судить это с учащимися и разбить их на групп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2556000" y="3213000"/>
            <a:ext cx="50292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ить конкретные задачи перед каждой групп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56000" y="3573360"/>
            <a:ext cx="5029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временные интервалы для выполнения каждой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3"/>
          <p:cNvSpPr/>
          <p:nvPr/>
        </p:nvSpPr>
        <p:spPr>
          <a:xfrm>
            <a:off x="2571840" y="4143240"/>
            <a:ext cx="5029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проведение промежуточных тематических дискуссий и критического анализа работы каждой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2571840" y="5500800"/>
            <a:ext cx="5029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орректировать задачи групп с учетом уже полученных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2571840" y="6072120"/>
            <a:ext cx="50292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представление конечных результатов работы (презент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>
            <a:off x="2124000" y="1773360"/>
            <a:ext cx="52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2268360" y="2276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2268360" y="263700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2268360" y="3068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0"/>
          <p:cNvSpPr/>
          <p:nvPr/>
        </p:nvSpPr>
        <p:spPr>
          <a:xfrm>
            <a:off x="2268360" y="33577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2268360" y="37893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2268360" y="4292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>
            <a:off x="2286000" y="56437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2214720" y="500076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6"/>
          <p:cNvSpPr/>
          <p:nvPr/>
        </p:nvSpPr>
        <p:spPr>
          <a:xfrm>
            <a:off x="2286000" y="62150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1979640" y="213372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8"/>
          <p:cNvSpPr/>
          <p:nvPr/>
        </p:nvSpPr>
        <p:spPr>
          <a:xfrm>
            <a:off x="1979640" y="249228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9"/>
          <p:cNvSpPr/>
          <p:nvPr/>
        </p:nvSpPr>
        <p:spPr>
          <a:xfrm>
            <a:off x="1979640" y="292428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1979640" y="328464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1979640" y="364500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1979640" y="4149720"/>
            <a:ext cx="28872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3"/>
          <p:cNvSpPr/>
          <p:nvPr/>
        </p:nvSpPr>
        <p:spPr>
          <a:xfrm>
            <a:off x="2000160" y="4857840"/>
            <a:ext cx="28908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5"/>
          <p:cNvSpPr/>
          <p:nvPr/>
        </p:nvSpPr>
        <p:spPr>
          <a:xfrm>
            <a:off x="2000160" y="5500800"/>
            <a:ext cx="28908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6"/>
          <p:cNvSpPr/>
          <p:nvPr/>
        </p:nvSpPr>
        <p:spPr>
          <a:xfrm>
            <a:off x="2000160" y="6072120"/>
            <a:ext cx="289080" cy="287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05:50Z</dcterms:created>
  <dc:creator>Сергей</dc:creator>
  <dc:description/>
  <dc:language>en-US</dc:language>
  <cp:lastModifiedBy>Пользователь</cp:lastModifiedBy>
  <dcterms:modified xsi:type="dcterms:W3CDTF">2012-06-18T15:47:23Z</dcterms:modified>
  <cp:revision>27</cp:revision>
  <dc:subject/>
  <dc:title>Метод проектов как средство формирования творческих способностей</dc:title>
</cp:coreProperties>
</file>