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349-1549-42EE-8C6E-27C27A94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023-7E5B-4A66-BEC9-3C466FD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A15-9E9F-4256-A6FA-5898DF2B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687-FBD4-4075-AD2C-4B3D7D67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455A-77E6-465E-AE84-1EBF5CFC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622-7BAF-4159-B97D-BE3F03F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2B2C-9B85-4F80-9397-7215EAF7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CD67-3FB1-4FD7-B4CF-83CD05B5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1F6F-1BFD-4253-AA0D-45F6E0E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77FB-DEC3-4585-94D8-D19E7B5B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25E5-5BBE-4CCC-B34F-EED561F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4CA-B405-43B0-BA47-F3A79D0B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68B-FEC0-430A-AF44-2A79AADD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156-DE52-443D-801E-A052CD5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F9F2-B6EB-4034-BF0D-66615D1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24C-29B2-436B-A44B-5C1F3F7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AE3B-4445-4B45-B6C0-E25B45F2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123-620C-4F18-A1B8-929106A4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5A2-0F8B-4568-A6DD-650030B4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1DC-30F8-41AF-8690-509F6A9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1E4-F807-4927-BE7F-9BEF3BD1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5D2-A8DC-4E47-8D8E-73A1E6C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A38-0CC3-4C10-AB92-DF99D3F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364-2F78-467E-ABFD-74623BF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A097-4419-4384-95AB-C20394C652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42E4-F658-4917-9FEB-E68169B806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Строение пла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5256360" cy="3433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732720" y="2924280"/>
            <a:ext cx="43164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2274840"/>
            <a:ext cx="43164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1628640"/>
            <a:ext cx="43164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000760"/>
            <a:ext cx="806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ижняя, тёмная, холодная, состоит из паров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редняя, яркая, светящаяся, более горячая, состоит из раскалённых частичек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ерхняя, бесцветная, самая горячая, состоит из раскалённых паров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репление изученного материала.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ончите фразы: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Лапка штатива используется дл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льцо штатива используется дл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асить спиртовку задуванием запрещается, так как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едавать зажжённую спиртовку запрещается, так как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жигать одну спиртовку от другой спиртовки запрещается, так как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Выполните тест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249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риант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1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Штативу придаёт устойчивост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лапка; б) подставка; в) зажи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2. Кольцо штатива служит для того, чтобы поместить на нег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пробирку; б) чашку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паривания; в) спиртов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3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Чтобы загасить спиртовку необходимо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задуть её; б) полить водой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накрыть сбоку колпачк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4. Перемешивать раствор в стакане необходим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постукиванием по сосуду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) совершая круговые дви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осудом; в) стеклян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алочк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5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Для выпаривания растворов использую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колбу; б) стакан; в) чашку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пари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риант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1. Для укрепления частей химических установок при выполнении опытов служи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штатив; б) спиртовк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пробир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2. Лапка закрепляется на стержне штатива с помощь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подставки; б) кольц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муф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3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Спиртовку зажигают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горящей спичкой; б) от друг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иртовки; в) зажигалк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4. Горючим веществом для спиртовки являе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вода; б) спирт; в) керос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5. Для переливания жидкости из посуды с широким горлом в посуду с узким горлом использую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воронку; б) стакан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пробир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учить правила техники без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учить названия химической посуды и лабораторного оборуд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нать правила работы с лабораторным оборудова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Приёмы обращения с лабораторным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92360" y="2603520"/>
            <a:ext cx="5688000" cy="406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знакомиться с ТБ в кабинете хим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знакомиться с лабораторной посуд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знакомиться с устройством и работой лабораторного оборудов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68720" y="404640"/>
            <a:ext cx="4835520" cy="6120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теклянная посуда: пробирка, стакан, колбы, стеклянная палочка и трубочка, ворон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ерамическая посуда: чашка для выпаривания, ступка с пестик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боры: спиртовка, штати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пички, фильтр, держалка для пробир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520560"/>
            <a:ext cx="8001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Знакомство с химической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суд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будем пользоваться стеклянной и керамической (глиняной) посуд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ждый вид посуды предназначен для выполнения определённых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учить по учебнику правила работы с лабораторной посудой, заполнить таблиц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9334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89000"/>
          <a:ext cx="8785440" cy="6453000"/>
        </p:xfrm>
        <a:graphic>
          <a:graphicData uri="http://schemas.openxmlformats.org/drawingml/2006/table">
            <a:tbl>
              <a:tblPr/>
              <a:tblGrid>
                <a:gridCol w="3054600"/>
                <a:gridCol w="3679560"/>
                <a:gridCol w="20512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едназнач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би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малым количеств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 (не более 2 см высото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так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большим количеств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ол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большим количеств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оро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ование, перел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дк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еклянная пал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еремешивания веществ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к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теклянная труб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забора небольш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а жидкости (пипет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Чашка для выпар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ыпаривания раст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 более 1/3 объёма чаш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0" y="539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93080" y="692280"/>
            <a:ext cx="1655640" cy="5879880"/>
            <a:chOff x="7093080" y="692280"/>
            <a:chExt cx="1655640" cy="5879880"/>
          </a:xfrm>
        </p:grpSpPr>
        <p:pic>
          <p:nvPicPr>
            <p:cNvPr id="112" name="chasha" descr=""/>
            <p:cNvPicPr/>
            <p:nvPr/>
          </p:nvPicPr>
          <p:blipFill>
            <a:blip r:embed="rId2"/>
            <a:stretch/>
          </p:blipFill>
          <p:spPr>
            <a:xfrm>
              <a:off x="7308720" y="5877000"/>
              <a:ext cx="113364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st_06" descr=""/>
            <p:cNvPicPr/>
            <p:nvPr/>
          </p:nvPicPr>
          <p:blipFill>
            <a:blip r:embed="rId3"/>
            <a:stretch/>
          </p:blipFill>
          <p:spPr>
            <a:xfrm>
              <a:off x="7093080" y="4941720"/>
              <a:ext cx="165564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alka" descr=""/>
            <p:cNvPicPr/>
            <p:nvPr/>
          </p:nvPicPr>
          <p:blipFill>
            <a:blip r:embed="rId4"/>
            <a:stretch/>
          </p:blipFill>
          <p:spPr>
            <a:xfrm>
              <a:off x="7596360" y="4149720"/>
              <a:ext cx="5918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voronka" descr=""/>
            <p:cNvPicPr/>
            <p:nvPr/>
          </p:nvPicPr>
          <p:blipFill>
            <a:blip r:embed="rId5"/>
            <a:stretch/>
          </p:blipFill>
          <p:spPr>
            <a:xfrm>
              <a:off x="7524720" y="3141720"/>
              <a:ext cx="7192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krugl" descr=""/>
            <p:cNvPicPr/>
            <p:nvPr/>
          </p:nvPicPr>
          <p:blipFill>
            <a:blip r:embed="rId6"/>
            <a:stretch/>
          </p:blipFill>
          <p:spPr>
            <a:xfrm>
              <a:off x="7612200" y="2349360"/>
              <a:ext cx="5601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stok" descr=""/>
            <p:cNvPicPr/>
            <p:nvPr/>
          </p:nvPicPr>
          <p:blipFill>
            <a:blip r:embed="rId7"/>
            <a:stretch/>
          </p:blipFill>
          <p:spPr>
            <a:xfrm>
              <a:off x="7527960" y="1555920"/>
              <a:ext cx="64440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rob" descr=""/>
            <p:cNvPicPr/>
            <p:nvPr/>
          </p:nvPicPr>
          <p:blipFill>
            <a:blip r:embed="rId8"/>
            <a:stretch/>
          </p:blipFill>
          <p:spPr>
            <a:xfrm>
              <a:off x="7743960" y="692280"/>
              <a:ext cx="21276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накомство с лаборатор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оборудование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процессе выполнения практических работ используются лабораторный штатив и нагревательные приб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знакомьтесь с их устройством и основными приёмами обращения с ни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делайте рисунки приборов и пламени, подпишите составные ч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Устройство и работа штати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049640" cy="5399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1908000" y="1989000"/>
            <a:ext cx="345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8000" y="2565360"/>
            <a:ext cx="3456000" cy="21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79280" y="2781360"/>
            <a:ext cx="3384360" cy="503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00000" y="3500280"/>
            <a:ext cx="2663640" cy="14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268000" y="3645000"/>
            <a:ext cx="3095640" cy="21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71640" y="4653000"/>
            <a:ext cx="2664000" cy="50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626920" y="4076280"/>
            <a:ext cx="2808360" cy="1368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3640" y="5445000"/>
            <a:ext cx="2232000" cy="289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162864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773360"/>
            <a:ext cx="43200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5229360"/>
            <a:ext cx="43200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4437000"/>
            <a:ext cx="431640" cy="43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429000"/>
            <a:ext cx="43164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2492280"/>
            <a:ext cx="432000" cy="43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1211400"/>
            <a:ext cx="327528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дставка – придаёт штативу устой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ержень – служит для укрепления лапки и ко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уфты – укрепляют лапку и кольцо на стерж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Лапки – служат для укрепления проби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ьца  - служат для размещения стакана, колбы, чашки для выпар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3336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Устройство и работа спиртов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46400" cy="5394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0" name=""/>
          <p:cNvSpPr/>
          <p:nvPr/>
        </p:nvSpPr>
        <p:spPr>
          <a:xfrm flipH="1">
            <a:off x="2556000" y="2060640"/>
            <a:ext cx="273672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92000" y="3213000"/>
            <a:ext cx="180036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332000" y="5300640"/>
            <a:ext cx="403200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627280" y="2420640"/>
            <a:ext cx="2665440" cy="144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1844640"/>
            <a:ext cx="43200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2421000"/>
            <a:ext cx="43200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997360"/>
            <a:ext cx="432000" cy="433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5084640"/>
            <a:ext cx="43200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557360"/>
            <a:ext cx="313236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езервуар (сосуд) – служит для заливания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пачок – служит для тушения спир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иск с трубкой – служит для закрепления фитиля и закрывает отверстие со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итиль – подводит спирт к отверстию со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1:45:22Z</dcterms:created>
  <dc:creator>Бочкова И.А</dc:creator>
  <dc:description/>
  <dc:language>en-US</dc:language>
  <cp:lastModifiedBy>User</cp:lastModifiedBy>
  <dcterms:modified xsi:type="dcterms:W3CDTF">2012-06-19T15:33:34Z</dcterms:modified>
  <cp:revision>7</cp:revision>
  <dc:subject/>
  <dc:title>Практическая работа №1</dc:title>
</cp:coreProperties>
</file>