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EAF-837B-4A46-8309-A78EB78E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200-18FC-441F-8AB6-BB12E93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05F0-503B-4B3F-BC1B-CDA34ADB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59A-2FB1-4EBF-B1C0-21750D78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A73F-8A92-4B1F-8030-8DE47856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429D-98E7-47CE-9C6F-43ADC44F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1F6B-0608-4156-B14D-ACF17C86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9747-27E6-442A-A9C9-9FA30359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CE82-0D82-424E-B79E-B5BA32DD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6201-B8EF-4043-AAEC-0A8D1981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897E-A9DB-4471-BD32-915AD98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731-622E-4BF9-BE79-91DF0DA8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D5E3-F381-4098-92C0-277C0B15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F3F0-17C5-40A6-8E71-7C00C0C3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071E-C1EF-48B6-BB25-52AF7683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53F6-7AAB-4248-B9F0-2CE4BB47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4F4C-9A6A-4007-A0CE-1C3517F0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7B6-F7A1-4D1E-BA4A-C320F353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FC6-C789-40FC-957A-620E471B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7AC-2E01-4910-ABA9-478D7573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BA3-FFD4-4C20-ACE2-3BB1714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D54F-7220-431E-8F63-41DE7240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96D-1DA0-456A-A5C9-3B220B2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145-1B51-4E81-A9D2-9405407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7157-DB09-4B33-ACA7-1BC199F5E6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F4F4-FDFF-4F5E-80AB-15117C2EFD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ростейшие операции с веществ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2781000"/>
            <a:ext cx="485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химический практикум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1592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08464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0000" y="2428920"/>
            <a:ext cx="3379680" cy="431316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Строение пламен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5256360" cy="3433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6732720" y="2924280"/>
            <a:ext cx="43164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2274840"/>
            <a:ext cx="43164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32720" y="1628640"/>
            <a:ext cx="43164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000760"/>
            <a:ext cx="8064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ижняя, тёмная, холодная, состоит из паров спи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редняя, яркая, светящаяся, более горячая, состоит из раскалённых частичек угле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ерхняя, бесцветная, самая горячая, состоит из раскалённых паров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крепление изученного материала.</a:t>
            </a:r>
            <a:br>
              <a:rPr sz="3400"/>
            </a:b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акончите фразы: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Лапка штатива используется для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ольцо штатива используется для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асить спиртовку задуванием запрещается, так как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ередавать зажжённую спиртовку запрещается, так как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ажигать одну спиртовку от другой спиртовки запрещается, так как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Выполните тест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249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ариант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1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Штативу придаёт устойчивость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лапка; б) подставка; в) зажи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2. Кольцо штатива служит для того, чтобы поместить на нег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пробирку; б) чашку д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паривания; в) спиртов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3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Чтобы загасить спиртовку необходимо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задуть её; б) полить водой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) накрыть сбоку колпачк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4. Перемешивать раствор в стакане необходимо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постукиванием по сосуду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) совершая круговые дви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осудом; в) стеклян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алочк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5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Для выпаривания растворов использую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колбу; б) стакан; в) чашку д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парив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2920" y="1052640"/>
            <a:ext cx="4249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ариант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1. Для укрепления частей химических установок при выполнении опытов служи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штатив; б) спиртовк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) пробир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2. Лапка закрепляется на стержне штатива с помощью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подставки; б) кольц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) муфт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3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Спиртовку зажигают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горящей спичкой; б) от друг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иртовки; в) зажигалко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4. Горючим веществом для спиртовки являе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вода; б) спирт; в) керосин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5. Для переливания жидкости из посуды с широким горлом в посуду с узким горлом использую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) воронку; б) стакан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) пробирк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учить правила техники безопасност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ыучить названия химической посуды и лабораторного оборуд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Знать правила работы с лабораторным оборудование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дготовить отчет о проделанной работ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рактическая работа №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Приёмы обращения с лабораторным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92360" y="2603520"/>
            <a:ext cx="5688000" cy="4065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знакомиться с ТБ в кабинете хим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знакомиться с лабораторной посуд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знакомиться с устройством и работой лабораторного оборудов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068720" y="404640"/>
            <a:ext cx="4835520" cy="61200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Оборудовани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теклянная посуда: пробирка, стакан, колбы, стеклянная палочка и трубочка, ворон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ерамическая посуда: чашка для выпаривания, ступка с пестико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боры: спиртовка, штати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пички, фильтр, держалка для пробиро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520560"/>
            <a:ext cx="8001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Знакомство с химической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посуд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будем пользоваться стеклянной и керамической (глиняной) посуд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ждый вид посуды предназначен для выполнения определённых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зучить по учебнику правила работы с лабораторной посудой, заполнить таблиц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9334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148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189000"/>
          <a:ext cx="8785440" cy="6453000"/>
        </p:xfrm>
        <a:graphic>
          <a:graphicData uri="http://schemas.openxmlformats.org/drawingml/2006/table">
            <a:tbl>
              <a:tblPr/>
              <a:tblGrid>
                <a:gridCol w="3054600"/>
                <a:gridCol w="3679560"/>
                <a:gridCol w="205128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чего предназнач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Проби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малым количеств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 (не более 2 см высото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так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большим количеств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ол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большим количеств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Воро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ьтрование, перел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дк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теклянная пал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еремешивания веществ 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к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теклянная труб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забора небольш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а жидкости (пипет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Чашка для выпар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ыпаривания раств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 более 1/3 объёма чаш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0" y="539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093080" y="692280"/>
            <a:ext cx="1655640" cy="5879880"/>
            <a:chOff x="7093080" y="692280"/>
            <a:chExt cx="1655640" cy="5879880"/>
          </a:xfrm>
        </p:grpSpPr>
        <p:pic>
          <p:nvPicPr>
            <p:cNvPr id="112" name="chasha" descr=""/>
            <p:cNvPicPr/>
            <p:nvPr/>
          </p:nvPicPr>
          <p:blipFill>
            <a:blip r:embed="rId2"/>
            <a:stretch/>
          </p:blipFill>
          <p:spPr>
            <a:xfrm>
              <a:off x="7308720" y="5877000"/>
              <a:ext cx="113364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st_06" descr=""/>
            <p:cNvPicPr/>
            <p:nvPr/>
          </p:nvPicPr>
          <p:blipFill>
            <a:blip r:embed="rId3"/>
            <a:stretch/>
          </p:blipFill>
          <p:spPr>
            <a:xfrm>
              <a:off x="7093080" y="4941720"/>
              <a:ext cx="165564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alka" descr=""/>
            <p:cNvPicPr/>
            <p:nvPr/>
          </p:nvPicPr>
          <p:blipFill>
            <a:blip r:embed="rId4"/>
            <a:stretch/>
          </p:blipFill>
          <p:spPr>
            <a:xfrm>
              <a:off x="7596360" y="4149720"/>
              <a:ext cx="59184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voronka" descr=""/>
            <p:cNvPicPr/>
            <p:nvPr/>
          </p:nvPicPr>
          <p:blipFill>
            <a:blip r:embed="rId5"/>
            <a:stretch/>
          </p:blipFill>
          <p:spPr>
            <a:xfrm>
              <a:off x="7524720" y="3141720"/>
              <a:ext cx="71928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krugl" descr=""/>
            <p:cNvPicPr/>
            <p:nvPr/>
          </p:nvPicPr>
          <p:blipFill>
            <a:blip r:embed="rId6"/>
            <a:stretch/>
          </p:blipFill>
          <p:spPr>
            <a:xfrm>
              <a:off x="7612200" y="2349360"/>
              <a:ext cx="56016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stok" descr=""/>
            <p:cNvPicPr/>
            <p:nvPr/>
          </p:nvPicPr>
          <p:blipFill>
            <a:blip r:embed="rId7"/>
            <a:stretch/>
          </p:blipFill>
          <p:spPr>
            <a:xfrm>
              <a:off x="7527960" y="1555920"/>
              <a:ext cx="64440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rob" descr=""/>
            <p:cNvPicPr/>
            <p:nvPr/>
          </p:nvPicPr>
          <p:blipFill>
            <a:blip r:embed="rId8"/>
            <a:stretch/>
          </p:blipFill>
          <p:spPr>
            <a:xfrm>
              <a:off x="7743960" y="692280"/>
              <a:ext cx="21276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Знакомство с лаборатор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оборудованием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процессе выполнения практических работ используются лабораторный штатив и нагревательные прибо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Ознакомьтесь с их устройством и основными приёмами обращения с ни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делайте рисунки приборов и пламени, подпишите составные ча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Устройство и работа штатив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049640" cy="53992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1908000" y="1989000"/>
            <a:ext cx="3456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8000" y="2565360"/>
            <a:ext cx="3456000" cy="216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979280" y="2781360"/>
            <a:ext cx="3384360" cy="5032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700000" y="3500280"/>
            <a:ext cx="2663640" cy="144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268000" y="3645000"/>
            <a:ext cx="3095640" cy="21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71640" y="4653000"/>
            <a:ext cx="2664000" cy="504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626920" y="4076280"/>
            <a:ext cx="2808360" cy="1368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03640" y="5445000"/>
            <a:ext cx="2232000" cy="289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1628640"/>
            <a:ext cx="31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773360"/>
            <a:ext cx="432000" cy="43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9640" y="5229360"/>
            <a:ext cx="432000" cy="43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4437000"/>
            <a:ext cx="431640" cy="432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429000"/>
            <a:ext cx="431640" cy="43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2492280"/>
            <a:ext cx="432000" cy="432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1211400"/>
            <a:ext cx="327528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дставка – придаёт штативу устой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ержень – служит для укрепления лапки и коль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уфты – укрепляют лапку и кольцо на стерж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Лапки – служат для укрепления проби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льца  - служат для размещения стакана, колбы, чашки для выпар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33360"/>
            <a:ext cx="8001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Устройство и работа спиртов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046400" cy="539424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140" name=""/>
          <p:cNvSpPr/>
          <p:nvPr/>
        </p:nvSpPr>
        <p:spPr>
          <a:xfrm flipH="1">
            <a:off x="2556000" y="2060640"/>
            <a:ext cx="2736720" cy="73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492000" y="3213000"/>
            <a:ext cx="180036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332000" y="5300640"/>
            <a:ext cx="4032000" cy="360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627280" y="2420640"/>
            <a:ext cx="2665440" cy="144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19640" y="1844640"/>
            <a:ext cx="43200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2421000"/>
            <a:ext cx="43200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2997360"/>
            <a:ext cx="432000" cy="4330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5084640"/>
            <a:ext cx="432000" cy="433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557360"/>
            <a:ext cx="3132360" cy="43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езервуар (сосуд) – служит для заливания спи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лпачок – служит для тушения спирт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иск с трубкой – служит для закрепления фитиля и закрывает отверстие со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Фитиль – подводит спирт к отверстию сос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1:45:22Z</dcterms:created>
  <dc:creator>Бочкова И.А</dc:creator>
  <dc:description/>
  <dc:language>en-US</dc:language>
  <cp:lastModifiedBy>User</cp:lastModifiedBy>
  <dcterms:modified xsi:type="dcterms:W3CDTF">2012-06-19T15:33:34Z</dcterms:modified>
  <cp:revision>7</cp:revision>
  <dc:subject/>
  <dc:title>Практическая работа №1</dc:title>
</cp:coreProperties>
</file>