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519-F9F8-469B-A97B-8B8AD260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041-9DA3-4A99-A06C-AE4DD6D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477-8783-4474-8808-392F9A2A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86F-5AF2-4DBC-BC06-4BB1C746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45D-9A03-4587-A272-5B539C20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B3DB-60C2-414D-BB65-9B39120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ACF-F4FE-473E-AE29-1B8794E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08AA-759E-444D-A7C8-B353A85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4A22-1F2F-4434-8610-C2C3E8F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EF4-48BF-4519-B4E0-D46899BB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1310-1AE4-423D-B3F0-09BB370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CC9-47D3-4448-8534-4E07C98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F5F-864D-4467-80A0-F324391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A26-A60E-4436-9EBF-7B68F14C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E9EB-A910-4F12-B485-ADF68A2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AD31-011A-44CE-8B11-F766F117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D96-291B-49D0-B724-C8643E89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5F2-1A80-480F-89E3-E917F35B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F66-16B2-4DCB-84EE-47B3E04C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8A9-3212-4E00-808D-5CAC8292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459-EC41-4782-BEA1-20DBC5AB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1FB-3D1D-40B3-A440-1E0A8EF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B10-FC87-4C20-81C0-E7BE444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4DA-05FF-40D0-99E1-2075593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5F2-9D6F-4660-B35A-9C125090C7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611-8D19-46CB-972E-7EDE6F6F5F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 Влияние воздуха на горение св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016000"/>
            <a:ext cx="3546720" cy="4653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89440" y="1752480"/>
            <a:ext cx="32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жимая резиновую грушу рукой, продуйте в пламя свечи возду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к изменилась яркость пламен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3384360" cy="22557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ажгите две све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кройте свечи стаканами разного объё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каком случае свеча горит дольш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3719520"/>
            <a:ext cx="4538520" cy="30225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4248000" cy="3186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репление изученного материала.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ончите фразы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яние парафина, это процесс -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кусочке жести (на предметном стекле), при внесении его в среднюю часть пламени образовалось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то говорит о том, что средняя часть пламени состоит из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тая пробирка, внесённая в пламя свечи запотела, так как верхняя часть пламени содержит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вестковая вода помутнела, так как в состав верхней части пламени входит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орение парафина – это явле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дополнительной подаче воздуха пламя становится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процесса горения необходим газ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меть объяснять явления, происходящие при горении св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Наблюдение за горяще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свеч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2583000"/>
            <a:ext cx="5543640" cy="41590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61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учить явления, происходящие при горении све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239160" cy="4572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вечи, два стакана разного объё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игельные щипцы, держатель для проби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ухая пробирка, предметное стекло (кусочек жести), трубка изогнутая под прямым угл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екло – хрупкий материал, имеющий малое сопротивление при ударе и незначительную прочность при изгибе. Категорически запрещается использовать посуду, имеющую трещины и отбитые кра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бирку закрепляют в держателе так, чтобы от горлышка пробирки до держателя было расстояние 1 – 1, 5 с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дметное стекло вначале прогревают полностью, а затем вносят в зону тёмного конуса горящей свеч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 Физические явления при горении св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465200"/>
            <a:ext cx="864216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жгите свечу. Вы увидите, как начинает таять парафин около фитиля, образуя круглую лужиц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процесс здесь имеет мест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17800" y="3524400"/>
            <a:ext cx="5146920" cy="3217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456000" cy="2954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768840" cy="2827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-2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 Обнаружение продуктов горения в пламен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681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озьмите предметное стекло, закрепите в держателе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/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внесите в зону тёмного конуса горящей свечи и подержите 3 – 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ыстро поднимите стекло, посмотрите на нижнюю плоск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ъясните, что там появ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846520" cy="3794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ухую пробирку закрепите в держателе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/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переверните вверх дном и держите над пламенем до запотев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ъясните наблюдаемое явл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3011760" cy="45198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15560"/>
            <a:ext cx="8001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илейте в ту же пробирку 2 – 3 мл известковой 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то наблюдаете? Дайте объясн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Рис. 80. Помутнение известковой воды при пропускании углекислого газа"/>
          <p:cNvPicPr/>
          <p:nvPr/>
        </p:nvPicPr>
        <p:blipFill>
          <a:blip r:embed="rId2"/>
          <a:stretch/>
        </p:blipFill>
        <p:spPr>
          <a:xfrm>
            <a:off x="1619280" y="2060640"/>
            <a:ext cx="5545080" cy="4241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5:08:43Z</dcterms:created>
  <dc:creator>Бочкова И.А.</dc:creator>
  <dc:description/>
  <dc:language>en-US</dc:language>
  <cp:lastModifiedBy>User</cp:lastModifiedBy>
  <dcterms:modified xsi:type="dcterms:W3CDTF">2012-06-19T15:42:40Z</dcterms:modified>
  <cp:revision>9</cp:revision>
  <dc:subject/>
  <dc:title>Простейшие операции с веществом</dc:title>
</cp:coreProperties>
</file>