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F76-5211-431B-A54D-30580B4E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DF0-CFAB-4806-B366-250DDF4E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842E-D3FE-4F22-B3FD-E11D6DD4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9B7-53CE-4053-B7EC-38F7ECED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526-4F6F-4927-80DB-B2DD458A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5F0-C659-4080-B962-A88E1B4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3808-02D7-45DD-9AF1-D98E7E48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EB83-99B7-451B-BD96-1371C99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12B4-9BAA-40AF-A938-C2ADB3AD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E1AB-D57D-4FE1-BCB3-9937281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946A-5075-4D97-ABCC-1CF4562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3AA-D1C3-4778-9771-1BD81753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7A22-71B7-4EBF-B81A-38C65E66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FC2A-B96B-420D-83EE-91AFD4E9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57C-BDF6-49A7-A602-D8BE3CFF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DBB-5E2B-4690-BF07-C34C6612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FEA-D56F-4D0A-A07A-0B2ED592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309-6B74-4EAD-9CB3-349A48C1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B96-600C-4D24-A16A-301976F8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1F5-5BA6-4281-AD3F-4946C072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AB3-79A8-45D6-9B99-E70F187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7F9-E3B7-400B-9A07-EE3D1DB2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4CB-E2B9-4A00-A2CA-1BEEFEEB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5B4-69BF-4F74-A12F-70738F0D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1F4A-3D6B-4BB1-BAE2-60E72D2183C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6742-13DA-41B1-AC51-06366F39B8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 Влияние воздуха на горение св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2016000"/>
            <a:ext cx="3546720" cy="4653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89440" y="1752480"/>
            <a:ext cx="32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жимая резиновую грушу рукой, продуйте в пламя свечи возду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к изменилась яркость пламен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40000" y="2276640"/>
            <a:ext cx="3384360" cy="22557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ажгите две све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акройте свечи стаканами разного объё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каком случае свеча горит дольше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27640" y="3719520"/>
            <a:ext cx="4538520" cy="30225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4248000" cy="3186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репление изученного материала.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ончите фразы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аяние парафина, это процесс -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кусочке жести (на предметном стекле), при внесении его в среднюю часть пламени образовалось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то говорит о том, что средняя часть пламени состоит из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устая пробирка, внесённая в пламя свечи запотела, так как верхняя часть пламени содержит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вестковая вода помутнела, так как в состав верхней части пламени входит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орение парафина – это явление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 дополнительной подаче воздуха пламя становится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ля процесса горения необходим газ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меть объяснять явления, происходящие при горении св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Наблюдение за горяще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свеч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908000" y="2583000"/>
            <a:ext cx="5543640" cy="41590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06616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учить явления, происходящие при горении свеч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239160" cy="4572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вечи, два стакана разного объём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игельные щипцы, держатель для проби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ухая пробирка, предметное стекло (кусочек жести), трубка изогнутая под прямым углом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текло – хрупкий материал, имеющий малое сопротивление при ударе и незначительную прочность при изгибе. Категорически запрещается использовать посуду, имеющую трещины и отбитые кра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обирку закрепляют в держателе так, чтобы от горлышка пробирки до держателя было расстояние 1 – 1, 5 с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дметное стекло вначале прогревают полностью, а затем вносят в зону тёмного конуса горящей свеч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 Физические явления при горении св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465200"/>
            <a:ext cx="864216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жгите свечу. Вы увидите, как начинает таять парафин около фитиля, образуя круглую лужиц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процесс здесь имеет место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17800" y="3524400"/>
            <a:ext cx="5146920" cy="3217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456000" cy="2954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768840" cy="2827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-27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 Обнаружение продуктов горения в пламен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6818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озьмите предметное стекло, закрепите в держателе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/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внесите в зону тёмного конуса горящей свечи и подержите 3 – 5 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ыстро поднимите стекло, посмотрите на нижнюю плоск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ъясните, что там появ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84720" y="2852640"/>
            <a:ext cx="2846520" cy="37944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ухую пробирку закрепите в держателе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т/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переверните вверх дном и держите над пламенем до запотев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бъясните наблюдаемое явл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3011760" cy="45198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66280" y="115560"/>
            <a:ext cx="8001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илейте в ту же пробирку 2 – 3 мл известковой 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то наблюдаете? Дайте объясн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Рис. 80. Помутнение известковой воды при пропускании углекислого газа"/>
          <p:cNvPicPr/>
          <p:nvPr/>
        </p:nvPicPr>
        <p:blipFill>
          <a:blip r:embed="rId2"/>
          <a:stretch/>
        </p:blipFill>
        <p:spPr>
          <a:xfrm>
            <a:off x="1619280" y="2060640"/>
            <a:ext cx="5545080" cy="4241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5:08:43Z</dcterms:created>
  <dc:creator>Бочкова И.А.</dc:creator>
  <dc:description/>
  <dc:language>en-US</dc:language>
  <cp:lastModifiedBy>User</cp:lastModifiedBy>
  <dcterms:modified xsi:type="dcterms:W3CDTF">2012-06-19T15:42:40Z</dcterms:modified>
  <cp:revision>9</cp:revision>
  <dc:subject/>
  <dc:title>Простейшие операции с веществом</dc:title>
</cp:coreProperties>
</file>