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B2A-122D-4FD6-9A8A-E7C48E9E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4DD-B5E1-4664-8FDB-559F713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E55-48B7-497C-B3A5-A249B20F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D00-66ED-4845-A4E2-CB5D7400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0403-C790-4B9D-A6A3-2766C820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8F3D-EA8F-4F06-AF26-5C661FFB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B2E-DFA6-4170-8044-B9AA882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F9CB-E9A2-47DF-9202-4E743C06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7F3-B15E-4582-AC1D-10ABDAD2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4491-E842-4942-84B5-8815BB6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844-95C5-4F91-836E-D440B89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142-6A40-406D-A887-D49AE9A3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AB49-EB23-417B-82AA-4FEE7D4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058E-EA9A-49A9-AE72-0352983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47E5-6ADA-4630-ADCC-45271BD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B810-DF9F-4C2E-BDBA-351069E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D8D3-4CD5-4DE8-B043-9C2BD929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B6D-7424-48E8-B0EC-6F66140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BFE-B846-4969-8E73-64C317F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412-5D55-48B6-B247-C1B554DD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0C0-E8A9-4A6A-A065-ADA8B48D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75D-0890-48F3-84DD-5FA8B57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B75-4EAA-4177-A6A6-F92CC85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870-8970-467B-82F2-93383262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CB4-EB4A-43D2-96AE-A0D962ADF0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3EC9-5005-4A86-BBC3-8465951E6F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4. определение интенсивности запаха вод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лейте в коническую колбу исследуемой воды (2/3 объёма), закройте пробкой, интенсивно встряхн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кройте пробку, отметьте характер запах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цените интенсивность запаха в баллах (смотрите таблиц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80000" y="3768840"/>
            <a:ext cx="3384720" cy="297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24" name="" descr="На фото: Минчане вновь жалуются на неприятный запах водопроводной воды"/>
          <p:cNvPicPr/>
          <p:nvPr/>
        </p:nvPicPr>
        <p:blipFill>
          <a:blip r:embed="rId3"/>
          <a:stretch/>
        </p:blipFill>
        <p:spPr>
          <a:xfrm>
            <a:off x="2627280" y="4191120"/>
            <a:ext cx="3673440" cy="2203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25" name="" descr="Картинка 62 из 1957"/>
          <p:cNvPicPr/>
          <p:nvPr/>
        </p:nvPicPr>
        <p:blipFill>
          <a:blip r:embed="rId4"/>
          <a:stretch/>
        </p:blipFill>
        <p:spPr>
          <a:xfrm>
            <a:off x="179280" y="3813120"/>
            <a:ext cx="2818080" cy="29289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115920"/>
          <a:ext cx="8642160" cy="6483240"/>
        </p:xfrm>
        <a:graphic>
          <a:graphicData uri="http://schemas.openxmlformats.org/drawingml/2006/table">
            <a:tbl>
              <a:tblPr/>
              <a:tblGrid>
                <a:gridCol w="6121440"/>
                <a:gridCol w="252072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e5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нс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а (бал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e57f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сутствие ощутимого 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ень слабый запах – не замечается потребителями, но обнаруживается специалис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ый запах – обнаруживается потребителями, если обратить на это в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 легко обнаруж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ётливый запах – неприятный и может быть причиной отказа от пи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ень сильный запах – делает воду неприятной для пи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состав поч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способы определения прозрачности воды и интенсивности запаха во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197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Анализ почвы и вод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Картинка 115 из 16064"/>
          <p:cNvPicPr/>
          <p:nvPr/>
        </p:nvPicPr>
        <p:blipFill>
          <a:blip r:embed="rId2"/>
          <a:stretch/>
        </p:blipFill>
        <p:spPr>
          <a:xfrm>
            <a:off x="1619280" y="1989000"/>
            <a:ext cx="5977080" cy="4480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читься определять состав 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читься определять прозрачность воды и интенсивность запаха 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читься фильтровать и выпаривать жидк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3809880" cy="3810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таканы с почвой, дистиллированной и водопроводной вод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пустые пробирки, цилиндр, воронка, коническая колба, лу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ильтр, предметное стекло, держалка для пробирок, универсальная индикаторная бумаг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зажечь спиртовку сразу же после снятия колпачка, загорается плёнка спирта на горлышке спиртовки как раз на том месте, где колпачок прилегает к горлышку. Пламя проникает под диск с трубкой, и пары спирта внутри резервуара загораются. Может произойти взрыв и выброс диска вместе с фитилём. Чтобы избежать этого, приподнимите на несколько секунд диск с фитилём для удаления паров .Если случится воспламенение паров, быстро отставьте в сторону предметы (тетрадь для практических работ) и позовите учи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жжённую спиртовку нельзя переносить с места на место, нельзя также зажигать одну спиртовку непосредственно от другой. Для зажигания спиртовки пользуйтесь спичк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асить спиртовку можно только одним способом – накрыть пламя фитиля колпачком. Колпачок должен находиться всегда под рук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едметное стекло закрепляется в держателе у одного из его краёв аккуратно. При этом учитывается, что стекло – хрупкий материал и может треснуть, если на него сильно надави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цессе выпаривания воды из почвенной вытяжки вначале прогревается всё предметное стекло, а затем капля жидкости на нё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1. Механический анализ почв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бирку поместите почву, прилейте воды, закройте пробкой, встрях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 помощью лупы наблюдайте за осаждением частиц почв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пишите свои наблю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Проба грунта"/>
          <p:cNvPicPr/>
          <p:nvPr/>
        </p:nvPicPr>
        <p:blipFill>
          <a:blip r:embed="rId2"/>
          <a:stretch/>
        </p:blipFill>
        <p:spPr>
          <a:xfrm>
            <a:off x="324000" y="3284640"/>
            <a:ext cx="2562120" cy="34178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4" name="" descr="Определение кислотности почвы"/>
          <p:cNvPicPr/>
          <p:nvPr/>
        </p:nvPicPr>
        <p:blipFill>
          <a:blip r:embed="rId3"/>
          <a:stretch/>
        </p:blipFill>
        <p:spPr>
          <a:xfrm>
            <a:off x="6300720" y="3213000"/>
            <a:ext cx="2565360" cy="34196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92360" y="3213000"/>
            <a:ext cx="23209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2.Получение почвенного раствора и опыты с ни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фильтруйте смес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сколько капель фильтрата поместите на предметное стекло и выпар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то наблюдаете на стекле после выпаривания. Объясн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рьте почвенный раствор с помощью индикаторной бума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делайте вывод по результатам наблюд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8000" y="4365720"/>
            <a:ext cx="8856720" cy="2303280"/>
            <a:chOff x="108000" y="4365720"/>
            <a:chExt cx="8856720" cy="2303280"/>
          </a:xfrm>
        </p:grpSpPr>
        <p:grpSp>
          <p:nvGrpSpPr>
            <p:cNvPr id="109" name=""/>
            <p:cNvGrpSpPr/>
            <p:nvPr/>
          </p:nvGrpSpPr>
          <p:grpSpPr>
            <a:xfrm>
              <a:off x="108000" y="4365720"/>
              <a:ext cx="8856720" cy="2247840"/>
              <a:chOff x="108000" y="4365720"/>
              <a:chExt cx="8856720" cy="2247840"/>
            </a:xfrm>
          </p:grpSpPr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00" y="4365720"/>
                <a:ext cx="4608360" cy="224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4492800"/>
                <a:ext cx="4321440" cy="21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4572000" y="4724280"/>
                <a:ext cx="289080" cy="28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500720" y="6308640"/>
              <a:ext cx="158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2360" y="4869000"/>
              <a:ext cx="12240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7640" y="6021360"/>
              <a:ext cx="115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-100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3. Определение прозрачности вод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становите цилиндр на текст, приливайте дистиллированную в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какой высоте печатный шрифт становится невидны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делайте то же самое с речной вод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мерьте высоты столбов воды линейк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делайте 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3789360"/>
            <a:ext cx="3241800" cy="28670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88000" y="3789360"/>
            <a:ext cx="4176720" cy="2824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097440" cy="2320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3:11:21Z</dcterms:created>
  <dc:creator>Komp</dc:creator>
  <dc:description/>
  <dc:language>en-US</dc:language>
  <cp:lastModifiedBy>User</cp:lastModifiedBy>
  <dcterms:modified xsi:type="dcterms:W3CDTF">2012-06-19T15:33:13Z</dcterms:modified>
  <cp:revision>5</cp:revision>
  <dc:subject/>
  <dc:title>Простейшие операции с веществом</dc:title>
</cp:coreProperties>
</file>