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606-A598-4C86-8D24-DD57F52C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B3B-765A-474E-8463-9E8F9B3B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9F1-85F9-4E45-968E-5AAAA81A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BFC-85FD-44F4-9C57-D15FC962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DE9C-F78F-4F8D-B70C-18C240CF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A553-8BCE-4717-866E-303083D3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8160-46DF-42C3-BA54-C031922D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A90B-0CFD-4F99-BEA4-BB523A5B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88FD-2EA1-411D-B5F5-F02C0C0D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0556-3F00-425A-9357-D4B22EFF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F11B-2C19-4CBA-A4D9-65937417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8E2-52E2-4024-9FAF-1C891A07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B97E-BC58-4AC6-9960-6EC5C42A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63F8-9F9A-491B-9A99-C184D106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A89A-8BB1-4D2D-BF61-84F9374E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5EF0-04E9-4BD1-86C2-FFA640FB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25BD-3DF7-4690-8C9A-3008A7D6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DAC-B167-45E9-9606-BFC8E97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BB7-B719-4E1A-ABFF-A465428F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0C5-7ECC-4C79-8338-30A2108C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A1B-03D2-474E-9C9D-26BC1EE2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4BF-7D9E-46B8-BD7C-C26A1184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DFD-0354-436A-9238-71086D57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F53-1D1B-4EB1-B7A0-09AD6A57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7025-A32B-4697-939E-E88B0138CC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4220-FC9C-4709-93C5-B56B767F27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4. определение интенсивности запаха вод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лейте в коническую колбу исследуемой воды (2/3 объёма), закройте пробкой, интенсивно встряхнит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ткройте пробку, отметьте характер запах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цените интенсивность запаха в баллах (смотрите таблицу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80000" y="3768840"/>
            <a:ext cx="3384720" cy="2973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24" name="" descr="На фото: Минчане вновь жалуются на неприятный запах водопроводной воды"/>
          <p:cNvPicPr/>
          <p:nvPr/>
        </p:nvPicPr>
        <p:blipFill>
          <a:blip r:embed="rId3"/>
          <a:stretch/>
        </p:blipFill>
        <p:spPr>
          <a:xfrm>
            <a:off x="2627280" y="4191120"/>
            <a:ext cx="3673440" cy="2203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25" name="" descr="Картинка 62 из 1957"/>
          <p:cNvPicPr/>
          <p:nvPr/>
        </p:nvPicPr>
        <p:blipFill>
          <a:blip r:embed="rId4"/>
          <a:stretch/>
        </p:blipFill>
        <p:spPr>
          <a:xfrm>
            <a:off x="179280" y="3813120"/>
            <a:ext cx="2818080" cy="29289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50920" y="115920"/>
          <a:ext cx="8642160" cy="6483240"/>
        </p:xfrm>
        <a:graphic>
          <a:graphicData uri="http://schemas.openxmlformats.org/drawingml/2006/table">
            <a:tbl>
              <a:tblPr/>
              <a:tblGrid>
                <a:gridCol w="6121440"/>
                <a:gridCol w="252072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арактери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e5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нс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ха (бал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e57f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сутствие ощутимого зап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ень слабый запах – не замечается потребителями, но обнаруживается специалист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ый запах – обнаруживается потребителями, если обратить на это вним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пах легко обнаружива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чётливый запах – неприятный и может быть причиной отказа от пи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ень сильный запах – делает воду неприятной для пи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нать состав поч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нать способы определения прозрачности воды и интенсивности запаха во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готовить отчет о проделанной рабо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1197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Анализ почвы и вод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Картинка 115 из 16064"/>
          <p:cNvPicPr/>
          <p:nvPr/>
        </p:nvPicPr>
        <p:blipFill>
          <a:blip r:embed="rId2"/>
          <a:stretch/>
        </p:blipFill>
        <p:spPr>
          <a:xfrm>
            <a:off x="1619280" y="1989000"/>
            <a:ext cx="5977080" cy="4480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учиться определять состав поч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учиться определять прозрачность воды и интенсивность запаха 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учиться фильтровать и выпаривать жидк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843280" y="2852640"/>
            <a:ext cx="3809880" cy="3810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таканы с почвой, дистиллированной и водопроводной вод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пустые пробирки, цилиндр, воронка, коническая колба, луп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Фильтр, предметное стекло, держалка для пробирок, универсальная индикаторная бумаг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зажечь спиртовку сразу же после снятия колпачка, загорается плёнка спирта на горлышке спиртовки как раз на том месте, где колпачок прилегает к горлышку. Пламя проникает под диск с трубкой, и пары спирта внутри резервуара загораются. Может произойти взрыв и выброс диска вместе с фитилём. Чтобы избежать этого, приподнимите на несколько секунд диск с фитилём для удаления паров .Если случится воспламенение паров, быстро отставьте в сторону предметы (тетрадь для практических работ) и позовите учи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жжённую спиртовку нельзя переносить с места на место, нельзя также зажигать одну спиртовку непосредственно от другой. Для зажигания спиртовки пользуйтесь спичк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Гасить спиртовку можно только одним способом – накрыть пламя фитиля колпачком. Колпачок должен находиться всегда под руко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едметное стекло закрепляется в держателе у одного из его краёв аккуратно. При этом учитывается, что стекло – хрупкий материал и может треснуть, если на него сильно надавит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процессе выпаривания воды из почвенной вытяжки вначале прогревается всё предметное стекло, а затем капля жидкости на нё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44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1. Механический анализ почв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пробирку поместите почву, прилейте воды, закройте пробкой, встряхни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С помощью лупы наблюдайте за осаждением частиц почв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пишите свои наблю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Проба грунта"/>
          <p:cNvPicPr/>
          <p:nvPr/>
        </p:nvPicPr>
        <p:blipFill>
          <a:blip r:embed="rId2"/>
          <a:stretch/>
        </p:blipFill>
        <p:spPr>
          <a:xfrm>
            <a:off x="324000" y="3284640"/>
            <a:ext cx="2562120" cy="34178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4" name="" descr="Определение кислотности почвы"/>
          <p:cNvPicPr/>
          <p:nvPr/>
        </p:nvPicPr>
        <p:blipFill>
          <a:blip r:embed="rId3"/>
          <a:stretch/>
        </p:blipFill>
        <p:spPr>
          <a:xfrm>
            <a:off x="6300720" y="3213000"/>
            <a:ext cx="2565360" cy="34196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492360" y="3213000"/>
            <a:ext cx="23209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2.Получение почвенного раствора и опыты с ни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фильтруйте смес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сколько капель фильтрата поместите на предметное стекло и выпарит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Что наблюдаете на стекле после выпаривания. Объяснит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верьте почвенный раствор с помощью индикаторной бума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делайте вывод по результатам наблюд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8000" y="4365720"/>
            <a:ext cx="8856720" cy="2303280"/>
            <a:chOff x="108000" y="4365720"/>
            <a:chExt cx="8856720" cy="2303280"/>
          </a:xfrm>
        </p:grpSpPr>
        <p:grpSp>
          <p:nvGrpSpPr>
            <p:cNvPr id="109" name=""/>
            <p:cNvGrpSpPr/>
            <p:nvPr/>
          </p:nvGrpSpPr>
          <p:grpSpPr>
            <a:xfrm>
              <a:off x="108000" y="4365720"/>
              <a:ext cx="8856720" cy="2247840"/>
              <a:chOff x="108000" y="4365720"/>
              <a:chExt cx="8856720" cy="2247840"/>
            </a:xfrm>
          </p:grpSpPr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00" y="4365720"/>
                <a:ext cx="4608360" cy="224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3280" y="4492800"/>
                <a:ext cx="4321440" cy="21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4572000" y="4724280"/>
                <a:ext cx="289080" cy="28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500720" y="6308640"/>
              <a:ext cx="158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2360" y="4869000"/>
              <a:ext cx="122400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67640" y="6021360"/>
              <a:ext cx="1152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-1000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Опыт №3. Определение прозрачности вод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Установите цилиндр на текст, приливайте дистиллированную вод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какой высоте печатный шрифт становится невидны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оделайте то же самое с речной вод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мерьте высоты столбов воды линейк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делайте выв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3789360"/>
            <a:ext cx="3241800" cy="28670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788000" y="3789360"/>
            <a:ext cx="4176720" cy="2824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3097440" cy="23209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3:11:21Z</dcterms:created>
  <dc:creator>Komp</dc:creator>
  <dc:description/>
  <dc:language>en-US</dc:language>
  <cp:lastModifiedBy>User</cp:lastModifiedBy>
  <dcterms:modified xsi:type="dcterms:W3CDTF">2012-06-19T15:33:13Z</dcterms:modified>
  <cp:revision>5</cp:revision>
  <dc:subject/>
  <dc:title>Простейшие операции с веществом</dc:title>
</cp:coreProperties>
</file>