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F896-73AC-417A-A4C3-3F22BFCB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C49E-FF85-437D-B80F-2C7EFB8F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13E5-5EA7-44CB-BE2D-CF73B1D6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D1E1-7880-490A-893A-34705E1F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2675-657A-4BA2-BFD7-37BF80B2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3CBA-E0C0-4040-9CCD-779596E7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AAB8-CEB4-4AB9-AD33-F9A72914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1624-1546-49F4-AF3D-5217C68E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7787-7947-4B56-B5E6-B6C18582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9BFE-5157-4ADE-9FE3-2F43FA6F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2AA1-1D86-4D6A-A061-D232972E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FA3-51A1-41C0-AC43-6790599B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035A-F1C5-4312-9AD0-643DD024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6840-EE52-42BE-A205-04C2FA3E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B21C-1A2B-4B54-81A7-26D6186C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301C-8379-480D-A47B-FCACB496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4133-92C1-4CF2-99C9-B3BFDD7C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27AD-084A-4E07-AD8F-422A082F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7F7-4F67-40F4-8243-384D93F1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C9BD-76D4-4312-8992-673F702A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4C4F-28AD-4C1D-8A82-84D581BC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78D3-E4FE-4207-A3C9-590226A7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CBEE-A895-4FF3-BA71-45583153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F02-8346-4220-8899-2B95B9AB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0A7F-A739-4A70-9660-38C587703F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A588-F75C-43E6-9B56-F2DCDC7B31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Простейшие операции с вещество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280" y="2781000"/>
            <a:ext cx="4853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химический практикум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1592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Ленинградская область, Волховский район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508464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учитель биологии и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Бочкова Ир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580000" y="2428920"/>
            <a:ext cx="3379680" cy="43131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Опыт №3. Взаимодействие хлорида железа 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III)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с роданидом кал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03280" y="1752480"/>
            <a:ext cx="3816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лейте в пробирку раствор хлорида железа (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бавьте несколько капель роданида кал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наблюдает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Картинка 7 из 26"/>
          <p:cNvPicPr/>
          <p:nvPr/>
        </p:nvPicPr>
        <p:blipFill>
          <a:blip r:embed="rId2"/>
          <a:stretch/>
        </p:blipFill>
        <p:spPr>
          <a:xfrm>
            <a:off x="179280" y="1844640"/>
            <a:ext cx="4608720" cy="3376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68360" y="6021360"/>
            <a:ext cx="574560" cy="5032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57" h="21600">
                <a:moveTo>
                  <a:pt x="0" y="0"/>
                </a:moveTo>
                <a:lnTo>
                  <a:pt x="24657" y="0"/>
                </a:lnTo>
                <a:lnTo>
                  <a:pt x="24657" y="21600"/>
                </a:lnTo>
                <a:lnTo>
                  <a:pt x="0" y="21600"/>
                </a:lnTo>
                <a:close/>
              </a:path>
              <a:path fill="lightenLess" w="24657" h="21600">
                <a:moveTo>
                  <a:pt x="0" y="0"/>
                </a:moveTo>
                <a:lnTo>
                  <a:pt x="24657" y="0"/>
                </a:lnTo>
                <a:lnTo>
                  <a:pt x="23257" y="1400"/>
                </a:lnTo>
                <a:lnTo>
                  <a:pt x="1400" y="1400"/>
                </a:lnTo>
                <a:close/>
              </a:path>
              <a:path fill="darken" w="24657" h="21600">
                <a:moveTo>
                  <a:pt x="24657" y="0"/>
                </a:moveTo>
                <a:lnTo>
                  <a:pt x="24657" y="21600"/>
                </a:lnTo>
                <a:lnTo>
                  <a:pt x="23257" y="20200"/>
                </a:lnTo>
                <a:lnTo>
                  <a:pt x="23257" y="1400"/>
                </a:lnTo>
                <a:close/>
              </a:path>
              <a:path fill="darkenLess" w="24657" h="21600">
                <a:moveTo>
                  <a:pt x="24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7" y="20200"/>
                </a:lnTo>
                <a:close/>
              </a:path>
              <a:path fill="lighten" w="24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57" h="21600">
                <a:moveTo>
                  <a:pt x="5322" y="7301"/>
                </a:moveTo>
                <a:lnTo>
                  <a:pt x="6236" y="7301"/>
                </a:lnTo>
                <a:lnTo>
                  <a:pt x="6619" y="7667"/>
                </a:lnTo>
                <a:lnTo>
                  <a:pt x="15827" y="7667"/>
                </a:lnTo>
                <a:lnTo>
                  <a:pt x="16384" y="8224"/>
                </a:lnTo>
                <a:lnTo>
                  <a:pt x="16384" y="8772"/>
                </a:lnTo>
                <a:lnTo>
                  <a:pt x="18230" y="8772"/>
                </a:lnTo>
                <a:lnTo>
                  <a:pt x="18595" y="8224"/>
                </a:lnTo>
                <a:lnTo>
                  <a:pt x="19335" y="8224"/>
                </a:lnTo>
                <a:lnTo>
                  <a:pt x="19335" y="13376"/>
                </a:lnTo>
                <a:lnTo>
                  <a:pt x="18595" y="13376"/>
                </a:lnTo>
                <a:lnTo>
                  <a:pt x="18230" y="12828"/>
                </a:lnTo>
                <a:lnTo>
                  <a:pt x="16384" y="12828"/>
                </a:lnTo>
                <a:lnTo>
                  <a:pt x="16384" y="14107"/>
                </a:lnTo>
                <a:lnTo>
                  <a:pt x="6802" y="14107"/>
                </a:lnTo>
                <a:lnTo>
                  <a:pt x="6802" y="9877"/>
                </a:lnTo>
                <a:lnTo>
                  <a:pt x="6619" y="9877"/>
                </a:lnTo>
                <a:lnTo>
                  <a:pt x="6236" y="10243"/>
                </a:lnTo>
                <a:lnTo>
                  <a:pt x="5322" y="102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41256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Запишите уравнение химической реакции, определите её тип, признаки и условия протека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eCl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3KSCN = Fe(SCN)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3K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ип реакции: обме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знак реакции: изменение цв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ловия протекания реакции: обычные усло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Опыт №4. Взаимодействие карбоната натрия с хлоридом каль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63640" y="1752480"/>
            <a:ext cx="352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 пробирку налейте карбонат нат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обавьте раствор хлорида кальц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Что наблюдает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3044880"/>
            <a:ext cx="2714760" cy="3624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556000" y="1916280"/>
            <a:ext cx="2695320" cy="3706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41256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Запишите уравнение химической реакции, определите её тип, признаки и условия протека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CaCl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2NaCl + CaC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ип реакции: обме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знак реакции: выпадение осад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ловия протекания реакции: обычные усло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7956720" y="19162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Знать признаки химических реакций, условия протекания реакц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дготовить отчёт о проделанной рабо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рактическая работа №4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Признаки химически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реа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403280" y="2274840"/>
            <a:ext cx="6337440" cy="4467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Оборудован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ещества: медная проволока, оксид меди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), серная кислота, мрамор, соляная кислота, хлорид железа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II)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роданид калия, карбонат натрия, хлорид каль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борудование: спиртовка, спички, лучина, держалка для пробирок, штатив с 4 пробирка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115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Инструкция по ТБ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96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Если зажечь спиртовку сразу же после снятия колпачка, загорается плёнка спирта на горлышке спиртовки как раз на том месте, где колпачок прилегает к горлышку. Пламя проникает под диск с трубкой, и пары спирта внутри резервуара загораются. Может произойти взрыв и выброс диска вместе с фитилём. Чтобы избежать этого, приподнимите на несколько секунд диск с фитилём для удаления паров .Если случится воспламенение паров, быстро отставьте в сторону предметы (тетрадь для практических работ) и позовите учите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Зажжённую спиртовку нельзя переносить с места на место, нельзя также зажигать одну спиртовку непосредственно от другой. Для зажигания спиртовки пользуйтесь спичкам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Гасить спиртовку можно только одним способом – накрыть пламя фитиля колпачком. Колпачок должен находиться всегда под руко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ислоты – едкие вещества. Разрушают и раздражают кожу, слизистые оболоч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ливать кислоту надо так, чтобы при наклоне склянки этикетка, во избежание её порчи, оказывалась сверх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оединения меди в виде пыли при попадании на кожу, особенно в местах микротравм, могут вызвать раздражения, привести к аллергии в лёгкой форм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Работать с соединениями бария нужно так, чтобы не допустить попадания их в рот, так как они  токсичны. Для получения тяжёлого отравления достаточно дозы массой менее 0,5г. После завершения работы тщательно помыть руки с мылом под проточной водо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Опыт №1. Прокаливание медной проволоки и взаимодействие оксида меди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) с серной кислот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6836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несите в пламя медную проволоку. Что наблюдаете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местите оксид меди (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) в пробирку, прилейте серной кислоты. Подогрейте смесь. Что наблюдаете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95008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7301"/>
                </a:moveTo>
                <a:lnTo>
                  <a:pt x="7803" y="7301"/>
                </a:lnTo>
                <a:lnTo>
                  <a:pt x="8186" y="7667"/>
                </a:lnTo>
                <a:lnTo>
                  <a:pt x="17395" y="7667"/>
                </a:lnTo>
                <a:lnTo>
                  <a:pt x="17952" y="8224"/>
                </a:lnTo>
                <a:lnTo>
                  <a:pt x="17952" y="8772"/>
                </a:lnTo>
                <a:lnTo>
                  <a:pt x="19797" y="8772"/>
                </a:lnTo>
                <a:lnTo>
                  <a:pt x="20162" y="8224"/>
                </a:lnTo>
                <a:lnTo>
                  <a:pt x="20902" y="8224"/>
                </a:lnTo>
                <a:lnTo>
                  <a:pt x="20902" y="13376"/>
                </a:lnTo>
                <a:lnTo>
                  <a:pt x="20162" y="13376"/>
                </a:lnTo>
                <a:lnTo>
                  <a:pt x="19797" y="12828"/>
                </a:lnTo>
                <a:lnTo>
                  <a:pt x="17952" y="12828"/>
                </a:lnTo>
                <a:lnTo>
                  <a:pt x="17952" y="14107"/>
                </a:lnTo>
                <a:lnTo>
                  <a:pt x="8369" y="14107"/>
                </a:lnTo>
                <a:lnTo>
                  <a:pt x="8369" y="9877"/>
                </a:lnTo>
                <a:lnTo>
                  <a:pt x="8186" y="9877"/>
                </a:lnTo>
                <a:lnTo>
                  <a:pt x="7803" y="10243"/>
                </a:lnTo>
                <a:lnTo>
                  <a:pt x="6889" y="102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а 1 из 325"/>
          <p:cNvPicPr/>
          <p:nvPr/>
        </p:nvPicPr>
        <p:blipFill>
          <a:blip r:embed="rId2"/>
          <a:stretch/>
        </p:blipFill>
        <p:spPr>
          <a:xfrm>
            <a:off x="179280" y="1844640"/>
            <a:ext cx="4608720" cy="3376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412560"/>
            <a:ext cx="878544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Запишите уравнения химических реакций, определите их тип, признаки и условия протека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1898280"/>
            <a:ext cx="8326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 algn="ctr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Cu + 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2Cu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реакции: соеди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знак реакции: изменение цв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протекания реакции: нагре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O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CuS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H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реакции: обме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знак реакции: изменение цв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протекания реакции: нагре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Опыт №2.Взаимодействие мрамора с кислот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219280" y="1825560"/>
            <a:ext cx="3708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местите в пробирку кусочек мрамора, прилейте соляной кислоты. Что наблюдаете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Зажгите лучинку, внесите её в пробирку. Что наблюдаете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Картинка 1 из 182"/>
          <p:cNvPicPr/>
          <p:nvPr/>
        </p:nvPicPr>
        <p:blipFill>
          <a:blip r:embed="rId2"/>
          <a:stretch/>
        </p:blipFill>
        <p:spPr>
          <a:xfrm>
            <a:off x="250920" y="1844640"/>
            <a:ext cx="4897440" cy="3589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24000" y="6165720"/>
            <a:ext cx="502920" cy="50328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7309"/>
                </a:moveTo>
                <a:lnTo>
                  <a:pt x="4707" y="7309"/>
                </a:lnTo>
                <a:lnTo>
                  <a:pt x="5090" y="7674"/>
                </a:lnTo>
                <a:lnTo>
                  <a:pt x="14299" y="7674"/>
                </a:lnTo>
                <a:lnTo>
                  <a:pt x="14856" y="8231"/>
                </a:lnTo>
                <a:lnTo>
                  <a:pt x="14856" y="8780"/>
                </a:lnTo>
                <a:lnTo>
                  <a:pt x="16701" y="8780"/>
                </a:lnTo>
                <a:lnTo>
                  <a:pt x="17067" y="8231"/>
                </a:lnTo>
                <a:lnTo>
                  <a:pt x="17806" y="8231"/>
                </a:lnTo>
                <a:lnTo>
                  <a:pt x="17806" y="13384"/>
                </a:lnTo>
                <a:lnTo>
                  <a:pt x="17067" y="13384"/>
                </a:lnTo>
                <a:lnTo>
                  <a:pt x="16701" y="12836"/>
                </a:lnTo>
                <a:lnTo>
                  <a:pt x="14856" y="12836"/>
                </a:lnTo>
                <a:lnTo>
                  <a:pt x="14856" y="14115"/>
                </a:lnTo>
                <a:lnTo>
                  <a:pt x="5273" y="14115"/>
                </a:lnTo>
                <a:lnTo>
                  <a:pt x="5273" y="9885"/>
                </a:lnTo>
                <a:lnTo>
                  <a:pt x="5090" y="9885"/>
                </a:lnTo>
                <a:lnTo>
                  <a:pt x="4707" y="10251"/>
                </a:lnTo>
                <a:lnTo>
                  <a:pt x="3794" y="1025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41256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Запишите уравнение химической реакции, определите её тип, признаки и условия протека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C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 2HCl = CaCl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 [H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/     \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 + C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ип реакции: обме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знак реакции: выделение г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ловия протекания реакции: обычные усло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172360" y="30682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16:13:38Z</dcterms:created>
  <dc:creator>Бочкова И.А.</dc:creator>
  <dc:description/>
  <dc:language>en-US</dc:language>
  <cp:lastModifiedBy>User</cp:lastModifiedBy>
  <dcterms:modified xsi:type="dcterms:W3CDTF">2012-06-19T15:33:59Z</dcterms:modified>
  <cp:revision>6</cp:revision>
  <dc:subject/>
  <dc:title>Признаки химических реакций</dc:title>
</cp:coreProperties>
</file>