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6F91-2A95-430E-B4DC-ECB038842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12AF-676C-4EB4-B14B-7DB3580B7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485F-6556-4A1A-B32C-312BAAFC4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980F-DE71-40A0-A816-2E5568E06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77484-DFD9-4295-A6D1-00CA44F42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B620F-EB49-4CC1-8918-7DE5D77A8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B0A8C-0AF9-4976-B92D-16658A533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55234-2E74-4C35-AF2B-BE535D4D4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AD403-44BE-4A15-AAE8-3B2F8F452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5B9A8-86DE-4080-8514-518424407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8F906-24B3-4FE5-901B-8D54D8E7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00B8-23ED-44C3-8D5F-8C180C883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C29C9-DBEE-4C42-8D94-D595021D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251F5-E145-4ED7-B436-6B80AC0A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F8168-C29A-4646-81AE-7F10308D2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D32B9-6A97-43E1-AE73-13FAF966E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0491A-865B-41C4-839D-652CEDB68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9E14-C3C5-4EF1-B6EF-035C99708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AF7F-B183-4F4B-8B81-4979A3A7F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CEE1-CC5A-46AE-B780-B31AC5A41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8E8D-3E1B-4A61-9FAD-37952C18C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B487-19F5-49DD-8908-F6FAC7FB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C654-0556-4C61-803A-65FF4C8A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78FD-1864-4573-AA60-45531288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E072B-CC2D-4FCC-A4D8-DA24AC5254E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2C9D7-635B-4770-9BFB-3FA7F934EB3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Простейшие операции с веществом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39280" y="2781000"/>
            <a:ext cx="48531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химический практикум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15920"/>
            <a:ext cx="71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Ленинградская область, Волховский район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МОБУ «Сясьстройская СОШ №2»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508464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Verdana"/>
              </a:rPr>
              <a:t>Состав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Verdana"/>
              </a:rPr>
              <a:t>учитель биологии и хим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Verdana"/>
              </a:rPr>
              <a:t>высшей квалификационно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Verdana"/>
              </a:rPr>
              <a:t>Бочкова Ирина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580000" y="2428920"/>
            <a:ext cx="3379680" cy="431316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Опыт №3. Взаимодействие хлорида железа (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III)</a:t>
            </a: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 с роданидом кал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03280" y="1752480"/>
            <a:ext cx="3816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лейте в пробирку раствор хлорида железа (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II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бавьте несколько капель роданида кал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то наблюдаете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Картинка 7 из 26"/>
          <p:cNvPicPr/>
          <p:nvPr/>
        </p:nvPicPr>
        <p:blipFill>
          <a:blip r:embed="rId2"/>
          <a:stretch/>
        </p:blipFill>
        <p:spPr>
          <a:xfrm>
            <a:off x="179280" y="1844640"/>
            <a:ext cx="4608720" cy="33768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468360" y="6021360"/>
            <a:ext cx="574560" cy="503280"/>
          </a:xfrm>
          <a:custGeom>
            <a:avLst/>
            <a:gdLst>
              <a:gd name="textAreaLeft" fmla="*/ 32400 w 574560"/>
              <a:gd name="textAreaRight" fmla="*/ 542160 w 5745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657" h="21600">
                <a:moveTo>
                  <a:pt x="0" y="0"/>
                </a:moveTo>
                <a:lnTo>
                  <a:pt x="24657" y="0"/>
                </a:lnTo>
                <a:lnTo>
                  <a:pt x="24657" y="21600"/>
                </a:lnTo>
                <a:lnTo>
                  <a:pt x="0" y="21600"/>
                </a:lnTo>
                <a:close/>
              </a:path>
              <a:path fill="lightenLess" w="24657" h="21600">
                <a:moveTo>
                  <a:pt x="0" y="0"/>
                </a:moveTo>
                <a:lnTo>
                  <a:pt x="24657" y="0"/>
                </a:lnTo>
                <a:lnTo>
                  <a:pt x="23257" y="1400"/>
                </a:lnTo>
                <a:lnTo>
                  <a:pt x="1400" y="1400"/>
                </a:lnTo>
                <a:close/>
              </a:path>
              <a:path fill="darken" w="24657" h="21600">
                <a:moveTo>
                  <a:pt x="24657" y="0"/>
                </a:moveTo>
                <a:lnTo>
                  <a:pt x="24657" y="21600"/>
                </a:lnTo>
                <a:lnTo>
                  <a:pt x="23257" y="20200"/>
                </a:lnTo>
                <a:lnTo>
                  <a:pt x="23257" y="1400"/>
                </a:lnTo>
                <a:close/>
              </a:path>
              <a:path fill="darkenLess" w="24657" h="21600">
                <a:moveTo>
                  <a:pt x="246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57" y="20200"/>
                </a:lnTo>
                <a:close/>
              </a:path>
              <a:path fill="lighten" w="246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57" h="21600">
                <a:moveTo>
                  <a:pt x="5322" y="7301"/>
                </a:moveTo>
                <a:lnTo>
                  <a:pt x="6236" y="7301"/>
                </a:lnTo>
                <a:lnTo>
                  <a:pt x="6619" y="7667"/>
                </a:lnTo>
                <a:lnTo>
                  <a:pt x="15827" y="7667"/>
                </a:lnTo>
                <a:lnTo>
                  <a:pt x="16384" y="8224"/>
                </a:lnTo>
                <a:lnTo>
                  <a:pt x="16384" y="8772"/>
                </a:lnTo>
                <a:lnTo>
                  <a:pt x="18230" y="8772"/>
                </a:lnTo>
                <a:lnTo>
                  <a:pt x="18595" y="8224"/>
                </a:lnTo>
                <a:lnTo>
                  <a:pt x="19335" y="8224"/>
                </a:lnTo>
                <a:lnTo>
                  <a:pt x="19335" y="13376"/>
                </a:lnTo>
                <a:lnTo>
                  <a:pt x="18595" y="13376"/>
                </a:lnTo>
                <a:lnTo>
                  <a:pt x="18230" y="12828"/>
                </a:lnTo>
                <a:lnTo>
                  <a:pt x="16384" y="12828"/>
                </a:lnTo>
                <a:lnTo>
                  <a:pt x="16384" y="14107"/>
                </a:lnTo>
                <a:lnTo>
                  <a:pt x="6802" y="14107"/>
                </a:lnTo>
                <a:lnTo>
                  <a:pt x="6802" y="9877"/>
                </a:lnTo>
                <a:lnTo>
                  <a:pt x="6619" y="9877"/>
                </a:lnTo>
                <a:lnTo>
                  <a:pt x="6236" y="10243"/>
                </a:lnTo>
                <a:lnTo>
                  <a:pt x="5322" y="1024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412560"/>
            <a:ext cx="800100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Verdana"/>
              </a:rPr>
              <a:t>Запишите уравнение химической реакции, определите её тип, признаки и условия протекания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eCl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+ 3KSCN = Fe(SCN)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+ 3KC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ип реакции: обмен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знак реакции: изменение цве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ловия протекания реакции: обычные услов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Опыт №4. Взаимодействие карбоната натрия с хлоридом каль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63640" y="1752480"/>
            <a:ext cx="3529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В пробирку налейте карбонат натр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Добавьте раствор хлорида кальц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Что наблюдает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79280" y="3044880"/>
            <a:ext cx="2714760" cy="36241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2556000" y="1916280"/>
            <a:ext cx="2695320" cy="37065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412560"/>
            <a:ext cx="800100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Verdana"/>
              </a:rPr>
              <a:t>Запишите уравнение химической реакции, определите её тип, признаки и условия протекания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a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+ CaCl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= 2NaCl + CaCO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ип реакции: обмен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знак реакции: выпадение осад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ловия протекания реакции: обычные услов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7956720" y="191628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7138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Verdana"/>
              </a:rPr>
              <a:t>Домашнее задани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Знать признаки химических реакций, условия протекания реакц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Подготовить отчёт о проделанной работ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4280"/>
            <a:ext cx="77724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Практическая работа №4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9280" y="981000"/>
            <a:ext cx="8280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Признаки химических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реакц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403280" y="2274840"/>
            <a:ext cx="6337440" cy="44672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Verdana"/>
              </a:rPr>
              <a:t>Оборудование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ещества: медная проволока, оксид меди (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), серная кислота, мрамор, соляная кислота, хлорид железа (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II)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, роданид калия, карбонат натрия, хлорид кальц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борудование: спиртовка, спички, лучина, держалка для пробирок, штатив с 4 пробиркам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115920"/>
            <a:ext cx="80010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Verdana"/>
              </a:rPr>
              <a:t>Инструкция по ТБ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4960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 algn="just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Если зажечь спиртовку сразу же после снятия колпачка, загорается плёнка спирта на горлышке спиртовки как раз на том месте, где колпачок прилегает к горлышку. Пламя проникает под диск с трубкой, и пары спирта внутри резервуара загораются. Может произойти взрыв и выброс диска вместе с фитилём. Чтобы избежать этого, приподнимите на несколько секунд диск с фитилём для удаления паров .Если случится воспламенение паров, быстро отставьте в сторону предметы (тетрадь для практических работ) и позовите учител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6421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Зажжённую спиртовку нельзя переносить с места на место, нельзя также зажигать одну спиртовку непосредственно от другой. Для зажигания спиртовки пользуйтесь спичками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Гасить спиртовку можно только одним способом – накрыть пламя фитиля колпачком. Колпачок должен находиться всегда под рукой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Кислоты – едкие вещества. Разрушают и раздражают кожу, слизистые оболочки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Наливать кислоту надо так, чтобы при наклоне склянки этикетка, во избежание её порчи, оказывалась сверху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Соединения меди в виде пыли при попадании на кожу, особенно в местах микротравм, могут вызвать раздражения, привести к аллергии в лёгкой форме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Работать с соединениями бария нужно так, чтобы не допустить попадания их в рот, так как они  токсичны. Для получения тяжёлого отравления достаточно дозы массой менее 0,5г. После завершения работы тщательно помыть руки с мылом под проточной водой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Опыт №1. Прокаливание медной проволоки и взаимодействие оксида меди 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) с серной кислот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6836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несите в пламя медную проволоку. Что наблюдаете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местите оксид меди (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) в пробирку, прилейте серной кислоты. Подогрейте смесь. Что наблюдаете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95008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7301"/>
                </a:moveTo>
                <a:lnTo>
                  <a:pt x="7803" y="7301"/>
                </a:lnTo>
                <a:lnTo>
                  <a:pt x="8186" y="7667"/>
                </a:lnTo>
                <a:lnTo>
                  <a:pt x="17395" y="7667"/>
                </a:lnTo>
                <a:lnTo>
                  <a:pt x="17952" y="8224"/>
                </a:lnTo>
                <a:lnTo>
                  <a:pt x="17952" y="8772"/>
                </a:lnTo>
                <a:lnTo>
                  <a:pt x="19797" y="8772"/>
                </a:lnTo>
                <a:lnTo>
                  <a:pt x="20162" y="8224"/>
                </a:lnTo>
                <a:lnTo>
                  <a:pt x="20902" y="8224"/>
                </a:lnTo>
                <a:lnTo>
                  <a:pt x="20902" y="13376"/>
                </a:lnTo>
                <a:lnTo>
                  <a:pt x="20162" y="13376"/>
                </a:lnTo>
                <a:lnTo>
                  <a:pt x="19797" y="12828"/>
                </a:lnTo>
                <a:lnTo>
                  <a:pt x="17952" y="12828"/>
                </a:lnTo>
                <a:lnTo>
                  <a:pt x="17952" y="14107"/>
                </a:lnTo>
                <a:lnTo>
                  <a:pt x="8369" y="14107"/>
                </a:lnTo>
                <a:lnTo>
                  <a:pt x="8369" y="9877"/>
                </a:lnTo>
                <a:lnTo>
                  <a:pt x="8186" y="9877"/>
                </a:lnTo>
                <a:lnTo>
                  <a:pt x="7803" y="10243"/>
                </a:lnTo>
                <a:lnTo>
                  <a:pt x="6889" y="1024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Картинка 1 из 325"/>
          <p:cNvPicPr/>
          <p:nvPr/>
        </p:nvPicPr>
        <p:blipFill>
          <a:blip r:embed="rId2"/>
          <a:stretch/>
        </p:blipFill>
        <p:spPr>
          <a:xfrm>
            <a:off x="179280" y="1844640"/>
            <a:ext cx="4608720" cy="33768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412560"/>
            <a:ext cx="878544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Verdana"/>
              </a:rPr>
              <a:t>Запишите уравнения химических реакций, определите их тип, признаки и условия протекания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4920" y="1898280"/>
            <a:ext cx="83264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 algn="ctr">
              <a:spcBef>
                <a:spcPts val="700"/>
              </a:spcBef>
              <a:buClr>
                <a:srgbClr val="cc0000"/>
              </a:buClr>
              <a:buSzPct val="65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Cu + O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 2Cu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реакции: соеди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знак реакции: изменение цве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ловия протекания реакции: нагре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2)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O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 CuSO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+ H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реакции: обмен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знак реакции: изменение цве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ловия протекания реакции: нагре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Опыт №2.Взаимодействие мрамора с кислото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219280" y="1825560"/>
            <a:ext cx="3708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Поместите в пробирку кусочек мрамора, прилейте соляной кислоты. Что наблюдаете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Зажгите лучинку, внесите её в пробирку. Что наблюдаете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" descr="Картинка 1 из 182"/>
          <p:cNvPicPr/>
          <p:nvPr/>
        </p:nvPicPr>
        <p:blipFill>
          <a:blip r:embed="rId2"/>
          <a:stretch/>
        </p:blipFill>
        <p:spPr>
          <a:xfrm>
            <a:off x="250920" y="1844640"/>
            <a:ext cx="4897440" cy="3589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324000" y="6165720"/>
            <a:ext cx="502920" cy="50328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7309"/>
                </a:moveTo>
                <a:lnTo>
                  <a:pt x="4707" y="7309"/>
                </a:lnTo>
                <a:lnTo>
                  <a:pt x="5090" y="7674"/>
                </a:lnTo>
                <a:lnTo>
                  <a:pt x="14299" y="7674"/>
                </a:lnTo>
                <a:lnTo>
                  <a:pt x="14856" y="8231"/>
                </a:lnTo>
                <a:lnTo>
                  <a:pt x="14856" y="8780"/>
                </a:lnTo>
                <a:lnTo>
                  <a:pt x="16701" y="8780"/>
                </a:lnTo>
                <a:lnTo>
                  <a:pt x="17067" y="8231"/>
                </a:lnTo>
                <a:lnTo>
                  <a:pt x="17806" y="8231"/>
                </a:lnTo>
                <a:lnTo>
                  <a:pt x="17806" y="13384"/>
                </a:lnTo>
                <a:lnTo>
                  <a:pt x="17067" y="13384"/>
                </a:lnTo>
                <a:lnTo>
                  <a:pt x="16701" y="12836"/>
                </a:lnTo>
                <a:lnTo>
                  <a:pt x="14856" y="12836"/>
                </a:lnTo>
                <a:lnTo>
                  <a:pt x="14856" y="14115"/>
                </a:lnTo>
                <a:lnTo>
                  <a:pt x="5273" y="14115"/>
                </a:lnTo>
                <a:lnTo>
                  <a:pt x="5273" y="9885"/>
                </a:lnTo>
                <a:lnTo>
                  <a:pt x="5090" y="9885"/>
                </a:lnTo>
                <a:lnTo>
                  <a:pt x="4707" y="10251"/>
                </a:lnTo>
                <a:lnTo>
                  <a:pt x="3794" y="1025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412560"/>
            <a:ext cx="800100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Verdana"/>
              </a:rPr>
              <a:t>Запишите уравнение химической реакции, определите её тип, признаки и условия протекания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CO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+ 2HCl = CaCl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+ [H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/     \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 + CO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ип реакции: обмен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знак реакции: выделение газ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ловия протекания реакции: обычные услов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8172360" y="306828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9T16:13:38Z</dcterms:created>
  <dc:creator>Бочкова И.А.</dc:creator>
  <dc:description/>
  <dc:language>en-US</dc:language>
  <cp:lastModifiedBy>User</cp:lastModifiedBy>
  <dcterms:modified xsi:type="dcterms:W3CDTF">2012-06-19T15:33:59Z</dcterms:modified>
  <cp:revision>6</cp:revision>
  <dc:subject/>
  <dc:title>Признаки химических реакций</dc:title>
</cp:coreProperties>
</file>