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F281-27B5-4990-9867-0F78B605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797-AF5A-4712-8E83-5D4896CF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94FD-D53D-4A53-97E7-988144F2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BD62-FD65-457F-A5CF-B2A7DCC0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7A2B-2763-45B2-B864-1E595600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55D9-ED2D-45CE-AF8E-AD9F5AF5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5CEF-DD97-408A-A069-52231AD4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6091-5C78-4C38-BC8A-2C6F0F0A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34AB-A038-47A5-9DF8-9275CADE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A003-9636-4B59-98A0-65ED1CBA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648A-0FFA-4B44-A36B-683546EF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0B42-7A8B-40E8-9E6A-08396147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BE21-06FF-4662-870C-33DF0075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CD23-1E17-46E0-B411-50592701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9B2E-80DA-4A5C-8DE0-D3400C6A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6E48-E9BB-4785-879D-2562CC96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11A5-672E-4C1E-B64F-73AACDC3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747C-E197-4E63-9464-97D3F6B8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391-37E2-4986-866A-A998AB37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2A58-1D13-4240-A607-EB55AFB4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6878-585B-440B-A277-F27006CD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0F7-62A9-4BAC-813D-C72B00E8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0DD3-E4D9-42E0-B7FB-EB9172FA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0E36-3311-4200-B773-0D62BEB2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DDE5-601E-45D0-BECF-EF382CB5D9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9A66-5722-4590-B62B-159A562923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Простейшие операции с вещество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280" y="2781000"/>
            <a:ext cx="4853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химический практикум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1592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Ленинградская область, Волховский район,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508464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Бочкова И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80000" y="2428920"/>
            <a:ext cx="3379680" cy="43131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актическая работа №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907560"/>
            <a:ext cx="82803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Приготовление раствора сахара и расчёт его массовой доли в раствор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332000" y="2565360"/>
            <a:ext cx="6408720" cy="41338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Оборудован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суда: мерный цилиндр, коническая колба, стеклянная палочка, чайная лож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иборы: весы. Разнове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ещества: сахарный песок (кусковой сахар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Инструкция по ТБ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звешивание на весах всегда проводят с использованием тары (кусочка бумаги). Химические вещества никогда нельзя помещать на чашку весов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звешиваемый предмет помещают на левую чашку весов, а разновес - на правую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начале взвешивают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пустую тару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потом - тару с веществом и по разности определяют массу веществ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огда масса гирь начнет приближаться к массе предмета, наблюдают за качанием стрелки, до её совпадения с нулевым уровне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огда равновесие достигнуто, записывают массу и убирают разновесы в футляр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2514600" cy="287352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3240360" cy="21402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995640" y="3789360"/>
            <a:ext cx="3240360" cy="28670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80800" y="115920"/>
            <a:ext cx="68835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Часть №1: Приготовление раствор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0000" y="155700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Отмерьте мерным цилиндром 50 мл вод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лейте воду в коническую кол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3141720"/>
            <a:ext cx="0" cy="5032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6360" y="5157720"/>
            <a:ext cx="8636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003280" y="45684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Чайную ложку сахарного песка (или кусочек сахара) взвесьте на веса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ереместите сахар в колбу с водо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еремешайте стеклянной палочкой до полного раствор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025800" cy="22701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572000" y="4189320"/>
            <a:ext cx="2801880" cy="24796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50920" y="3214800"/>
            <a:ext cx="3085920" cy="35272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619280" y="2565360"/>
            <a:ext cx="0" cy="576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300640"/>
            <a:ext cx="8636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Часть №2: Произведите расчёт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читайте массовую долю сахара в растворе. Например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Дано:                   Решени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Н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)=50мл     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Н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) 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Н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)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·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Н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)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Н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)=1г/мл      50мл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·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1г/мл = 50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ах.)=3,5г      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р-р) 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Н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) +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ах.)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ω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ах.)=?             50г + 3,5г = 53,5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ω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ах.) 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ах.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р-р)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,5г:53,5г = 0,065 (6,5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1280" y="3429000"/>
            <a:ext cx="2305080" cy="1655640"/>
            <a:chOff x="611280" y="3429000"/>
            <a:chExt cx="2305080" cy="1655640"/>
          </a:xfrm>
        </p:grpSpPr>
        <p:sp>
          <p:nvSpPr>
            <p:cNvPr id="113" name=""/>
            <p:cNvSpPr/>
            <p:nvPr/>
          </p:nvSpPr>
          <p:spPr>
            <a:xfrm>
              <a:off x="2627280" y="3429000"/>
              <a:ext cx="0" cy="16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1280" y="4653000"/>
              <a:ext cx="23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4920" y="188640"/>
            <a:ext cx="8497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Рассчитайте количество молекул сахара в полученном растворе. Например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ах.)=3,5г     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(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Verdana"/>
              </a:rPr>
              <a:t>2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 = 12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·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2 + 1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·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2 + 16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·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1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мол.сах.)=?     144 + 22 + 176 = 342г/мо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Verdana"/>
              </a:rPr>
              <a:t>2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Verdana"/>
              </a:rPr>
              <a:t>1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ах.):М(сах.) =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,5г:342г/моль = 0,01мо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мол.сах.) =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Verdana"/>
              </a:rPr>
              <a:t>А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·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ах.) = 6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·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Verdana"/>
              </a:rPr>
              <a:t>2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/моль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0,01моль = 0,06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·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Verdana"/>
              </a:rPr>
              <a:t>2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= 6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·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Verdana"/>
              </a:rPr>
              <a:t>2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олеку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5280" y="3141720"/>
            <a:ext cx="2160720" cy="934920"/>
            <a:chOff x="395280" y="3141720"/>
            <a:chExt cx="2160720" cy="934920"/>
          </a:xfrm>
        </p:grpSpPr>
        <p:sp>
          <p:nvSpPr>
            <p:cNvPr id="117" name=""/>
            <p:cNvSpPr/>
            <p:nvPr/>
          </p:nvSpPr>
          <p:spPr>
            <a:xfrm>
              <a:off x="395280" y="3502080"/>
              <a:ext cx="216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13080" y="3141720"/>
              <a:ext cx="0" cy="93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Знать правила приготовления раствор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Уметь рассчитывать массовую долю вещества в приготовленном раствор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дготовить отчёт о проделанной рабо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30T14:00:57Z</dcterms:created>
  <dc:creator>Бочкова И.А.</dc:creator>
  <dc:description/>
  <dc:language>en-US</dc:language>
  <cp:lastModifiedBy>User</cp:lastModifiedBy>
  <dcterms:modified xsi:type="dcterms:W3CDTF">2012-06-19T15:35:29Z</dcterms:modified>
  <cp:revision>6</cp:revision>
  <dc:subject/>
  <dc:title>Простейшие операции с веществом</dc:title>
</cp:coreProperties>
</file>