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F640-E5CD-4006-8FB4-0625B084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98C8-604C-412F-ACDE-A264A3B6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6595-3CCE-498F-937B-7DA1E157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1279-54C0-4E91-AFB8-7DCFDFE5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179E-BFE8-44DE-960A-42BA0687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2EEB-DA0C-4B3D-93F8-D70B481C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DABC-5E0A-4997-9A62-6071711D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EC6C-59EC-4A18-A6B9-C8FC4175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796C-A127-41D2-8E65-03CE4E07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B2BB-CAD3-4462-A474-FCC34FC9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88F7-4395-4FBB-871B-AC944A4E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D5E5-9E4E-4F4F-9EE5-CBCDA9E1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F9BA-BCC7-4BAF-A2D5-E3B1B35C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F4DB-EE37-47D4-B89B-421D6307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B2CB-B8D9-41EF-94F7-D0B4D030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DDDA-D495-4404-A1CA-FF206A14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D9BE-0649-45AC-8616-5CB83139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5459-6ACF-4661-8C56-E10BE239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FFA6-B8BB-47A4-9F91-6C3608FF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78E9-1609-4AEF-9996-BC0795AD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FBC2-BD6F-45C2-A7B5-58BEC1FF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1C36-6E73-46BF-B435-A5E7DD6F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8FDF-ECA7-41A8-A109-8191999F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A38F-8DC9-48BA-BB8F-17621A28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AEC7-25CD-4FC4-B57E-2465B5A86F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993C-C53A-4E69-ACD0-AF8D658D45A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Простейшие операции с вещество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280" y="2781000"/>
            <a:ext cx="4853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химический практикум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1592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Ленинградская область, Волховский район,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508464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учитель биологии и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Бочкова Ири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580000" y="2428920"/>
            <a:ext cx="3379680" cy="43131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рактическая работа №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280" y="907560"/>
            <a:ext cx="82803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Приготовление раствора сахара и расчёт его массовой доли в раствор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332000" y="2565360"/>
            <a:ext cx="6408720" cy="41338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Оборудовани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осуда: мерный цилиндр, коническая колба, стеклянная палочка, чайная лож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иборы: весы. Разнове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ещества: сахарный песок (кусковой сахар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Инструкция по ТБ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Взвешивание на весах всегда проводят с использованием тары (кусочка бумаги). Химические вещества никогда нельзя помещать на чашку весов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Взвешиваемый предмет помещают на левую чашку весов, а разновес - на правую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Вначале взвешивают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пустую тару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 потом - тару с веществом и по разности определяют массу веществ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огда масса гирь начнет приближаться к массе предмета, наблюдают за качанием стрелки, до её совпадения с нулевым уровне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огда равновесие достигнуто, записывают массу и убирают разновесы в футляр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3789360"/>
            <a:ext cx="2514600" cy="287352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3240360" cy="21402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995640" y="3789360"/>
            <a:ext cx="3240360" cy="28670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80800" y="115920"/>
            <a:ext cx="68835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Часть №1: Приготовление раствор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40000" y="155700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Отмерьте мерным цилиндром 50 мл вод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лейте воду в коническую колб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3141720"/>
            <a:ext cx="0" cy="5032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6360" y="5157720"/>
            <a:ext cx="8636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003280" y="45684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Чайную ложку сахарного песка (или кусочек сахара) взвесьте на веса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ереместите сахар в колбу с водо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еремешайте стеклянной палочкой до полного растворен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025800" cy="22701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572000" y="4189320"/>
            <a:ext cx="2801880" cy="24796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50920" y="3214800"/>
            <a:ext cx="3085920" cy="35272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619280" y="2565360"/>
            <a:ext cx="0" cy="576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300640"/>
            <a:ext cx="8636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Часть №2: Произведите расчёт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читайте массовую долю сахара в растворе. Например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Дано:                   Решени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Н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)=50мл     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Н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) 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Н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)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·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Н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)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Н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)=1г/мл      50мл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·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1г/мл = 50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ах.)=3,5г      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р-р) 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Н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) +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ах.)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ω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ах.)=?             50г + 3,5г = 53,5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3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ω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ах.) 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ах.)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р-р)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,5г:53,5г = 0,065 (6,5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1280" y="3429000"/>
            <a:ext cx="2305080" cy="1655640"/>
            <a:chOff x="611280" y="3429000"/>
            <a:chExt cx="2305080" cy="1655640"/>
          </a:xfrm>
        </p:grpSpPr>
        <p:sp>
          <p:nvSpPr>
            <p:cNvPr id="113" name=""/>
            <p:cNvSpPr/>
            <p:nvPr/>
          </p:nvSpPr>
          <p:spPr>
            <a:xfrm>
              <a:off x="2627280" y="3429000"/>
              <a:ext cx="0" cy="165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1280" y="4653000"/>
              <a:ext cx="230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4920" y="188640"/>
            <a:ext cx="8497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Рассчитайте количество молекул сахара в полученном растворе. Например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ах.)=3,5г     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М(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Verdana"/>
              </a:rPr>
              <a:t>1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Verdana"/>
              </a:rPr>
              <a:t>2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Verdana"/>
              </a:rPr>
              <a:t>1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 = 12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·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2 + 1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·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2 + 16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·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1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мол.сах.)=?     144 + 22 + 176 = 342г/мо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Verdana"/>
              </a:rPr>
              <a:t>1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Verdana"/>
              </a:rPr>
              <a:t>2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Verdana"/>
              </a:rPr>
              <a:t>1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ах.):М(сах.) =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,5г:342г/моль = 0,01мо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3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мол.сах.) 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Verdana"/>
              </a:rPr>
              <a:t>А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·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ах.) = 6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·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Verdana"/>
              </a:rPr>
              <a:t>2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/моль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0,01моль = 0,06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·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Verdana"/>
              </a:rPr>
              <a:t>2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= 6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·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Verdana"/>
              </a:rPr>
              <a:t>2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молеку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95280" y="3141720"/>
            <a:ext cx="2160720" cy="934920"/>
            <a:chOff x="395280" y="3141720"/>
            <a:chExt cx="2160720" cy="934920"/>
          </a:xfrm>
        </p:grpSpPr>
        <p:sp>
          <p:nvSpPr>
            <p:cNvPr id="117" name=""/>
            <p:cNvSpPr/>
            <p:nvPr/>
          </p:nvSpPr>
          <p:spPr>
            <a:xfrm>
              <a:off x="395280" y="3502080"/>
              <a:ext cx="216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13080" y="3141720"/>
              <a:ext cx="0" cy="93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Знать правила приготовления раствор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Уметь рассчитывать массовую долю вещества в приготовленном раствор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одготовить отчёт о проделанной рабо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30T14:00:57Z</dcterms:created>
  <dc:creator>Бочкова И.А.</dc:creator>
  <dc:description/>
  <dc:language>en-US</dc:language>
  <cp:lastModifiedBy>User</cp:lastModifiedBy>
  <dcterms:modified xsi:type="dcterms:W3CDTF">2012-06-19T15:35:29Z</dcterms:modified>
  <cp:revision>6</cp:revision>
  <dc:subject/>
  <dc:title>Простейшие операции с веществом</dc:title>
</cp:coreProperties>
</file>