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C61-FE6C-454B-A1FB-51A5DE55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9BF-6770-48E5-A63F-6B2B9322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5E1-F9E2-41E5-9878-5FB04E11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673-6064-46B2-8E08-4DFAECB5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9319-02F2-4F91-B06E-6C8D096F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C60C-04DF-4884-8113-03685579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9828-2B79-42B6-960E-7583AFA1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4354-435F-4882-8A92-F2541063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F360-9A49-46DA-81B9-886AA881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F96E-58AD-45A2-9308-30F0B7AB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7ACF-074C-4E28-AB71-A964DDEB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9FC-9247-4A15-8AE7-D70BDCB1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5F25-6069-47B2-95AF-C7DB024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9039-B684-46FC-885D-4ECE565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6135-BD17-421C-AC9F-56E1B283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12AC-19AE-4AF3-895B-EB5844CB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452C-650B-45A4-A277-569A5C5E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AA4-8F49-494C-8886-40409A36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0D2-165C-49AA-BFB5-12A84ED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02F-156A-4542-B8B3-637C36B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811-6AC6-4155-B5AE-ADDAA70B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24C-C63B-40B8-8A58-59D024C6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7B0-4F82-4EC2-8A00-43355E7F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B11-6690-4277-92D8-039238D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F74-99B2-46DB-B187-4CFD51AE03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FBDE-5DE4-44B5-979B-687F80C930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61;&#1080;&#1084;&#1080;&#1103;/&#1055;&#1088;&#1077;&#1079;&#1077;&#1085;&#1090;&#1072;&#1094;&#1080;&#1080;%20&#1087;&#1086;%20&#1093;&#1080;&#1084;&#1080;&#1080;/&#1053;&#1077;&#1086;&#1088;&#1075;&#1072;&#1085;&#1080;&#1095;&#1077;&#1089;&#1082;&#1072;&#1103;%20&#1093;&#1080;&#1084;&#1080;&#1103;%20(8,9%20&#1082;&#1083;&#1072;&#1089;&#1089;)/8%20&#1082;&#1083;&#1072;&#1089;&#1089;/&#8470;1%20&#1042;&#1074;&#1077;&#1076;&#1077;&#1085;&#1080;&#1077;/&#1087;&#1077;&#1088;&#1074;&#1086;&#1085;&#1072;&#1095;.%20&#1093;&#1080;&#1084;.%20&#1087;&#1086;&#1085;/&#1042;%20&#1087;&#1088;&#1077;&#1079;&#1077;&#1085;&#1090;&#1072;&#1094;&#1080;&#1102;%20&#1088;&#1086;&#1083;&#1080;&#1082;&#1080;/&#1042;&#1099;&#1076;&#1077;&#1083;&#1077;&#1085;&#1080;&#1077;%20&#1075;&#1072;&#1079;&#1072;.wm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3.Условие третье – образование воды, как побочного продукта реак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8920" y="1773360"/>
            <a:ext cx="392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взаимодействие растворимого основания (щёлочи) с кислото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Налейте в пробирку раствор гидроксида натр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Добавьте 2-3 капли фенолфталеина. Фенолфталеин – малиновый, среда – щелочна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рилейте раствор соляной кисл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Что наблюдаете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87280" y="3968640"/>
            <a:ext cx="3529080" cy="2646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3384360" cy="2481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Составьте молекулярное и ионные уравнения реакций. Сделайте выво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OH + HCl = NaCl +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э.            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н.э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фенолфтале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малиновый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бесцвет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a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 О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l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Verdana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a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l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Verdana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реакция идёт с образованием воды, среда раствора нейтральная (реакция нейтрализаци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2781360"/>
            <a:ext cx="0" cy="216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3068640"/>
            <a:ext cx="18003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3860640"/>
            <a:ext cx="83167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взаимодействие нерастворимого основания с кислото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учите нерастворимое основание: к раствору сульфата меди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 добавьте гидроксид натрия. Что наблюдаете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лейте к осадку серную кислоту. Что наблюдаете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68360" y="189000"/>
            <a:ext cx="4608720" cy="34574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Составьте молекулярные и ионные уравнения реакций. Сделайте выво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лучение нерастворимого основа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2NaOH = 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 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н.э.                     э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2Na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2O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2Na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 2O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нерастворимые основания получаются при взаимодействии растворимой соли малоактивного или неактивного Ме со щёлочь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314172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393372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227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404640"/>
            <a:ext cx="8001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заимодействие нерастворимого основания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ислот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 Н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н.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 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э.                 н.э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 2Н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 2Н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нерастворимые основания взаимодействуют с кислотами с образованием побочного продукта – воды (реакция нейтрализаци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1844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78136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284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нать условия, при которых реакции ионного обмена идут до конц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дготовить отчет о проделанной рабо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907560"/>
            <a:ext cx="8280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Условия протекания химических реакций между растворами электролитов до конц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11280" y="2565360"/>
            <a:ext cx="4133880" cy="4133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яснить условия протекания химических реакций между растворами электролитов до конц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24000" y="3228840"/>
            <a:ext cx="5354640" cy="3435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суда: пробирки (4 штук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активы: сульфат алюминия, хлорид бария, карбонат натрия, азотная кислота, гидроксид натрия, фенолфталеин, соляная кислота, сульфат меди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, серная кисл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текло – хрупкий материал, имеющий малое сопротивление при ударе и незначительную прочность при изгибе. Категорически запрещается использовать посуду, имеющую трещины и отбитые кра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ботать с соединениями бария нужно так, чтобы не допустить попадания их в рот, так как они токсичны. Для получения тяжёлого отравления достаточно дозы массой менее 0,5г . После завершения работы тщательно помыть руки с мылом под проточной водо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ислоты – едкие вещества. Разрушают и раздражают кожу, слизистые оболоч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ливать кислоту надо так, чтобы при наклоне склянки этикетка, во избежание её порчи, оказывалась сверх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Щёлочи – едкие вещества. Разрушают и раздражают кожу, слизистые оболочки. От щелочей возможна полная потеря зр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1.Условие первое – выпадение осад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35280" y="1752480"/>
            <a:ext cx="35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пробирку налейте раствор сульфата алюми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бавьте раствор хлорида ба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825800" cy="3537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476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Составьте молекулярное и ионные уравнения реакций. Сделайте выво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Ba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2Al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Ba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э.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 э.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 э.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н.э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2Al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B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6Cl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2Al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3+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6Cl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3B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3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еакция идёт с выпадением осадк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8317080" y="1844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414972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7640" y="3429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2.Условие второе – выделение га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8000" y="1752480"/>
            <a:ext cx="3671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лейте в пробирку раствор карбоната на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лейте раствор азотной кислот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133720"/>
            <a:ext cx="4895640" cy="36669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Составьте молекулярное и ионные уравнения реакций. Сделайте выво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2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2Na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[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э                       э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э               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\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                                                              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н.э.        н.э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2Na</a:t>
            </a:r>
            <a:r>
              <a:rPr b="0" lang="ru-RU" sz="3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+ С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2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2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2Na</a:t>
            </a:r>
            <a:r>
              <a:rPr b="0" lang="ru-RU" sz="3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2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2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реакция идёт с выделением га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308720" y="2781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364000" y="4005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724360" y="443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2:04:31Z</dcterms:created>
  <dc:creator>Бочкова И.А.</dc:creator>
  <dc:description/>
  <dc:language>en-US</dc:language>
  <cp:lastModifiedBy>User</cp:lastModifiedBy>
  <dcterms:modified xsi:type="dcterms:W3CDTF">2012-06-19T15:36:19Z</dcterms:modified>
  <cp:revision>7</cp:revision>
  <dc:subject/>
  <dc:title>Условия протекания РИО до конца</dc:title>
</cp:coreProperties>
</file>