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6BA-1744-4EDC-BAB7-F385E949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08E-DC76-4B6F-B711-489D338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9AC-2214-47B3-90AC-B5359377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52B-D37A-45D3-A295-5B9C5C73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A28D-3FC7-4FE4-8354-9CE29137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63FF-978E-45F8-8326-6ED952BE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9936-E23F-448A-8DC3-1BB7FBCF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55C2-125F-4C82-88BA-6A7EF383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008-C2E3-456E-84F1-A779A32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0645-776F-487D-902E-1C5811E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F622-7E6E-4432-95D0-45598C1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BB0F-09C0-461F-8C05-2A8F58B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6C02-3FF0-4236-B5A2-3B290A3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496B-60DD-447F-A250-58D71D2B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9872-FDED-4D2E-9FBA-49B91E29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44BB-FEFC-4CE0-BDE7-A1E286FC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C6F2-F970-4475-8675-936044A8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6E69-6873-440E-9E9D-7C239C4F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94F-7F13-4FAA-B0AD-C7DC7F3A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E42C-489C-4DB1-BFC6-5B4E5A2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DE1-636E-49DC-96D1-24A15250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ACE-747B-4D02-9F35-D8167BF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9C3-A325-4865-B17B-9E17B87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70F-0332-4CAA-841E-88BD3DF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B7D-74A0-4852-B8B5-FED778DCBD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D9AB-65BC-4CBA-B0CA-4AA37C9853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61;&#1080;&#1084;&#1080;&#1103;/&#1055;&#1088;&#1077;&#1079;&#1077;&#1085;&#1090;&#1072;&#1094;&#1080;&#1080;%20&#1087;&#1086;%20&#1093;&#1080;&#1084;&#1080;&#1080;/&#1053;&#1077;&#1086;&#1088;&#1075;&#1072;&#1085;&#1080;&#1095;&#1077;&#1089;&#1082;&#1072;&#1103;%20&#1093;&#1080;&#1084;&#1080;&#1103;%20(8,9%20&#1082;&#1083;&#1072;&#1089;&#1089;)/8%20&#1082;&#1083;&#1072;&#1089;&#1089;/&#8470;1%20&#1042;&#1074;&#1077;&#1076;&#1077;&#1085;&#1080;&#1077;/&#1087;&#1077;&#1088;&#1074;&#1086;&#1085;&#1072;&#1095;.%20&#1093;&#1080;&#1084;.%20&#1087;&#1086;&#1085;/&#1042;%20&#1087;&#1088;&#1077;&#1079;&#1077;&#1085;&#1090;&#1072;&#1094;&#1080;&#1102;%20&#1088;&#1086;&#1083;&#1080;&#1082;&#1080;/&#1042;&#1099;&#1076;&#1077;&#1083;&#1077;&#1085;&#1080;&#1077;%20&#1075;&#1072;&#1079;&#1072;.wm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Условие третье – образование воды, как побочного продукта реак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8920" y="1773360"/>
            <a:ext cx="392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растворимого основания (щёлочи) с кислот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Налейте в пробирку раствор гидроксида натр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Добавьте 2-3 капли фенолфталеина. Фенолфталеин – малиновый, среда – щелоч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рилейте раствор соляной кисл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87280" y="3968640"/>
            <a:ext cx="3529080" cy="26463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3384360" cy="2481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OH + HCl = NaCl +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           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фенолфталеи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малиновый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бесцвет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a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a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реакция идёт с образованием воды, среда раствора нейтральная (реакция нейтрализаци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2781360"/>
            <a:ext cx="0" cy="216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3068640"/>
            <a:ext cx="18003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3860640"/>
            <a:ext cx="83167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нерастворимого основания с кислот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лучите нерастворимое основание: к раствору сульфата меди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 добавьте гидроксид натрия. 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лейте к осадку серную кислоту. Что наблюдаете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4608720" cy="34574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ы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лучение нерастворимого основа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NaOH 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Na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                     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+ 2O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en-US" sz="2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+ 2O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ерастворимые основания получаются при взаимодействии растворимой соли малоактивного или неактивного Ме со щёлочь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314172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393372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27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404640"/>
            <a:ext cx="80010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Взаимодействие нерастворимого основания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ислот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Н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н.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 э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э.                 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2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(OH)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+ 2Н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</a:t>
            </a:r>
            <a:r>
              <a:rPr b="0" lang="ru-RU" sz="2600" spc="-1" strike="noStrike" baseline="30000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+ 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ерастворимые основания взаимодействуют с кислотами с образованием побочного продукта – воды (реакция нейтрализаци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1844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278136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3284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нать условия, при которых реакции ионного обмена идут до конц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0756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Условия протекания химических реакций между растворами электролитов до конц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411280" y="2565360"/>
            <a:ext cx="4133880" cy="4133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яснить условия протекания химических реакций между растворами электролитов до конц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124000" y="3228840"/>
            <a:ext cx="5354640" cy="343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суда: пробирки (4 штуки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активы: сульфат алюминия, хлорид бария, карбонат натрия, азотная кислота, гидроксид натрия, фенолфталеин, соляная кислота, сульфат меди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, серная кисл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текло – хрупкий материал, имеющий малое сопротивление при ударе и незначительную прочность при изгибе. Категорически запрещается использовать посуду, имеющую трещины и отбитые кра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ботать с соединениями бария нужно так, чтобы не допустить попадания их в рот, так как они токсичны. Для получения тяжёлого отравления достаточно дозы массой менее 0,5г . После завершения работы тщательно помыть руки с мылом под проточной вод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ислоты – едкие вещества. Разрушают и раздражают кожу, слизистые оболоч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ивать кислоту надо так, чтобы при наклоне склянки этикетка, во избежание её порчи, оказывалась сверх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Щёлочи – едкие вещества. Разрушают и раздражают кожу, слизистые оболочки. От щелочей возможна полная потеря зр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Условие первое – выпадение осад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35280" y="1752480"/>
            <a:ext cx="35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налейте раствор сульфата алюми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авьте раствор хлорида ба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825800" cy="3537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Ba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Al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Ba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э.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н.э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A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6C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2A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+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6Cl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 3B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3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акция идёт с выпадением осадк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8317080" y="1844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414972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27640" y="3429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Условие второе – выделение га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8000" y="1752480"/>
            <a:ext cx="3671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лейте в пробирку раствор карбоната на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лейте раствор азотной кисло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2133720"/>
            <a:ext cx="4895640" cy="3666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Составьте молекулярное и ионные уравнения реакций. Сделайте выво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Na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[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э                       э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э             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\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baseline="-25000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r>
              <a:rPr b="0" lang="ru-RU" sz="3000" spc="-1" strike="noStrike" baseline="30000">
                <a:solidFill>
                  <a:srgbClr val="000000"/>
                </a:solidFill>
                <a:latin typeface="Verdana"/>
              </a:rPr>
              <a:t>н.э.        н.э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ru-RU" sz="3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+ 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a</a:t>
            </a:r>
            <a:r>
              <a:rPr b="0" lang="ru-RU" sz="3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2N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2H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 H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Вывод: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реакция идёт с выделением га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08720" y="2781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64000" y="4005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724360" y="4436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12:04:31Z</dcterms:created>
  <dc:creator>Бочкова И.А.</dc:creator>
  <dc:description/>
  <dc:language>en-US</dc:language>
  <cp:lastModifiedBy>User</cp:lastModifiedBy>
  <dcterms:modified xsi:type="dcterms:W3CDTF">2012-06-19T15:36:19Z</dcterms:modified>
  <cp:revision>7</cp:revision>
  <dc:subject/>
  <dc:title>Условия протекания РИО до конца</dc:title>
</cp:coreProperties>
</file>