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0.gif" ContentType="image/gif"/>
  <Override PartName="/ppt/media/image13.png" ContentType="image/png"/>
  <Override PartName="/ppt/media/image12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AB64-7DCE-4E30-9D25-D8FAB9D79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7719-241A-4E23-A00B-47932356C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42B0-40E8-4AD8-B1C9-5D5BADCD9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A749-A795-4626-8AF3-B63EAAC94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8979B-8824-4175-9FC4-8B68A317F9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AAA17-09D3-4D47-8B39-135A552954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D118-7EFD-4017-ACAD-AA03B8AC4A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11B1-3780-429B-B103-9D7D94A949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45F2-4BF2-4E2D-AD67-E4024E347E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BDA05-BE19-4D81-AAE9-D926DE9C57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E1CD6-A418-4CF2-ABF2-9E3488FCB7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8697-99D7-4657-A4BD-F56C509F2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F743-6A16-482D-A6E4-62B8D76205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4009-2A49-4D08-A207-44C8216BF1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A7087-78F4-43D3-8FF6-D3A64EB3FB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7482-0D60-4DED-AC76-AC1478A3F7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DA88D-5BFB-48F7-A397-D08007338E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8B094-13F6-4AED-A3A4-DA6D7EE86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D1DF-DE57-4E1F-8DCD-819C4F2B1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2B9C-3CAC-4C55-A87C-5927987C6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3879-325C-40A9-8072-1BB4E4745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4304-6D0E-4E8D-B099-42617546A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4450-171A-4E3B-A22B-BBA2012CB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8AAA-B082-4ABF-942E-7FD013568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7e76"/>
            </a:gs>
            <a:gs pos="100000">
              <a:srgbClr val="6334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1" name="Freeform 2"/>
            <p:cNvSpPr/>
            <p:nvPr/>
          </p:nvSpPr>
          <p:spPr>
            <a:xfrm>
              <a:off x="4716360" y="5345280"/>
              <a:ext cx="4426200" cy="1511280"/>
            </a:xfrm>
            <a:custGeom>
              <a:avLst/>
              <a:gdLst>
                <a:gd name="textAreaLeft" fmla="*/ 0 w 4426200"/>
                <a:gd name="textAreaRight" fmla="*/ 4426560 w 442620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7304760" y="6371280"/>
              <a:ext cx="18360" cy="2808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7295040" y="6342480"/>
              <a:ext cx="9360" cy="28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8221680" y="5678280"/>
              <a:ext cx="482400" cy="117468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7806240" y="5640120"/>
              <a:ext cx="498240" cy="121608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7460280" y="5868360"/>
              <a:ext cx="435960" cy="98784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987840"/>
                <a:gd name="textAreaBottom" fmla="*/ 988200 h 98784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7177680" y="5887440"/>
              <a:ext cx="337680" cy="9687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968760"/>
                <a:gd name="textAreaBottom" fmla="*/ 969120 h 96876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6813000" y="6247440"/>
              <a:ext cx="264600" cy="60876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6508080" y="6380640"/>
              <a:ext cx="263160" cy="47556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6206400" y="6409080"/>
              <a:ext cx="375840" cy="44712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5831640" y="6485040"/>
              <a:ext cx="311040" cy="3711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5517720" y="6456960"/>
              <a:ext cx="301320" cy="39924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99240"/>
                <a:gd name="textAreaBottom" fmla="*/ 399600 h 39924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5032080" y="6647040"/>
              <a:ext cx="364680" cy="20916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4831920" y="6694560"/>
              <a:ext cx="141120" cy="1616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701200" y="5345280"/>
              <a:ext cx="441000" cy="151128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" name="Text Box 18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Text Box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ldNum" idx="1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A3C01-4BF9-4720-A15A-6FEA116BE14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7e76"/>
            </a:gs>
            <a:gs pos="100000">
              <a:srgbClr val="63342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"/>
          <p:cNvGrpSpPr/>
          <p:nvPr/>
        </p:nvGrpSpPr>
        <p:grpSpPr>
          <a:xfrm>
            <a:off x="4716360" y="5345280"/>
            <a:ext cx="4426200" cy="1511280"/>
            <a:chOff x="4716360" y="5345280"/>
            <a:chExt cx="4426200" cy="1511280"/>
          </a:xfrm>
        </p:grpSpPr>
        <p:sp>
          <p:nvSpPr>
            <p:cNvPr id="58" name="Freeform 2"/>
            <p:cNvSpPr/>
            <p:nvPr/>
          </p:nvSpPr>
          <p:spPr>
            <a:xfrm>
              <a:off x="4716360" y="5345280"/>
              <a:ext cx="4426200" cy="1511280"/>
            </a:xfrm>
            <a:custGeom>
              <a:avLst/>
              <a:gdLst>
                <a:gd name="textAreaLeft" fmla="*/ 0 w 4426200"/>
                <a:gd name="textAreaRight" fmla="*/ 4426560 w 442620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3"/>
            <p:cNvSpPr/>
            <p:nvPr/>
          </p:nvSpPr>
          <p:spPr>
            <a:xfrm>
              <a:off x="7304760" y="6371280"/>
              <a:ext cx="18360" cy="2808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7295040" y="6342480"/>
              <a:ext cx="9360" cy="28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8221680" y="5678280"/>
              <a:ext cx="482400" cy="117468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7806240" y="5640120"/>
              <a:ext cx="498240" cy="1216080"/>
            </a:xfrm>
            <a:custGeom>
              <a:avLst/>
              <a:gdLst>
                <a:gd name="textAreaLeft" fmla="*/ 0 w 498240"/>
                <a:gd name="textAreaRight" fmla="*/ 498240 w 498240"/>
                <a:gd name="textAreaTop" fmla="*/ 0 h 1216080"/>
                <a:gd name="textAreaBottom" fmla="*/ 1216440 h 121608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7460280" y="5868360"/>
              <a:ext cx="435960" cy="987840"/>
            </a:xfrm>
            <a:custGeom>
              <a:avLst/>
              <a:gdLst>
                <a:gd name="textAreaLeft" fmla="*/ 0 w 435960"/>
                <a:gd name="textAreaRight" fmla="*/ 436320 w 435960"/>
                <a:gd name="textAreaTop" fmla="*/ 0 h 987840"/>
                <a:gd name="textAreaBottom" fmla="*/ 988200 h 98784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7177680" y="5887440"/>
              <a:ext cx="337680" cy="9687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968760"/>
                <a:gd name="textAreaBottom" fmla="*/ 969120 h 96876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6813000" y="6247440"/>
              <a:ext cx="264600" cy="60876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6508080" y="6380640"/>
              <a:ext cx="263160" cy="47556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6206400" y="6409080"/>
              <a:ext cx="375840" cy="447120"/>
            </a:xfrm>
            <a:custGeom>
              <a:avLst/>
              <a:gdLst>
                <a:gd name="textAreaLeft" fmla="*/ 0 w 375840"/>
                <a:gd name="textAreaRight" fmla="*/ 376200 w 37584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5831640" y="6485040"/>
              <a:ext cx="311040" cy="3711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71160"/>
                <a:gd name="textAreaBottom" fmla="*/ 371520 h 37116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5517720" y="6456960"/>
              <a:ext cx="301320" cy="39924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99240"/>
                <a:gd name="textAreaBottom" fmla="*/ 399600 h 39924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5032080" y="6647040"/>
              <a:ext cx="364680" cy="20916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4831920" y="6694560"/>
              <a:ext cx="141120" cy="1616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8701200" y="5345280"/>
              <a:ext cx="441000" cy="151128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a58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2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D0ADD6-B2B9-4B60-9A00-0D26FA50522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684360" y="36828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a34545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2400"/>
            </a:br>
            <a:r>
              <a:rPr b="1" lang="ru-RU" sz="2400" spc="-1" strike="noStrike">
                <a:solidFill>
                  <a:srgbClr val="a34545"/>
                </a:solidFill>
                <a:latin typeface="Arial"/>
              </a:rPr>
              <a:t>средняя общеобразовательная школа №3 с.Безопасного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ecae00"/>
                </a:solidFill>
                <a:latin typeface="Arial"/>
              </a:rPr>
              <a:t>«Начать с себя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6370560"/>
            <a:ext cx="2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50920" y="4437000"/>
            <a:ext cx="4176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зработала учитель русского языка и литературы МБОУ СОШ № 3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ячкова Александра Николаевн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18728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Verdana"/>
              </a:rPr>
              <a:t>Урок литературы в 7 классе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9900ff"/>
                </a:solidFill>
                <a:latin typeface="Verdana"/>
              </a:rPr>
              <a:t>по рассказу А.П. Платонова «Юшка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3"/>
          <p:cNvSpPr/>
          <p:nvPr/>
        </p:nvSpPr>
        <p:spPr>
          <a:xfrm>
            <a:off x="4643280" y="549360"/>
            <a:ext cx="3961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Зл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нечто дурное, вредное, противоположное добр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Сострадани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жалость, сочувствие, возбуждаемое несчастьем другого челове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1332000" y="836640"/>
            <a:ext cx="24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68360" y="476280"/>
            <a:ext cx="410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Добр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все положительное, хорошее, полезно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Милосерди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готовность помочь кому-нибудь или простить кого-нибудь из сострадания, человеколюб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айна имен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 Платонова  </a:t>
            </a: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юш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то кровь, животворящая жидкость, значительная потеря которой грозит организму смертью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Юш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 воплощенное добро, утрата его губительна для люд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Тайна имен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ecae00"/>
              </a:buClr>
              <a:buFont typeface="Wingdings" charset="2"/>
              <a:buChar char="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Ефим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 благочестивый, благожелательный, священны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799"/>
              </a:spcBef>
              <a:buClr>
                <a:srgbClr val="ecae00"/>
              </a:buClr>
              <a:buFont typeface="Wingdings" charset="2"/>
              <a:buChar char="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митри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 восходит к имени греческой богини плодородия Деметры. Благие зерна, взращенные на плодородной почве родительской любви, приносят щедрые плоды доб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Поделимся впечатлениями:</a:t>
            </a:r>
            <a:r>
              <a:rPr b="0" lang="ru-RU" sz="3200" spc="-1" strike="noStrike">
                <a:solidFill>
                  <a:srgbClr val="e9ddc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249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«Свободное письмо»: поразмышляйте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Что нужно делать, чтобы 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добра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 в мире было больше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Какие чувства вызывает у вас рассказ А. Платонова «Юшка»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5" name="Picture 4" descr="clip_image001"/>
          <p:cNvPicPr/>
          <p:nvPr/>
        </p:nvPicPr>
        <p:blipFill>
          <a:blip r:embed="rId1"/>
          <a:stretch/>
        </p:blipFill>
        <p:spPr>
          <a:xfrm>
            <a:off x="3203640" y="3716280"/>
            <a:ext cx="2442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1332000" y="836640"/>
            <a:ext cx="24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716360" y="404640"/>
            <a:ext cx="3743280" cy="44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Arial"/>
              </a:rPr>
              <a:t>Домашнее задание: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Прочитать рассказ А.Платонова «Неизвестный цветок»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Индивидуальное задание по группам:   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1 группа – написать сочинение –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рассуждение на тему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«По нравственным законам жить…»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(Как я понимаю смысл этих слов)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2 группа – написать сочинение –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миниатюру «Что я хотел сказать о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Юшке на уроке, но постеснялся»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3 группа – составить синквейн к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рассказу А.Платонова «Юшка»;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4 группа – ответить на вопросы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500" spc="-1" strike="noStrike">
                <a:solidFill>
                  <a:srgbClr val="ff3300"/>
                </a:solidFill>
                <a:latin typeface="Times New Roman"/>
              </a:rPr>
              <a:t>теста по рассказу А.Платонова «Юшка».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840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468600" y="3846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33098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39528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1. Личностные цели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рмирование способности к самоучению, саморазвитию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нятие и освоение социальной роли обучающегося, развитие мотивов учебной деятельности и формирование личностного смысла учения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рмирование уважительного отношения к иному мнению, толерантности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витие мышления, памяти, внимания, фонематического слуха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витие самостоятельности и личной ответственности за результаты своей деятельности, доброжелательности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витие навыков сотрудничества со взрослыми и сверстниками, взаимопомощи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2. Метапредметные цели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рмирование умения планировать, контролировать и оценивать учебные действия в соответствии с учебной задачей и условиями её реализации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воение способов решения проблем поискового характера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тивное использование речевых средств и средств ИКТ для решения коммуникативных и познавательных задач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рмирование умения использования различных способов поиска информации, готовить своё выступление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владение логическими действиями сравнения, анализа, синтеза, обобщения, классификации; построения рассуждений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товность слушать собеседника и вести диалог; готовность признавать возможность существования различных точек зрения и права каждого иметь свою; излагать своё мнение и аргументировать свою точку зрения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еделение общей цели и путей её достижения; умение договариваться о распределении функций и ролей в совместной деятельности; осуществлять взаимный контроль в совместной деятельности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мение работать в информационной сред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3. Предметные цели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показать своеобразие личности писателя, особенности языка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атонова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развивать навык анализа произведения,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огическое мышление, монологическую речь учащихся;         - помочь учащимся выявить нравственную основу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латоновских героев, вызвать сочувствие, сострадание к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ерою рассказа «Юшка»;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 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владение учебными действиями с языковыми средствами и умение использовать знания для решения познавательных, практических и коммуникативных задач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воспитывать милосердие, ответственность за свои поступки,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юбовь и уважение к человеку.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788000" y="549360"/>
            <a:ext cx="3960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.П.Платонов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(Климентов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5148360" y="3357720"/>
            <a:ext cx="374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1899-195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3645000" cy="45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"/>
          <p:cNvSpPr/>
          <p:nvPr/>
        </p:nvSpPr>
        <p:spPr>
          <a:xfrm>
            <a:off x="684360" y="620640"/>
            <a:ext cx="36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"/>
              </a:rPr>
              <a:t>Побеждай зло добром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Библ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1332000" y="836640"/>
            <a:ext cx="242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5076720" y="476280"/>
            <a:ext cx="3017880" cy="536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1187280" y="2565360"/>
            <a:ext cx="2770200" cy="3692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Юшка и дет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3887640" cy="50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4500720" y="1197000"/>
          <a:ext cx="4465440" cy="4968720"/>
        </p:xfrm>
        <a:graphic>
          <a:graphicData uri="http://schemas.openxmlformats.org/drawingml/2006/table">
            <a:tbl>
              <a:tblPr/>
              <a:tblGrid>
                <a:gridCol w="2349360"/>
                <a:gridCol w="2116080"/>
              </a:tblGrid>
              <a:tr h="4968720">
                <a:tc>
                  <a:txBody>
                    <a:bodyPr lIns="90000" rIns="90000" tIns="6876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ереставали играть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жали, кричали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однимали ветки 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росали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нова окликали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росали, трогали 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олкали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ять толкали 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идали комья земли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ильнее толкали,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ричали вокру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Юшки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лали слишком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ольно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 слышали и не понимали 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Радовались</a:t>
                      </a: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68760" bIns="46800" anchor="t">
                      <a:noAutofit/>
                    </a:bodyPr>
                    <a:p>
                      <a:pPr algn="ctr">
                        <a:lnSpc>
                          <a:spcPct val="94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Юш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ичего не отвеча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и не обижался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шёл тихо и н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крывал лицо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шёл и молчал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 пугал и н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нался за ни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е трогал и н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вечал им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оворил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Радовался</a:t>
                      </a:r>
                      <a:r>
                        <a:rPr b="0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Юшка и взрослые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3341520" cy="41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500720" y="1268280"/>
          <a:ext cx="4394160" cy="4857840"/>
        </p:xfrm>
        <a:graphic>
          <a:graphicData uri="http://schemas.openxmlformats.org/drawingml/2006/table">
            <a:tbl>
              <a:tblPr/>
              <a:tblGrid>
                <a:gridCol w="2085840"/>
                <a:gridCol w="2308320"/>
              </a:tblGrid>
              <a:tr h="4857840">
                <a:tc>
                  <a:txBody>
                    <a:bodyPr lIns="90000" rIns="90000" tIns="730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обижали его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их сердц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наполнялос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лютой яростью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и тут же бил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его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приходили 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ожесточение 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били его ещё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больше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и в этом зл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забывали н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время своё горе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30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Arial"/>
                        </a:rPr>
                        <a:t>.Юшка останавливался, слушал и молчал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Arial"/>
                        </a:rPr>
                        <a:t>потом долго лежал в пыли на дороге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Arial"/>
                        </a:rPr>
                        <a:t>очнувшись, он вставал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Arial"/>
                        </a:rPr>
                        <a:t>люди меня без понятия любят, сердце у них бывает слепое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395280" y="301680"/>
            <a:ext cx="44640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А теперь заглянем в словарь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755640" y="2276640"/>
            <a:ext cx="381636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8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ecae00"/>
                </a:solidFill>
                <a:latin typeface="Verdana"/>
              </a:rPr>
              <a:t>В словаре С.И.Ожегова</a:t>
            </a:r>
            <a:r>
              <a:rPr b="0" i="1" lang="ru-RU" sz="2000" spc="-1" strike="noStrike">
                <a:solidFill>
                  <a:srgbClr val="ecae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28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ecae00"/>
                </a:solidFill>
                <a:latin typeface="Verdana"/>
              </a:rPr>
              <a:t>представлены дв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28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ecae00"/>
                </a:solidFill>
                <a:latin typeface="Verdana"/>
              </a:rPr>
              <a:t>значения слова </a:t>
            </a:r>
            <a:r>
              <a:rPr b="0" i="1" lang="ru-RU" sz="2000" spc="-1" strike="noStrike">
                <a:solidFill>
                  <a:srgbClr val="c86400"/>
                </a:solidFill>
                <a:latin typeface="Verdana"/>
              </a:rPr>
              <a:t>терзать</a:t>
            </a:r>
            <a:r>
              <a:rPr b="0" i="1" lang="ru-RU" sz="2000" spc="-1" strike="noStrike">
                <a:solidFill>
                  <a:srgbClr val="ecae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2884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Font typeface="Verdana"/>
              <a:buAutoNum type="arabicPeriod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ecae00"/>
                </a:solidFill>
                <a:latin typeface="Verdana"/>
              </a:rPr>
              <a:t>Разрывать на част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28840">
              <a:lnSpc>
                <a:spcPct val="90000"/>
              </a:lnSpc>
              <a:spcBef>
                <a:spcPts val="499"/>
              </a:spcBef>
              <a:buClr>
                <a:srgbClr val="ecae00"/>
              </a:buClr>
              <a:buFont typeface="Verdana"/>
              <a:buAutoNum type="arabicPeriod"/>
              <a:tabLst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ecae00"/>
                </a:solidFill>
                <a:latin typeface="Verdana"/>
              </a:rPr>
              <a:t>Мучить нравственн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4859280" y="765000"/>
            <a:ext cx="33260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-757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Мотив странствия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695840" y="3156120"/>
            <a:ext cx="362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603840" y="189000"/>
            <a:ext cx="254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b005c"/>
                </a:solidFill>
                <a:latin typeface="Verdana"/>
              </a:rPr>
              <a:t>-В поисках истины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b005c"/>
                </a:solidFill>
                <a:latin typeface="Verdana"/>
              </a:rPr>
              <a:t>-В поисках душевного покоя, душевной гармонии, которые рождаются от общения с природой (мотив одухотворенной природы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1619280" y="3419640"/>
            <a:ext cx="1081080" cy="823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3"/>
          <a:stretch/>
        </p:blipFill>
        <p:spPr>
          <a:xfrm>
            <a:off x="7020000" y="4398840"/>
            <a:ext cx="1227240" cy="820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4"/>
          <a:stretch/>
        </p:blipFill>
        <p:spPr>
          <a:xfrm>
            <a:off x="4140360" y="4319640"/>
            <a:ext cx="1260360" cy="7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Юшка и прохожи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592440" cy="453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4788000" y="1197000"/>
          <a:ext cx="3900240" cy="5040360"/>
        </p:xfrm>
        <a:graphic>
          <a:graphicData uri="http://schemas.openxmlformats.org/drawingml/2006/table">
            <a:tbl>
              <a:tblPr/>
              <a:tblGrid>
                <a:gridCol w="1950840"/>
                <a:gridCol w="1949400"/>
              </a:tblGrid>
              <a:tr h="5040360">
                <a:tc>
                  <a:txBody>
                    <a:bodyPr lIns="90000" rIns="90000" tIns="730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«Веселый прохожий, знавший Юшку, посмеялся над ним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-Что ты землю нашу топчешь, божье чучело! Хоть бы ты помер, что ли, может, веселее бы стало без тебя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Замахнувшись, прохожий с силой злобы толкнул Юшку в грудь, и тот упал навзничь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73080" bIns="46800" anchor="t">
                      <a:noAutofit/>
                    </a:bodyPr>
                    <a:p>
                      <a:pPr>
                        <a:lnSpc>
                          <a:spcPct val="94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ecae00"/>
                          </a:solidFill>
                          <a:latin typeface="Verdana"/>
                        </a:rPr>
                        <a:t>Некоторым людям недоступны такие элементарные чувства, как сострадание, добро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0:03:32Z</dcterms:created>
  <dc:creator>Sveta</dc:creator>
  <dc:description/>
  <dc:language>en-US</dc:language>
  <cp:lastModifiedBy>вова</cp:lastModifiedBy>
  <dcterms:modified xsi:type="dcterms:W3CDTF">2012-06-04T18:51:15Z</dcterms:modified>
  <cp:revision>42</cp:revision>
  <dc:subject/>
  <dc:title>Сокровенный человек Ефим Дмитриевич(по новелле Платонова «Юшка»</dc:title>
</cp:coreProperties>
</file>