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0.gif" ContentType="image/gif"/>
  <Override PartName="/ppt/media/image13.png" ContentType="image/png"/>
  <Override PartName="/ppt/media/image12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DFD5-2397-4358-A711-34584CAC6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EF5F-1868-424C-BE23-5F95DFBB5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6BE7-C773-43BE-8ED2-86E7FAA4D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9E98-7330-441B-B6C6-FF0379302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45F0-9C39-4403-843D-27B9E0815E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3C10-FB52-4B46-A3E4-2AA8CAFAE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D01A-4CFC-40D7-AAF8-3F9A964BEC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1CB6-CFEC-4DFC-B997-9DCC9ADB26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E96F-4EA1-4FEE-BF02-C62DD9C1D4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1D91-6145-40DB-A309-8DAD01A9ED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D229-A042-4DFF-A34A-8E70FB082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2BED-29D5-4A95-9AA2-C111F3FD3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4681-EEE4-4BA4-B2A4-2937F7CF6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53FB-BC9B-4C52-9CC5-D27F957D26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C913-82A7-4737-800A-7CF69286E1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E984-8C8D-47D5-B567-09843BC134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0079-4926-4E23-AB0E-9BF878ED7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02D6-1E3D-4BA5-838C-3DBF9CC4A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3CD9-EBAA-4977-A4C8-B1E583F16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B452-1BF9-4BFB-8232-0E291922E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39C2-18C0-4B44-B999-8439899A0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4DE8-78B5-4264-BE77-FA6BAA3D1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8BB5-1E5C-4CD7-8425-4032680A1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742B-AAF9-4BA1-8FE6-94465FAD6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7e76"/>
            </a:gs>
            <a:gs pos="100000">
              <a:srgbClr val="6334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Freeform 2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7304760" y="6371280"/>
              <a:ext cx="18360" cy="28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7295040" y="6342480"/>
              <a:ext cx="9360" cy="28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221680" y="5678280"/>
              <a:ext cx="482400" cy="11746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806240" y="5640120"/>
              <a:ext cx="498240" cy="12160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7460280" y="5868360"/>
              <a:ext cx="435960" cy="98784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987840"/>
                <a:gd name="textAreaBottom" fmla="*/ 988200 h 98784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177680" y="5887440"/>
              <a:ext cx="337680" cy="9687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968760"/>
                <a:gd name="textAreaBottom" fmla="*/ 969120 h 96876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6813000" y="6247440"/>
              <a:ext cx="264600" cy="6087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6508080" y="6380640"/>
              <a:ext cx="263160" cy="4755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206400" y="6409080"/>
              <a:ext cx="375840" cy="4471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5831640" y="6485040"/>
              <a:ext cx="311040" cy="3711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517720" y="6456960"/>
              <a:ext cx="301320" cy="3992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032080" y="6647040"/>
              <a:ext cx="364680" cy="209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31920" y="6694560"/>
              <a:ext cx="141120" cy="161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701200" y="5345280"/>
              <a:ext cx="441000" cy="15112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Text Box 18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Text Box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D1040-A9B0-4474-A0A1-1113055869E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7e76"/>
            </a:gs>
            <a:gs pos="100000">
              <a:srgbClr val="6334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Freeform 2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7304760" y="6371280"/>
              <a:ext cx="18360" cy="28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7295040" y="6342480"/>
              <a:ext cx="9360" cy="28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8221680" y="5678280"/>
              <a:ext cx="482400" cy="11746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7806240" y="5640120"/>
              <a:ext cx="498240" cy="12160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460280" y="5868360"/>
              <a:ext cx="435960" cy="98784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987840"/>
                <a:gd name="textAreaBottom" fmla="*/ 988200 h 98784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177680" y="5887440"/>
              <a:ext cx="337680" cy="9687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968760"/>
                <a:gd name="textAreaBottom" fmla="*/ 969120 h 96876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6813000" y="6247440"/>
              <a:ext cx="264600" cy="6087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6508080" y="6380640"/>
              <a:ext cx="263160" cy="4755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206400" y="6409080"/>
              <a:ext cx="375840" cy="4471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5831640" y="6485040"/>
              <a:ext cx="311040" cy="3711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5517720" y="6456960"/>
              <a:ext cx="301320" cy="3992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032080" y="6647040"/>
              <a:ext cx="364680" cy="209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4831920" y="6694560"/>
              <a:ext cx="141120" cy="161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701200" y="5345280"/>
              <a:ext cx="441000" cy="15112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62A93B-6DD9-4B69-9513-5581BF0AF9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84360" y="36828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34545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a34545"/>
                </a:solidFill>
                <a:latin typeface="Arial"/>
              </a:rPr>
              <a:t>средняя общеобразовательная школа №3 с.Безопасного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ecae00"/>
                </a:solidFill>
                <a:latin typeface="Arial"/>
              </a:rPr>
              <a:t>«Начать с себя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370560"/>
            <a:ext cx="2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0920" y="4437000"/>
            <a:ext cx="417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ала учитель русского языка и литературы МБОУ СОШ № 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ячкова Александра Николаев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187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Verdana"/>
              </a:rPr>
              <a:t>Урок литературы в 7 класс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Verdana"/>
              </a:rPr>
              <a:t>по рассказу А.П. Платонова «Юшка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4643280" y="549360"/>
            <a:ext cx="396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Зл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нечто дурное, вредное, противоположное доб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острадан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жалость, сочувствие, возбуждаемое несчастьем другого челове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68360" y="476280"/>
            <a:ext cx="410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обр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все положительное, хорошее, полезно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Милосерд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готовность помочь кому-нибудь или простить кого-нибудь из сострадания, человеколюб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айна име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латонова  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юш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кровь, животворящая жидкость, значительная потеря которой грозит организму смертью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Юш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воплощенное добро, утрата его губительна для люд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айна име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ecae00"/>
              </a:buClr>
              <a:buFont typeface="Wingdings" charset="2"/>
              <a:buChar char="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фи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благочестивый, благожелательный, священн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buClr>
                <a:srgbClr val="ecae00"/>
              </a:buClr>
              <a:buFont typeface="Wingdings" charset="2"/>
              <a:buChar char="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митр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восходит к имени греческой богини плодородия Деметры. Благие зерна, взращенные на плодородной почве родительской любви, приносят щедрые плоды доб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Поделимся впечатлениями:</a:t>
            </a:r>
            <a:r>
              <a:rPr b="0" lang="ru-RU" sz="3200" spc="-1" strike="noStrike">
                <a:solidFill>
                  <a:srgbClr val="e9ddc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24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Свободное письмо»: поразмышляйте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Что нужно делать, чтобы 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добра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в мире было больш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Какие чувства вызывает у вас рассказ А. Платонова «Юшка»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4" descr="clip_image001"/>
          <p:cNvPicPr/>
          <p:nvPr/>
        </p:nvPicPr>
        <p:blipFill>
          <a:blip r:embed="rId1"/>
          <a:stretch/>
        </p:blipFill>
        <p:spPr>
          <a:xfrm>
            <a:off x="3203640" y="3716280"/>
            <a:ext cx="2442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716360" y="404640"/>
            <a:ext cx="374328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Прочитать рассказ А.Платонова «Неизвестный цветок»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Индивидуальное задание по группам: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1 группа – написать сочинение –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рассуждение на тему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«По нравственным законам жить…»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(Как я понимаю смысл этих слов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2 группа – написать сочинение –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миниатюру «Что я хотел сказать о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Юшке на уроке, но постеснялся»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3 группа – составить синквейн к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рассказу А.Платонова «Юшка»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4 группа – ответить на вопросы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теста по рассказу А.Платонова «Юшка»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468600" y="384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33098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39528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1. Личностные цели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способности к самоучению, саморазвитию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ятие и освоение социальной роли обучающегося, развитие мотивов учебной деятельности и формирование личностного смысла учения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уважительного отношения к иному мнению, толерантност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витие мышления, памяти, внимания, фонематического слуха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витие самостоятельности и личной ответственности за результаты своей деятельности, доброжелательност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витие навыков сотрудничества со взрослыми и сверстниками, взаимопомощ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2. Метапредметные цели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умения планировать, контролировать и оценивать учебные действия в соответствии с учебной задачей и условиями её реализаци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воение способов решения проблем поискового характера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ивное использование речевых средств и средств ИКТ для решения коммуникативных и познавательных задач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умения использования различных способов поиска информации, готовить своё выступление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владение логическими действиями сравнения, анализа, синтеза, обобщения, классификации; построения рассуждений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товность слушать собеседника и вести диалог; готовность признавать возможность существования различных точек зрения и права каждого иметь свою; излагать своё мнение и аргументировать свою точку зрения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ение общей цели и путей её достижения; умение договариваться о распределении функций и ролей в совместной деятельности; осуществлять взаимный контроль в совместной деятельност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мение работать в информационной сред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3. Предметные цели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показать своеобразие личности писателя, особенности языка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тонова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развивать навык анализа произведения,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огическое мышление, монологическую речь учащихся;         - помочь учащимся выявить нравственную основу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тоновских героев, вызвать сочувствие, сострадание к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рою рассказа «Юшка»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владение учебными действиями с языковыми средствами и умение использовать знания для решения познавательных, практических и коммуникативных задач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воспитывать милосердие, ответственность за свои поступки,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юбовь и уважение к человеку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788000" y="549360"/>
            <a:ext cx="3960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.П.Платонов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Климентов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5148360" y="3357720"/>
            <a:ext cx="374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1899-195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6450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684360" y="62064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Побеждай зло добр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Библ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017880" cy="536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2770200" cy="3692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Юшка и дет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88764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500720" y="1197000"/>
          <a:ext cx="4465440" cy="4968720"/>
        </p:xfrm>
        <a:graphic>
          <a:graphicData uri="http://schemas.openxmlformats.org/drawingml/2006/table">
            <a:tbl>
              <a:tblPr/>
              <a:tblGrid>
                <a:gridCol w="2349360"/>
                <a:gridCol w="2116080"/>
              </a:tblGrid>
              <a:tr h="4968720">
                <a:tc>
                  <a:txBody>
                    <a:bodyPr lIns="90000" rIns="90000" tIns="687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ереставали играть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жали, крича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нимали ветк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роса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нова окликали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росали, трогал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олка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ять толкал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идали комья зем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ильнее толкали,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чали вокру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Юшк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лали слишк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ьно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 слышали и не понимали 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Радовались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876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Ю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чего не отвеча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 не обижался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ёл тихо и н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крывал лицо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ёл и молчал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 пугал и н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нался за ни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 трогал и н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вечал им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оворил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Радовался</a:t>
                      </a:r>
                      <a:r>
                        <a:rPr b="0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Юшка и взрослы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3341520" cy="41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500720" y="1268280"/>
          <a:ext cx="4394160" cy="4857840"/>
        </p:xfrm>
        <a:graphic>
          <a:graphicData uri="http://schemas.openxmlformats.org/drawingml/2006/table">
            <a:tbl>
              <a:tblPr/>
              <a:tblGrid>
                <a:gridCol w="2085840"/>
                <a:gridCol w="2308320"/>
              </a:tblGrid>
              <a:tr h="4857840"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обижали его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их сердц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наполнялос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лютой яростью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и тут же бил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его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приходили 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ожесточение 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били его ещё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больш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и в этом зл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забывали 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время своё гор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.Юшка останавливался, слушал и молчал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потом долго лежал в пыли на дорог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очнувшись, он вставал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люди меня без понятия любят, сердце у них бывает слепо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95280" y="301680"/>
            <a:ext cx="446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 теперь заглянем в словарь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755640" y="2276640"/>
            <a:ext cx="38163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cae00"/>
                </a:solidFill>
                <a:latin typeface="Verdana"/>
              </a:rPr>
              <a:t>В словаре С.И.Ожегова</a:t>
            </a: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представлены д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значения слова </a:t>
            </a:r>
            <a:r>
              <a:rPr b="0" i="1" lang="ru-RU" sz="2000" spc="-1" strike="noStrike">
                <a:solidFill>
                  <a:srgbClr val="c86400"/>
                </a:solidFill>
                <a:latin typeface="Verdana"/>
              </a:rPr>
              <a:t>терзать</a:t>
            </a: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Font typeface="Verdana"/>
              <a:buAutoNum type="arabicPeriod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Разрывать на ча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Font typeface="Verdana"/>
              <a:buAutoNum type="arabicPeriod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Мучить нравствен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3260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-757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Мотив странств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695840" y="315612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603840" y="189000"/>
            <a:ext cx="254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b005c"/>
                </a:solidFill>
                <a:latin typeface="Verdana"/>
              </a:rPr>
              <a:t>-В поисках истин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b005c"/>
                </a:solidFill>
                <a:latin typeface="Verdana"/>
              </a:rPr>
              <a:t>-В поисках душевного покоя, душевной гармонии, которые рождаются от общения с природой (мотив одухотворенной природы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619280" y="3419640"/>
            <a:ext cx="1081080" cy="82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7020000" y="4398840"/>
            <a:ext cx="1227240" cy="82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4"/>
          <a:stretch/>
        </p:blipFill>
        <p:spPr>
          <a:xfrm>
            <a:off x="4140360" y="4319640"/>
            <a:ext cx="1260360" cy="7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Юшка и прохожи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592440" cy="453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4788000" y="1197000"/>
          <a:ext cx="3900240" cy="5040360"/>
        </p:xfrm>
        <a:graphic>
          <a:graphicData uri="http://schemas.openxmlformats.org/drawingml/2006/table">
            <a:tbl>
              <a:tblPr/>
              <a:tblGrid>
                <a:gridCol w="1950840"/>
                <a:gridCol w="1949400"/>
              </a:tblGrid>
              <a:tr h="5040360"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«Веселый прохожий, знавший Юшку, посмеялся над ним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-Что ты землю нашу топчешь, божье чучело! Хоть бы ты помер, что ли, может, веселее бы стало без тебя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Замахнувшись, прохожий с силой злобы толкнул Юшку в грудь, и тот упал навзнич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Некоторым людям недоступны такие элементарные чувства, как сострадание, добр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0:03:32Z</dcterms:created>
  <dc:creator>Sveta</dc:creator>
  <dc:description/>
  <dc:language>en-US</dc:language>
  <cp:lastModifiedBy>вова</cp:lastModifiedBy>
  <dcterms:modified xsi:type="dcterms:W3CDTF">2012-06-04T18:51:15Z</dcterms:modified>
  <cp:revision>42</cp:revision>
  <dc:subject/>
  <dc:title>Сокровенный человек Ефим Дмитриевич(по новелле Платонова «Юшка»</dc:title>
</cp:coreProperties>
</file>