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687-4FB1-45E6-B46E-D7DFFFB5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8B7-3653-456B-8F19-6136C955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1E8-AA94-45E2-B395-F8690399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890-D761-490F-88F9-53344082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F07-3347-4B67-A2D9-74BD7EA7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80C4-B9A5-462B-A352-9A673DE2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786D-6469-4A5A-BF8A-723A559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9F1-6BCD-4E56-9C49-58ADB6A9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63E3-CBF6-4900-A94C-5AE9532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5BAD-1D44-4B1D-89D5-56F6172E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D305-3A63-4D8E-8DFB-46495D8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EAC-46D7-4FA3-9C6F-8B5B995B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287E-69D5-4E3A-80BE-83A0B1F7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CB0B-CF5A-477C-935C-0520036E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AA5B-7550-40FB-8FDE-BA8C2D5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ED5E-9613-4658-BC26-36C2C862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E7F-DE18-4154-AEC7-53171E7E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0486-CA05-48BF-A2FC-E0877D19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665EE-D92C-46BA-9737-622D6DC7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CC1D-2CBA-4827-8088-CBE9F5C3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3E725-1083-4D5A-A328-DF056A1B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E19B-6841-43EB-99E1-A8A545A1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6FB-83A2-437B-9467-0F69B2E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79BB-108A-4CCF-9518-116CE11A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420B-8C3E-4010-92C1-A3A2A59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A39B-9043-48DD-8C15-3B37127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D812-ADAC-4B9F-99AE-D58E1B13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1335-85C5-4672-BB0A-A59DE4DF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557E4-DCD5-4A32-AAB4-96CD4BF6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CDF3-D1D5-46C8-A1B6-3E001D01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A45B-2570-45EC-ABFC-97E583C1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C51B-11B5-43C6-9565-49C9B800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3DEF-1FB8-42DD-8C91-A49B6B7F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FE5-9898-4F7D-95D9-6DE03545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DED5-559A-41B5-A867-DCECFA27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31E9-63B3-4A50-8F7F-AA776202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20193-E08E-4ED6-8AB0-532A3C8A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36CEF-D71D-4BE8-983D-3D253F1C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23E5-D7E8-44CE-BF0D-7E5B0AA7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4246-B976-4069-ACCA-E1EA747C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C6DA-9746-4FE3-AFC1-CCCDB918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7748-4DAA-47C6-BAA9-02172074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D0D5-F1DE-4141-8EAC-B09DC44DC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43C38-2FE2-44EE-B6FD-366064B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313-9508-4C99-BC4B-C083BD2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B8722-1B4A-4677-B05D-DA0C215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EB9D8-8B73-4864-8525-FE65D3FA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7F0D-D8E6-489E-B00C-508E3DB5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C0FFA-924D-446D-B862-7FFBB39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A2CC-9EC0-4ABC-BF8A-42D2CA7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F8D4-3F51-4C46-8AD7-9344968E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BA53-4921-4AEA-A449-8D93851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C800-854D-49F6-A1C9-5421499B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D9FE8-CB70-4FA3-9E3D-636E1784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55850-A6CF-4F82-B422-B5A0A785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83B-8D4F-4594-9F32-BADF129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87F3-37DC-4CE3-8E69-14F02D90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8FAC-34C1-4F61-936A-2B7D51E5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D7FE9-C3DC-4520-8054-2D173B7D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B1CC-C134-4A42-A8E0-2B3A761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A8DE2-DF58-4173-B608-F2F62EF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2116-38E3-4F74-81CA-ABDB2C6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14AEB-ACDF-4A7D-88CC-99BDA54C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A3183-B821-4F15-81AE-CB5097B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087FF-C694-4536-8736-4C1E31C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EBDE8-A507-4593-BA3F-FD804943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186-D10D-437A-816E-13397A3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07D15-8E1A-496A-8A60-168D78B2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FB151-77C0-4A8A-B0F0-376EFC89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8C44-26F3-4660-9AB5-18FF5164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FD84D-0F9F-4569-BF53-8E085A34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6D224-19BF-48F7-AD4B-BBDAF2B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3DC9-2488-4A50-B2E2-EAF0067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AFCA7-AC71-4C07-94C2-8A874EE1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DE392-7EAF-456C-B71B-D6D7D8C2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4123-A147-4A6C-8D59-2EBD7E02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6218F-D748-47D9-AF42-EA6C72C2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FC0-9999-40E9-A748-BD17B17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B24B-80F8-4F0D-B1D8-FE11817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1A67-FDE8-410D-9FBE-90B08AA2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0F876-96F4-4797-880E-51104453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3465F-A7F5-4DD6-8370-96A40E9B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48922-DC94-4119-8FAB-93839522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DE6CD-A7F7-4C0A-A731-DC3083A5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DF3A-AF1C-4D6D-B395-13D3E6DF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CD7B8-F82E-4279-A089-477CD315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3459C-F190-4B70-8380-D90647A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49EB1-CB0A-4D3B-AA40-51AA2E4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E9B-0DF9-4703-9531-B9BC1027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F3E86-BD9F-433A-A2F2-2DCEBC04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4429-03D9-44CB-97B0-EA70086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C88C2-F3DF-4351-A10C-95B427F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5728A-7950-4680-B7CA-971BF05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BE85A-A529-463D-BAD4-2113CEE1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7AFB-4BA4-4B01-AE6C-6287A844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AB4D-E2A4-4222-BE91-1711837E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B92-9CEB-4454-A641-988C13B0DA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C697-2F9B-465D-9FD2-75F65FC4C68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F8D-5FD5-43CE-8113-1C7AE23522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CB44-6481-4F53-AC79-9C780A04335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DDDF-BD1E-46FE-BAA4-7B745DE2C4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B08-225C-4174-80EF-484BD3F8BFD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BC8B-D6A9-48C7-AB25-B8438AC9FA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D72-39C0-41CF-8E39-E34237E93D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1;&#1088;&#1080;&#1090;&#1072;&#1085;&#1089;&#1082;&#1072;&#1103;_&#1072;&#1089;&#1089;&#1086;&#1094;&#1080;&#1072;&#1094;&#1080;&#1103;_&#1087;&#1088;&#1086;&#1076;&#1072;&#1074;&#1094;&#1086;&#1074;_&#1080;&#1075;&#1088;&#1091;&#1096;&#1077;&#1082;&amp;action=edit&amp;redlink=1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724280" y="3047760"/>
            <a:ext cx="4114800" cy="243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боту выполни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ченик 3В класс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ОУ СОШ №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олегов Анто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WordArt 4"/>
          <p:cNvSpPr txBox="1"/>
          <p:nvPr/>
        </p:nvSpPr>
        <p:spPr>
          <a:xfrm>
            <a:off x="1295280" y="304920"/>
            <a:ext cx="6943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Я конструирую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ЛЕГ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Admin\Рабочий стол\антон\Основное соотношение высот кирпичиков Lego.jpg"/>
          <p:cNvPicPr/>
          <p:nvPr/>
        </p:nvPicPr>
        <p:blipFill>
          <a:blip r:embed="rId2"/>
          <a:stretch/>
        </p:blipFill>
        <p:spPr>
          <a:xfrm>
            <a:off x="914400" y="1992240"/>
            <a:ext cx="7315200" cy="350352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4"/>
          <p:cNvSpPr/>
          <p:nvPr/>
        </p:nvSpPr>
        <p:spPr>
          <a:xfrm>
            <a:off x="3809880" y="13716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сновное соотношение высот кирпичиков Л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378000" y="-55440"/>
            <a:ext cx="8272440" cy="1914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Documents and Settings\Admin\Рабочий стол\антон\Башня LEGO, выстроенная на Манежной площади в Москве в июне 2002 года.JPG"/>
          <p:cNvPicPr/>
          <p:nvPr/>
        </p:nvPicPr>
        <p:blipFill>
          <a:blip r:embed="rId2"/>
          <a:stretch/>
        </p:blipFill>
        <p:spPr>
          <a:xfrm>
            <a:off x="1219320" y="1752480"/>
            <a:ext cx="690876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Documents and Settings\Admin\Рабочий стол\антон\DSCN3659.jpg"/>
          <p:cNvPicPr/>
          <p:nvPr/>
        </p:nvPicPr>
        <p:blipFill>
          <a:blip r:embed="rId2"/>
          <a:stretch/>
        </p:blipFill>
        <p:spPr>
          <a:xfrm>
            <a:off x="304920" y="1216080"/>
            <a:ext cx="8458200" cy="5641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C:\Documents and Settings\Admin\Рабочий стол\антон\Общественный транспорт...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C:\Documents and Settings\Admin\Рабочий стол\антон\Зеленый Гонщик.jpg"/>
          <p:cNvPicPr/>
          <p:nvPr/>
        </p:nvPicPr>
        <p:blipFill>
          <a:blip r:embed="rId2"/>
          <a:stretch/>
        </p:blipFill>
        <p:spPr>
          <a:xfrm>
            <a:off x="0" y="1521000"/>
            <a:ext cx="9144000" cy="5337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2189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Самый первый конструктор ЛЕГО был деревянный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Детали ЛЕГО можно собирать разными способам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Из них можно выстраивать множество моделей не похожих друг на друг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ЛЕГО многофункциональный конструктор, в него могут играть дети любого возраст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Конструирование ЛЕГО развивает мышление, внимание, терпени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Monotype Corsiva"/>
              </a:rPr>
              <a:t>Исследования помогли мне создать новые хорошие модели в своей коллекции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62800" indent="-183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40384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1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Monotype Corsiva"/>
              </a:rPr>
              <a:t>Я поставил перед собой цель:</a:t>
            </a:r>
            <a:r>
              <a:rPr b="0" lang="en-US" sz="33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1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Monotype Corsiva"/>
              </a:rPr>
              <a:t>Узнать о происхождении, о конструировании и разновидностях ЛЕГО.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299160" indent="10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530280" y="573120"/>
            <a:ext cx="872316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Наитии и изучить информацию о истории происхождения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Изучить литературу о конструировани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Проанализировать разновидности и производство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Экспериментировать с новыми видами конструктора ЛЕГО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Documents and Settings\Admin\Рабочий стол\антон\Кирпичики Lego.jpg"/>
          <p:cNvPicPr/>
          <p:nvPr/>
        </p:nvPicPr>
        <p:blipFill>
          <a:blip r:embed="rId2"/>
          <a:stretch/>
        </p:blipFill>
        <p:spPr>
          <a:xfrm>
            <a:off x="1193760" y="1481040"/>
            <a:ext cx="6756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Девиз компании</a:t>
            </a:r>
            <a:r>
              <a:rPr b="0" lang="ru-RU" sz="23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Только лучшее является достойным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Год основания компании</a:t>
            </a:r>
            <a:r>
              <a:rPr b="0" lang="ru-RU" sz="23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1932г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Расположение компании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Дания, город Биллунд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Ключевые фигуры в компании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LEGO: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Генеральный директор - Йорген Виг Кнадсторп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Отрасль:</a:t>
            </a: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гровая индустрия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Monotype Corsiva"/>
              </a:rPr>
              <a:t>Продукция:</a:t>
            </a:r>
            <a:r>
              <a:rPr b="0" lang="ru-RU" sz="25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гровые конструкторы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рибыль от производства LEGO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$11,661 млрд. датских крон (2011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Число сотрудников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7 058 (2011 год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Сайт: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lego.co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C:\Documents and Settings\Admin\Рабочий стол\антон\LEGO логотип.png"/>
          <p:cNvPicPr/>
          <p:nvPr/>
        </p:nvPicPr>
        <p:blipFill>
          <a:blip r:embed="rId1"/>
          <a:stretch/>
        </p:blipFill>
        <p:spPr>
          <a:xfrm>
            <a:off x="2362320" y="1600200"/>
            <a:ext cx="4487760" cy="4487760"/>
          </a:xfrm>
          <a:prstGeom prst="rect">
            <a:avLst/>
          </a:prstGeom>
          <a:ln w="0">
            <a:noFill/>
          </a:ln>
        </p:spPr>
      </p:pic>
      <p:pic>
        <p:nvPicPr>
          <p:cNvPr id="380" name="Заголовок 4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11142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Компания была основана в 1932 год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Датская частная компания, занимающаяся производством одноимённых серий развивающих игрушек, представляющих собой наборы деталей для сборки и моделирования разнообразных предметов — конструктор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Lucida Sans Unicode"/>
              </a:rPr>
              <a:t>Основой наборов является кирпичик LEGO — деталь, представляющая собой полый пластмассовый блок, соединяющийся с другими такими же кирпичиками на шипа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32 — основание компа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49 — появление пластмассовых защёлкивающихся кубиков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54 — в Дании официально зарегистрирована торговая марка Lego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61 — впервые автомобили теперь также собираются из кубиков — ранее к наборам прилагались обычные масштабные модели — а из кубиков можно было строить только здани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63 — впервые к наборам прилагается инструкция по сборк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973 — логотип компании меняется на современный  — белая надпись в красном квадрат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000 —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Британская ассоциация продавцов игрушек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 назвала кирпичик Lego самой значимой игрушкой XX век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011 — компания LEGO заняла пятое место по результатам опроса 48 тыс. людей из 15 важнейших мировых регионов по доверию к компа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2"/>
          <a:stretch/>
        </p:blipFill>
        <p:spPr>
          <a:xfrm>
            <a:off x="407880" y="-92160"/>
            <a:ext cx="8444160" cy="1470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C:\Documents and Settings\Admin\Рабочий стол\антон\Цех по производству кубиков LEGO.jpg"/>
          <p:cNvPicPr/>
          <p:nvPr/>
        </p:nvPicPr>
        <p:blipFill>
          <a:blip r:embed="rId2"/>
          <a:stretch/>
        </p:blipFill>
        <p:spPr>
          <a:xfrm>
            <a:off x="0" y="1347840"/>
            <a:ext cx="9144000" cy="5510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2-06-19T15:30:3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