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0D6-2993-450A-9311-86F05B5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291-A6DD-43D9-A184-28C935A2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0F0-17AB-4CF6-ABE3-63756BB2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588-1D0F-4AF0-BEF4-CAABCB6C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6DC0-59FA-4BD9-9682-FBC2916A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8B2F-7470-428F-9D66-A2DC2118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7374-8087-48BA-A175-3A132158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216-23F8-4284-9AF1-18A2785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DAB5-E5BF-4CED-B5AA-5A72052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9484-EE16-49ED-B355-D5E59AF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CA4D-3134-478C-8399-1DF60F3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F1C-22A8-449E-9905-D4B23235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6607-D8B0-4595-ABE5-7ADD544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11B1-1C4A-4C0D-9F03-5AA0BA7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E1B-510C-42AD-8A38-5D82900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135-51B2-442D-9FA4-14393C75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822-13C3-4246-B413-491DC2BE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0081-A15C-44B8-B0E8-2EF7949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5468-DCFF-47AC-A44D-A713A9A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D589-9F2D-49FA-8522-C62B0F1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EFEA-BB4D-46C7-A523-44B0191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3444-38BE-4B40-910E-90A046A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1C2-9225-4159-AC6C-E4FC40D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186D-EA31-4F28-9756-C082D18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E781-703F-4176-BAAF-EEF392A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14D7-FB4C-4746-AF21-53C5473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A740-1F26-49CD-B855-D24606E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26B4-6C7E-40C0-B8E0-90E5AF56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6952-D61D-4DD4-9CDF-40DE7099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ECE8-A5C3-47BA-9EF6-E1E70BEE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1286-C1A1-4DDA-92C2-77AF4516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8F29-5C21-4072-B599-437E564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CA05-E572-43D0-ABA4-C3C11007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381-CA17-4DDB-8BAE-1829CBB1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E32F-20A5-4621-A78B-A13C1C2D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2E9D-BD02-4CFF-959A-FE4A8DA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42C8-DAD8-492D-AD22-52E58EE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6E97-57F2-4E64-B576-88CE3048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9B45-1BD7-45DA-9537-9A8C7DF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A5F4-29FA-4FCD-9D7E-D7823D2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BD05-0DA7-4446-8D75-91B1BCD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DEBB-33EA-4CA2-AB07-DF160F0E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96BB-1892-43B6-A77F-C56E846E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BA40-503B-41D3-BDAE-8356C6D2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79F-36FF-4FF7-B78E-2AB982E1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425A-B343-4C64-8875-59B2D32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7CB1-4435-4F19-85E1-570CE023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ED91-D8D6-4CB0-A6D2-37440F9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DAD4-C579-402B-BD50-E1902C3A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F470-52CB-4196-AABA-29DA83B5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0DA9-57B3-401D-A9CB-AFA22DB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AE0B-4273-4AA6-8042-48F215E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60BB-F407-46E1-8D64-3CDB1E9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D6CA1-2383-4DE5-B09A-EC8D4A8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FE75-4EDD-42D2-B51E-225A2696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54E-A6D7-48DE-815B-BAE0672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0EA7-EF87-43AA-BD70-30979C79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F74A-51CB-4607-BDAB-AAE5D784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840E-4581-490E-B221-9EF03C58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AA37-98C3-48E3-89EC-B0567DA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0A523-B1B1-44B2-A5C7-7ECB00B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5986-AB72-4CD1-8C5D-D211A7E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B631-0EEC-4F87-A555-2EB542B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5B67-54AF-4EE1-B2E7-FB18B49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377B8-5E4D-4500-AB7E-59378F89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D1A67-1EE1-4972-9544-C846A74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9CA-3B76-41BD-A620-3403D64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406C-61F6-4312-A9DC-DA0925FC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653C-1EBF-4E17-ACD6-480A8D7A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4E10-37B5-412D-9EE4-0F757044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BB01-48CD-46BE-8E8D-4C3A959D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7B27-F429-4C6F-B816-DD21B10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BC04-4F1D-4ADA-80AB-18B7752B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C6715-4C77-44B1-8F27-D8FA105D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5C1FD-5109-49AC-8C34-982752E2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6BB2-F808-408D-8A3D-00EECED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BECC-61F1-4479-91FC-372C6CF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C87-E79E-480B-B5AD-12ABBA7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770B-D1CC-45D1-88E9-2DE3E5D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71B4-053A-41AC-86AC-CC0B22B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BDB56-608E-4984-B6B6-7218517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9A26-38BF-45B2-B52A-03BC7B7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56DD-E18E-474F-9682-4CB907CF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EABCD-8139-4A1D-B835-1C1129C4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74C4-202C-4160-A396-FA5DFBC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21D2-24E1-4CDF-A8D7-932044E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69539-8175-4CF3-92B1-CFB1C2EE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BC03-BCC5-45CC-A60F-3B2CBC75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EC5-D52A-49BE-BA2F-B1CBC41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D0B22-EDDD-4298-8AA9-E3D7C587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2EAA8-727C-4DA6-A732-E892550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5C798-6023-4B8E-9A45-4BADE3D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9547-246D-4100-BA9F-EFDB607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F0C7-3AF8-4A33-A428-447B237E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DF9AB-A554-4543-91F0-BC501A7B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80A7-6ED1-451F-B975-DEFE487F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F956-ADAB-4A1E-A914-A78B7AEE61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81CC-8571-4074-BD3A-5CA58ABEFE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0A2-6B6C-49A5-9990-C1C2D7C3C3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0F8-C3DF-447C-992A-5004CE437E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5353-B834-492D-9EA5-046F645FD6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00A1-491F-45A0-B414-7A141C2B52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27B5-C9AA-4CDC-9983-7D4B249F80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559-4136-4D20-BADE-F70DF545BF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8;&#1080;&#1090;&#1072;&#1085;&#1089;&#1082;&#1072;&#1103;_&#1072;&#1089;&#1089;&#1086;&#1094;&#1080;&#1072;&#1094;&#1080;&#1103;_&#1087;&#1088;&#1086;&#1076;&#1072;&#1074;&#1094;&#1086;&#1074;_&#1080;&#1075;&#1088;&#1091;&#1096;&#1077;&#1082;&amp;action=edit&amp;redlink=1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724280" y="30477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боту выполни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еник 3В класс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ОУ СОШ №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легов Анто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1295280" y="304920"/>
            <a:ext cx="6943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Я конструирую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ЛЕГ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Admin\Рабочий стол\антон\Основное соотношение высот кирпичиков Lego.jpg"/>
          <p:cNvPicPr/>
          <p:nvPr/>
        </p:nvPicPr>
        <p:blipFill>
          <a:blip r:embed="rId2"/>
          <a:stretch/>
        </p:blipFill>
        <p:spPr>
          <a:xfrm>
            <a:off x="914400" y="1992240"/>
            <a:ext cx="7315200" cy="35035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4"/>
          <p:cNvSpPr/>
          <p:nvPr/>
        </p:nvSpPr>
        <p:spPr>
          <a:xfrm>
            <a:off x="3809880" y="13716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новное соотношение высот кирпичиков Л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378000" y="-55440"/>
            <a:ext cx="8272440" cy="1914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Admin\Рабочий стол\антон\Башня LEGO, выстроенная на Манежной площади в Москве в июне 2002 года.JPG"/>
          <p:cNvPicPr/>
          <p:nvPr/>
        </p:nvPicPr>
        <p:blipFill>
          <a:blip r:embed="rId2"/>
          <a:stretch/>
        </p:blipFill>
        <p:spPr>
          <a:xfrm>
            <a:off x="1219320" y="1752480"/>
            <a:ext cx="690876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Documents and Settings\Admin\Рабочий стол\антон\DSCN3659.jpg"/>
          <p:cNvPicPr/>
          <p:nvPr/>
        </p:nvPicPr>
        <p:blipFill>
          <a:blip r:embed="rId2"/>
          <a:stretch/>
        </p:blipFill>
        <p:spPr>
          <a:xfrm>
            <a:off x="304920" y="1216080"/>
            <a:ext cx="845820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Admin\Рабочий стол\антон\Общественный транспорт...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Documents and Settings\Admin\Рабочий стол\антон\Зеленый Гонщик.jpg"/>
          <p:cNvPicPr/>
          <p:nvPr/>
        </p:nvPicPr>
        <p:blipFill>
          <a:blip r:embed="rId2"/>
          <a:stretch/>
        </p:blipFill>
        <p:spPr>
          <a:xfrm>
            <a:off x="0" y="152100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2189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Самый первый конструктор ЛЕГО был деревянны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Детали ЛЕГО можно собирать разными способа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Из них можно выстраивать множество моделей не похожих друг на друг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ЛЕГО многофункциональный конструктор, в него могут играть дети любого возраст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Конструирование ЛЕГО развивает мышление, внимание, терпени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Исследования помогли мне создать новые хорошие модели в своей коллекци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40384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1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Я поставил перед собой цель:</a:t>
            </a:r>
            <a:r>
              <a:rPr b="0" lang="en-US" sz="33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1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Monotype Corsiva"/>
              </a:rPr>
              <a:t>Узнать о происхождении, о конструировании и разновидностях ЛЕГО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10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530280" y="573120"/>
            <a:ext cx="872316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аитии и изучить информацию о истории происхождения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Изучить литературу о конструировани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Проанализировать разновидности и производство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Экспериментировать с новыми видами конструктора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Documents and Settings\Admin\Рабочий стол\антон\Кирпичики Lego.jpg"/>
          <p:cNvPicPr/>
          <p:nvPr/>
        </p:nvPicPr>
        <p:blipFill>
          <a:blip r:embed="rId2"/>
          <a:stretch/>
        </p:blipFill>
        <p:spPr>
          <a:xfrm>
            <a:off x="1193760" y="1481040"/>
            <a:ext cx="6756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Девиз компании</a:t>
            </a:r>
            <a:r>
              <a:rPr b="0" lang="ru-RU" sz="23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Только лучшее является достойным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Год основания компании</a:t>
            </a:r>
            <a:r>
              <a:rPr b="0" lang="ru-RU" sz="23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1932г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Расположение компании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Дания, город Биллунд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Ключевые фигуры в компании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Генеральный директор - Йорген Виг Кнадсторп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Отрасль: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гровая индустрия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Продукция: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гровые конструкторы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рибыль от производства LEGO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$11,661 млрд. датских крон (2011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Число сотрудников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7 058 (2011 год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Сайт: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lego.co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C:\Documents and Settings\Admin\Рабочий стол\антон\LEGO логотип.png"/>
          <p:cNvPicPr/>
          <p:nvPr/>
        </p:nvPicPr>
        <p:blipFill>
          <a:blip r:embed="rId1"/>
          <a:stretch/>
        </p:blipFill>
        <p:spPr>
          <a:xfrm>
            <a:off x="2362320" y="1600200"/>
            <a:ext cx="4487760" cy="4487760"/>
          </a:xfrm>
          <a:prstGeom prst="rect">
            <a:avLst/>
          </a:prstGeom>
          <a:ln w="0">
            <a:noFill/>
          </a:ln>
        </p:spPr>
      </p:pic>
      <p:pic>
        <p:nvPicPr>
          <p:cNvPr id="380" name="Заголовок 4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1114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Компания была основана в 1932 год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Датская частная компания, занимающаяся производством одноимённых серий развивающих игрушек, представляющих собой наборы деталей для сборки и моделирования разнообразных предметов — конструктор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Основой наборов является кирпичик LEGO — деталь, представляющая собой полый пластмассовый блок, соединяющийся с другими такими же кирпичиками на шипа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32 — основание компа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49 — появление пластмассовых защёлкивающихся куби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54 — в Дании официально зарегистрирована торговая марка Leg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61 — впервые автомобили теперь также собираются из кубиков — ранее к наборам прилагались обычные масштабные модели — а из кубиков можно было строить только зд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63 — впервые к наборам прилагается инструкция по сборк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73 — логотип компании меняется на современный  — белая надпись в красном квадрат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000 —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Британская ассоциация продавцов игрушек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назвала кирпичик Lego самой значимой игрушкой XX ве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011 — компания LEGO заняла пятое место по результатам опроса 48 тыс. людей из 15 важнейших мировых регионов по доверию к компа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2"/>
          <a:stretch/>
        </p:blipFill>
        <p:spPr>
          <a:xfrm>
            <a:off x="407880" y="-92160"/>
            <a:ext cx="8444160" cy="147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Admin\Рабочий стол\антон\Цех по производству кубиков LEGO.jpg"/>
          <p:cNvPicPr/>
          <p:nvPr/>
        </p:nvPicPr>
        <p:blipFill>
          <a:blip r:embed="rId2"/>
          <a:stretch/>
        </p:blipFill>
        <p:spPr>
          <a:xfrm>
            <a:off x="0" y="134784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2-06-19T15:30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