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5FC-38A7-4DE8-967F-004C93E5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C92-0428-4BD6-BED4-27864E73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E07-9917-4A27-8ACB-D5AFE448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7B5-B104-4475-83BE-926CD812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20B-BA2C-4BA6-833B-312F0DFD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C07-18A2-447A-ABD8-EA3C38BD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D47A-3FD8-40F2-8FC9-E0DEA167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7C1B-EEEB-411D-AA8E-781C8E64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95E-9DEC-4ADC-8D6E-BE13D642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1021-FBAC-48CD-A550-C8A4E0C4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0C3-B957-4A71-AF27-ADB706C3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3D4-E32B-4CB7-A6B9-04BF7C5F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F9BC-8C43-48B0-A82B-B76CC1DF2A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НЕ СТЫДНО НЕ ЗНАТЬ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ЫДНО НЕ УЧИТЬСЯ!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пословиц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477120" y="4114800"/>
            <a:ext cx="19810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Односоставные предложения. Обобщение»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(по произведениям русских писателей и поэтов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юблю грозу 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ни поздней осени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ёпот. Робкое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у. Тихо…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15238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2743200" y="3809880"/>
            <a:ext cx="152388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4495680" y="3733920"/>
            <a:ext cx="1676520" cy="22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tretch/>
        </p:blipFill>
        <p:spPr>
          <a:xfrm>
            <a:off x="6324480" y="3733920"/>
            <a:ext cx="16002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1143000"/>
          <a:ext cx="8229600" cy="388620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ЁН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9f0fb"/>
                      </a:solidFill>
                    </a:lnL>
                    <a:lnR w="5760">
                      <a:solidFill>
                        <a:srgbClr val="d9f0fb"/>
                      </a:solidFill>
                    </a:lnR>
                    <a:lnT w="5760">
                      <a:solidFill>
                        <a:srgbClr val="d9f0fb"/>
                      </a:solidFill>
                    </a:lnT>
                    <a:lnB w="18720">
                      <a:solidFill>
                        <a:srgbClr val="d9f0f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на обломках самовластья напишут наши име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9f0fb"/>
                      </a:solidFill>
                    </a:lnL>
                    <a:lnR w="5760">
                      <a:solidFill>
                        <a:srgbClr val="d9f0fb"/>
                      </a:solidFill>
                    </a:lnR>
                    <a:lnT w="5760">
                      <a:solidFill>
                        <a:srgbClr val="d9f0fb"/>
                      </a:solidFill>
                    </a:lnT>
                    <a:lnB w="18720">
                      <a:solidFill>
                        <a:srgbClr val="d9f0f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ПРЕДЕЛЁН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9f0fb"/>
                      </a:solidFill>
                    </a:lnL>
                    <a:lnR w="5760">
                      <a:solidFill>
                        <a:srgbClr val="d9f0fb"/>
                      </a:solidFill>
                    </a:lnR>
                    <a:lnT w="18720">
                      <a:solidFill>
                        <a:srgbClr val="d9f0fb"/>
                      </a:solidFill>
                    </a:lnT>
                    <a:lnB w="5760">
                      <a:solidFill>
                        <a:srgbClr val="d9f0f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лесу одному и шумно, и жутко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грустно, и весело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ничего не пойм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9f0fb"/>
                      </a:solidFill>
                    </a:lnL>
                    <a:lnR w="5760">
                      <a:solidFill>
                        <a:srgbClr val="d9f0fb"/>
                      </a:solidFill>
                    </a:lnR>
                    <a:lnT w="18720">
                      <a:solidFill>
                        <a:srgbClr val="d9f0fb"/>
                      </a:solidFill>
                    </a:lnT>
                    <a:lnB w="5760">
                      <a:solidFill>
                        <a:srgbClr val="d9f0f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ЛИ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9f0fb"/>
                      </a:solidFill>
                    </a:lnL>
                    <a:lnR w="5760">
                      <a:solidFill>
                        <a:srgbClr val="d9f0fb"/>
                      </a:solidFill>
                    </a:lnR>
                    <a:lnT w="5760">
                      <a:solidFill>
                        <a:srgbClr val="d9f0fb"/>
                      </a:solidFill>
                    </a:lnT>
                    <a:lnB w="5760">
                      <a:solidFill>
                        <a:srgbClr val="d9f0f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ёпот. Робкое дыхань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ли соловь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9f0fb"/>
                      </a:solidFill>
                    </a:lnL>
                    <a:lnR w="5760">
                      <a:solidFill>
                        <a:srgbClr val="d9f0fb"/>
                      </a:solidFill>
                    </a:lnR>
                    <a:lnT w="5760">
                      <a:solidFill>
                        <a:srgbClr val="d9f0fb"/>
                      </a:solidFill>
                    </a:lnT>
                    <a:lnB w="5760">
                      <a:solidFill>
                        <a:srgbClr val="d9f0f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ЫВ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9f0fb"/>
                      </a:solidFill>
                    </a:lnL>
                    <a:lnR w="5760">
                      <a:solidFill>
                        <a:srgbClr val="d9f0fb"/>
                      </a:solidFill>
                    </a:lnR>
                    <a:lnT w="5760">
                      <a:solidFill>
                        <a:srgbClr val="d9f0fb"/>
                      </a:solidFill>
                    </a:lnT>
                    <a:lnB w="5760">
                      <a:solidFill>
                        <a:srgbClr val="d9f0f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й друг, Отчизне посвят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ши прекрасные порывы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9f0fb"/>
                      </a:solidFill>
                    </a:lnL>
                    <a:lnR w="5760">
                      <a:solidFill>
                        <a:srgbClr val="d9f0fb"/>
                      </a:solidFill>
                    </a:lnR>
                    <a:lnT w="5760">
                      <a:solidFill>
                        <a:srgbClr val="d9f0fb"/>
                      </a:solidFill>
                    </a:lnT>
                    <a:lnB w="5760">
                      <a:solidFill>
                        <a:srgbClr val="d9f0f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оз и солнце; день чудесны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ё ты дремлешь, друг прелестный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а, красавица, просни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ой сомкнуты негой вз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встречу северной Авр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ездою севера яв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chaik_VremenaGoda_Pletnev_03.mp3" descr=""/>
          <p:cNvPicPr/>
          <p:nvPr/>
        </p:nvPicPr>
        <p:blipFill>
          <a:blip r:embed="rId1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4267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7318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га – блаженство, приятное состоя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верная Аврора – богиня утренней зари 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евних римля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638680" y="3429000"/>
            <a:ext cx="2667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61084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Во глубине сибирских 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аните гордое терп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Пока свободою гор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Мой друг, Отчизне посвя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ши прекрасные порыв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Зи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ро. Я ещё в полусне. Вдруг в дверь постучались. В руках держат удочки, сачки и корзины.  Завтракаем легко, и в пу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зкая тропинка, цветы вокруг, птицы! Знаю: день проведём отлич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этому весел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019920" y="4800600"/>
            <a:ext cx="185724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5943600" y="1066680"/>
            <a:ext cx="17524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ЧИНЕНИЕ- МИНИАТЮ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257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исать 10  односоставных предложений из произведений русских писателей и поэ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 их ти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1-02-24T12:40:5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