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B3A-2566-4BFF-B99F-1AEE7716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1A52-03B9-4181-9466-B9774207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663-5538-425D-A8F1-9491D686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F33-FF57-46F9-98CF-3C4BBA0E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989-5850-4F06-8DF5-55711BBB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1C77-754C-4329-82E8-539B94A0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90A7-D102-41DE-BEB8-C41CE740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0962-650B-43C7-AE19-CD329C68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AA8-029F-48F7-8147-4A767D23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400-7574-4B04-9988-E26D1317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23DB-C163-48C1-90DC-A7A15321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3CA-1C41-4FFF-85B6-6D4DB999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0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C339-8DF7-4DA9-8BBB-2D768397F3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НЕ СТЫДНО НЕ ЗНАТЬ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ЫДНО НЕ УЧИТЬСЯ!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пословиц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6477120" y="4114800"/>
            <a:ext cx="19810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Односоставные предложения. Обобщение»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(по произведениям русских писателей и поэтов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юблю грозу 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ни поздней осени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ёпот. Робкое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ду. Тихо……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152388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2743200" y="3809880"/>
            <a:ext cx="1523880" cy="2133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4495680" y="3733920"/>
            <a:ext cx="1676520" cy="220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tretch/>
        </p:blipFill>
        <p:spPr>
          <a:xfrm>
            <a:off x="6324480" y="3733920"/>
            <a:ext cx="16002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80880" y="1143000"/>
          <a:ext cx="8229600" cy="388620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ЁН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9f0fb"/>
                      </a:solidFill>
                    </a:lnL>
                    <a:lnR w="5760">
                      <a:solidFill>
                        <a:srgbClr val="d9f0fb"/>
                      </a:solidFill>
                    </a:lnR>
                    <a:lnT w="5760">
                      <a:solidFill>
                        <a:srgbClr val="d9f0fb"/>
                      </a:solidFill>
                    </a:lnT>
                    <a:lnB w="18720">
                      <a:solidFill>
                        <a:srgbClr val="d9f0f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на обломках самовластья напишут наши име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9f0fb"/>
                      </a:solidFill>
                    </a:lnL>
                    <a:lnR w="5760">
                      <a:solidFill>
                        <a:srgbClr val="d9f0fb"/>
                      </a:solidFill>
                    </a:lnR>
                    <a:lnT w="5760">
                      <a:solidFill>
                        <a:srgbClr val="d9f0fb"/>
                      </a:solidFill>
                    </a:lnT>
                    <a:lnB w="18720">
                      <a:solidFill>
                        <a:srgbClr val="d9f0f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ПРЕДЕЛЁНН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9f0fb"/>
                      </a:solidFill>
                    </a:lnL>
                    <a:lnR w="5760">
                      <a:solidFill>
                        <a:srgbClr val="d9f0fb"/>
                      </a:solidFill>
                    </a:lnR>
                    <a:lnT w="18720">
                      <a:solidFill>
                        <a:srgbClr val="d9f0fb"/>
                      </a:solidFill>
                    </a:lnT>
                    <a:lnB w="5760">
                      <a:solidFill>
                        <a:srgbClr val="d9f0f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лесу одному и шумно, и жутко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грустно, и весело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ничего не пойм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9f0fb"/>
                      </a:solidFill>
                    </a:lnL>
                    <a:lnR w="5760">
                      <a:solidFill>
                        <a:srgbClr val="d9f0fb"/>
                      </a:solidFill>
                    </a:lnR>
                    <a:lnT w="18720">
                      <a:solidFill>
                        <a:srgbClr val="d9f0fb"/>
                      </a:solidFill>
                    </a:lnT>
                    <a:lnB w="5760">
                      <a:solidFill>
                        <a:srgbClr val="d9f0f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ЛИ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9f0fb"/>
                      </a:solidFill>
                    </a:lnL>
                    <a:lnR w="5760">
                      <a:solidFill>
                        <a:srgbClr val="d9f0fb"/>
                      </a:solidFill>
                    </a:lnR>
                    <a:lnT w="5760">
                      <a:solidFill>
                        <a:srgbClr val="d9f0fb"/>
                      </a:solidFill>
                    </a:lnT>
                    <a:lnB w="5760">
                      <a:solidFill>
                        <a:srgbClr val="d9f0f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ёпот. Робкое дыхань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ли соловь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9f0fb"/>
                      </a:solidFill>
                    </a:lnL>
                    <a:lnR w="5760">
                      <a:solidFill>
                        <a:srgbClr val="d9f0fb"/>
                      </a:solidFill>
                    </a:lnR>
                    <a:lnT w="5760">
                      <a:solidFill>
                        <a:srgbClr val="d9f0fb"/>
                      </a:solidFill>
                    </a:lnT>
                    <a:lnB w="5760">
                      <a:solidFill>
                        <a:srgbClr val="d9f0f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ЫВ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9f0fb"/>
                      </a:solidFill>
                    </a:lnL>
                    <a:lnR w="5760">
                      <a:solidFill>
                        <a:srgbClr val="d9f0fb"/>
                      </a:solidFill>
                    </a:lnR>
                    <a:lnT w="5760">
                      <a:solidFill>
                        <a:srgbClr val="d9f0fb"/>
                      </a:solidFill>
                    </a:lnT>
                    <a:lnB w="5760">
                      <a:solidFill>
                        <a:srgbClr val="d9f0f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й друг, Отчизне посвят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ши прекрасные порывы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9f0fb"/>
                      </a:solidFill>
                    </a:lnL>
                    <a:lnR w="5760">
                      <a:solidFill>
                        <a:srgbClr val="d9f0fb"/>
                      </a:solidFill>
                    </a:lnR>
                    <a:lnT w="5760">
                      <a:solidFill>
                        <a:srgbClr val="d9f0fb"/>
                      </a:solidFill>
                    </a:lnT>
                    <a:lnB w="5760">
                      <a:solidFill>
                        <a:srgbClr val="d9f0f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оз и солнце; день чудесны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щё ты дремлешь, друг прелестный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а, красавица, просни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ой сомкнуты негой вз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встречу северной Авро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ездою севера яв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chaik_VremenaGoda_Pletnev_03.mp3" descr=""/>
          <p:cNvPicPr/>
          <p:nvPr/>
        </p:nvPicPr>
        <p:blipFill>
          <a:blip r:embed="rId1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1676520" y="3505320"/>
            <a:ext cx="4267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7318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арн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га – блаженство, приятное состоя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верная Аврора – богиня утренней зари 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евних римля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638680" y="3429000"/>
            <a:ext cx="2667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861084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Во глубине сибирских 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аните гордое терп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Пока свободою гор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Мой друг, Отчизне посвят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ши прекрасные порыв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Зи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ро. Я ещё в полусне. Вдруг в дверь постучались. В руках держат удочки, сачки и корзины.  Завтракаем легко, и в пу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зкая тропинка, цветы вокруг, птицы! Знаю: день проведём отлич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этому весел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019920" y="4800600"/>
            <a:ext cx="185724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5943600" y="1066680"/>
            <a:ext cx="17524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ЧИНЕНИЕ- МИНИАТЮ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257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7631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исать 10  односоставных предложений из произведений русских писателей и поэт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ить их ти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1-02-24T12:40:5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