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407-40B1-455E-A182-194AFC83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C3E-9C3F-4382-B801-64FAEC48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A74-E6CD-4FA0-B872-E5C5BD52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9FB-2F26-4FAC-B28A-0528D349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D653-6749-48F4-B553-172BAE57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50CC-768F-417B-BEFF-882AE56E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3010-C464-4E88-9005-893AB55C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BADE-CE3D-47D2-9769-37E1AB75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AD8D-8F66-49E4-B2BD-A1CBCD2E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1E2C-6350-4BB9-8FD7-6541BC0F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15D1-A5E2-40E1-BA99-095AF59C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E4E-CD52-4D43-9F6B-6079082D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8E56-C88C-4525-A486-D35F51A5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39DC-AD4C-4D98-AEF6-3E487BAC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3595-E076-4903-AEAE-8F5C218F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A7C2-30E6-4C81-9DDE-F050F0B8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2C00-8975-40E1-A040-35744334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C51-E6E3-40B0-ACBB-FD731E7F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9C3-B0DD-4B60-857B-D0A43217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956-84DA-4140-B429-6D19A696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D27-9C0B-4916-93A9-24797070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8CF-2BDB-4DBB-8E84-CB3EE6DA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FCA-C9FB-4152-8187-8402AC4E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DBF-1588-4DE8-88DE-6FEFE0E3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7CEA-AB60-43A2-8B9E-2299503DF4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9C45-B197-4D88-B3E6-E4F59E99F9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 rot="20833200">
            <a:off x="1218960" y="2057400"/>
            <a:ext cx="6870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09480" y="54864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cc"/>
                </a:solidFill>
                <a:latin typeface="Comic Sans MS"/>
              </a:rPr>
              <a:t>Выполнил учени</a:t>
            </a:r>
            <a:r>
              <a:rPr b="1" lang="ru-RU" sz="2000" spc="-1" strike="noStrike">
                <a:solidFill>
                  <a:srgbClr val="6666cc"/>
                </a:solidFill>
                <a:latin typeface="Arial"/>
              </a:rPr>
              <a:t>ца</a:t>
            </a:r>
            <a:r>
              <a:rPr b="1" lang="ru-RU" sz="2000" spc="-1" strike="noStrike">
                <a:solidFill>
                  <a:srgbClr val="6666cc"/>
                </a:solidFill>
                <a:latin typeface="Comic Sans MS"/>
              </a:rPr>
              <a:t> 4 «а» класса Лицея № 15 </a:t>
            </a:r>
            <a:br>
              <a:rPr sz="2000"/>
            </a:br>
            <a:r>
              <a:rPr b="1" lang="ru-RU" sz="2000" spc="-1" strike="noStrike">
                <a:solidFill>
                  <a:srgbClr val="6666cc"/>
                </a:solidFill>
                <a:latin typeface="Arial"/>
              </a:rPr>
              <a:t>Рудниченко</a:t>
            </a:r>
            <a:r>
              <a:rPr b="1" lang="ru-RU" sz="2000" spc="-1" strike="noStrike">
                <a:solidFill>
                  <a:srgbClr val="6666cc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6666cc"/>
                </a:solidFill>
                <a:latin typeface="Arial"/>
              </a:rPr>
              <a:t>Ири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cc"/>
                </a:solidFill>
                <a:latin typeface="Comic Sans MS"/>
              </a:rPr>
              <a:t>Руководитель: Васильева Людмила Никола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23880" y="2362320"/>
            <a:ext cx="6324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 и транспорт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142640" y="5181480"/>
            <a:ext cx="748044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ходите в автобус, троллейбус, трамвай спокойно, через заднюю двер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P1010966"/>
          <p:cNvPicPr/>
          <p:nvPr/>
        </p:nvPicPr>
        <p:blipFill>
          <a:blip r:embed="rId1"/>
          <a:srcRect l="29353" t="0" r="0" b="0"/>
          <a:stretch/>
        </p:blipFill>
        <p:spPr>
          <a:xfrm>
            <a:off x="2666880" y="1752480"/>
            <a:ext cx="4114800" cy="307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914400" y="51055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Выходите из автобуса, троллейбуса, трамвая через переднюю дверь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Picture 7" descr="P1010965"/>
          <p:cNvPicPr/>
          <p:nvPr/>
        </p:nvPicPr>
        <p:blipFill>
          <a:blip r:embed="rId1"/>
          <a:srcRect l="22011" t="0" r="0" b="7830"/>
          <a:stretch/>
        </p:blipFill>
        <p:spPr>
          <a:xfrm>
            <a:off x="4419720" y="1515960"/>
            <a:ext cx="4049640" cy="3589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P1010970"/>
          <p:cNvPicPr/>
          <p:nvPr/>
        </p:nvPicPr>
        <p:blipFill>
          <a:blip r:embed="rId2"/>
          <a:srcRect l="4404" t="0" r="19293" b="7830"/>
          <a:stretch/>
        </p:blipFill>
        <p:spPr>
          <a:xfrm>
            <a:off x="304920" y="830160"/>
            <a:ext cx="396216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250"/>
                            </p:stCondLst>
                            <p:childTnLst>
                              <p:par>
                                <p:cTn id="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250"/>
                            </p:stCondLst>
                            <p:childTnLst>
                              <p:par>
                                <p:cTn id="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320" y="4648320"/>
            <a:ext cx="769644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ходите и выходите из автобуса, троллейбуса, трамвая только на останов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1020001"/>
          <p:cNvPicPr/>
          <p:nvPr/>
        </p:nvPicPr>
        <p:blipFill>
          <a:blip r:embed="rId1"/>
          <a:stretch/>
        </p:blipFill>
        <p:spPr>
          <a:xfrm>
            <a:off x="2514600" y="1523880"/>
            <a:ext cx="44197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65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66320" y="46483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йте автобус, троллейбус, трамвай на посадочной площад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1020009"/>
          <p:cNvPicPr/>
          <p:nvPr/>
        </p:nvPicPr>
        <p:blipFill>
          <a:blip r:embed="rId1"/>
          <a:srcRect l="14262" t="0" r="27106" b="13379"/>
          <a:stretch/>
        </p:blipFill>
        <p:spPr>
          <a:xfrm>
            <a:off x="4800600" y="1447920"/>
            <a:ext cx="3274920" cy="3095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1020005"/>
          <p:cNvPicPr/>
          <p:nvPr/>
        </p:nvPicPr>
        <p:blipFill>
          <a:blip r:embed="rId2"/>
          <a:srcRect l="25359" t="0" r="19179" b="13379"/>
          <a:stretch/>
        </p:blipFill>
        <p:spPr>
          <a:xfrm>
            <a:off x="1219320" y="1523880"/>
            <a:ext cx="309852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15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15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cc"/>
                </a:solidFill>
                <a:latin typeface="Arial"/>
              </a:rPr>
              <a:t>Ребят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cc"/>
                </a:solidFill>
                <a:latin typeface="Arial"/>
              </a:rPr>
              <a:t>Соблюдайте правила дорожного движе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Юля</cp:lastModifiedBy>
  <dcterms:modified xsi:type="dcterms:W3CDTF">2012-06-19T16:50:1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