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C1E2-CD13-471B-A667-5E4DCFA2B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9735-F807-42E0-A250-B2A2FBCFA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A84D-3E97-4C7D-85B4-FA1DC038B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D8F6-29E3-4443-954D-CDF6556B5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66BCD-7DCD-4CBF-8DA7-1C0580152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F50B9-F232-4D3E-81CA-5E83CFDD5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80EAB-F269-4CA2-A3FD-FDC57482B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E92B6-4180-4640-9861-F3753136A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9E386-9395-4E50-BF08-82552202F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8286B-6691-4793-89CE-1B68879FF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7DF1D-BBD5-461B-BB52-3D18E8BA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5729-E18A-4DC6-901B-8B9CE640D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ABDF8-5F83-4C23-A073-46440336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AB381-A2AD-49A8-8087-6F960D436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F4B68-F993-41D7-BFAE-01D53A09F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E4D57-DA38-4413-A3E8-0437EAA9E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6DA8E-8D58-4564-8BEA-B82A4A88E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3AE5-7E30-4928-8AA7-BCC2E1DB8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C428-2BF8-471F-A33C-E6C52A676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2447-7195-432D-8A04-702654F03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CF88-8C3E-4DB0-9345-19CE7F789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CD0C-707E-4141-895E-91FF4020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FD55-7E2E-4846-8167-42BC347E8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AB2A-7E41-4302-A630-BBCF2021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2C5B2-05F7-4AA6-B944-3179B71255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AD2E4-E6D7-4843-9251-90EFAFD6A9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 rot="20833200">
            <a:off x="1218960" y="2057400"/>
            <a:ext cx="68706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609480" y="5486400"/>
            <a:ext cx="8382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66cc"/>
                </a:solidFill>
                <a:latin typeface="Comic Sans MS"/>
              </a:rPr>
              <a:t>Выполнил учени</a:t>
            </a:r>
            <a:r>
              <a:rPr b="1" lang="ru-RU" sz="2000" spc="-1" strike="noStrike">
                <a:solidFill>
                  <a:srgbClr val="6666cc"/>
                </a:solidFill>
                <a:latin typeface="Arial"/>
              </a:rPr>
              <a:t>ца</a:t>
            </a:r>
            <a:r>
              <a:rPr b="1" lang="ru-RU" sz="2000" spc="-1" strike="noStrike">
                <a:solidFill>
                  <a:srgbClr val="6666cc"/>
                </a:solidFill>
                <a:latin typeface="Comic Sans MS"/>
              </a:rPr>
              <a:t> 4 «а» класса Лицея № 15 </a:t>
            </a:r>
            <a:br>
              <a:rPr sz="2000"/>
            </a:br>
            <a:r>
              <a:rPr b="1" lang="ru-RU" sz="2000" spc="-1" strike="noStrike">
                <a:solidFill>
                  <a:srgbClr val="6666cc"/>
                </a:solidFill>
                <a:latin typeface="Arial"/>
              </a:rPr>
              <a:t>Рудниченко</a:t>
            </a:r>
            <a:r>
              <a:rPr b="1" lang="ru-RU" sz="2000" spc="-1" strike="noStrike">
                <a:solidFill>
                  <a:srgbClr val="6666cc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6666cc"/>
                </a:solidFill>
                <a:latin typeface="Arial"/>
              </a:rPr>
              <a:t>Ирин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66cc"/>
                </a:solidFill>
                <a:latin typeface="Comic Sans MS"/>
              </a:rPr>
              <a:t>Руководитель: Васильева Людмила Николаевн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523880" y="2362320"/>
            <a:ext cx="63248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ы и транспорт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142640" y="5181480"/>
            <a:ext cx="7480440" cy="9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ходите в автобус, троллейбус, трамвай спокойно, через заднюю двер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P1010966"/>
          <p:cNvPicPr/>
          <p:nvPr/>
        </p:nvPicPr>
        <p:blipFill>
          <a:blip r:embed="rId1"/>
          <a:srcRect l="29353" t="0" r="0" b="0"/>
          <a:stretch/>
        </p:blipFill>
        <p:spPr>
          <a:xfrm>
            <a:off x="2666880" y="1752480"/>
            <a:ext cx="4114800" cy="307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914400" y="5105520"/>
            <a:ext cx="79246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Выходите из автобуса, троллейбуса, трамвая через переднюю дверь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6" name="Picture 7" descr="P1010965"/>
          <p:cNvPicPr/>
          <p:nvPr/>
        </p:nvPicPr>
        <p:blipFill>
          <a:blip r:embed="rId1"/>
          <a:srcRect l="22011" t="0" r="0" b="7830"/>
          <a:stretch/>
        </p:blipFill>
        <p:spPr>
          <a:xfrm>
            <a:off x="4419720" y="1515960"/>
            <a:ext cx="4049640" cy="35895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P1010970"/>
          <p:cNvPicPr/>
          <p:nvPr/>
        </p:nvPicPr>
        <p:blipFill>
          <a:blip r:embed="rId2"/>
          <a:srcRect l="4404" t="0" r="19293" b="7830"/>
          <a:stretch/>
        </p:blipFill>
        <p:spPr>
          <a:xfrm>
            <a:off x="304920" y="830160"/>
            <a:ext cx="3962160" cy="35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250"/>
                            </p:stCondLst>
                            <p:childTnLst>
                              <p:par>
                                <p:cTn id="3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250"/>
                            </p:stCondLst>
                            <p:childTnLst>
                              <p:par>
                                <p:cTn id="4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066320" y="4648320"/>
            <a:ext cx="769644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ходите и выходите из автобуса, троллейбуса, трамвая только на останов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P1020001"/>
          <p:cNvPicPr/>
          <p:nvPr/>
        </p:nvPicPr>
        <p:blipFill>
          <a:blip r:embed="rId1"/>
          <a:stretch/>
        </p:blipFill>
        <p:spPr>
          <a:xfrm>
            <a:off x="2514600" y="1523880"/>
            <a:ext cx="441972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650"/>
                            </p:stCondLst>
                            <p:childTnLst>
                              <p:par>
                                <p:cTn id="5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066320" y="4648320"/>
            <a:ext cx="769644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жидайте автобус, троллейбус, трамвай на посадочной площадк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P1020009"/>
          <p:cNvPicPr/>
          <p:nvPr/>
        </p:nvPicPr>
        <p:blipFill>
          <a:blip r:embed="rId1"/>
          <a:srcRect l="14262" t="0" r="27106" b="13379"/>
          <a:stretch/>
        </p:blipFill>
        <p:spPr>
          <a:xfrm>
            <a:off x="4800600" y="1447920"/>
            <a:ext cx="3274920" cy="3095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P1020005"/>
          <p:cNvPicPr/>
          <p:nvPr/>
        </p:nvPicPr>
        <p:blipFill>
          <a:blip r:embed="rId2"/>
          <a:srcRect l="25359" t="0" r="19179" b="13379"/>
          <a:stretch/>
        </p:blipFill>
        <p:spPr>
          <a:xfrm>
            <a:off x="1219320" y="1523880"/>
            <a:ext cx="309852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150"/>
                            </p:stCondLst>
                            <p:childTnLst>
                              <p:par>
                                <p:cTn id="7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4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4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150"/>
                            </p:stCondLst>
                            <p:childTnLst>
                              <p:par>
                                <p:cTn id="7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cc"/>
                </a:solidFill>
                <a:latin typeface="Arial"/>
              </a:rPr>
              <a:t>Ребят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cc"/>
                </a:solidFill>
                <a:latin typeface="Arial"/>
              </a:rPr>
              <a:t>Соблюдайте правила дорожного движени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4000"/>
                            </p:stCondLst>
                            <p:childTnLst>
                              <p:par>
                                <p:cTn id="9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Юля</cp:lastModifiedBy>
  <dcterms:modified xsi:type="dcterms:W3CDTF">2012-06-19T16:50:15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