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2307-7EB2-43F6-A1C2-16213352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C10-2991-437C-B729-3E6B4FA3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E6E-459D-4E88-83A0-1551F7ED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3F2-C482-4E38-82E6-9A935119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616-8594-40D5-B089-EFAAE5C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913-1251-4829-92B0-61971E43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990-C960-45EE-AD60-1BA4DDEE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21D-9BD3-4192-97C8-A6E5C9A6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CAC-C2A2-430B-AECD-F6EF5319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6F63-332C-4BC3-BEC7-D4CC035C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9E7-DE5E-4F8E-BFA8-A2451475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E2D-852A-45D0-B464-3FCD5FA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CCD1-5FEF-4F0E-BD97-555B4F9E6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03280" y="907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Italic"/>
              </a:rPr>
              <a:t>Екатерининский д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H08653"/>
          <p:cNvPicPr/>
          <p:nvPr/>
        </p:nvPicPr>
        <p:blipFill>
          <a:blip r:embed="rId1"/>
          <a:stretch/>
        </p:blipFill>
        <p:spPr>
          <a:xfrm>
            <a:off x="1403280" y="1916280"/>
            <a:ext cx="634356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79280" y="2421000"/>
            <a:ext cx="270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мае 1945 года панели Янтарной комнаты бесследно исчезли. Ее поиски пока не дали результатов. В июле 1979 года принято решение о воссоздании янтарных панно . Янтарная комната была открыта для посетителей в 1980 го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Selo0010"/>
          <p:cNvPicPr/>
          <p:nvPr/>
        </p:nvPicPr>
        <p:blipFill>
          <a:blip r:embed="rId1"/>
          <a:stretch/>
        </p:blipFill>
        <p:spPr>
          <a:xfrm>
            <a:off x="2886120" y="2349360"/>
            <a:ext cx="6006960" cy="432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468360" y="40464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чти два столетия Янтарная комната просуществовала в Екатерининском дворце. Благодаря постоянным мелким починкам и периодическим реставрациям комната поддерживалась в первоздан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вестно, что в октябре 1941 года Янтарную комнату вместе с другими произведениями искусства гитлеровцы вывезли в Кёнигсбе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944440" y="192240"/>
            <a:ext cx="42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 а р т и н н ы й   з а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S10"/>
          <p:cNvPicPr/>
          <p:nvPr/>
        </p:nvPicPr>
        <p:blipFill>
          <a:blip r:embed="rId1"/>
          <a:stretch/>
        </p:blipFill>
        <p:spPr>
          <a:xfrm>
            <a:off x="179280" y="981000"/>
            <a:ext cx="4140360" cy="303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5060"/>
          <p:cNvPicPr/>
          <p:nvPr/>
        </p:nvPicPr>
        <p:blipFill>
          <a:blip r:embed="rId2"/>
          <a:stretch/>
        </p:blipFill>
        <p:spPr>
          <a:xfrm>
            <a:off x="4716360" y="3500280"/>
            <a:ext cx="4211640" cy="3137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4643280" y="1125360"/>
            <a:ext cx="42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ный зал отличается от всех других залов Парадной анфилады своей оригинальной отделкой. Его стены, южную и северную, украшают произведения живописи, размещенные по принципу шпалерной развес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50920" y="4076640"/>
            <a:ext cx="43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коллекции представлены картины французских и итальянских художников — аллегории скульптуры и музыки Ж. Наттье, батальные сцены Ж. Куртуа (Бургиньона), мифологические и библейские сцены Ж. Бланшара, Л. Джорджано и друг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473920" y="47952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Г о л у б а я   г о с т и н а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5148"/>
          <p:cNvPicPr/>
          <p:nvPr/>
        </p:nvPicPr>
        <p:blipFill>
          <a:blip r:embed="rId1"/>
          <a:stretch/>
        </p:blipFill>
        <p:spPr>
          <a:xfrm>
            <a:off x="0" y="2602080"/>
            <a:ext cx="5676840" cy="425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24000" y="107316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дная голубая гостиная - самая большая и нарядная комната среди апартаментов, созданных Ч. Камероном в 1781-1783 годах. Стены были затянуты шелком c голубыми цветами по белому полю. Парные мраморные камины из каррарского мрамора с кариатидами поддерживали углы карниза. В манере античных гротесков бы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724360" y="2421000"/>
            <a:ext cx="315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олнены живописные филенки дверей. В 1855 году согласно проекту А. Штакеншнейдера в центр потолка была вмонтирована картина Машкова "Возвращение Сципиона"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985040" y="263520"/>
            <a:ext cx="56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итайская Голубая гости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5156"/>
          <p:cNvPicPr/>
          <p:nvPr/>
        </p:nvPicPr>
        <p:blipFill>
          <a:blip r:embed="rId1"/>
          <a:stretch/>
        </p:blipFill>
        <p:spPr>
          <a:xfrm>
            <a:off x="2817720" y="2116080"/>
            <a:ext cx="6326280" cy="4741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376200" y="784080"/>
            <a:ext cx="85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 Парадной голубой гостиной можно пройти в Китайскую голубую гостиную, название которой связано с тем, что стены ее в течение полутораста лет были затянуты голубым китайским шелком с написанными цветной тушью пейзажами и жанровыми сцен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3120" y="2008080"/>
            <a:ext cx="254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т интерьер был создан в 1783 году Ч. Камероном. В 1855 году в центр потолка была вмонтирована картина французского художника XVIII века Натуара "Нимфы с дельфинам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117520" y="404640"/>
            <a:ext cx="51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Д в о р ц о в а я   ц е р к о в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photo222"/>
          <p:cNvPicPr/>
          <p:nvPr/>
        </p:nvPicPr>
        <p:blipFill>
          <a:blip r:embed="rId1"/>
          <a:stretch/>
        </p:blipFill>
        <p:spPr>
          <a:xfrm>
            <a:off x="0" y="1268280"/>
            <a:ext cx="4518000" cy="5589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932360" y="1628640"/>
            <a:ext cx="4032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кресенская церковь в Екатерининском дворце была освещена 30 июля 1756 года в присутствии императрицы Елизаветы Петровны. Надпись об этом сохранилась на медной доске, обнаруженной в алтаре при ремонте после пожара 1820 года. Церковь была построена в 1745 - 1748 годах Ф. -Б. Растрелли, при участии А. Квасова и С. Чевакинского. Подобно Парадной анфиладе Екатерининского дворца, церковь была сказочно наряд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TS09"/>
          <p:cNvPicPr/>
          <p:nvPr/>
        </p:nvPicPr>
        <p:blipFill>
          <a:blip r:embed="rId1"/>
          <a:stretch/>
        </p:blipFill>
        <p:spPr>
          <a:xfrm>
            <a:off x="0" y="0"/>
            <a:ext cx="4546440" cy="5516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22920" y="333360"/>
            <a:ext cx="4321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рко выделялись на фоне стен, окрашенных берлинской лазурью, золоченые коринфские колонны, обвитые ажурными резными гирляндами, фигуры ангелов, орнаментальные детали. Коллекция живописи состояла из ста четырнадцати икон в золоченых резных рамах разной формы и росписи плафонов. Несмотря на то, что Дворцовая церковь дважды пострадала от пожара в 1820 и в 1863 году,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54"/>
          <p:cNvPicPr/>
          <p:nvPr/>
        </p:nvPicPr>
        <p:blipFill>
          <a:blip r:embed="rId2"/>
          <a:stretch/>
        </p:blipFill>
        <p:spPr>
          <a:xfrm>
            <a:off x="7112160" y="4064040"/>
            <a:ext cx="2031840" cy="27939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788000" y="3933720"/>
            <a:ext cx="232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ликой Отечественной войны просторный двухсветный зал церкви и х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68360" y="5589720"/>
            <a:ext cx="67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чти полностью сохраняли тот вид, который был создан  Растрелл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388800" y="595440"/>
            <a:ext cx="55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П о с л е д с т в и я   в о й н 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10018"/>
          <p:cNvPicPr/>
          <p:nvPr/>
        </p:nvPicPr>
        <p:blipFill>
          <a:blip r:embed="rId1"/>
          <a:stretch/>
        </p:blipFill>
        <p:spPr>
          <a:xfrm>
            <a:off x="324000" y="2276640"/>
            <a:ext cx="4176720" cy="429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05G"/>
          <p:cNvPicPr/>
          <p:nvPr/>
        </p:nvPicPr>
        <p:blipFill>
          <a:blip r:embed="rId2"/>
          <a:stretch/>
        </p:blipFill>
        <p:spPr>
          <a:xfrm>
            <a:off x="4932360" y="3798720"/>
            <a:ext cx="3954600" cy="305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P08G"/>
          <p:cNvPicPr/>
          <p:nvPr/>
        </p:nvPicPr>
        <p:blipFill>
          <a:blip r:embed="rId3"/>
          <a:stretch/>
        </p:blipFill>
        <p:spPr>
          <a:xfrm>
            <a:off x="6137280" y="0"/>
            <a:ext cx="300672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044800" y="836640"/>
            <a:ext cx="55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С п и с о к   л и т е р а т у р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5640" y="155736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абарь И.Э. Петербургская архитектура в ХVIII и ХIХ веках. – СПб.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ворцы и парки города Пушкина. Альбом. – Л., 198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амятники архитектуры пригородов Ленинграда. [Альбом-монография]. – Л.,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еи и парки Пушкина. 6 изд. – Л.,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414160" y="549360"/>
            <a:ext cx="41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Italic"/>
              </a:rPr>
              <a:t>С о д е р ж а н и 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47640" y="1557360"/>
            <a:ext cx="597708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 с т о р и я   с о з д а н и я   д в о р ц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 а р а д н а я   л е с т н и ц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 о л ь ш о й   з а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 н т а р н а я   к о м н а т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 а р т и н н ы й   з а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 о л у б а я   г о с т и н а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 и т а й с к а я   г о л у б а я   г о с т и н а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 в о р ц о в а я   ц е р к о в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 о с л е д с т в и я   в о й н 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 п и с о к   л и т е р а т у р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26920" y="404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И с т о р и я   с о з д а н и я   д в о р ц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katresh"/>
          <p:cNvPicPr/>
          <p:nvPr/>
        </p:nvPicPr>
        <p:blipFill>
          <a:blip r:embed="rId1"/>
          <a:stretch/>
        </p:blipFill>
        <p:spPr>
          <a:xfrm>
            <a:off x="3749760" y="2565360"/>
            <a:ext cx="5394240" cy="4292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39640" y="1052640"/>
            <a:ext cx="799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оим существованием Екатерининский (Большой) дворец обязан его блистательным хозяйкам, трем императрицам – Екатерин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Елизавете Петровне и Екатерин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Им принадлежал дворец в XVIII веке, и они уделяли его строительству огромное внимание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39640" y="2810880"/>
            <a:ext cx="30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х фантазии и личные вкусы воплощали в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тни талантли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рхитекторов, художников, скульпторов, садо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 имени первой владелицы дворца Екатерины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 получил свое именов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95280" y="549360"/>
            <a:ext cx="835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д созданием царской резиденции, начиная с 1718 года, последовательно работали архитекторы И. Браунштей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. Земцов, А. Квасов, С. Чевакинский, Ч. Камерон, Д. Кварен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. Стасов, И. Монигетти и многие другие. Но ведущая и определяющая роль принадлежала архитектору Ф.Б. Растрел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1752 по 1756 год при императрице Елизавете Петровне он возглавил строительство дворца и довел его до ко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rastrelli_1"/>
          <p:cNvPicPr/>
          <p:nvPr/>
        </p:nvPicPr>
        <p:blipFill>
          <a:blip r:embed="rId1"/>
          <a:stretch/>
        </p:blipFill>
        <p:spPr>
          <a:xfrm>
            <a:off x="468360" y="2781360"/>
            <a:ext cx="2663640" cy="302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132000" y="2709000"/>
            <a:ext cx="56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.Б. Растрелли использовал строения, которые существовали еще с Петровского времени и которые неоднократно перестраивались и надстраивались. Архитектор значительно увеличил размеры дворца и сделал все здание одной высоты – в три этажа со слегка повышенной центральной частью за счет дополнительного полуэтажа. В итоге он объединил все объемы постройки в единое и мощное це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ttach"/>
          <p:cNvPicPr/>
          <p:nvPr/>
        </p:nvPicPr>
        <p:blipFill>
          <a:blip r:embed="rId1"/>
          <a:stretch/>
        </p:blipFill>
        <p:spPr>
          <a:xfrm>
            <a:off x="0" y="2951280"/>
            <a:ext cx="5796000" cy="390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324000" y="3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ромада дворца развернулась на 306 метров в длину, над восточным крылом которого засверкало пять золоченых куполов. На фоне бирюзовых стен четко читаются ряды белых колонн, прихотливые рельефы наличников, словно перетекающих один в другой, и ажурный пояс кованых балконных решеток с золочеными деталями. Особый изыск фасадам придает скульптура, поражающая обилием и разнообразием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целом архитектурный образ Екатерининского дворца характерен для стиля позднего, елизаветинского барок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796000" y="2989440"/>
            <a:ext cx="31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ператоры и члены семьи Романовых с большим удовольствием проводили досуг в своей загородной резиден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380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469160" y="404640"/>
            <a:ext cx="54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П а р а д н а я   л е с т н и ц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5003"/>
          <p:cNvPicPr/>
          <p:nvPr/>
        </p:nvPicPr>
        <p:blipFill>
          <a:blip r:embed="rId1"/>
          <a:stretch/>
        </p:blipFill>
        <p:spPr>
          <a:xfrm>
            <a:off x="4932360" y="1197000"/>
            <a:ext cx="3809880" cy="504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468360" y="1413000"/>
            <a:ext cx="43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адная лестница. созданная И. Монигетти в 1863 году и решенная в стилистике «второго рококо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занимает всю высоту и ширину Екатерининского двор и освещается с востока и запада окнами, расположенными в три яруса. Белые мраморные ступени поднимаются с двух сторон к средней площадке, с которой четыре марша ведут на второй этаж, к парадным залам. На стенах интерьера, украшенных лепным орнаментом, размещены декоративные вазы и блюда китайского и японского фарфора XVIII - XIX веков из дворцовой колл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450520" y="476280"/>
            <a:ext cx="35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Б о л ь ш о й   з а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EL4"/>
          <p:cNvPicPr/>
          <p:nvPr/>
        </p:nvPicPr>
        <p:blipFill>
          <a:blip r:embed="rId1"/>
          <a:stretch/>
        </p:blipFill>
        <p:spPr>
          <a:xfrm>
            <a:off x="395280" y="1125360"/>
            <a:ext cx="5551560" cy="3997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6012000" y="1000080"/>
            <a:ext cx="29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ьшой зал, или Светлая галерея, как его называли в XVIII веке, — парадный апартамент в стиле русского барокко, созданный по проекту Растрелли в 1752 - 1756 годах. Зал предназначался для проведения наиболее важных приемов и торжеств, в том числе парадных обедов, балов, маскара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95280" y="53928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ухсветный зал, около 1000 квадратных метров занимает всю ширину дворца. Летом зал пронизан солнечным светом, играющим на позолоте в течение всего дня, а вечером зажигаются 696 свечей, расположенные по сторонам от зерк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786320" y="26352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Я н т а р н а я   к о м н а т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all+tours+pushkin3"/>
          <p:cNvPicPr/>
          <p:nvPr/>
        </p:nvPicPr>
        <p:blipFill>
          <a:blip r:embed="rId1"/>
          <a:stretch/>
        </p:blipFill>
        <p:spPr>
          <a:xfrm>
            <a:off x="3657600" y="1341360"/>
            <a:ext cx="5486400" cy="4764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395280" y="1197000"/>
            <a:ext cx="316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нтарная комната входила в число парадных залов Екатерининского дворца и справедливо считалась одним из чудес света. Автором первоначального проекта Янтарной комнаты считается А. Шлютер — архитектор прусского королевского двора. В 1716 году Петр I получает в качестве дипломатического подарка янтарный кабинет, но собрать его в Санкт-Петербурге не смог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500720" y="692280"/>
            <a:ext cx="4340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июле 1755 года императрица Елизавета Петровна приказала Ф.-Б. Растрелли создать в Большом Дворце Янтарную комнату. За 4 года было использовано 450 килограммов янтаря. Янтарный убор, занимавший три стены, был расположен в три яруса. Центральный (средний) ярус был составлен из 8 крупных вертикальных панно. Нижний ярус комнаты покрывали прямоугольные янтарные пан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Янтарном кабинете, в застекленных витринах хранилось одно из самых значительных в Европе собраний янтарных изделий XVII - XVIII веков немецких, польских и русских маст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1020388"/>
          <p:cNvPicPr/>
          <p:nvPr/>
        </p:nvPicPr>
        <p:blipFill>
          <a:blip r:embed="rId1"/>
          <a:stretch/>
        </p:blipFill>
        <p:spPr>
          <a:xfrm>
            <a:off x="0" y="549360"/>
            <a:ext cx="4316400" cy="57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07:50:44Z</dcterms:created>
  <dc:creator>Наташа</dc:creator>
  <dc:description/>
  <dc:language>en-US</dc:language>
  <cp:lastModifiedBy>Admin</cp:lastModifiedBy>
  <dcterms:modified xsi:type="dcterms:W3CDTF">2012-06-19T17:16:01Z</dcterms:modified>
  <cp:revision>7</cp:revision>
  <dc:subject/>
  <dc:title>Слайд 1</dc:title>
</cp:coreProperties>
</file>