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F37-A9F6-4BA6-AF5B-AC14E38A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17E-5843-4FA7-9650-CBFFCEC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C3A-6AF6-4F62-9363-83CA8261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617-165B-4C15-ADE1-B7E4233C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28DB-25B8-49E9-82CB-BA1AFB12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C5D0-5D10-4C14-B854-0330A9E3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1660-6E4B-4669-91EA-9A8199E4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DD0F-70F2-4866-9BCC-32AB6BC9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4B0-24FB-41A6-91BE-F10A4D2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1B6-2517-4985-94CA-D9365A2D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E7EB-7060-42DC-8073-94CE6AF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9D8-1509-4A2D-892D-644CCDC4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49E0-8CFD-421D-BA27-7EB0A43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7807-072C-4DBB-80FE-06DCE675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728C-4C87-4238-B2F5-7E9193A9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E147-22AB-4CAE-A174-85258048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7F82-2F48-4833-8933-D0102192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63C-D015-44B7-8012-018C7380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E31-51E6-4FC1-B8B6-0D4F52DE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849-0699-4D13-801A-E9C55470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CDB-E899-4BD2-951F-3306D52D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EC3-162D-4E23-B81E-AE84D14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BFE-792E-4D1F-9311-993116C7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BC2-07D4-4331-8E98-261F8BD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114C-AC27-40AB-9E00-A3AA6B3B603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0325-85D3-4D51-8512-F9C8D147FC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ofiy410.narod.ru/images/P1010307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eekendtravel.narod.ru/zagorod/pushkin/pushkin027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remopt.ru/InFo-data/item_038/bpic_009019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g-2006-10.photosight.ru/30/1734284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photokonkurs.com/uploads/img/2007-03-21/CITY/126107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57.radikal.ru/i157/0905/4b/53a843d65075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300 anniversary of Pushki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№ 33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 Samarina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sarskoe Sel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ushki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Picture 6" descr="Картинка 65 из 2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2158920" cy="335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Картинка 6 из 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5335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town of Pushkin, which was called Tsar's Villa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It is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one of the earliest imperial residences of Russian Emper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It situat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South St. Petersbur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4" descr="Картинка 255 из 67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200400"/>
            <a:ext cx="371340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Arsenal in Alexander Park.JPG"/>
          <p:cNvPicPr/>
          <p:nvPr/>
        </p:nvPicPr>
        <p:blipFill>
          <a:blip r:embed="rId3"/>
          <a:stretch/>
        </p:blipFill>
        <p:spPr>
          <a:xfrm>
            <a:off x="2235240" y="4419720"/>
            <a:ext cx="296532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Catherine palace cameron gallery.jpg"/>
          <p:cNvPicPr/>
          <p:nvPr/>
        </p:nvPicPr>
        <p:blipFill>
          <a:blip r:embed="rId4"/>
          <a:stretch/>
        </p:blipFill>
        <p:spPr>
          <a:xfrm>
            <a:off x="264960" y="3200400"/>
            <a:ext cx="2706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0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403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places in our town are Catherina’s Park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Alexander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k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Tsarskoe Selo Lice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275px-Alexandrovsky"/>
          <p:cNvPicPr/>
          <p:nvPr/>
        </p:nvPicPr>
        <p:blipFill>
          <a:blip r:embed="rId1"/>
          <a:stretch/>
        </p:blipFill>
        <p:spPr>
          <a:xfrm>
            <a:off x="4724280" y="457200"/>
            <a:ext cx="406872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Картинка 4 из 105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962520"/>
            <a:ext cx="3975120" cy="27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Картинка 15 из 1054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373392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Catherine Pa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s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oth a formal garden and a landscape park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nsists of 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Garden and English Park. There ar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Great Catherine Pal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mitage Hall, Grotto an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ralty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3" descr="Catherine Park, Tsarskoe Selo (Pushkin), St. Petersburg, Russia"/>
          <p:cNvPicPr/>
          <p:nvPr/>
        </p:nvPicPr>
        <p:blipFill>
          <a:blip r:embed="rId1"/>
          <a:stretch/>
        </p:blipFill>
        <p:spPr>
          <a:xfrm>
            <a:off x="5562720" y="1066680"/>
            <a:ext cx="3314520" cy="2210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atherine Pa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Picture 17" descr="Картинка 8 из 3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514600"/>
            <a:ext cx="2793960" cy="2517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Картинка 8 из 386"/>
          <p:cNvPicPr/>
          <p:nvPr/>
        </p:nvPicPr>
        <p:blipFill>
          <a:blip r:embed="rId4"/>
          <a:stretch/>
        </p:blipFill>
        <p:spPr>
          <a:xfrm>
            <a:off x="5029200" y="4419720"/>
            <a:ext cx="33004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"/>
                            </p:stCondLst>
                            <p:childTnLst>
                              <p:par>
                                <p:cTn id="1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exander Par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Alexander Park  covers around 200 hectares. I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divided into four small squares, each with a complex geometrical lay-out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Alexander Pal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hinese Theater, Chinese Village, Pavilion White Tower, Chapelle an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senal here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8" descr="Alexander Park, Tsarskoe Selo (Pushkin), St. Petersburg, Russia"/>
          <p:cNvPicPr/>
          <p:nvPr/>
        </p:nvPicPr>
        <p:blipFill>
          <a:blip r:embed="rId1"/>
          <a:stretch/>
        </p:blipFill>
        <p:spPr>
          <a:xfrm>
            <a:off x="5124600" y="914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Картинка 2 из 1959"/>
          <p:cNvPicPr/>
          <p:nvPr/>
        </p:nvPicPr>
        <p:blipFill>
          <a:blip r:embed="rId2"/>
          <a:stretch/>
        </p:blipFill>
        <p:spPr>
          <a:xfrm>
            <a:off x="4952880" y="3809880"/>
            <a:ext cx="37339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5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5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50"/>
                            </p:stCondLst>
                            <p:childTnLst>
                              <p:par>
                                <p:cTn id="1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Tsarskoe Selo Lyceu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Imper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ceu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was founded by the Emperor Alexand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Tsarskoe Selo Lyceum was opened on October 19, 1811. The first graduates were brilli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xander Pushki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xander Gorchakov were among the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300px-Tsarskoye_liceum"/>
          <p:cNvPicPr/>
          <p:nvPr/>
        </p:nvPicPr>
        <p:blipFill>
          <a:blip r:embed="rId1"/>
          <a:stretch/>
        </p:blipFill>
        <p:spPr>
          <a:xfrm>
            <a:off x="4702320" y="838080"/>
            <a:ext cx="417492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а 14 из 741"/>
          <p:cNvPicPr/>
          <p:nvPr/>
        </p:nvPicPr>
        <p:blipFill>
          <a:blip r:embed="rId2"/>
          <a:stretch/>
        </p:blipFill>
        <p:spPr>
          <a:xfrm>
            <a:off x="4876920" y="4038480"/>
            <a:ext cx="39337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6-19T15:13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