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7E7-37B7-466D-B3B1-B99F250D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4530-3B28-4551-A6EC-32252CBB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F73-CCEB-4BC2-961E-04C8F659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B33-8FE0-45AD-B39C-A5DA662C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6BC6-DC3E-4EF1-9851-1BEDB70B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B792-3643-42ED-BA90-D42FFE26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A9AF-E1BF-4F60-9209-CD49D9AE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9DDC-E3EF-43E0-97B0-ADF62945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120-F330-43B2-A41F-49098487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036B-EF09-4A09-883D-62FB5EA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B1F-2733-4F0C-8C65-D52EEDE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D4A-0E8A-445B-B08F-BD3C5B7A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483A-DA7A-442F-96EB-676DE06A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A836-1FB5-4184-98B7-7F6AFAF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1492-5C22-41A1-8130-84B4C1F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DBA9-2E9F-42C0-980F-61D486CC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762F-1DB8-431F-BD53-EE546958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A50-CA80-45F6-8F3A-EAFD270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042-3332-4A59-A8BC-5EAC128B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441-5E62-448D-8F30-B484D67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B28-868A-4F31-9B11-287A777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16A-432A-45A9-9BA0-D51B37DE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12F-388F-4168-8E2B-E46AC9C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1525-0C2E-4C0E-AE3B-AB1F6E6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0222-3AC1-4CC6-A1AC-8341008E6A0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C76A-BEFF-4667-9AFE-703AC65CBF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ofiy410.narod.ru/images/P1010307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eekendtravel.narod.ru/zagorod/pushkin/pushkin027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remopt.ru/InFo-data/item_038/bpic_0090190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g-2006-10.photosight.ru/30/1734284.jpg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photokonkurs.com/uploads/img/2007-03-21/CITY/126107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s57.radikal.ru/i157/0905/4b/53a843d65075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300 anniversary of Pushki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№ 33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. Samarina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009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sarskoe Selo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shki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Picture 6" descr="Картинка 65 из 2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666880"/>
            <a:ext cx="2158920" cy="3353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Картинка 6 из 7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5335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town of Pushkin, which was called Tsar's Vill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It i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one of the earliest imperial residences of Russian Empero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It situat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South St. Petersbur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14" descr="Картинка 255 из 67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200400"/>
            <a:ext cx="371340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Arsenal in Alexander Park.JPG"/>
          <p:cNvPicPr/>
          <p:nvPr/>
        </p:nvPicPr>
        <p:blipFill>
          <a:blip r:embed="rId3"/>
          <a:stretch/>
        </p:blipFill>
        <p:spPr>
          <a:xfrm>
            <a:off x="2235240" y="4419720"/>
            <a:ext cx="2965320" cy="198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Catherine palace cameron gallery.jpg"/>
          <p:cNvPicPr/>
          <p:nvPr/>
        </p:nvPicPr>
        <p:blipFill>
          <a:blip r:embed="rId4"/>
          <a:stretch/>
        </p:blipFill>
        <p:spPr>
          <a:xfrm>
            <a:off x="264960" y="3200400"/>
            <a:ext cx="2706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0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40388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places in our town are Catherina’s Park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Alexander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P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k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The Tsarskoe Selo Lice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9" descr="275px-Alexandrovsky"/>
          <p:cNvPicPr/>
          <p:nvPr/>
        </p:nvPicPr>
        <p:blipFill>
          <a:blip r:embed="rId1"/>
          <a:stretch/>
        </p:blipFill>
        <p:spPr>
          <a:xfrm>
            <a:off x="4724280" y="457200"/>
            <a:ext cx="406872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Картинка 4 из 1054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3962520"/>
            <a:ext cx="3975120" cy="27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Картинка 15 из 1054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3733920"/>
            <a:ext cx="3504960" cy="2630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Catherine Park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both a formal garden and a landscape park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nsists of 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Garden and English Park. There ar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Great Catherine Pal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mitage Hall, Grotto an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ralty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3" descr="Catherine Park, Tsarskoe Selo (Pushkin), St. Petersburg, Russia"/>
          <p:cNvPicPr/>
          <p:nvPr/>
        </p:nvPicPr>
        <p:blipFill>
          <a:blip r:embed="rId1"/>
          <a:stretch/>
        </p:blipFill>
        <p:spPr>
          <a:xfrm>
            <a:off x="5562720" y="1066680"/>
            <a:ext cx="3314520" cy="22100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atherine Pa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17" descr="Картинка 8 из 3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514600"/>
            <a:ext cx="2793960" cy="2517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Картинка 8 из 386"/>
          <p:cNvPicPr/>
          <p:nvPr/>
        </p:nvPicPr>
        <p:blipFill>
          <a:blip r:embed="rId4"/>
          <a:stretch/>
        </p:blipFill>
        <p:spPr>
          <a:xfrm>
            <a:off x="5029200" y="4419720"/>
            <a:ext cx="330048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"/>
                            </p:stCondLst>
                            <p:childTnLst>
                              <p:par>
                                <p:cTn id="1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9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exander Par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Alexander Park  covers around 200 hectares. I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divided into four small squares, each with a complex geometrical lay-out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Alexander Pala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Chinese Theater, Chinese Village, Pavilion White Tower, Chapelle an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senal here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8" descr="Alexander Park, Tsarskoe Selo (Pushkin), St. Petersburg, Russia"/>
          <p:cNvPicPr/>
          <p:nvPr/>
        </p:nvPicPr>
        <p:blipFill>
          <a:blip r:embed="rId1"/>
          <a:stretch/>
        </p:blipFill>
        <p:spPr>
          <a:xfrm>
            <a:off x="5124600" y="914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Картинка 2 из 1959"/>
          <p:cNvPicPr/>
          <p:nvPr/>
        </p:nvPicPr>
        <p:blipFill>
          <a:blip r:embed="rId2"/>
          <a:stretch/>
        </p:blipFill>
        <p:spPr>
          <a:xfrm>
            <a:off x="4952880" y="3809880"/>
            <a:ext cx="373392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50"/>
                            </p:stCondLst>
                            <p:childTnLst>
                              <p:par>
                                <p:cTn id="1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50"/>
                            </p:stCondLst>
                            <p:childTnLst>
                              <p:par>
                                <p:cTn id="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50"/>
                            </p:stCondLst>
                            <p:childTnLst>
                              <p:par>
                                <p:cTn id="1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Tsarskoe Selo Lyceu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Imperia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ceu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was founded by the Emperor Alexand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The Tsarskoe Selo Lyceum was opened on October 19, 1811. The first graduates were brilli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xander Pushkin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exander Gorchakov were among the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300px-Tsarskoye_liceum"/>
          <p:cNvPicPr/>
          <p:nvPr/>
        </p:nvPicPr>
        <p:blipFill>
          <a:blip r:embed="rId1"/>
          <a:stretch/>
        </p:blipFill>
        <p:spPr>
          <a:xfrm>
            <a:off x="4702320" y="838080"/>
            <a:ext cx="4174920" cy="297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а 14 из 741"/>
          <p:cNvPicPr/>
          <p:nvPr/>
        </p:nvPicPr>
        <p:blipFill>
          <a:blip r:embed="rId2"/>
          <a:stretch/>
        </p:blipFill>
        <p:spPr>
          <a:xfrm>
            <a:off x="4876920" y="4038480"/>
            <a:ext cx="39337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6-19T15:13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