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F79-340F-465E-B0C1-8171FF07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F60-C4F0-46F6-B81D-B6E25510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95D-400D-4974-AEB3-3D49A456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749-5F6E-4D16-BB6A-4EF10465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822-074B-438E-8226-1982EB46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0B12-86AB-417E-928E-A39257A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D9FF-D81A-4947-BB91-261F9631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6E02-14E5-43EF-9D70-D0CFCB4D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01FB-41BC-4549-AB0C-1E1C95CD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9582-066F-4278-BD04-B6D41CF4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E136-01FE-4B0E-AC29-42DE5A9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232-2499-494B-B1A8-31BDF2FA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50C3-E8FB-408E-87EA-16243AF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925E-32F2-4220-8351-FD92CD9E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16C5-35E0-4790-BE99-1ACFA6C3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7BFF-373E-4AEA-9FB2-E31718E4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0733-2612-4C38-BF6B-3E67578A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6C7-D5FE-4F50-B6B0-DD359BF3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696-6C85-4C30-9A1E-0DBCCD77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543-A7A9-4009-BB0C-00761C4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14B-CD25-4BB7-9BB4-3E11170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4EE-84DB-4175-9625-E516CD35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D74-B235-4A80-B517-7AACC98A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546-E94E-4896-9B50-C1AA5E09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E832-5ACF-4799-9CB4-FEEAC6F8A6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A0A0-9560-42E8-BB43-CEEE29CD9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2411280" y="2421000"/>
            <a:ext cx="417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д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чные пл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11592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Ленинградская область, Волховский райо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МОБУ «Сясьстройская СОШ 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5013360"/>
            <a:ext cx="504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Соста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Бочкова Ирина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553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6659640" y="2133720"/>
            <a:ext cx="108108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866920" y="2133720"/>
            <a:ext cx="36036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2133720"/>
            <a:ext cx="50328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19280" y="2133720"/>
            <a:ext cx="122400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4000" y="260280"/>
            <a:ext cx="5002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ификация пл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5640" y="1197000"/>
            <a:ext cx="799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 По особенностям строения околоплодн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40000" y="1844640"/>
            <a:ext cx="10796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х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24360" y="177336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349360"/>
            <a:ext cx="684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IПо количеству семян в плод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2836800"/>
            <a:ext cx="1847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осемянны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87640" y="2852640"/>
            <a:ext cx="1733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48360" y="2852640"/>
            <a:ext cx="16095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086600" y="2852640"/>
            <a:ext cx="17334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429000"/>
            <a:ext cx="208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Зер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Сем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Оре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рыла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Жёлу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500280"/>
            <a:ext cx="194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Б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Стру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ороб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500280"/>
            <a:ext cx="22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ост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Многокост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3500280"/>
            <a:ext cx="194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Я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Ябло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Тыкв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Гесперид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(померане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2608200" cy="3168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3533760" cy="2590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2400480" y="115920"/>
            <a:ext cx="641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ные односемянные пло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08720" y="836640"/>
            <a:ext cx="23335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Костян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1413000"/>
            <a:ext cx="55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Плод с сочной мякотью и одревесневевшим внутренним слоем околоплодника - косточ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71640" y="1916280"/>
            <a:ext cx="2808360" cy="2060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713120" y="3213000"/>
            <a:ext cx="2451240" cy="3605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877080" y="3429000"/>
            <a:ext cx="2009880" cy="2009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411280" y="4437000"/>
            <a:ext cx="2592360" cy="2089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115920"/>
            <a:ext cx="4470480" cy="34624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4572000" y="115920"/>
            <a:ext cx="35146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Многокостян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692280"/>
            <a:ext cx="55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На белом коническом сухом цветоложе расположены многочисленные сочные костя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2844720" cy="2844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788000" y="3013200"/>
            <a:ext cx="4176720" cy="3728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564000" y="3933720"/>
            <a:ext cx="2857320" cy="2686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54000"/>
            <a:ext cx="3674880" cy="3879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1547640" y="115920"/>
            <a:ext cx="670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ные многосемянные пло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40360" y="765000"/>
            <a:ext cx="1619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Ягод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1413000"/>
            <a:ext cx="44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Многосемянный плод с мякотью, покрытой тонкой кожиц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3795840"/>
            <a:ext cx="2873160" cy="28731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445080" y="3357720"/>
            <a:ext cx="2590920" cy="3456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356000" y="4751280"/>
            <a:ext cx="2556000" cy="1917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348000" y="3213000"/>
            <a:ext cx="2500200" cy="1955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8000" y="3784680"/>
            <a:ext cx="4248000" cy="2957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4176720" cy="313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28" name=""/>
          <p:cNvSpPr txBox="1"/>
          <p:nvPr/>
        </p:nvSpPr>
        <p:spPr>
          <a:xfrm>
            <a:off x="6084720" y="404640"/>
            <a:ext cx="18385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Яблоко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9810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Семена лежат в плёнчатых сухих камер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700360" y="1197000"/>
            <a:ext cx="2376360" cy="223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735520" y="2962440"/>
            <a:ext cx="3229200" cy="37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5219640" y="2421000"/>
            <a:ext cx="1987560" cy="2600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2771640" y="3645000"/>
            <a:ext cx="2305080" cy="2305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796000" y="115920"/>
            <a:ext cx="1638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Тыквин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17840" y="620640"/>
            <a:ext cx="482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Семена лежат в сочной мякоти плода, наружный слой околоплодника деревянис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3959280" cy="2897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08000" y="3789360"/>
            <a:ext cx="3960720" cy="297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141880" y="3892680"/>
            <a:ext cx="3894120" cy="2921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43280" y="2565360"/>
            <a:ext cx="3002040" cy="2551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219640" y="115920"/>
            <a:ext cx="2381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спериди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меранец)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105264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Семена лежат в сочной мякоти плода, мякоть разделена на дольки, наружный слой околоплодника плотный (цедр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8000" y="92160"/>
            <a:ext cx="3816360" cy="2689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08000" y="3884760"/>
            <a:ext cx="3672000" cy="2857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19640" y="3882960"/>
            <a:ext cx="3816360" cy="2863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2471760" cy="2330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68360" y="2492280"/>
            <a:ext cx="2663640" cy="223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7:28:38Z</dcterms:created>
  <dc:creator>Бочкова И.А.</dc:creator>
  <dc:description/>
  <dc:language>en-US</dc:language>
  <cp:lastModifiedBy>User</cp:lastModifiedBy>
  <dcterms:modified xsi:type="dcterms:W3CDTF">2012-06-19T17:16:42Z</dcterms:modified>
  <cp:revision>17</cp:revision>
  <dc:subject/>
  <dc:title>Плоды</dc:title>
</cp:coreProperties>
</file>