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8193-830C-414B-9629-DB55F8445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966E-E44E-4D8C-93F9-40C92AEBC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8C1D-7E7A-4B3F-885B-E656BB8D0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5685-E461-4414-9C6B-FD4CD6C4F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9A2AC-AE45-47CF-AB4A-55A845109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64585-F187-489F-821F-817B269F3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30906-3DC9-40AD-A09C-BF59C466C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299D7-19D8-4D2C-A11E-10C658A09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FE48C-C1FB-4337-B485-57113B05E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81361-39BD-43FD-B24C-93BEFE6F4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BF01E-9C06-4845-8504-49FA09A9F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6929-0324-4C13-AA88-0F77B9E26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E79EC-803C-4FC6-97F2-5F7E1682E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6F0FF-5472-4070-B291-A8443B2E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E3B31-F5C1-4D30-91B5-F2847FDFF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AF4D2-6BF2-4F41-97B1-45A7EA8B0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345EA-23EE-4D6A-895D-9FF5E2674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C25D-0738-45DC-A2E4-E086C1321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830A-8BC7-4308-96FB-11CBD9493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F1A4-9F35-4E29-9A89-20078ED0A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EF02-C5E8-4E48-B07A-6B49A9A59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E6F3-1E55-45F0-8C89-2EA10E017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E4BC-9FAD-431D-A5A0-311A730F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46A6-9DDA-42BC-8F0A-7B73BD22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A5223-1D13-478F-94A0-28EEC4A9795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53833-EAF6-4A9B-9765-62B6E36F8C8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79280" y="135000"/>
            <a:ext cx="8785440" cy="658800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sp>
        <p:nvSpPr>
          <p:cNvPr id="82" name=""/>
          <p:cNvSpPr txBox="1"/>
          <p:nvPr/>
        </p:nvSpPr>
        <p:spPr>
          <a:xfrm>
            <a:off x="2411280" y="2421000"/>
            <a:ext cx="417672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лоды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чные плод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"/>
          <p:cNvSpPr/>
          <p:nvPr/>
        </p:nvSpPr>
        <p:spPr>
          <a:xfrm>
            <a:off x="1835280" y="115920"/>
            <a:ext cx="5832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ahoma"/>
              </a:rPr>
              <a:t>Ленинградская область, Волховский район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ahoma"/>
              </a:rPr>
              <a:t>МОБУ «Сясьстройская СОШ №2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9640" y="5013360"/>
            <a:ext cx="5040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c00"/>
                </a:solidFill>
                <a:latin typeface="Tahoma"/>
              </a:rPr>
              <a:t>Составил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c00"/>
                </a:solidFill>
                <a:latin typeface="Tahoma"/>
              </a:rPr>
              <a:t>учитель биологии и хим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c00"/>
                </a:solidFill>
                <a:latin typeface="Tahoma"/>
              </a:rPr>
              <a:t>высшей квалификационной катего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c00"/>
                </a:solidFill>
                <a:latin typeface="Tahoma"/>
              </a:rPr>
              <a:t>Бочкова Ирина Анатоль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08000" y="189000"/>
            <a:ext cx="8856720" cy="655308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sp>
        <p:nvSpPr>
          <p:cNvPr id="86" name=""/>
          <p:cNvSpPr/>
          <p:nvPr/>
        </p:nvSpPr>
        <p:spPr>
          <a:xfrm>
            <a:off x="6659640" y="2133720"/>
            <a:ext cx="1081080" cy="71892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5866920" y="2133720"/>
            <a:ext cx="360360" cy="71892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2000" y="2133720"/>
            <a:ext cx="503280" cy="71892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1619280" y="2133720"/>
            <a:ext cx="1224000" cy="71892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124000" y="260280"/>
            <a:ext cx="50022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лассификация плодо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55640" y="1197000"/>
            <a:ext cx="7993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I По особенностям строения околоплодник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340000" y="1844640"/>
            <a:ext cx="1079640" cy="30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ухи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724360" y="1773360"/>
            <a:ext cx="14400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очны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187280" y="2349360"/>
            <a:ext cx="68421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IIПо количеству семян в плодах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50920" y="2836800"/>
            <a:ext cx="18478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дносемянны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987640" y="2852640"/>
            <a:ext cx="173376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ногосемянны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148360" y="2852640"/>
            <a:ext cx="160956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дносемянны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7086600" y="2852640"/>
            <a:ext cx="173340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ногосемянны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5280" y="3429000"/>
            <a:ext cx="20890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Tahoma"/>
              </a:rPr>
              <a:t>Зернов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Tahoma"/>
              </a:rPr>
              <a:t>Семян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Tahoma"/>
              </a:rPr>
              <a:t>Оре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Tahoma"/>
              </a:rPr>
              <a:t>Крылат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Tahoma"/>
              </a:rPr>
              <a:t>Жёлуд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9280" y="3500280"/>
            <a:ext cx="1944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Tahoma"/>
              </a:rPr>
              <a:t>Бо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Tahoma"/>
              </a:rPr>
              <a:t>Стручо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Tahoma"/>
              </a:rPr>
              <a:t>Коробоч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16360" y="3500280"/>
            <a:ext cx="22320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Tahoma"/>
              </a:rPr>
              <a:t>Костян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Tahoma"/>
              </a:rPr>
              <a:t>Многокостян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48360" y="3500280"/>
            <a:ext cx="19447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Tahoma"/>
              </a:rPr>
              <a:t>Яг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Tahoma"/>
              </a:rPr>
              <a:t>Яблок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Tahoma"/>
              </a:rPr>
              <a:t>Тыкви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Tahoma"/>
              </a:rPr>
              <a:t>Гесперид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Tahoma"/>
              </a:rPr>
              <a:t>(померанец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79280" y="3573360"/>
            <a:ext cx="2608200" cy="316872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08000" y="115920"/>
            <a:ext cx="3533760" cy="259092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sp>
        <p:nvSpPr>
          <p:cNvPr id="105" name=""/>
          <p:cNvSpPr txBox="1"/>
          <p:nvPr/>
        </p:nvSpPr>
        <p:spPr>
          <a:xfrm>
            <a:off x="2400480" y="115920"/>
            <a:ext cx="6419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очные односемянные плоды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508720" y="836640"/>
            <a:ext cx="233352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. Костянка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64000" y="1413000"/>
            <a:ext cx="558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Плод с сочной мякотью и одревесневевшим внутренним слоем околоплодника - косточк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971640" y="1916280"/>
            <a:ext cx="2808360" cy="206028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4713120" y="3213000"/>
            <a:ext cx="2451240" cy="360540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6877080" y="3429000"/>
            <a:ext cx="2009880" cy="200988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7"/>
          <a:stretch/>
        </p:blipFill>
        <p:spPr>
          <a:xfrm>
            <a:off x="2411280" y="4437000"/>
            <a:ext cx="2592360" cy="208908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01520" y="115920"/>
            <a:ext cx="4470480" cy="346248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sp>
        <p:nvSpPr>
          <p:cNvPr id="113" name=""/>
          <p:cNvSpPr txBox="1"/>
          <p:nvPr/>
        </p:nvSpPr>
        <p:spPr>
          <a:xfrm>
            <a:off x="4572000" y="115920"/>
            <a:ext cx="351468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. Многокостянка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64000" y="692280"/>
            <a:ext cx="558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На белом коническом сухом цветоложе расположены многочисленные сочные костян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611280" y="2492280"/>
            <a:ext cx="2844720" cy="284472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4788000" y="3013200"/>
            <a:ext cx="4176720" cy="372888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3564000" y="3933720"/>
            <a:ext cx="2857320" cy="268632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08000" y="54000"/>
            <a:ext cx="3674880" cy="387972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sp>
        <p:nvSpPr>
          <p:cNvPr id="119" name=""/>
          <p:cNvSpPr txBox="1"/>
          <p:nvPr/>
        </p:nvSpPr>
        <p:spPr>
          <a:xfrm>
            <a:off x="1547640" y="115920"/>
            <a:ext cx="6705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очные многосемянные плоды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940360" y="765000"/>
            <a:ext cx="161928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. Ягода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427640" y="1413000"/>
            <a:ext cx="446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Многосемянный плод с мякотью, покрытой тонкой кожиц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250920" y="3795840"/>
            <a:ext cx="2873160" cy="287316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6445080" y="3357720"/>
            <a:ext cx="2590920" cy="345600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4356000" y="4751280"/>
            <a:ext cx="2556000" cy="191772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3348000" y="3213000"/>
            <a:ext cx="2500200" cy="195588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08000" y="3784680"/>
            <a:ext cx="4248000" cy="295740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179280" y="115920"/>
            <a:ext cx="4176720" cy="313200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sp>
        <p:nvSpPr>
          <p:cNvPr id="128" name=""/>
          <p:cNvSpPr txBox="1"/>
          <p:nvPr/>
        </p:nvSpPr>
        <p:spPr>
          <a:xfrm>
            <a:off x="6084720" y="404640"/>
            <a:ext cx="183852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. Яблоко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356000" y="981000"/>
            <a:ext cx="478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Семена лежат в плёнчатых сухих камера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2700360" y="1197000"/>
            <a:ext cx="2376360" cy="223200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5735520" y="2962440"/>
            <a:ext cx="3229200" cy="377964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132" name="" descr=""/>
          <p:cNvPicPr/>
          <p:nvPr/>
        </p:nvPicPr>
        <p:blipFill>
          <a:blip r:embed="rId6"/>
          <a:stretch/>
        </p:blipFill>
        <p:spPr>
          <a:xfrm>
            <a:off x="5219640" y="2421000"/>
            <a:ext cx="1987560" cy="260028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133" name="" descr=""/>
          <p:cNvPicPr/>
          <p:nvPr/>
        </p:nvPicPr>
        <p:blipFill>
          <a:blip r:embed="rId7"/>
          <a:stretch/>
        </p:blipFill>
        <p:spPr>
          <a:xfrm>
            <a:off x="2771640" y="3645000"/>
            <a:ext cx="2305080" cy="230508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5796000" y="115920"/>
            <a:ext cx="163836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3. Тыквина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317840" y="620640"/>
            <a:ext cx="4826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Семена лежат в сочной мякоти плода, наружный слой околоплодника деревянист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08000" y="115920"/>
            <a:ext cx="3959280" cy="289728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08000" y="3789360"/>
            <a:ext cx="3960720" cy="297036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5141880" y="3892680"/>
            <a:ext cx="3894120" cy="292104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2843280" y="2565360"/>
            <a:ext cx="3002040" cy="255132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219640" y="115920"/>
            <a:ext cx="238140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есперидий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(померанец)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140360" y="1052640"/>
            <a:ext cx="5003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Семена лежат в сочной мякоти плода, мякоть разделена на дольки, наружный слой околоплодника плотный (цедр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08000" y="92160"/>
            <a:ext cx="3816360" cy="268920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108000" y="3884760"/>
            <a:ext cx="3672000" cy="285732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5219640" y="3882960"/>
            <a:ext cx="3816360" cy="286380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3276720" y="3429000"/>
            <a:ext cx="2471760" cy="233028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146" name="" descr=""/>
          <p:cNvPicPr/>
          <p:nvPr/>
        </p:nvPicPr>
        <p:blipFill>
          <a:blip r:embed="rId6"/>
          <a:stretch/>
        </p:blipFill>
        <p:spPr>
          <a:xfrm>
            <a:off x="468360" y="2492280"/>
            <a:ext cx="2663640" cy="223200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0T07:28:38Z</dcterms:created>
  <dc:creator>Бочкова И.А.</dc:creator>
  <dc:description/>
  <dc:language>en-US</dc:language>
  <cp:lastModifiedBy>User</cp:lastModifiedBy>
  <dcterms:modified xsi:type="dcterms:W3CDTF">2012-06-19T17:16:42Z</dcterms:modified>
  <cp:revision>17</cp:revision>
  <dc:subject/>
  <dc:title>Плоды</dc:title>
</cp:coreProperties>
</file>